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989-F480-48E7-9E4A-08B681C3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5CF-3649-4E85-8A90-512A4625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9E3-0F17-4046-91D1-1AD2B41C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786-793C-4017-ACE5-F50BE9B4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B00F-D631-46C0-B42D-82D47BE8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D9F6-F5BC-47EA-9334-00367535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4E33-601C-44B4-B9FB-8ACF2BC3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98C1-6853-4E9E-A230-12D64340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A03B-794B-4518-ADE0-556C869D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B8F0-3F11-4717-AAF4-637655A0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5F38-27BD-4D36-8A62-34F1E2BA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DD6-CB06-47EF-A017-E475D1BE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3BD2-174F-4CB9-87E0-00B9275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ACAA-32E0-4C29-B11C-6043AE5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1402-1F9D-4745-8FC1-6F1B7229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EDFE-2CBB-4942-A2D5-A103FC46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4693-E39C-4B4A-9142-BB90C1FC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D16-5BEB-4E0D-B11E-BFD40BA3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D01-8C68-4208-A210-9431F737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EBA-F172-473A-B74C-1CB2A954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E1D-2C0E-4612-9494-D854427E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02E-6698-4204-AFE0-BB56E874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35A-AD03-4CFD-8F92-7107C8D8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57D-29DF-4DCC-9814-360A3350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E142-BA3D-4381-8026-7A5592AB7C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79B6-127C-449F-B62D-3FF7D70CDD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Arial"/>
              </a:rPr>
              <a:t>التعريف بعلم الاجتماع الصناعي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</a:rPr>
              <a:t>يتفق معظم علماء الاجتماع على أن علم الاجتماع الصناعي يشكل فرعاً مستقلاً في إطار علم الاجتماع العام . إلا أنهم اختلفوا فيما بينهم حول تعريف علم الاجتماع الصناعي تبعاً لاختلاف وجهات نظرهم بالنسبة للظواهر التي تدخل في إطار هذا العل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يعرف ” ج . سميث ” علم الاجتماع الصناعي بأنه (دراسة العلاقات الاجتماعية داخل المصانع والمنظمات إلى جانب دراسة التأثير المتبادل بينها وبين المجتمع المحلي 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006666"/>
                </a:solidFill>
                <a:latin typeface="Arial"/>
              </a:rPr>
              <a:t>علم الاجتماع الصناعي : نشأته وتطوره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يعتبر علم الاجتماع الصناعي من أحدث فروع علم الاجتماع . نشأ في الولايات المتحدة في الثلاثينيات من القرن العشرين, وترتبط نشأته العلميه بتجربة هاوثورن التي تعتبر فتحاً جديدا في هذا الميدان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900" spc="-1" strike="noStrike">
                <a:solidFill>
                  <a:srgbClr val="000000"/>
                </a:solidFill>
                <a:latin typeface="Verdana"/>
              </a:rPr>
              <a:t>وقد جذب هذا الفرع الجديد منذ نشأته اهتمام كثير من المشتغلين بعلم الاجتماع والانثروبولوجيا, فأقبلوا عليه يدرسون موضوعاته , ويحددون أبعاده وكان لجهودهم في هذا الميدان أثر كبير في إرساء دعائمه وبلورة مفاهيمه , وتعميق أصولة 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66"/>
                </a:solidFill>
                <a:latin typeface="Arial"/>
              </a:rPr>
              <a:t>العوامل الممهدة لظهور علم الاجتماع الصناعي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 الرغبة في إيجاد الحلول العلمية للمشكلات الاجتماعية في الصناع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 تقدم علم الاجتماع 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في الوقت الذي أصبحت فيه الحاجة ماسة إلى دراسة الظواهر والمشكلات والتنظيمات الاجتماعية في الصناعة , كان علم الاجتماع قد بلغ درجة من النمو تؤهله لدراسة تلك المسائل دراسة علمية صحيح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7:20:38Z</dcterms:created>
  <dc:creator>Ãبو روازن</dc:creator>
  <dc:description/>
  <dc:language>en-US</dc:language>
  <cp:lastModifiedBy>Ãبو روازن</cp:lastModifiedBy>
  <dcterms:modified xsi:type="dcterms:W3CDTF">2012-02-03T20:35:06Z</dcterms:modified>
  <cp:revision>5</cp:revision>
  <dc:subject/>
  <dc:title>التعريف بعلم الاجتماع الصناعي </dc:title>
</cp:coreProperties>
</file>