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059-6CF2-4DF8-A836-FEE6B38A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07C-7C03-41E8-805F-BCEED60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A07-A1EC-493B-BE41-5724453D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890-51E2-45E8-B04E-8B274211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E53F-3340-4328-A270-CE5F7DCE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BCF-A247-43A2-92B9-E7B10D91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A8AC-3C71-463B-8D02-B48D5BE1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F08-744B-4774-8691-232025C4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2FE0-A921-493A-B688-25D65F39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C41-D3DA-48B1-B793-9928543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9FA6-35A0-4433-AD5D-4D817DE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B05-BAE5-4CCC-BACC-7C6AC7C5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0AC-BEA2-4C95-8F21-CFBD184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BCB8-87B7-4D4F-B8AC-DA83FBE4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BBCC-F2D0-4952-BE7B-484C8E4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E2DE-A93D-4994-9027-DC135F4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242C-6B30-4633-B256-A7B7A63B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390-7B27-4386-A57A-E2A11CB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BD5-B7A8-41A4-B221-90AF470B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D54-B514-423C-A57B-E3BB53A9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8D6-F4C7-44D5-B773-7EC0103E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D57-0FCD-4ABD-BB48-9A2875B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477-A048-419B-B316-EA1B9D9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FFE-15D5-4157-8CBF-0A5A87D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0456-B72C-4C3F-8506-A7FA265DFC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0B9-B49F-4C1B-8F5D-7E659EBF65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Arial"/>
              </a:rPr>
              <a:t>التعريف بعلم الاجتماع الصناعي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يتفق معظم علماء الاجتماع على أن علم الاجتماع الصناعي يشكل فرعاً مستقلاً في إطار علم الاجتماع العام . إلا أنهم اختلفوا فيما بينهم حول تعريف علم الاجتماع الصناعي تبعاً لاختلاف وجهات نظرهم بالنسبة للظواهر التي تدخل في إطار هذا العل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يعرف ” ج . سميث ” علم الاجتماع الصناعي بأنه (دراسة العلاقات الاجتماعية داخل المصانع والمنظمات إلى جانب دراسة التأثير المتبادل بينها وبين المجتمع المحلي 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006666"/>
                </a:solidFill>
                <a:latin typeface="Arial"/>
              </a:rPr>
              <a:t>علم الاجتماع الصناعي : نشأته وتطوره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يعتبر علم الاجتماع الصناعي من أحدث فروع علم الاجتماع . نشأ في الولايات المتحدة في الثلاثينيات من القرن العشرين, وترتبط نشأته العلميه بتجربة هاوثورن التي تعتبر فتحاً جديدا في هذا الميدان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وقد جذب هذا الفرع الجديد منذ نشأته اهتمام كثير من المشتغلين بعلم الاجتماع والانثروبولوجيا, فأقبلوا عليه يدرسون موضوعاته , ويحددون أبعاده وكان لجهودهم في هذا الميدان أثر كبير في إرساء دعائمه وبلورة مفاهيمه , وتعميق أصولة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66"/>
                </a:solidFill>
                <a:latin typeface="Arial"/>
              </a:rPr>
              <a:t>العوامل الممهدة لظهور علم الاجتماع الصناعي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الرغبة في إيجاد الحلول العلمية للمشكلات الاجتماعية في الصناع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تقدم علم الاجتماع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في الوقت الذي أصبحت فيه الحاجة ماسة إلى دراسة الظواهر والمشكلات والتنظيمات الاجتماعية في الصناعة , كان علم الاجتماع قد بلغ درجة من النمو تؤهله لدراسة تلك المسائل دراسة علمية صحيح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7:20:38Z</dcterms:created>
  <dc:creator>Ãبو روازن</dc:creator>
  <dc:description/>
  <dc:language>en-US</dc:language>
  <cp:lastModifiedBy>Ãبو روازن</cp:lastModifiedBy>
  <dcterms:modified xsi:type="dcterms:W3CDTF">2012-02-03T20:35:06Z</dcterms:modified>
  <cp:revision>5</cp:revision>
  <dc:subject/>
  <dc:title>التعريف بعلم الاجتماع الصناعي </dc:title>
</cp:coreProperties>
</file>