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93-D9B7-479C-ACE0-59273178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1F0-4E7A-4494-990D-702DDA0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388-9F09-4E70-8260-E6761040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BDA-4D5E-4EED-9640-F2CA2B3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0D96-D8E7-4054-A19C-9BD0DDF2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46C7-5D69-4A8C-B5AE-00D64EC9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393F-BEAF-4D7B-8B0A-C33D09A3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BD3-78CD-4807-92ED-9757AAE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4CC5-178F-44E8-9FFB-2F65A1B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C8E6-0B46-4755-A17A-5605E8DD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40B3-0F79-4B9D-8E14-FB19483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BC2-1575-49F6-A749-E5DACDB0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731-FC8B-44BA-B3A7-985DB160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08D8-A007-460F-B60A-B214C82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02CA-B1DE-4E5B-AC0F-81227E92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4316-FD4F-4100-91A7-259F63E8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4BBD-A1D9-4350-BEAB-100B2771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70D-82A1-4026-9B23-F73034F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B73-579B-40FF-9370-2E6987C7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381-0C96-4DD8-90FB-C9EF544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878-D24D-44BC-89FB-914BB18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21B-8CF6-453F-80D2-224049F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F9B-E0DC-49AC-A28D-8817B83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BE4-6782-404E-8B98-A5E6BBB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FFF5-0EC3-4E9F-B09B-57FABA0B3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98F3-91E5-4408-ACC6-B2E8779E5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66"/>
                </a:solidFill>
                <a:latin typeface="Arial"/>
                <a:cs typeface="Monotype Koufi"/>
              </a:rPr>
              <a:t>الركن الثالث : الإيمان بالكتب .</a:t>
            </a:r>
            <a:br>
              <a:rPr sz="44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تعريف الكتب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</a:t>
            </a:r>
            <a:br>
              <a:rPr sz="32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الكتب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 جمع كتاب بمعنى مكتوب .</a:t>
            </a:r>
            <a:br>
              <a:rPr sz="32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والمراد بها هنا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 الكتب التي أنزلها الله تعالى على رسله رحمة للخلق وهداية لهم .</a:t>
            </a:r>
            <a:br>
              <a:rPr sz="3200"/>
            </a:br>
            <a:br>
              <a:rPr sz="3200"/>
            </a:br>
            <a:r>
              <a:rPr b="0" lang="ar-SA" sz="3200" spc="-1" strike="noStrike" u="sng">
                <a:solidFill>
                  <a:srgbClr val="ffff66"/>
                </a:solidFill>
                <a:uFillTx/>
                <a:latin typeface="Mangal"/>
                <a:cs typeface="Akhbar MT"/>
              </a:rPr>
              <a:t>ومعنى الإيمان بالكتب</a:t>
            </a:r>
            <a:r>
              <a:rPr b="0" lang="ar-SA" sz="3200" spc="-1" strike="noStrike">
                <a:solidFill>
                  <a:srgbClr val="ffff66"/>
                </a:solidFill>
                <a:latin typeface="Mangal"/>
                <a:ea typeface="Akhbar MT"/>
              </a:rPr>
              <a:t> : التصديق الجازم بأن الله تعالى أنزل كتباً على من شاء من رسله وأنبيائه فيها الأخبار , والقصص , والمواعظ , والأوامر , والنواه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ايمان بالكتب يتضمن أربعة أمو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أول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إيمان بها إجمالاً وأنها كلها منزلة من عند الله حقا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ثاني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إيمان بما سمي لنا منها على وجه الخصو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ثالث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إيمان بما في هذه الكتب إجمال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راب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 الإيمان بهذا القرآن المنزل على خاتم النبيين وأنه أشرف وآخر كتاب نزل من عند ا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ومما يجب اعتقاده أن هذا القرآن كاف عما تقدمه من الكت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rial"/>
              </a:rPr>
              <a:t>الغاية من إنزال الكت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ن يعبد الله وحده لا شريك له , وهداية للعبا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ff"/>
                </a:solidFill>
                <a:uFillTx/>
                <a:latin typeface="Arial"/>
              </a:rPr>
              <a:t>مواضع الاتفاق والاختلاف بين الكتب السماو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حدة المصدر , ووحدة الغاية , وأصول العقيدة , وقواعد التشريع العا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تختلف الكتب السماوية في الشرائ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الإيمان بكتب الله المنزلة تمار وآثار مبارك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علم بعناية الله تعالى بعباده حيث أنزل لكل قوم كتاباَ يهديهم ب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عبادة الله على بصي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عيش مع القرآن , والتعبد بتلاوته وحفظ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بية النفوس بحسب أوامره وتوجيهات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8T00:19:25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