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C9F2-4EE9-4162-A217-932C56A6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02CA-CFB8-490B-BB65-7E6A343F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D00-7962-46BF-A984-0567BB06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1FD6-B0B5-4647-9455-0AD15330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96C9-E0E4-4712-9028-6E67FE24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3C21-3809-46CC-8211-B8BF0141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5FB1-2051-4539-84B1-0194B706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1051-B65D-4087-8692-D7181385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EF7C-1F34-44B4-BF1E-0582751B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1AC3-1867-46A1-B3FD-D4AD8369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37B4-6673-41B1-BC11-823AD22A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AA2D-65C6-45D9-976C-2AE13F0A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77BD-3C0C-488B-A223-D44F71CB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ABF7-AF73-47B1-B9AB-8767C469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0302-6C74-4759-ADF1-D8FC9082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0CA9-9CAC-4A39-9749-B64772EC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7DAC-B345-4DAB-BD04-9250FCF1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B280-E7A6-4A51-8733-DB4CE975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0144-6C47-4E6A-9BA1-3ED132D1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67B5-F2FA-49D5-B8B4-556945A0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3FF2-71CE-4101-AFEA-4B982C1E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2ED2-4148-4A55-8976-C99D32C5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6F3-2489-49EE-854F-8ABED6D6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DD61-B179-4674-8EDC-F9F3AFEA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8872-2418-46BF-AF6B-B2A782D88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1C73-6D15-4C3A-A3E2-047B3CDEB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38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66"/>
                </a:solidFill>
                <a:latin typeface="Arial"/>
                <a:cs typeface="Monotype Koufi"/>
              </a:rPr>
              <a:t>الركن الثالث : الإيمان بالكتب .</a:t>
            </a:r>
            <a:br>
              <a:rPr sz="4400"/>
            </a:br>
            <a:r>
              <a:rPr b="0" lang="ar-SA" sz="3200" spc="-1" strike="noStrike" u="sng">
                <a:solidFill>
                  <a:srgbClr val="ffff66"/>
                </a:solidFill>
                <a:uFillTx/>
                <a:latin typeface="Mangal"/>
                <a:cs typeface="Akhbar MT"/>
              </a:rPr>
              <a:t>تعريف الكتب</a:t>
            </a:r>
            <a:r>
              <a:rPr b="0" lang="ar-SA" sz="3200" spc="-1" strike="noStrike">
                <a:solidFill>
                  <a:srgbClr val="ffff66"/>
                </a:solidFill>
                <a:latin typeface="Mangal"/>
                <a:ea typeface="Akhbar MT"/>
              </a:rPr>
              <a:t> :</a:t>
            </a:r>
            <a:br>
              <a:rPr sz="3200"/>
            </a:br>
            <a:r>
              <a:rPr b="0" lang="ar-SA" sz="3200" spc="-1" strike="noStrike" u="sng">
                <a:solidFill>
                  <a:srgbClr val="ffff66"/>
                </a:solidFill>
                <a:uFillTx/>
                <a:latin typeface="Mangal"/>
                <a:cs typeface="Akhbar MT"/>
              </a:rPr>
              <a:t>الكتب</a:t>
            </a:r>
            <a:r>
              <a:rPr b="0" lang="ar-SA" sz="3200" spc="-1" strike="noStrike">
                <a:solidFill>
                  <a:srgbClr val="ffff66"/>
                </a:solidFill>
                <a:latin typeface="Mangal"/>
                <a:ea typeface="Akhbar MT"/>
              </a:rPr>
              <a:t> : جمع كتاب بمعنى مكتوب .</a:t>
            </a:r>
            <a:br>
              <a:rPr sz="3200"/>
            </a:br>
            <a:r>
              <a:rPr b="0" lang="ar-SA" sz="3200" spc="-1" strike="noStrike" u="sng">
                <a:solidFill>
                  <a:srgbClr val="ffff66"/>
                </a:solidFill>
                <a:uFillTx/>
                <a:latin typeface="Mangal"/>
                <a:cs typeface="Akhbar MT"/>
              </a:rPr>
              <a:t>والمراد بها هنا</a:t>
            </a:r>
            <a:r>
              <a:rPr b="0" lang="ar-SA" sz="3200" spc="-1" strike="noStrike">
                <a:solidFill>
                  <a:srgbClr val="ffff66"/>
                </a:solidFill>
                <a:latin typeface="Mangal"/>
                <a:ea typeface="Akhbar MT"/>
              </a:rPr>
              <a:t> : الكتب التي أنزلها الله تعالى على رسله رحمة للخلق وهداية لهم .</a:t>
            </a:r>
            <a:br>
              <a:rPr sz="3200"/>
            </a:br>
            <a:br>
              <a:rPr sz="3200"/>
            </a:br>
            <a:r>
              <a:rPr b="0" lang="ar-SA" sz="3200" spc="-1" strike="noStrike" u="sng">
                <a:solidFill>
                  <a:srgbClr val="ffff66"/>
                </a:solidFill>
                <a:uFillTx/>
                <a:latin typeface="Mangal"/>
                <a:cs typeface="Akhbar MT"/>
              </a:rPr>
              <a:t>ومعنى الإيمان بالكتب</a:t>
            </a:r>
            <a:r>
              <a:rPr b="0" lang="ar-SA" sz="3200" spc="-1" strike="noStrike">
                <a:solidFill>
                  <a:srgbClr val="ffff66"/>
                </a:solidFill>
                <a:latin typeface="Mangal"/>
                <a:ea typeface="Akhbar MT"/>
              </a:rPr>
              <a:t> : التصديق الجازم بأن الله تعالى أنزل كتباً على من شاء من رسله وأنبيائه فيها الأخبار , والقصص , والمواعظ , والأوامر , والنواهي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لايمان بالكتب يتضمن أربعة أمور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لأول 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إيمان بها إجمالاً وأنها كلها منزلة من عند الله حقاَ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لثاني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إيمان بما سمي لنا منها على وجه الخصوص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لثالث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إيمان بما في هذه الكتب إجمالا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لرابع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: الإيمان بهذا القرآن المنزل على خاتم النبيين وأنه أشرف وآخر كتاب نزل من عند الل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ومما يجب اعتقاده أن هذا القرآن كاف عما تقدمه من الكت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ffffff"/>
                </a:solidFill>
                <a:uFillTx/>
                <a:latin typeface="Arial"/>
              </a:rPr>
              <a:t>الغاية من إنزال الكتب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أن يعبد الله وحده لا شريك له , وهداية للعبا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ffffff"/>
                </a:solidFill>
                <a:uFillTx/>
                <a:latin typeface="Arial"/>
              </a:rPr>
              <a:t>مواضع الاتفاق والاختلاف بين الكتب السماو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وحدة المصدر , ووحدة الغاية , وأصول العقيدة , وقواعد التشريع العا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وتختلف الكتب السماوية في الشرائع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الإيمان بكتب الله المنزلة تمار وآثار مبارك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العلم بعناية الله تعالى بعباده حيث أنزل لكل قوم كتاباَ يهديهم ب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عبادة الله على بصير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العيش مع القرآن , والتعبد بتلاوته وحفظ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تربية النفوس بحسب أوامره وتوجيهات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6-28T00:19:25Z</dcterms:modified>
  <cp:revision>1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