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A93-14FB-4B01-AD5C-87E3BDA8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DC0-A633-46AD-B4BE-071B639A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8AF-8547-4FA3-9652-8D551770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C222-BF15-46E9-A6DA-449D66E5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65B-B51B-4BBE-AFBA-C5F6A781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D39-CB86-423A-96A2-8ACF55C7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D774-6CB4-4CBA-8B71-2F0854EE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7C9-E9C0-48BA-B793-0C654A76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0EB-C8CC-4A37-BF0D-4D2C933F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8C74-D35B-4519-BD7D-32A8D018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0CD-AAE5-45B9-BEF4-BD80ABC3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F71-3D54-480F-B726-B9D209DE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DE5F-4124-4D63-B2B3-2C95BE2DB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12536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صل الثاني: الإيمان بالملائك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ff33"/>
                </a:solidFill>
                <a:latin typeface="Arial"/>
              </a:rPr>
              <a:t>الإيمان بالملائكة يتضمن خمسة أمو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 ـ الإيمان بوجودهم حقيقة، وأنَّهم يعملون ما يأمرهم الله به على أتم وجه، وأنَّهم يذهبون ويجيئون ويصعدون ويهبطو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 ـ الإيمان بمادة خلقه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 ـ الإيمان بمن سمّي منهم على وجه التفصي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 ـ الإيمان بما أخبر الله به رسوله صلى الله عليه وسلم من صفاتهم، وهذه الصفات تنقسم إلى قسمي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ff33"/>
                </a:solidFill>
                <a:latin typeface="Arial"/>
              </a:rPr>
              <a:t>ـ صفات خَلق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ff33"/>
                </a:solidFill>
                <a:latin typeface="Arial"/>
              </a:rPr>
              <a:t>ـ صفات خُلُق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 ـ الإيمان بما أخبر الله به ورسوله ص من أعماله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66ff33"/>
                </a:solidFill>
                <a:uFillTx/>
                <a:latin typeface="Arial"/>
              </a:rPr>
              <a:t>وللإيمان بالملائكة ثمار وآثار كثيرة منها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ـ شكر الله سبحانه على عنايته بعباده حيث وكل بهم الملائكة يحفظونهم ويستغفرون ل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ـ تحقيق الإيمان بالغي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ـ التأدب والحياء لاستشعار قربهم وملازمتهم للإنسا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ـ ملازمة الطاعة واجتناب المعصية رغبة في كتابتهم الخير والشهادة علي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أصل الثالث: الإيمان </a:t>
            </a:r>
            <a:r>
              <a:rPr b="1" lang="hi-IN" sz="3200" spc="-1" strike="noStrike">
                <a:solidFill>
                  <a:srgbClr val="66ff33"/>
                </a:solidFill>
                <a:latin typeface="Arial"/>
              </a:rPr>
              <a:t>بالكتب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تعريف الكتب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كتب: جمع كتاب بمعنى مكتو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والمراد بها هنا: الكتب التي أنزلها الله تعالى على رسله رحمة للخلق، و هداية لهم، ليخرج بها من شاء من الظلمات إلى النو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ومعنى الإيمان بالكتب: التصديق الجازم بأن الله تعالى أنزل كتباً على من شاء من رسله وأنبيائ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إيمان بالكتب يتضمن أربعة أمو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أول: الإيمان بها إجمالاً وأنها كلها منزلة من عند الله حق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ثاني: الإيمان بما سمي لنا منها على وجه الخصو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ثالث: الإيمان بما في هذه الكتب إجمالا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رابع: الإيمان بهذا القرآن المنزل على خاتم النبيين و أنه أشرف وآخر كتاب نزل من عند الله الله تعالى: ( وَأَنزَلْنَا إِلَيْكَ الْكِتَابَ بِالْحَقِّ مُصَدِّقًا لِّمَا بَيْنَ يَدَيْهِ مِنَ الْكِتَابِ وَمُهَيْمِنًا عَلَيْهِ 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ff33"/>
                </a:solidFill>
                <a:latin typeface="Arial"/>
              </a:rPr>
              <a:t>الغاية من إنزال الكتب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أنزلت الكتب السماوية كلها لغاية واحدة: وهي أن يعبد الله وحده لا شريك له، وهداية للعبا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واضع الاتفاق و الاختلاف بين الكتب السماو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تتفق الكتب السماوية في وحدة المصدر، ووحدة الغاية، وأصول العقيدة، وقواعد التشريع العا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وتختلف الكتب السماوية في الشرائع، قال تعالى: ( لِكُلٍّ جَعَلْنَا مِنكُمْ شِرْعَةً وَمِنْهَاجًا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ــ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علم بعناية الله تعالى بعباده حيث أنزل لكل قوم كتاباً يهديهم ب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عبادة الله على بصي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العيش مع القرآن، والتعبد بتلاوته وحفظه، والعمل به، وإقامة حدود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ـ تربية النفوس بحسب أوامره وتوجيهاته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8:08:49Z</dcterms:created>
  <dc:creator>user</dc:creator>
  <dc:description/>
  <dc:language>en-US</dc:language>
  <cp:lastModifiedBy>user</cp:lastModifiedBy>
  <dcterms:modified xsi:type="dcterms:W3CDTF">2005-06-17T08:20:00Z</dcterms:modified>
  <cp:revision>7</cp:revision>
  <dc:subject/>
  <dc:title>الشريحة 1</dc:title>
</cp:coreProperties>
</file>