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2DF-4407-4120-8CB0-E287378C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443-F6B9-43DB-A5BE-13466CB9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A3F-CD12-4076-971B-BD7D78C4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646-A801-48B1-BDA5-C8EB3E69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5D9-B62E-4C1D-8CE5-BA6709B3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B5E-2152-4D92-80BB-1C169594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04C-0627-476C-945A-272A629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B00-1828-4874-BF3F-C4F6F064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3B3-14DD-4D9D-BC49-EE6853F0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42E-5D1F-4E44-833A-B2F6ADB5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284-3C57-4CFA-B0A0-993FFBE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6EC-81D0-4196-85B3-0DC2D845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1E67-18EC-4746-A748-A7E0A3EC4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12536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صل الثاني: الإيمان بالملائ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ff33"/>
                </a:solidFill>
                <a:latin typeface="Arial"/>
              </a:rPr>
              <a:t>الإيمان بالملائكة يتضمن خمسة أمو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وجودهم حقيقة، وأنَّهم يعملون ما يأمرهم الله به على أتم وجه، وأنَّهم يذهبون ويجيئون ويصعدون ويهبط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مادة خلق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من سمّي منهم على وجه التفصي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ما أخبر الله به رسوله صلى الله عليه وسلم من صفاتهم، وهذه الصفات تنقسم إلى قسم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ff33"/>
                </a:solidFill>
                <a:latin typeface="Arial"/>
              </a:rPr>
              <a:t>ـ صفات خَلق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ff33"/>
                </a:solidFill>
                <a:latin typeface="Arial"/>
              </a:rPr>
              <a:t>ـ صفات خُلُق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ما أخبر الله به ورسوله ص من أعمال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66ff33"/>
                </a:solidFill>
                <a:uFillTx/>
                <a:latin typeface="Arial"/>
              </a:rPr>
              <a:t>وللإيمان بالملائكة ثمار وآثار كثيرة منها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ـ شكر الله سبحانه على عنايته بعباده حيث وكل بهم الملائكة يحفظونهم ويستغفرون ل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ـ تحقيق الإيمان بالغ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ـ التأدب والحياء لاستشعار قربهم وملازمتهم للإنس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ـ ملازمة الطاعة واجتناب المعصية رغبة في كتابتهم الخير والشهادة ع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أصل الثالث: الإيمان </a:t>
            </a:r>
            <a:r>
              <a:rPr b="1" lang="hi-IN" sz="3200" spc="-1" strike="noStrike">
                <a:solidFill>
                  <a:srgbClr val="66ff33"/>
                </a:solidFill>
                <a:latin typeface="Arial"/>
              </a:rPr>
              <a:t>بالكت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عريف الكت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كتب: جمع كتاب بمعنى مكتو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المراد بها هنا: الكتب التي أنزلها الله تعالى على رسله رحمة للخلق، و هداية لهم، ليخرج بها من شاء من الظلمات إلى الن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معنى الإيمان بالكتب: التصديق الجازم بأن الله تعالى أنزل كتباً على من شاء من رسله وأنبيائ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إيمان بالكتب يتضمن أربعة أمو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ول: الإيمان بها إجمالاً وأنها كلها منزلة من عند الله حق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ني: الإيمان بما سمي لنا منها على وجه الخصو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لث: الإيمان بما في هذه الكتب إجمالا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رابع: الإيمان بهذا القرآن المنزل على خاتم النبيين و أنه أشرف وآخر كتاب نزل من عند الله الله تعالى: ( وَأَنزَلْنَا إِلَيْكَ الْكِتَابَ بِالْحَقِّ مُصَدِّقًا لِّمَا بَيْنَ يَدَيْهِ مِنَ الْكِتَابِ وَمُهَيْمِنًا عَلَيْهِ 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33"/>
                </a:solidFill>
                <a:latin typeface="Arial"/>
              </a:rPr>
              <a:t>الغاية من إنزال الكت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أنزلت الكتب السماوية كلها لغاية واحدة: وهي أن يعبد الله وحده لا شريك له، وهداية للعبا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واضع الاتفاق و الاختلاف بين الكتب السما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تفق الكتب السماوية في وحدة المصدر، ووحدة الغاية، وأصول العقيدة، وقواعد التشريع الع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تختلف الكتب السماوية في الشرائع، قال تعالى: ( لِكُلٍّ جَعَلْنَا مِنكُمْ شِرْعَةً وَمِنْهَاجً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ـ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علم بعناية الله تعالى بعباده حيث أنزل لكل قوم كتاباً يهديهم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عبادة الله على بصي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عيش مع القرآن، والتعبد بتلاوته وحفظه، والعمل به، وإقامة حدود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تربية النفوس بحسب أوامره وتوجيهاته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8:08:49Z</dcterms:created>
  <dc:creator>user</dc:creator>
  <dc:description/>
  <dc:language>en-US</dc:language>
  <cp:lastModifiedBy>user</cp:lastModifiedBy>
  <dcterms:modified xsi:type="dcterms:W3CDTF">2005-06-17T08:20:00Z</dcterms:modified>
  <cp:revision>7</cp:revision>
  <dc:subject/>
  <dc:title>الشريحة 1</dc:title>
</cp:coreProperties>
</file>