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E79-CD57-46D8-984E-9A221D5A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FB5-0F53-4628-894F-51C41FD8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1FD-E2CE-42B8-9472-DA2E721C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A9F-065D-4679-ACA9-93726D89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09BC-1F90-472A-8855-774B06D4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2F4A-FF67-4A4B-8C7F-4DC1DE69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2E4B-213E-4B91-932C-9CE11FC4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307A-5202-4BDE-BFE6-34712CB3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FAE9-F28C-494C-986F-A217805B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7CEA-88D6-44EB-BE8F-A0598CE4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7133-5458-47B5-A028-CA59945F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EB1-5ABD-4BB0-9396-FB353DE6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E0B6-AE6C-4D79-8F51-9888D183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E683-170D-446B-B8AA-85C5ED8C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B1CB-4CC9-478A-93C4-842FA029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FBFE-FB16-47BC-8CC6-2D0A0C60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5678-03AA-47BB-99BC-78E34E07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30B-3C98-48C8-8921-95DBB88B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DD9-0DBD-4601-B90E-8A2044AA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9BE-D0D0-4BB1-9707-F6EF23B3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D39-A096-456F-9791-541DF66B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107-3DF5-4525-9970-E7701A65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18C-6ADF-4404-95AA-E6C18262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267-5CAE-4267-9813-623837CB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6B69-938F-46E8-883A-32BB00E9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703-F7AB-443A-A049-126D990E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115920"/>
            <a:ext cx="878544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             الركن الثاني :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إيمــان بالملائـ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ريف الملائكة :لغةً: الملائكة جمع مَلَك- واشتقاقه من الألُوكة والمألُكَ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          وهي الرِّساَ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اصطلاحاً: عَالَمٌ غيبـيّ مخلوقونَ مربوبون مدّبرون عابدون لله تعالى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وليس لهم من خصائص الربوبية والألوهية شي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إيمان بالملائكة يتضمن أربعة أمور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أول: الإيمان بوجودهم حقيقة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ثاني:الإيمان بمن سُمي منهم باسم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287280"/>
            <a:ext cx="835344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ثالث: الإيمان بما أخبر الله به ورسوله ﷺ من صفات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صفات خِلْ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صفات خُلُق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صفات الخِلْقية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لاً: لهم أجنح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نياً: لا يأكلون ولا يشرب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لثاً: لهم قدرة على التمث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ب ـ الصفات الخُلُقية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لاً: طاعتهم لل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نياً: عبادتهم لله بالصلاة والتسبي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ثالثاً: محبتهم للمؤمنين واستغفارهم له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رابعاً: الحي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            </a:t>
            </a: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رابع</a:t>
            </a:r>
            <a:r>
              <a:rPr b="0" lang="ar-SA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الإيمان بما أخبر الله به ورسول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من أعمالهم التي وُكِّلوا بها، وهم في ذلك أصناف كثي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مَنْ وُكّل بالوحي إلى الأنبياء وهو جبري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منهم ميكائيل، وقد اشتهر عند العلماء أنّه موكّل بالنبات والقط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منهم إسرافيــل، وقد أجمع العلماء أنّه موكّل بالنفخ في الصور المذكو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منهم من وكل بحمل العر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خزنة الجنة والنا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مَنْ وُكّل بحفظ العبد وكتابة عمل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مَنْ وُكّل بقبض أرواح العبا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وللإيمان بالملائكة ثمار وآثار مباركة كثيرة منها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شكر الله تعالى على عنايته بالعباد حيث وكّل الملائكة بحفظ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تحقيق الإيمان بالغ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التأدب والحياء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ملازمة الطاعة واجتناب المعص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الطمأنينة في المواطن التي يحضرونها ويصلّون فيها على المؤم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6-27T23:22:43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