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F33-EF50-4CCB-A33C-0C86C99C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D41-441A-417F-A966-46735BB0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115-FAA2-46D7-8137-E3FC2C29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396-D6B5-40D5-A289-C93B3365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6381-8B2E-4D05-AA7C-53F50759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E17C-D160-4A65-89FE-615CF388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9D5F-48E3-49DF-B962-8060CA54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0238-C54A-4878-9EC1-76A0862B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42FA-AF1A-4835-BC3B-158C0F2B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825A-34AB-4555-8975-298D86D2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7C42-3FFC-4788-8E0B-CBBAE601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4CB-2B89-4213-9416-533538C2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7B6C-DEC5-4D6C-A86D-6DC3C571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C4BB-2571-4510-A822-5465CBE2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A589-A46C-44B8-9D1A-503557EB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22B9-90EF-4CE9-85E1-37CE1445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BB24-F7A7-4541-B1BB-D205E7FB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9C2-79F2-4F77-B9F6-28D8F9ED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21E-8650-4ACB-AD17-9AEABB75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EE2-ADC5-4FDD-A84F-21966433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865-4F35-48F5-BE4A-AF82B8E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443-9B69-4D2E-9CEE-9FE5DFE1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318-AFBF-49C4-8611-89B554EE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A94-89D6-4A77-A407-15D22A49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EFBF-9F0C-48EF-94F1-98D52E451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82D5-6020-446D-A6FB-A50A5AB86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115920"/>
            <a:ext cx="878544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             الركن الثاني :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إيمــان بالملائـ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ريف الملائكة :لغةً: الملائكة جمع مَلَك- واشتقاقه من الألُوكة والمألُكَ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وهي الرِّساَ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اصطلاحاً: عَالَمٌ غيبـيّ مخلوقونَ مربوبون مدّبرون عابدون لله تعالى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وليس لهم من خصائص الربوبية والألوهية شي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إيمان بالملائكة يتضمن أربعة أمور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أول: الإيمان بوجودهم حقيقة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ثاني:الإيمان بمن سُمي منهم باسم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287280"/>
            <a:ext cx="835344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ثالث: الإيمان بما أخبر الله به ورسوله ﷺ من صفات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صفات خِلْ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صفات خُلُ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صفات الخِلْقية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ولاً: لهم أجنح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نياً: لا يأكلون ولا يشرب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لثاً: لهم قدرة على التمث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ب ـ الصفات الخُلُقية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ولاً: طاعتهم لل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نياً: عبادتهم لله بالصلاة والتسبي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لثاً: محبتهم للمؤمنين واستغفارهم له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رابعاً: الحي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            </a:t>
            </a: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رابع</a:t>
            </a:r>
            <a:r>
              <a:rPr b="0" lang="ar-SA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إيمان بما أخبر الله به ورسول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من أعمالهم التي وُكِّلوا بها، وهم في ذلك أصناف كثي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مَنْ وُكّل بالوحي إلى الأنبياء وهو جبري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منهم ميكائيل، وقد اشتهر عند العلماء أنّه موكّل بالنبات والقط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منهم إسرافيــل، وقد أجمع العلماء أنّه موكّل بالنفخ في الصور المذكو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منهم من وكل بحمل العر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خزنة الجنة والنا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مَنْ وُكّل بحفظ العبد وكتابة عمل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مَنْ وُكّل بقبض أرواح العبا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وللإيمان بالملائكة ثمار وآثار مباركة كثيرة منها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شكر الله تعالى على عنايته بالعباد حيث وكّل الملائكة بحفظ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تحقيق الإيمان بالغ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التأدب والحياء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ملازمة الطاعة واجتناب المعص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الطمأنينة في المواطن التي يحضرونها ويصلّون فيها على المؤم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23:22:43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