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6BF-6253-41EE-AC78-240B03E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4FB-2A60-46E1-9FF4-7B8FB43F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94A-6B16-43C0-8303-5901E0EA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DE4-1C1D-42CF-A4BE-80D00687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C3B3-80AE-4A17-BCB6-27B73901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CE1D-2150-40F0-A951-8A62278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556-196A-4F29-98A6-1811882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433B-71EC-43E2-B3F0-F71CB9D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D3F9-2D84-49F9-94B1-6FB708C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9C55-E497-4A90-909C-8752443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1DA-8823-4492-9002-10F1B55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1AA-5F72-4B79-BBFE-1C59E7E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7865-D062-44D5-9D23-5503B7A3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E9FD-D7C8-4534-B46D-BC94240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9069-FD12-4207-9A33-351B6BBD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581A-3BC2-43EA-B2E3-929C65BD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77A-FD0B-458C-8F12-6F6B46B4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44E-645C-4659-BE76-A249B98E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EBB-DF9B-4A96-9DCD-3F4A8CF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5D4-1BB0-49FC-9D9C-7B302B1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979-24BD-4A93-B2B9-61668C6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007-6683-49F6-8DA2-4CC1453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B35-CA5A-4256-A235-0A84439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750-71A3-4397-817A-7422DAC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F544-F83E-40D8-A42A-8C856A1B7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3E0B-6601-4AE9-B9FC-4D0988C6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يمـان بالق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عريف القدر لغة وشرعا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َدَرُ لغةً: مصدر قَدَرَ يقدر قَدَرًا ويطلق تارةً على التقدير ، وتارةً على المقدّ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شرعاً: تقديرُ الله للكائنات في علمه وكتابته تقديـــراً مفصلاً يشمل مواقي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وصفاتها وأعدادها وأنواعها وآجالها ونهايتها، وما شـــــاء سبحانه وتعا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قضاء لغ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في اللغة يطلق على معان منها: الفراغ من الفعل , ومنها الحكم , وتارة يطلق على المقضي , وتارةً على القض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قضاء من الله نوعان: كوني وشرعي، فالكوني كق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تعالى: ( وإذا قضى أمرا فإنما يقول له كن فيكون ) , والشرعي , قال تعالى : ( وقضى ربك ألا تعبد إلا إياه وبالوالدين إحسانا )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إيمان بالقدر يتضمن أربعة أمور – وهي مراتب القدر -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ول : الإيمان بعلم الله القدي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الله تعالى علم بكل شيء جملةً وتفصيلاً , أزلاً وأبداً , بما في ذلك أفعال العباد طاعتهم ومعاصي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ثاني: الإيمان بالكتاب الأوَّ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الله كتب ما سبق به علمه من مقادير الخلائق إلى يوم القيامة في اللوح المحفو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ثالث: الإيمان بعموم المشيئ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ي الإيمان بأن جميع الكائنات لا تكون إلا بمشيئة الله تعالى، سو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كانت مما يتعلق بفعله أم مما يتعلق بفعل المخلوق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رابع: الخل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و الإيمان بأن جميع الكائنات مخلوقة لله تعالى بذواتها، وصفاتها وحرك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ويجـــب مع الإيمان بالقــــدر المتضمن للمــــراتب الأربــــع الإيمان بحكم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سبحانه وتعالى- في أقداره وهو أنّ كل ما قدره تعالى فهو لحكمة يعلمــــها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لا يستقيم الإيمان بالقدر إلاّ مع الإيمان بالشرع وهو الأمر والن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 وأنّ كلّ ما أمر به؛ فهو طــاعةٌ محبوبٌ مرضيّ له تعالى، وكل 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نهى عنه فهو معصيـــة ومبغـــوض له تعـــــالى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قد ضلَّ في القدر طائفت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إحداهما: الجبرية الذين قـــــالوا: إنَّ العبد مجبــــر على عمله، وليس له فيه إرادة ولا قد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ثانية: القدرية الذين قالوا: إن العبـــد مستقل بعمله في الإرادة والقـــــدرة،وليس لمشيئة الله تعالى وقدرته فيه أث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حكم الاحتجاج بالقدر على ترك الواجبات أو فعل المعاص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إيمان بالقدر لا يصح أن يكون حجة على ترك الواجبات أو فعل المعاص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وأمَّا الاحتجاجُ بالقدر على المصائب فيجو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وكذلك يجوز الاحتجاجُ بالقـــــدر على الذنوب بعد التوبة م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للإيمان بالقدر آثار وثمار عظيمة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منها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اعتماد على الله تعالى وحده؛ لأن كل شيء بقدر الل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 أن الإيمان بالقدر يعصم الإنسان - بإذن الله - من البطر والطغيان إذ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أصابه الخير، ومن الحزن والأسى إذا أصابه ال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- ألا يُعجب المرء بنفسه عند حصول مراد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قوة والثبات في الح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إيمان بالقدر يغرس القناعة في نفس المؤ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أن الإيمان بالقدر يقضي على كثير من الأمراض التي تعصف بالمجتمع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صبر على المصائ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0:43:46Z</dcterms:created>
  <dc:creator>fdmain</dc:creator>
  <dc:description/>
  <dc:language>en-US</dc:language>
  <cp:lastModifiedBy>fdmain</cp:lastModifiedBy>
  <dcterms:modified xsi:type="dcterms:W3CDTF">2008-06-30T00:57:30Z</dcterms:modified>
  <cp:revision>2</cp:revision>
  <dc:subject/>
  <dc:title>الشريحة 1</dc:title>
</cp:coreProperties>
</file>