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AC69-BC8D-47E9-8D0D-7EE24319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80D9-72CF-46FE-B356-26BDC9AA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9ACF-23CE-49BC-8962-7B551EECE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4A49-BF0F-4229-8109-B06DC32B0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B9DC-1A41-4D67-A1C9-A7033C177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80C0-35F1-410A-8BC0-1C40A2BE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BF5A0-4B63-4F43-AD20-1E33EE18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9583-B88B-47EC-99BB-BE91BD8E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44BE-08A8-490A-B2D6-877C1F0F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6031-4961-4401-A9B2-F804FF2E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1DCE-0952-4193-BBBD-1DC670FB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1685-41E1-4AED-A6C4-D1502455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C8F5-72B5-4D16-859B-EDAA3B3F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9B2B-8CF5-45D6-A4B5-E804A4B2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7131-3F05-442A-B772-882A9892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4BA3-457D-41C2-A208-2F450EEC3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0A53-6134-4726-B57D-54333DDFA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D343-13E8-4F28-BBC8-8A5C82CA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9221-E9D9-48A3-95C2-6BE9B47F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D512-6604-42AC-8A4C-7F057BF4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BB67-0A5E-4B28-8E9E-BEB32C75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ADBF-DFB4-4D35-AA32-A57D0155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0E5C-C73B-4A33-A22B-3EC2669D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DE8F-0C8B-4A5E-9231-21233278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C778-01BA-4317-9CF1-D8FD87A51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C959-6DD0-4508-8599-76AF35E00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ct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إيمـان بالقـد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تعريف القدر لغة وشرعا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قَدَرُ لغةً: مصدر قَدَرَ يقدر قَدَرًا ويطلق تارةً على التقدير ، وتارةً على المقدّ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وشرعاً: تقديرُ الله للكائنات في علمه وكتابته تقديـــراً مفصلاً يشمل مواقيته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وصفاتها وأعدادها وأنواعها وآجالها ونهايتها، وما شـــــاء سبحانه وتعالى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والقضاء لغة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في اللغة يطلق على معان منها: الفراغ من الفعل , ومنها الحكم , وتارة يطلق على المقضي , وتارةً على القضاء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والقضاء من الله نوعان: كوني وشرعي، فالكوني كقول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تعالى: ( وإذا قضى أمرا فإنما يقول له كن فيكون ) , والشرعي , قال تعالى : ( وقضى ربك ألا تعبد إلا إياه وبالوالدين إحسانا ) 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والإيمان بالقدر يتضمن أربعة أمور – وهي مراتب القدر -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أول : الإيمان بعلم الله القديم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وهو الإيمان بأن الله تعالى علم بكل شيء جملةً وتفصيلاً , أزلاً وأبداً , بما في ذلك أفعال العباد طاعتهم ومعاصيهم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* الثاني: الإيمان بالكتاب الأوَّ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وهو الإيمان بأن الله كتب ما سبق به علمه من مقادير الخلائق إلى يوم القيامة في اللوح المحفو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* الثالث: الإيمان بعموم المشيئ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وهي الإيمان بأن جميع الكائنات لا تكون إلا بمشيئة الله تعالى، سو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أكانت مما يتعلق بفعله أم مما يتعلق بفعل المخلوق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* الرابع: الخل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وهو الإيمان بأن جميع الكائنات مخلوقة لله تعالى بذواتها، وصفاتها وحركات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ويجـــب مع الإيمان بالقــــدر المتضمن للمــــراتب الأربــــع الإيمان بحكمت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سبحانه وتعالى- في أقداره وهو أنّ كل ما قدره تعالى فهو لحكمة يعلمــــها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لا يستقيم الإيمان بالقدر إلاّ مع الإيمان بالشرع وهو الأمر والنه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 وأنّ كلّ ما أمر به؛ فهو طــاعةٌ محبوبٌ مرضيّ له تعالى، وكل م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نهى عنه فهو معصيـــة ومبغـــوض له تعـــــالى.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وقد ضلَّ في القدر طائفتان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إحداهما: الجبرية الذين قـــــالوا: إنَّ العبد مجبــــر على عمله، وليس له فيه إرادة ولا قدر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الثانية: القدرية الذين قالوا: إن العبـــد مستقل بعمله في الإرادة والقـــــدرة،وليس لمشيئة الله تعالى وقدرته فيه أث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حكم الاحتجاج بالقدر على ترك الواجبات أو فعل المعاصي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إيمان بالقدر لا يصح أن يكون حجة على ترك الواجبات أو فعل المعاصي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وأمَّا الاحتجاجُ بالقدر على المصائب فيجو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وكذلك يجوز الاحتجاجُ بالقـــــدر على الذنوب بعد التوبة من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9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4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9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4" dur="2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وللإيمان بالقدر آثار وثمار عظيمة،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منها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الاعتماد على الله تعالى وحده؛ لأن كل شيء بقدر الله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ـ أن الإيمان بالقدر يعصم الإنسان - بإذن الله - من البطر والطغيان إذ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أصابه الخير، ومن الحزن والأسى إذا أصابه الش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- ألا يُعجب المرء بنفسه عند حصول مراد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القوة والثبات في الح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الإيمان بالقدر يغرس القناعة في نفس المؤم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أن الإيمان بالقدر يقضي على كثير من الأمراض التي تعصف بالمجتمع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الصبر على المصائ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30T00:43:46Z</dcterms:created>
  <dc:creator>fdmain</dc:creator>
  <dc:description/>
  <dc:language>en-US</dc:language>
  <cp:lastModifiedBy>fdmain</cp:lastModifiedBy>
  <dcterms:modified xsi:type="dcterms:W3CDTF">2008-06-30T00:57:30Z</dcterms:modified>
  <cp:revision>2</cp:revision>
  <dc:subject/>
  <dc:title>الشريحة 1</dc:title>
</cp:coreProperties>
</file>