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67A-C7FE-49F6-BE0D-9F9D8FCE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0E4-13BC-490F-9700-E2511965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6D2-9583-4DB6-AC76-7BD7C96F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23F-1AE1-4243-AD54-090761CA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B9C2-8D39-4193-8C51-3F708D30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8D61-0C1A-43E9-8859-CCDD767E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8E8D-63AB-4B6B-8AEB-DBA25630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2B58-9455-4844-849F-42E60857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38C-D933-4676-919B-2929B0E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10A7-A03C-43E8-9E9D-8506E3D5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A526-CCD6-4372-8239-0545DB2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68B-41F9-4021-8DEA-6146787A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1C7A-8BEA-493E-B2D8-BEB052B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8035-489C-46BD-8659-3E39A321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03C1-6BD1-49CC-93B8-8E685828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3EB9-B9DE-457E-9EA3-947CD022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E0D5-B470-4692-A27E-7F001EBF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04F-3242-43A8-8AEC-BFCCE2C7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258-282A-4CE3-B25B-C6D893BE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0D7-5EA9-424A-BA86-E2351808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3A9-9CB7-49CD-9302-1336F42C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CE9-C7A6-4943-850F-E9C361A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FA2-977C-462A-9245-971B6C5D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6EB-2258-44EE-A5CC-4F036BC3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E2EC-ECE3-4A8B-BE0A-4EE059142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AC35-AF92-4189-9F56-188152083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Arial"/>
              </a:rPr>
              <a:t>الركن الرابع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: الإيمان بالرس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تعريف النبي و الرسو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نبي لغة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شتق من النبأ وهو الخبر , وقيل : النبوة مشتقة من النَِّبوة : وهي ما ارتفع من الأرض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والرسول في اللغة :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مأخوذ من الإرس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وفي الاصطلاح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:فالمشهور أن الرسول هو من أوحي إليه بشرع وأُمر بتبليغه , والنبي هو من أوحي إليه ولم يؤمر بالبلا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على ذلك فكل رسول نبي وليس كل نبي رسو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قيل : إن الرسول من أرسل إلى قوم كفار , والنبي من أرسل إلى قوم مؤمن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66"/>
                </a:solidFill>
                <a:uFillTx/>
                <a:latin typeface="Arial"/>
              </a:rPr>
              <a:t>حكمة إرسال الرس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Arial"/>
              </a:rPr>
              <a:t>لما كان العقل البشري لا يتمكن من عبادة الله – تعالى – على الوجه اللذي يرضاه ويحبه , وكذلك لا يستطيع التنظيم والتشريع المناسب للأم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- كان من حكمة الله ورحمة أن أرسل الرسل وأنزل الكتب لإصلاح الخلق وإقامة الحجة علي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  <a:ea typeface="Monotype Koufi"/>
              </a:rPr>
              <a:t>- الإيمان بالرسل يتضمن أموراَ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66"/>
                </a:solidFill>
                <a:uFillTx/>
                <a:latin typeface="Arial"/>
              </a:rPr>
              <a:t>الأول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:الإيمان بجميع الرسل إجمالاَ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وأعظم شبة تعلق بها المكذبون أن المرسل إليهم بش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ثاني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: الإيمان بمن علمنا منهم تفصيلا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وأفضلهم على الإطلاق نبينا محمد صلى الله عليه وسلم خاتم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النبي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ثالث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: الإيمان إجمالا وتفصيلا بما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جاء به نبينا محمد صلى الله عليه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وسلم من الكتاب والحك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رابع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: الإيمان بمعجزات الرسل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وبين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ودلالة القرآن علة نبوة محمد صلى الله عليه وسلم من ثلاثة أوجه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أنّه أمي لا يكتب ولا يقرأ المكتو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ما اشتمل عليه من قصص الأنبياء مما هو من علم الغي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إعجاز القرآن للبش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وللإيمان برسل الله و أنبيائه ثمار وآثار عظيم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الأنبياء والرسل قدوة حية للمبادئ والقيم التي يدعون إل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اليقين بحسن عاقبة المتقين المطيعين ل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توقير أنبياء الله ورسله وتعظيمهم , ومحبتهم والثناء عليهم بما يستحقون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3:56:49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