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587-8F23-4DC8-B37B-2483734B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EDC-BBE2-4617-A3B3-2C50FAC4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996-152D-4B53-80CF-184F9DB9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3EB-B0BC-4B70-9770-4B2CE01B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AA7-B083-4A88-B371-8479A71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058-0F69-41A3-B409-C9F0C90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0AD-C844-46BE-8269-F1E8C4B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4D0C-82B4-4B45-8487-6AEE060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BA0-5335-43A9-A94D-B43CD6F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686-C7BC-41AB-AD1C-30C1D1D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B0F-26DB-4504-A935-F608181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490-DA6A-4EEB-8032-21DD8E2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03D9-4FCB-44D3-95B8-CC44F3A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519-8F30-4804-AD1A-B4F3D9D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AB0A-28A3-49CF-AFB3-D850B263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ED5-2C3E-4D2D-A030-CDF4AFF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DC0-69C1-457D-9018-3E990ACA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392-0B60-4BBB-8A75-9500ABC7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2A-E3D9-4CE1-A539-699DFC9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EE5-96B1-4AE0-9D69-5E25217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E90-395A-426F-90E3-CD9ED91D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EB9-F3B4-48C2-B15F-8533C1D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82C-3340-45B9-918F-85A95464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0E0-C64B-42E1-9721-FE28D63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693-AE4E-425D-9162-B748DB5C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FF9-3510-4B21-A088-0953E83A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الركن الرابع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: الإيمان بالر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تعريف النبي و الرسو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نبي لغة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شتق من النبأ وهو الخبر , وقيل : النبوة مشتقة من النَِّبوة : وهي ما ارتفع من الأرض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والرسول في اللغة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مأخوذ من الإرس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وفي الاصطلا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فالمشهور أن الرسول هو من أوحي إليه بشرع وأُمر بتبليغه , والنبي هو من أوحي إليه ولم يؤمر بالبلا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على ذلك فكل رسول نبي وليس كل نبي رسو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قيل : إن الرسول من أرسل إلى قوم كفار , والنبي من أرسل إلى قوم مؤمن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66"/>
                </a:solidFill>
                <a:uFillTx/>
                <a:latin typeface="Arial"/>
              </a:rPr>
              <a:t>حكمة إرسال الرس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Arial"/>
              </a:rPr>
              <a:t>لما كان العقل البشري لا يتمكن من عبادة الله – تعالى – على الوجه اللذي يرضاه ويحبه , وكذلك لا يستطيع التنظيم والتشريع المناسب للأم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- كان من حكمة الله ورحمة أن أرسل الرسل وأنزل الكتب لإصلاح الخلق وإقامة الحجة علي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  <a:ea typeface="Monotype Koufi"/>
              </a:rPr>
              <a:t>- الإيمان بالرسل يتضمن أموراَ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66"/>
                </a:solidFill>
                <a:uFillTx/>
                <a:latin typeface="Arial"/>
              </a:rPr>
              <a:t>الأول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:الإيمان بجميع الرسل إجمالاَ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أعظم شبة تعلق بها المكذبون أن المرسل إليهم ب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ثاني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بمن علمنا منهم تفصيلا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وأفضلهم على الإطلاق نبينا محمد صلى الله عليه وسلم خاتم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النبي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ثالث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إجمالا وتفصيلا بما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جاء به نبينا محمد صلى الله عليه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وسلم من الكتاب والحك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رابع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بمعجزات الرسل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وبين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دلالة القرآن علة نبوة محمد صلى الله عليه وسلم من ثلاثة أوج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أنّه أمي لا يكتب ولا يقرأ المكت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ما اشتمل عليه من قصص الأنبياء مما هو من علم الغ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إعجاز القرآن للبش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للإيمان برسل الله و أنبيائه ثمار وآثار عظيم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الأنبياء والرسل قدوة حية للمبادئ والقيم التي يدعون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اليقين بحسن عاقبة المتقين المطيعين 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توقير أنبياء الله ورسله وتعظيمهم , ومحبتهم والثناء عليهم بما يستحقون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3:56:49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