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2591-B988-4BE5-A792-71B27A2A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BBF0-7B5B-4D24-B2BE-19CAC694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0BE6-207D-4BCB-913E-BCC34F3E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C0A0-2DD5-4522-905F-6392A9C4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8856-9E61-4D63-AB57-E7CF3C2D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E5FC-897C-4098-9FEB-737946B6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DEC9-E96A-4066-8041-C469F012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C7B-E546-4D6C-9ABB-30535755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BDCC-1AEB-4CB3-8928-432D0E15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92E-E27F-4BA9-BE03-A79F06BB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9383-6A77-4DAC-A81F-32647141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0C89-7E80-4D5F-A46F-510BAB65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DAE2-B138-47B8-9FE1-9FFF874DA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99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hi-IN" sz="3200" spc="-1" strike="noStrike" u="sng">
                <a:solidFill>
                  <a:srgbClr val="000066"/>
                </a:solidFill>
                <a:uFillTx/>
                <a:latin typeface="Arial"/>
              </a:rPr>
              <a:t>الركن الخامس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: الإيمان باليوم الآخ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66"/>
                </a:solidFill>
                <a:latin typeface="Arial"/>
              </a:rPr>
              <a:t>اليوم الآخر: يوم القيامة الذي يبعث الله النــــاس فيــــه للحســــــاب والجز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66"/>
                </a:solidFill>
                <a:latin typeface="Arial"/>
              </a:rPr>
              <a:t>وله أسماء كثيرة منه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يوم الفصل، ويوم التلاق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66"/>
                </a:solidFill>
                <a:latin typeface="Arial"/>
              </a:rPr>
              <a:t>يوم البعث،  ويوم الحساب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  ويوم الآزف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99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</a:rPr>
              <a:t>الإيمان باليوم الآخر يتضمن أمورا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الأوَّل: الإيمان بكل ما يكون بعد الموت من فتنة القبر، وعذاب القبر ونعيمه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(أ) فتنــــة القبــــــر: وهي سؤال الميـــــت بعد دفنه عن ربه ودينه ونبيه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(ب) عذاب القبر ونعيمه: فأمـــا عذاب القبر: فيكون للظالميــــن من المنافقــي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     والكافــــرين وبعض العصـــــــاة وأما نعيـــم القبر فللمؤمنين الصادقيــــــ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     فإنَّ الإيمان بأحوال القبور هو من الإيمان بالغيب الذي هو منــــاط التكلي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     وما يترتب عليه من ثواب أو عقاب،وقدأنكر قوم من الزنادق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عذاب القبر ونعيمه واحتجوا بأنه لو كشف عن الميت في قبر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 لوجد كما كان عليه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وهذه الحجة باطلة فإنها مبنية على الاحتجاج بالحس ف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معارضة نصوص الغيب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6000" y="260280"/>
            <a:ext cx="8820000" cy="6337440"/>
          </a:xfrm>
          <a:prstGeom prst="rect">
            <a:avLst/>
          </a:prstGeom>
          <a:solidFill>
            <a:srgbClr val="80808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ar-SA" sz="3600" spc="-1" strike="noStrike">
                <a:solidFill>
                  <a:srgbClr val="ffff99"/>
                </a:solidFill>
                <a:latin typeface="Arial"/>
              </a:rPr>
              <a:t>الإيمان بالبعث:</a:t>
            </a: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هو إحياء الموتى حين ينفخ في الصور النفخة الثانية، فيقوم النا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لرب العالم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البعث: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حق ثابت دلَّ عليه الكتاب والسنة وإجماع المسلم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الثالث: الإيمان بالحساب والجزاء: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مما يؤمن به أهلُ السنة والجمــاعة مما يكون في موقف يوم القيام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حوض لنبينا كما يؤمن أهل السنة والجماعة بالشفاعة العظمى لنبين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الرابع: الإيمان بالجنة والنار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أنهما موجودتان الآن، لا تفنيان أبداً ولا تبيد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765000"/>
            <a:ext cx="8713800" cy="5185080"/>
          </a:xfrm>
          <a:prstGeom prst="rect">
            <a:avLst/>
          </a:prstGeom>
          <a:solidFill>
            <a:srgbClr val="ffff9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للإيمان باليوم الآخر ثمار وآثار مباركة كثيرة، منها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ـ معرفة حقيقة الحياة الدنيا وأنها متاع الغرو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الاجتهاد في كثرة العمل الصال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زيادة الاشتياق لدخول الجنة ورؤية وجه الله تعالى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كثرة ذكر الموت , والاستعداد للوقوف بين يدي الله عز وجل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الحذر من المعاصي والمخالفات والبدع والظل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تسلية المؤمن عما يفوته من نعيم الدنيا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الأخذ بأسباب حسن الخات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7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77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6-28T00:38:17Z</dcterms:modified>
  <cp:revision>1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