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6174-0F80-42B9-8237-84AB7601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4F25-46D5-4D61-931E-77FB343B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90BA-59A0-4465-BBA6-4E7B539E7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09EA-4609-48CC-B91B-0CC8A374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EE59-D2A4-4C35-842A-1CCF64E05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1B71-FA69-49D2-B707-C07EBCB2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DB4D-2525-47D3-B3D8-958E79B9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E232-EF5F-44DB-BB40-3B62AB93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7EA3-39D8-4174-B8E5-C4AFD5FC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4619-DBF9-4C03-96D4-2F905D79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DB98-6720-426C-87CB-3B4FD15C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6B59-603C-4823-9B95-1B544AC0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F82B-5C5B-4B7A-8FA6-6B20F6A6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DC99-7E5C-4712-BAF6-88186F98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F6BF-6734-4D17-8E4E-FAED7119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3FE8-C350-4019-8B1B-CCE866052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F17E-0372-4F46-BFAA-0DEEB584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6432B-F7D7-4D74-BBB3-21941A2C3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60AE1-B517-4FC1-887A-DA448965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20A14-94DA-4280-AD61-CB93978A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BD0E3-8E81-41EF-B1F1-31583313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348AF-0522-46F3-B99E-554FF657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B36C-BF16-4810-A2B5-FD0D60C5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91509-4AA8-461F-812E-31C878B9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C8FAA-97A0-4946-91DC-C745A124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8CAFD-03C0-41FD-8D2E-19A977EB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8C013-402E-4EAB-9BFF-D2AAA463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8A7F7-9021-41CE-9334-0CED8B97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E859F-D010-40E6-A18D-DEAD3B77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A7DB8-ABF7-48EC-8905-0E568AED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314D7-43C4-42FE-809E-6311465D5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6DF84-C008-40F7-8812-8400C1FC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3ABA4-2AB2-41A5-9FE5-DD680CEE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5B2E-646B-40BC-B2DD-34D75932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27624-6946-4841-9793-107DE0FA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7A5ED-DA50-4FD8-96F7-740D0F51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A635F-B5D6-4443-8E69-0F174D00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3E088-18DD-45ED-833A-5A5367A1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8F0E7-7C8E-4217-94E5-FC8A5505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21442-99D6-40FC-B5CB-9DA09B43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387A3-0CD2-4848-8255-BB835AC7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9E55E-32F2-4369-97DE-4D827165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74927-EB2D-4A2F-9FAB-9B5721912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750E1-E68A-4E3C-91B1-1279730A8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E718-77CD-4590-B481-891AD10F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B0608-43B2-401F-88E6-1966E56A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1BB10-21A7-4052-930E-6690375D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26051-95B9-4685-ABD3-16533C2E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B6534-4124-4B23-A3B0-99078EBE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01F1A-B7E7-4BF2-977E-94B67AA9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A06E8-5C80-493A-8225-604F6635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4F0EA-92DA-41B5-B263-C91A0FE5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AE095-2DEA-4C9E-B8A6-AAC2EAD0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253DD-37A0-40BB-84D0-1F97C5B3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38E7A-30C1-42F0-8947-FD648809E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652D-7162-41DB-A659-FA46E356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65AC9-D9B4-4C73-81A2-1E8B124FF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A566-1999-4BA8-A91C-947F9520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B25F-A0F9-43FA-BAF7-5E24EA5F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86E0-8E5E-4615-B5CA-3E5A5DCF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3424-BBF3-46DE-8C65-60ACFF55B1CC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4963-11E0-44F3-80D4-82CDFFACC369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A58D-9529-4D06-9333-AD55696C85FE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E9D3-0B60-4661-9170-07F425898875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54EA-58EE-4B66-B9F2-F4AA984BC57C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428840" y="407160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96464"/>
                </a:solidFill>
                <a:latin typeface="Perpetua"/>
                <a:cs typeface="Al-Mothnna"/>
              </a:rPr>
              <a:t>عمل الطالبات 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96464"/>
                </a:solidFill>
                <a:latin typeface="Perpetua"/>
                <a:cs typeface="Al-Mothnna"/>
              </a:rPr>
              <a:t>دانية عبد العزيز المسيند     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96464"/>
                </a:solidFill>
                <a:latin typeface="Perpetua"/>
                <a:cs typeface="Al-Mothnna"/>
              </a:rPr>
              <a:t>أمل الطامي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96464"/>
                </a:solidFill>
                <a:latin typeface="Perpetua"/>
                <a:cs typeface="Al-Mothnna"/>
              </a:rPr>
              <a:t>أشواق الورهي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Franklin Gothic Book"/>
              </a:rPr>
              <a:t>الخصائص العامة للإسلام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Diagram 6" descr=""/>
          <p:cNvPicPr/>
          <p:nvPr/>
        </p:nvPicPr>
        <p:blipFill>
          <a:blip r:embed="rId1"/>
          <a:stretch/>
        </p:blipFill>
        <p:spPr>
          <a:xfrm>
            <a:off x="1474920" y="1390680"/>
            <a:ext cx="6310080" cy="4076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ounded Rectangle 3"/>
          <p:cNvSpPr/>
          <p:nvPr/>
        </p:nvSpPr>
        <p:spPr>
          <a:xfrm>
            <a:off x="3500280" y="3214800"/>
            <a:ext cx="2000520" cy="1285920"/>
          </a:xfrm>
          <a:prstGeom prst="roundRect">
            <a:avLst>
              <a:gd name="adj" fmla="val 16667"/>
            </a:avLst>
          </a:prstGeom>
          <a:solidFill>
            <a:srgbClr val="9b2d1f"/>
          </a:solidFill>
          <a:ln w="12600">
            <a:solidFill>
              <a:srgbClr val="711e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Perpetua"/>
                <a:cs typeface="Al-Mothnna"/>
              </a:rPr>
              <a:t>دين اله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3500280" y="271476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l-Mothnna"/>
              </a:rPr>
              <a:t>ثمرات دين الإلهي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eft Arrow 5"/>
          <p:cNvSpPr/>
          <p:nvPr/>
        </p:nvSpPr>
        <p:spPr>
          <a:xfrm>
            <a:off x="5643720" y="3214800"/>
            <a:ext cx="1214280" cy="64296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855d5d"/>
          </a:solidFill>
          <a:ln w="12600">
            <a:solidFill>
              <a:srgbClr val="60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6"/>
          <p:cNvSpPr/>
          <p:nvPr/>
        </p:nvSpPr>
        <p:spPr>
          <a:xfrm>
            <a:off x="6786720" y="2714760"/>
            <a:ext cx="2071440" cy="1357200"/>
          </a:xfrm>
          <a:prstGeom prst="roundRect">
            <a:avLst>
              <a:gd name="adj" fmla="val 16667"/>
            </a:avLst>
          </a:prstGeom>
          <a:solidFill>
            <a:srgbClr val="855d5d"/>
          </a:solidFill>
          <a:ln w="12600">
            <a:solidFill>
              <a:srgbClr val="60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Perpetua"/>
                <a:ea typeface="Al-Mothnna"/>
              </a:rPr>
              <a:t>1</a:t>
            </a:r>
            <a:r>
              <a:rPr b="0" lang="ar-SA" sz="1600" spc="-1" strike="noStrike">
                <a:solidFill>
                  <a:srgbClr val="ffffff"/>
                </a:solidFill>
                <a:latin typeface="Perpetua"/>
                <a:ea typeface="Al-Mothnna"/>
              </a:rPr>
              <a:t>.يبين الحقائق الكبرى التي لا يستطيع الإنسان معرفتها إلا بالوحي المعص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eft Arrow 7"/>
          <p:cNvSpPr/>
          <p:nvPr/>
        </p:nvSpPr>
        <p:spPr>
          <a:xfrm rot="18708000">
            <a:off x="5309280" y="2077200"/>
            <a:ext cx="1087200" cy="64116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a28e6a"/>
          </a:solidFill>
          <a:ln w="12600">
            <a:solidFill>
              <a:srgbClr val="7667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ounded Rectangle 8"/>
          <p:cNvSpPr/>
          <p:nvPr/>
        </p:nvSpPr>
        <p:spPr>
          <a:xfrm>
            <a:off x="5857920" y="928800"/>
            <a:ext cx="2357280" cy="1214280"/>
          </a:xfrm>
          <a:prstGeom prst="roundRect">
            <a:avLst>
              <a:gd name="adj" fmla="val 16667"/>
            </a:avLst>
          </a:prstGeom>
          <a:solidFill>
            <a:srgbClr val="a28e6a"/>
          </a:solidFill>
          <a:ln w="12600">
            <a:solidFill>
              <a:srgbClr val="7667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Perpetua"/>
                <a:ea typeface="Al-Mothnna"/>
              </a:rPr>
              <a:t>2</a:t>
            </a:r>
            <a:r>
              <a:rPr b="0" lang="ar-SA" sz="1600" spc="-1" strike="noStrike">
                <a:solidFill>
                  <a:srgbClr val="ffffff"/>
                </a:solidFill>
                <a:latin typeface="Perpetua"/>
                <a:ea typeface="Al-Mothnna"/>
              </a:rPr>
              <a:t>.دين من عند الله تعالى سالم من النقص والتعارض والهوى والحيف والظل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eft Arrow 9"/>
          <p:cNvSpPr/>
          <p:nvPr/>
        </p:nvSpPr>
        <p:spPr>
          <a:xfrm rot="10800000">
            <a:off x="2214360" y="3286080"/>
            <a:ext cx="1143000" cy="57168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ounded Rectangle 10"/>
          <p:cNvSpPr/>
          <p:nvPr/>
        </p:nvSpPr>
        <p:spPr>
          <a:xfrm>
            <a:off x="500040" y="2928960"/>
            <a:ext cx="1857240" cy="142884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Perpetua"/>
                <a:ea typeface="Al-Mothnna"/>
              </a:rPr>
              <a:t>5</a:t>
            </a:r>
            <a:r>
              <a:rPr b="0" lang="ar-SA" sz="1800" spc="-1" strike="noStrike">
                <a:solidFill>
                  <a:srgbClr val="ffffff"/>
                </a:solidFill>
                <a:latin typeface="Perpetua"/>
                <a:ea typeface="Al-Mothnna"/>
              </a:rPr>
              <a:t>.تلبية مطالب النفس البشري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ight Arrow 11"/>
          <p:cNvSpPr/>
          <p:nvPr/>
        </p:nvSpPr>
        <p:spPr>
          <a:xfrm rot="5198400">
            <a:off x="3673080" y="2014560"/>
            <a:ext cx="1060560" cy="57456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956251"/>
          </a:solidFill>
          <a:ln w="12600">
            <a:solidFill>
              <a:srgbClr val="6c4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12"/>
          <p:cNvSpPr/>
          <p:nvPr/>
        </p:nvSpPr>
        <p:spPr>
          <a:xfrm>
            <a:off x="3214800" y="642960"/>
            <a:ext cx="2143080" cy="1143000"/>
          </a:xfrm>
          <a:prstGeom prst="roundRect">
            <a:avLst>
              <a:gd name="adj" fmla="val 16667"/>
            </a:avLst>
          </a:prstGeom>
          <a:solidFill>
            <a:srgbClr val="956251"/>
          </a:solidFill>
          <a:ln w="12600">
            <a:solidFill>
              <a:srgbClr val="6c4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Perpetua"/>
                <a:ea typeface="Al-Mothnna"/>
              </a:rPr>
              <a:t>3</a:t>
            </a:r>
            <a:r>
              <a:rPr b="0" lang="ar-SA" sz="1800" spc="-1" strike="noStrike">
                <a:solidFill>
                  <a:srgbClr val="ffffff"/>
                </a:solidFill>
                <a:latin typeface="Perpetua"/>
                <a:ea typeface="Al-Mothnna"/>
              </a:rPr>
              <a:t>.موافقته للعلم الصحيح والعقل السلي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eft Arrow 13"/>
          <p:cNvSpPr/>
          <p:nvPr/>
        </p:nvSpPr>
        <p:spPr>
          <a:xfrm rot="13342200">
            <a:off x="2439720" y="2405880"/>
            <a:ext cx="981000" cy="428760"/>
          </a:xfrm>
          <a:prstGeom prst="leftArrow">
            <a:avLst>
              <a:gd name="adj1" fmla="val 50000"/>
              <a:gd name="adj2" fmla="val 69275"/>
            </a:avLst>
          </a:prstGeom>
          <a:solidFill>
            <a:srgbClr val="918485"/>
          </a:solidFill>
          <a:ln w="12600">
            <a:solidFill>
              <a:srgbClr val="695f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4"/>
          <p:cNvSpPr/>
          <p:nvPr/>
        </p:nvSpPr>
        <p:spPr>
          <a:xfrm>
            <a:off x="571680" y="1214280"/>
            <a:ext cx="2071440" cy="1285920"/>
          </a:xfrm>
          <a:prstGeom prst="roundRect">
            <a:avLst>
              <a:gd name="adj" fmla="val 16667"/>
            </a:avLst>
          </a:prstGeom>
          <a:solidFill>
            <a:srgbClr val="918485"/>
          </a:solidFill>
          <a:ln w="12600">
            <a:solidFill>
              <a:srgbClr val="695f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Perpetua"/>
                <a:ea typeface="Al-Mothnna"/>
              </a:rPr>
              <a:t>4</a:t>
            </a:r>
            <a:r>
              <a:rPr b="0" lang="ar-SA" sz="1800" spc="-1" strike="noStrike">
                <a:solidFill>
                  <a:srgbClr val="ffffff"/>
                </a:solidFill>
                <a:latin typeface="Perpetua"/>
                <a:ea typeface="Al-Mothnna"/>
              </a:rPr>
              <a:t>.تحرير الإنسان من عبودية الإنسان والهو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ounded Rectangle 3"/>
          <p:cNvSpPr/>
          <p:nvPr/>
        </p:nvSpPr>
        <p:spPr>
          <a:xfrm>
            <a:off x="3786120" y="3143160"/>
            <a:ext cx="1714680" cy="1285920"/>
          </a:xfrm>
          <a:prstGeom prst="roundRect">
            <a:avLst>
              <a:gd name="adj" fmla="val 16667"/>
            </a:avLst>
          </a:prstGeom>
          <a:solidFill>
            <a:srgbClr val="855d5d"/>
          </a:solidFill>
          <a:ln w="12600">
            <a:solidFill>
              <a:srgbClr val="60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Perpetua"/>
                <a:cs typeface="Al-Mothnna"/>
              </a:rPr>
              <a:t>دين شام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4"/>
          <p:cNvSpPr/>
          <p:nvPr/>
        </p:nvSpPr>
        <p:spPr>
          <a:xfrm>
            <a:off x="3668040" y="278604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onstantia"/>
                <a:cs typeface="Al-Mothnna"/>
              </a:rPr>
              <a:t>شمولية الإسلا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Diagram 17" descr=""/>
          <p:cNvPicPr/>
          <p:nvPr/>
        </p:nvPicPr>
        <p:blipFill>
          <a:blip r:embed="rId1"/>
          <a:stretch/>
        </p:blipFill>
        <p:spPr>
          <a:xfrm>
            <a:off x="1352520" y="987480"/>
            <a:ext cx="6724800" cy="531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1,45,-10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17:37:07Z</dcterms:created>
  <dc:creator>SSC1</dc:creator>
  <dc:description/>
  <dc:language>en-US</dc:language>
  <cp:lastModifiedBy>SSC1</cp:lastModifiedBy>
  <dcterms:modified xsi:type="dcterms:W3CDTF">2012-03-31T20:35:27Z</dcterms:modified>
  <cp:revision>10</cp:revision>
  <dc:subject/>
  <dc:title>Slide 1</dc:title>
</cp:coreProperties>
</file>