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4336-40E3-47E5-B622-A191E5F53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6FE2-B2E7-442D-86A6-2E0C5AAD9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467C-CF84-43E1-BF3F-FC88EE834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BFB9-9475-4D44-A7B7-61F1A8A4A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581E3-6BE8-4E1C-90AF-1FF9EDDA6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88203-266A-472C-872A-FEF473CD5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AA47A-CCCF-4A7C-82D5-D098A0741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F6D50-A284-4272-A6C2-2A4ECB0F7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93AE3-C77B-4A23-9756-D4A26FC21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62AD2-9242-4407-89C2-01699A66B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03BCE-851B-41C0-BCEF-B0320F92A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CB0A-FB3D-44C5-9F76-8AD0D043A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8A6D6-BB9E-4781-8929-26177191E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01A99-0066-4DF7-8B11-1C6387A7A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B1B4A-5F03-449E-8D29-925FEB1C7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C6479-F41C-4AB9-A5D9-DF8265C19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63977-5922-4258-9519-EC9D9BCC0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B4E5E-E232-4BC9-ABEB-3034E0090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AE328-4520-43D1-A1A5-12B149512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9A7FA-006C-46EB-8CD2-BF79AA833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4548B-5123-4081-8621-6F34BF828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B5100-E0B9-456C-AF61-C27B9C795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D9DC-32A6-4DC7-9398-DD3D1FB69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AAEE5-7B5C-45C0-B9DF-F6DC9F683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3913E-4300-4487-BC06-6103A4EC1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F9D71-EA09-4C86-9211-02C500C46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02E41-967B-4436-934D-15B1DB665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1B3FC-EA27-4431-8599-78E0FBE9C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69EC0-6E5C-4A6A-84FB-597C6F58A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1A318-7694-42BB-A188-904DC8C21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A3C44-68E2-4D8E-8832-C2AD8214C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24DE4-CEE3-4984-A371-DE7DDDCB3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2B60A-15AE-4C51-9873-F5FF8CC24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7393-843D-4054-A087-B62157AAA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EECE2-50F8-4EF6-A8B1-BF1790550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1C3B7-7EDF-4663-95D4-A96D3F91D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C5C25-0ECE-487D-9523-8C728E909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3FE77-CA01-444E-910B-3AD85C6ED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C67F7-550C-42F3-B0A6-E2100F088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50002-8198-441D-8F12-BBF4200CF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6A465-D543-421E-ACE9-15DC21DE0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57951-D53F-46B2-BADF-9D17DFB05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FB3AD-BB06-4AC2-B299-8F90B32FA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67CDFC-303A-47CE-ABBE-1BFD5576F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EB89-DE5D-44C4-A044-C788A31E9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9535C6-D272-47CB-9D9A-E37F0AEC3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E87272-02BF-47A1-8923-3AF9A9AFF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F9E85F-4842-4E58-973D-41655D42A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25770E-8DF4-469A-A9B9-CABDF8633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E8C67-808D-4D04-A8FC-5E7843A25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8CAB3C-4411-4345-86D9-CC4B046AA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16276E-78C0-4DA3-B062-0E2A09A63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FE933E-AAA7-4834-BEB0-A8321FD8B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EF6C8D-422B-4723-B844-AA089C1C9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C0B40E-1A9B-404E-8FDB-4F8C2BBAD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3CCE-5035-4E44-A171-64A64C166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C22A14-BA93-4139-A162-D5F529538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234B-9208-4802-BD90-5842BFD56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4F12-50EF-4B00-A105-01F983BC3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3F1A-AEEA-4556-9357-D01F9C550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A7CF3-3529-4645-A789-497D710BAD61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C149A-46BA-4BE4-BDEB-1484C865FA8B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E190B-8A97-4D1C-8645-54A1E2746F67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9E8FF-8844-4452-86B2-7577CBF296AB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6C51E-1361-4364-9AFC-0F3B4B5599C6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428840" y="407160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96464"/>
                </a:solidFill>
                <a:latin typeface="Perpetua"/>
                <a:cs typeface="Al-Mothnna"/>
              </a:rPr>
              <a:t>عمل الطالبات 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ctr" rtl="1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96464"/>
                </a:solidFill>
                <a:latin typeface="Perpetua"/>
                <a:cs typeface="Al-Mothnna"/>
              </a:rPr>
              <a:t>دانية عبد العزيز المسيند      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ctr" rtl="1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96464"/>
                </a:solidFill>
                <a:latin typeface="Perpetua"/>
                <a:cs typeface="Al-Mothnna"/>
              </a:rPr>
              <a:t>أمل الطامي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ctr" rtl="1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96464"/>
                </a:solidFill>
                <a:latin typeface="Perpetua"/>
                <a:cs typeface="Al-Mothnna"/>
              </a:rPr>
              <a:t>أشواق الورهي 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Franklin Gothic Book"/>
              </a:rPr>
              <a:t>الخصائص العامة للإسلام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Diagram 6" descr=""/>
          <p:cNvPicPr/>
          <p:nvPr/>
        </p:nvPicPr>
        <p:blipFill>
          <a:blip r:embed="rId1"/>
          <a:stretch/>
        </p:blipFill>
        <p:spPr>
          <a:xfrm>
            <a:off x="1474920" y="1390680"/>
            <a:ext cx="6310080" cy="4076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ounded Rectangle 3"/>
          <p:cNvSpPr/>
          <p:nvPr/>
        </p:nvSpPr>
        <p:spPr>
          <a:xfrm>
            <a:off x="3500280" y="3214800"/>
            <a:ext cx="2000520" cy="1285920"/>
          </a:xfrm>
          <a:prstGeom prst="roundRect">
            <a:avLst>
              <a:gd name="adj" fmla="val 16667"/>
            </a:avLst>
          </a:prstGeom>
          <a:solidFill>
            <a:srgbClr val="9b2d1f"/>
          </a:solidFill>
          <a:ln w="12600">
            <a:solidFill>
              <a:srgbClr val="711e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Perpetua"/>
                <a:cs typeface="Al-Mothnna"/>
              </a:rPr>
              <a:t>دين اله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4"/>
          <p:cNvSpPr/>
          <p:nvPr/>
        </p:nvSpPr>
        <p:spPr>
          <a:xfrm>
            <a:off x="3500280" y="2714760"/>
            <a:ext cx="19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l-Mothnna"/>
              </a:rPr>
              <a:t>ثمرات دين الإلهي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eft Arrow 5"/>
          <p:cNvSpPr/>
          <p:nvPr/>
        </p:nvSpPr>
        <p:spPr>
          <a:xfrm>
            <a:off x="5643720" y="3214800"/>
            <a:ext cx="1214280" cy="64296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855d5d"/>
          </a:solidFill>
          <a:ln w="12600">
            <a:solidFill>
              <a:srgbClr val="6042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ounded Rectangle 6"/>
          <p:cNvSpPr/>
          <p:nvPr/>
        </p:nvSpPr>
        <p:spPr>
          <a:xfrm>
            <a:off x="6786720" y="2714760"/>
            <a:ext cx="2071440" cy="1357200"/>
          </a:xfrm>
          <a:prstGeom prst="roundRect">
            <a:avLst>
              <a:gd name="adj" fmla="val 16667"/>
            </a:avLst>
          </a:prstGeom>
          <a:solidFill>
            <a:srgbClr val="855d5d"/>
          </a:solidFill>
          <a:ln w="12600">
            <a:solidFill>
              <a:srgbClr val="6042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Perpetua"/>
                <a:ea typeface="Al-Mothnna"/>
              </a:rPr>
              <a:t>1</a:t>
            </a:r>
            <a:r>
              <a:rPr b="0" lang="ar-SA" sz="1600" spc="-1" strike="noStrike">
                <a:solidFill>
                  <a:srgbClr val="ffffff"/>
                </a:solidFill>
                <a:latin typeface="Perpetua"/>
                <a:ea typeface="Al-Mothnna"/>
              </a:rPr>
              <a:t>.يبين الحقائق الكبرى التي لا يستطيع الإنسان معرفتها إلا بالوحي المعصو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eft Arrow 7"/>
          <p:cNvSpPr/>
          <p:nvPr/>
        </p:nvSpPr>
        <p:spPr>
          <a:xfrm rot="18708000">
            <a:off x="5309280" y="2077200"/>
            <a:ext cx="1087200" cy="641160"/>
          </a:xfrm>
          <a:prstGeom prst="leftArrow">
            <a:avLst>
              <a:gd name="adj1" fmla="val 50000"/>
              <a:gd name="adj2" fmla="val 50007"/>
            </a:avLst>
          </a:prstGeom>
          <a:solidFill>
            <a:srgbClr val="a28e6a"/>
          </a:solidFill>
          <a:ln w="12600">
            <a:solidFill>
              <a:srgbClr val="7667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ounded Rectangle 8"/>
          <p:cNvSpPr/>
          <p:nvPr/>
        </p:nvSpPr>
        <p:spPr>
          <a:xfrm>
            <a:off x="5857920" y="928800"/>
            <a:ext cx="2357280" cy="1214280"/>
          </a:xfrm>
          <a:prstGeom prst="roundRect">
            <a:avLst>
              <a:gd name="adj" fmla="val 16667"/>
            </a:avLst>
          </a:prstGeom>
          <a:solidFill>
            <a:srgbClr val="a28e6a"/>
          </a:solidFill>
          <a:ln w="12600">
            <a:solidFill>
              <a:srgbClr val="7667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Perpetua"/>
                <a:ea typeface="Al-Mothnna"/>
              </a:rPr>
              <a:t>2</a:t>
            </a:r>
            <a:r>
              <a:rPr b="0" lang="ar-SA" sz="1600" spc="-1" strike="noStrike">
                <a:solidFill>
                  <a:srgbClr val="ffffff"/>
                </a:solidFill>
                <a:latin typeface="Perpetua"/>
                <a:ea typeface="Al-Mothnna"/>
              </a:rPr>
              <a:t>.دين من عند الله تعالى سالم من النقص والتعارض والهوى والحيف والظل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eft Arrow 9"/>
          <p:cNvSpPr/>
          <p:nvPr/>
        </p:nvSpPr>
        <p:spPr>
          <a:xfrm rot="10800000">
            <a:off x="2214360" y="3286080"/>
            <a:ext cx="1143000" cy="571680"/>
          </a:xfrm>
          <a:prstGeom prst="leftArrow">
            <a:avLst>
              <a:gd name="adj1" fmla="val 50000"/>
              <a:gd name="adj2" fmla="val 49984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ounded Rectangle 10"/>
          <p:cNvSpPr/>
          <p:nvPr/>
        </p:nvSpPr>
        <p:spPr>
          <a:xfrm>
            <a:off x="500040" y="2928960"/>
            <a:ext cx="1857240" cy="1428840"/>
          </a:xfrm>
          <a:prstGeom prst="roundRect">
            <a:avLst>
              <a:gd name="adj" fmla="val 16667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Perpetua"/>
                <a:ea typeface="Al-Mothnna"/>
              </a:rPr>
              <a:t>5</a:t>
            </a:r>
            <a:r>
              <a:rPr b="0" lang="ar-SA" sz="1800" spc="-1" strike="noStrike">
                <a:solidFill>
                  <a:srgbClr val="ffffff"/>
                </a:solidFill>
                <a:latin typeface="Perpetua"/>
                <a:ea typeface="Al-Mothnna"/>
              </a:rPr>
              <a:t>.تلبية مطالب النفس البشري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ight Arrow 11"/>
          <p:cNvSpPr/>
          <p:nvPr/>
        </p:nvSpPr>
        <p:spPr>
          <a:xfrm rot="5198400">
            <a:off x="3673080" y="2014560"/>
            <a:ext cx="1060560" cy="574560"/>
          </a:xfrm>
          <a:prstGeom prst="rightArrow">
            <a:avLst>
              <a:gd name="adj1" fmla="val 50000"/>
              <a:gd name="adj2" fmla="val 50018"/>
            </a:avLst>
          </a:prstGeom>
          <a:solidFill>
            <a:srgbClr val="956251"/>
          </a:solidFill>
          <a:ln w="12600">
            <a:solidFill>
              <a:srgbClr val="6c46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ounded Rectangle 12"/>
          <p:cNvSpPr/>
          <p:nvPr/>
        </p:nvSpPr>
        <p:spPr>
          <a:xfrm>
            <a:off x="3214800" y="642960"/>
            <a:ext cx="2143080" cy="1143000"/>
          </a:xfrm>
          <a:prstGeom prst="roundRect">
            <a:avLst>
              <a:gd name="adj" fmla="val 16667"/>
            </a:avLst>
          </a:prstGeom>
          <a:solidFill>
            <a:srgbClr val="956251"/>
          </a:solidFill>
          <a:ln w="12600">
            <a:solidFill>
              <a:srgbClr val="6c46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Perpetua"/>
                <a:ea typeface="Al-Mothnna"/>
              </a:rPr>
              <a:t>3</a:t>
            </a:r>
            <a:r>
              <a:rPr b="0" lang="ar-SA" sz="1800" spc="-1" strike="noStrike">
                <a:solidFill>
                  <a:srgbClr val="ffffff"/>
                </a:solidFill>
                <a:latin typeface="Perpetua"/>
                <a:ea typeface="Al-Mothnna"/>
              </a:rPr>
              <a:t>.موافقته للعلم الصحيح والعقل السلي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eft Arrow 13"/>
          <p:cNvSpPr/>
          <p:nvPr/>
        </p:nvSpPr>
        <p:spPr>
          <a:xfrm rot="13342200">
            <a:off x="2439720" y="2405880"/>
            <a:ext cx="981000" cy="428760"/>
          </a:xfrm>
          <a:prstGeom prst="leftArrow">
            <a:avLst>
              <a:gd name="adj1" fmla="val 50000"/>
              <a:gd name="adj2" fmla="val 69275"/>
            </a:avLst>
          </a:prstGeom>
          <a:solidFill>
            <a:srgbClr val="918485"/>
          </a:solidFill>
          <a:ln w="12600">
            <a:solidFill>
              <a:srgbClr val="695f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ounded Rectangle 14"/>
          <p:cNvSpPr/>
          <p:nvPr/>
        </p:nvSpPr>
        <p:spPr>
          <a:xfrm>
            <a:off x="571680" y="1214280"/>
            <a:ext cx="2071440" cy="1285920"/>
          </a:xfrm>
          <a:prstGeom prst="roundRect">
            <a:avLst>
              <a:gd name="adj" fmla="val 16667"/>
            </a:avLst>
          </a:prstGeom>
          <a:solidFill>
            <a:srgbClr val="918485"/>
          </a:solidFill>
          <a:ln w="12600">
            <a:solidFill>
              <a:srgbClr val="695f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Perpetua"/>
                <a:ea typeface="Al-Mothnna"/>
              </a:rPr>
              <a:t>4</a:t>
            </a:r>
            <a:r>
              <a:rPr b="0" lang="ar-SA" sz="1800" spc="-1" strike="noStrike">
                <a:solidFill>
                  <a:srgbClr val="ffffff"/>
                </a:solidFill>
                <a:latin typeface="Perpetua"/>
                <a:ea typeface="Al-Mothnna"/>
              </a:rPr>
              <a:t>.تحرير الإنسان من عبودية الإنسان والهو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ounded Rectangle 3"/>
          <p:cNvSpPr/>
          <p:nvPr/>
        </p:nvSpPr>
        <p:spPr>
          <a:xfrm>
            <a:off x="3786120" y="3143160"/>
            <a:ext cx="1714680" cy="1285920"/>
          </a:xfrm>
          <a:prstGeom prst="roundRect">
            <a:avLst>
              <a:gd name="adj" fmla="val 16667"/>
            </a:avLst>
          </a:prstGeom>
          <a:solidFill>
            <a:srgbClr val="855d5d"/>
          </a:solidFill>
          <a:ln w="12600">
            <a:solidFill>
              <a:srgbClr val="6042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Perpetua"/>
                <a:cs typeface="Al-Mothnna"/>
              </a:rPr>
              <a:t>دين شام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4"/>
          <p:cNvSpPr/>
          <p:nvPr/>
        </p:nvSpPr>
        <p:spPr>
          <a:xfrm>
            <a:off x="3668040" y="2786040"/>
            <a:ext cx="17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l-Mothnna"/>
              </a:rPr>
              <a:t>شمولية الإسلا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Diagram 17" descr=""/>
          <p:cNvPicPr/>
          <p:nvPr/>
        </p:nvPicPr>
        <p:blipFill>
          <a:blip r:embed="rId1"/>
          <a:stretch/>
        </p:blipFill>
        <p:spPr>
          <a:xfrm>
            <a:off x="1352520" y="987480"/>
            <a:ext cx="6724800" cy="5310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1,45,-10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1,45,-10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8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8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1T17:37:07Z</dcterms:created>
  <dc:creator>SSC1</dc:creator>
  <dc:description/>
  <dc:language>en-US</dc:language>
  <cp:lastModifiedBy>SSC1</cp:lastModifiedBy>
  <dcterms:modified xsi:type="dcterms:W3CDTF">2012-03-31T20:35:27Z</dcterms:modified>
  <cp:revision>10</cp:revision>
  <dc:subject/>
  <dc:title>Slide 1</dc:title>
</cp:coreProperties>
</file>