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3809-6D9E-4224-ACCE-5C28EA64C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DEF2-8AF3-4DEA-8F38-01ACF4AE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BA37-2457-4C96-839B-EF812135F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1034-ECE0-43A8-8FF4-0ECB7D8EB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05AB-B3BF-4102-8CD4-6C89F786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555A-E32D-4C96-997C-C824AA52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B8F8-1608-4ED9-9A64-EE5E6115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E399-27E1-44A5-9DF0-387B310C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FB55-4313-4F0E-8EFF-D217D9B1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32D4-4401-4B57-B9C5-EAA14DE4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9F70-FB49-4F18-8D39-88703362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5537-B012-4AAB-95AF-038F8E4C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13B9-20AD-4006-9CB8-644B01D37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66"/>
                </a:solidFill>
                <a:latin typeface="Arial"/>
                <a:cs typeface="Monotype Koufi"/>
              </a:rPr>
              <a:t>قواعد </a:t>
            </a:r>
            <a:br>
              <a:rPr sz="4400"/>
            </a:br>
            <a:r>
              <a:rPr b="0" lang="ar-SA" sz="4400" spc="-1" strike="noStrike">
                <a:solidFill>
                  <a:srgbClr val="ffff66"/>
                </a:solidFill>
                <a:latin typeface="Arial"/>
                <a:cs typeface="Monotype Koufi"/>
              </a:rPr>
              <a:t>في صفات الله وأسماء الله الحسنى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onotype Kouf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القاعدة الأولى: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أسماء الله تعالى أعلام وأوصاف، أعلام باعتبار دلالتها على الذات، وأوصاف باعتبار ما دلت عليه من المعاني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القاعدة الثانية: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أسماء الله تعالى وصفاته توقيفي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القاعدة الثالثة: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أسماء الله تعالى غير محصورة بعدد معيّن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4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القاعدة الرابعة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صفات الله كلها صفات كمال لا نقص فيها بوجه من الوجو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قد دل على هذا السمع والعقل والفطر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ما السمع: فمنه قوله تعالى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لِلَّذِينَ لَا يُؤْمِنُونَ بِالآَخِرَةِ مَثَلُ السَّوْءِ وَللهِ المَثَلُ الأَعْلَى وَهُوَ العَزِيزُ الحَكِيمُ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أما الفطرة: فـلأن النفوس السليمة مجبولة مفطورة على محبة الله وتعظيمه وعبادت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القاعدة الخامسة: باب الصفات أوسع من باب الأسماء: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ذلك لأن كـل اسم متضمن لصف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فالثبوتية: ما أثبته الله تعالى لنفسه في كتابه أو على لسان رسول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دليل السمع والعق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أما السم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أما العقل: فلأن الله تعالى أخبر بها عن نفسه وهو أعلم بها من غيره وأصدق قيلا وأحسن حديثاً من غير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علم الناس وأصدقهم وأنصحه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حقه كالموت والنوم والجه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القاعدة السابعة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صفات الثبوتية صفات مدح وكما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ما الصفات السلبية فلم تذكر غالباً إلا في الأحوال التالي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الأولى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بيان عموم كمال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الثانية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نفى ما ادعاه في حقه الكاذبو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الثالثة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دفع توهم نقص من كماله فيما يتعلق بهذا الأمر المعي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القاعدة الثامنة: الصفات الثبوتية تنقسم إلى قسمين: ذاتية وفع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فالذاتية: هي التي لم يزل ولا يزال متصفاً بها كالعلم والقدرة والسمع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الفعلية: هي التي تتعلق بمشيئته إن شاء فعلها وإن شاء لـم يفعلها كالاستوا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07:27:46Z</dcterms:created>
  <dc:creator>user</dc:creator>
  <dc:description/>
  <dc:language>en-US</dc:language>
  <cp:lastModifiedBy>user</cp:lastModifiedBy>
  <dcterms:modified xsi:type="dcterms:W3CDTF">2005-06-17T08:11:00Z</dcterms:modified>
  <cp:revision>6</cp:revision>
  <dc:subject/>
  <dc:title>الشريحة 1</dc:title>
</cp:coreProperties>
</file>