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898-3AB7-4501-A4CC-EFB7436B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C36-B051-4BE3-91F2-2DB5AD6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BDD-D17A-4580-A726-6B746DDD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876-74D9-40AA-985E-1B32996E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0DF-F8C4-4006-84C4-68916233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3B7-8541-4038-9453-050B5364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353-D5FF-473A-B138-EBF3AF8A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B07-FFB8-4D3E-894B-D0F77F08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0CD-26D5-4418-BBE3-A510C7B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976-347D-4EE0-BFFF-4392A58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9AA-0026-40D5-A72F-361F8A5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5F1-5490-42B8-81BD-96ACA533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B6AB-6716-4C1C-9BDD-B908F178D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66"/>
                </a:solidFill>
                <a:latin typeface="Arial"/>
                <a:cs typeface="Monotype Koufi"/>
              </a:rPr>
              <a:t>قواعد </a:t>
            </a:r>
            <a:br>
              <a:rPr sz="4400"/>
            </a:br>
            <a:r>
              <a:rPr b="0" lang="ar-SA" sz="4400" spc="-1" strike="noStrike">
                <a:solidFill>
                  <a:srgbClr val="ffff66"/>
                </a:solidFill>
                <a:latin typeface="Arial"/>
                <a:cs typeface="Monotype Koufi"/>
              </a:rPr>
              <a:t>في صفات الله وأسماء الله الحسن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أولى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سماء الله تعالى أعلام وأوصاف، أعلام باعتبار دلالتها على الذات، وأوصاف باعتبار ما دلت عليه من المعان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ثانية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أسماء الله تعالى وصفاته توقيف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ثالثة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أسماء الله تعالى غير محصورة بعدد معيّ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قاعدة الرابعة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صفات الله كلها صفات كمال لا نقص فيها بوجه من الوجو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د دل على هذا السمع والعقل والفط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ما السمع: فمنه قوله تعالى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ِلَّذِينَ لَا يُؤْمِنُونَ بِالآَخِرَةِ مَثَلُ السَّوْءِ وَللهِ المَثَلُ الأَعْلَى وَهُوَ العَزِيزُ الحَكِيمُ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أما الفطرة: فـلأن النفوس السليمة مجبولة مفطورة على محبة الله وتعظيمه وعبادت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خامسة: باب الصفات أوسع من باب الأسماء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ذلك لأن كـل اسم متضمن لصف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ثبوتية: ما أثبته الله تعالى لنفسه في كتابه أو على لسان رسو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دليل السمع والعق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السم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أما العقل: فلأن الله تعالى أخبر بها عن نفسه وهو أعلم بها من غيره وأصدق قيلا وأحسن حديثاً من غير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علم الناس وأصدقهم وأنصح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قه كالموت والنوم والجه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قاعدة السابعة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صفات الثبوتية صفات مدح وكما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ما الصفات السلبية فلم تذكر غالباً إلا في الأحوال التال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أولى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يان عموم كما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ثانية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فى ما ادعاه في حقه الكاذبو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ثالثة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فع توهم نقص من كماله فيما يتعلق بهذا الأمر المعي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ثامنة: الصفات الثبوتية تنقسم إلى قسمين: ذاتية وفع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ذاتية: هي التي لم يزل ولا يزال متصفاً بها كالعلم والقدرة والسم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لفعلية: هي التي تتعلق بمشيئته إن شاء فعلها وإن شاء لـم يفعلها كالاستو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7:27:46Z</dcterms:created>
  <dc:creator>user</dc:creator>
  <dc:description/>
  <dc:language>en-US</dc:language>
  <cp:lastModifiedBy>user</cp:lastModifiedBy>
  <dcterms:modified xsi:type="dcterms:W3CDTF">2005-06-17T08:11:00Z</dcterms:modified>
  <cp:revision>6</cp:revision>
  <dc:subject/>
  <dc:title>الشريحة 1</dc:title>
</cp:coreProperties>
</file>