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068DB-C389-4FD2-8CF8-DFD70ABC5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E793-B5D3-47E1-8915-A676A8E7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042CE-D315-4D0F-8F08-CC45016AE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401D-3F98-4631-819F-B569D78E4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F45B28-584F-4EC3-A6FB-4521102D8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BD8427-9EB9-4680-A5E8-B7A38D16A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7785488-2B65-4A3B-AC3F-819A73509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E922D3-D994-4245-85A3-6949461A0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EDB5CC-8DEE-4819-B13D-D6B490ADE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3E9A8A-34F6-4A63-83D7-80F9C28B3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080078-B0D9-4459-ACBD-A6ACF3DB6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AEDF4-27AB-415B-924F-1771863CE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F1865C-60C3-45F6-A1B2-9641741AD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071E0A-2710-4CCF-A832-3A545812A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C38EDC-3036-4E5C-837F-BC047B497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4DB310-EBFF-4BC6-ADCE-C02207067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3B6C5B-F3F5-4FA6-9F1C-821F754EF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CD76-BE53-4192-89B5-125AFF82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E0E2-C4A0-48E8-8E5D-D8E4A1F23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73807-77C6-48E4-A384-A83E8F0E0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0EC3-D176-4C6A-84A2-BCBCB780B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5AD4-5AE0-4C77-9A1E-65248E269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9850-4EAD-4363-9465-6352AED5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58D2-FF2E-4B0A-99AA-A0D9DC3B6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0AF1-FA13-42EF-8C1E-42F96D539C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DDE3-6612-46B8-9A02-8931481064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20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3e3ff"/>
                </a:solidFill>
                <a:latin typeface="Arial"/>
              </a:rPr>
              <a:t>التعبئة في الأجواء المعدلة</a:t>
            </a:r>
            <a:br>
              <a:rPr sz="4800"/>
            </a:br>
            <a:r>
              <a:rPr b="1" lang="en-US" sz="3600" spc="-1" strike="noStrike">
                <a:solidFill>
                  <a:srgbClr val="e3e3ff"/>
                </a:solidFill>
                <a:latin typeface="Arial"/>
              </a:rPr>
              <a:t>Modified Atmosphere Packaging ( MAP)</a:t>
            </a:r>
            <a:endParaRPr b="0" lang="en-US" sz="3600" spc="-1" strike="noStrike">
              <a:solidFill>
                <a:srgbClr val="e3e3ff"/>
              </a:solidFill>
              <a:latin typeface="Arial"/>
            </a:endParaRPr>
          </a:p>
        </p:txBody>
      </p:sp>
      <p:sp>
        <p:nvSpPr>
          <p:cNvPr id="123" name="PlaceHolder 2"/>
          <p:cNvSpPr>
            <a:spLocks noGrp="1"/>
          </p:cNvSpPr>
          <p:nvPr>
            <p:ph type="subTitle"/>
          </p:nvPr>
        </p:nvSpPr>
        <p:spPr>
          <a:xfrm>
            <a:off x="684360" y="1844640"/>
            <a:ext cx="7704000" cy="4105440"/>
          </a:xfrm>
          <a:prstGeom prst="rect">
            <a:avLst/>
          </a:prstGeom>
          <a:noFill/>
          <a:ln w="0">
            <a:noFill/>
          </a:ln>
        </p:spPr>
        <p:txBody>
          <a:bodyPr lIns="90000" rIns="90000" tIns="46800" bIns="46800" anchor="t">
            <a:noAutofit/>
          </a:bodyPr>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بئة المنتج في جو مختلف عن الهواء ويمكن تغيير هذا الجو بطرق أربعة مختلفة هي</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 </a:t>
            </a:r>
            <a:r>
              <a:rPr b="0" lang="ar-SA" sz="2800" spc="-1" strike="noStrike">
                <a:solidFill>
                  <a:srgbClr val="ffffff"/>
                </a:solidFill>
                <a:latin typeface="Arial"/>
              </a:rPr>
              <a:t>التعبئة بالتفريغ</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 </a:t>
            </a:r>
            <a:r>
              <a:rPr b="0" lang="ar-SA" sz="2800" spc="-1" strike="noStrike">
                <a:solidFill>
                  <a:srgbClr val="ffffff"/>
                </a:solidFill>
                <a:latin typeface="Arial"/>
              </a:rPr>
              <a:t>التعبئة في الأجواء المعدلة غير الفعالة</a:t>
            </a:r>
            <a:r>
              <a:rPr b="0" lang="ar-SA" sz="2800" spc="-1" strike="noStrike">
                <a:solidFill>
                  <a:srgbClr val="ffffff"/>
                </a:solidFill>
                <a:latin typeface="Arial"/>
              </a:rPr>
              <a:t> </a:t>
            </a:r>
            <a:r>
              <a:rPr b="0" lang="en-US" sz="2800" spc="-1" strike="noStrike">
                <a:solidFill>
                  <a:srgbClr val="ffffff"/>
                </a:solidFill>
                <a:latin typeface="Arial"/>
              </a:rPr>
              <a:t>Passive</a:t>
            </a:r>
            <a:r>
              <a:rPr b="0" lang="ar-SA" sz="2800" spc="-1" strike="noStrike">
                <a:solidFill>
                  <a:srgbClr val="ffffff"/>
                </a:solidFill>
                <a:latin typeface="Arial"/>
              </a:rPr>
              <a:t> ( </a:t>
            </a:r>
            <a:r>
              <a:rPr b="0" lang="ar-SA" sz="2800" spc="-1" strike="noStrike">
                <a:solidFill>
                  <a:srgbClr val="ffffff"/>
                </a:solidFill>
                <a:latin typeface="Arial"/>
              </a:rPr>
              <a:t>يتم تكوين الجو المعدل بالمادة المعبأة التي تواصل تنفسها بعد التعبئة</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 </a:t>
            </a:r>
            <a:r>
              <a:rPr b="0" lang="ar-SA" sz="2800" spc="-1" strike="noStrike">
                <a:solidFill>
                  <a:srgbClr val="ffffff"/>
                </a:solidFill>
                <a:latin typeface="Arial"/>
              </a:rPr>
              <a:t>تقديم الغاز في لحظة التعبئة</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 </a:t>
            </a:r>
            <a:r>
              <a:rPr b="0" lang="ar-SA" sz="2800" spc="-1" strike="noStrike">
                <a:solidFill>
                  <a:srgbClr val="ffffff"/>
                </a:solidFill>
                <a:latin typeface="Arial"/>
              </a:rPr>
              <a:t>التعبئة الفعالة</a:t>
            </a:r>
            <a:r>
              <a:rPr b="0" lang="ar-SA" sz="2800" spc="-1" strike="noStrike">
                <a:solidFill>
                  <a:srgbClr val="ffffff"/>
                </a:solidFill>
                <a:latin typeface="Arial"/>
              </a:rPr>
              <a:t> </a:t>
            </a:r>
            <a:r>
              <a:rPr b="0" lang="en-US" sz="2800" spc="-1" strike="noStrike">
                <a:solidFill>
                  <a:srgbClr val="ffffff"/>
                </a:solidFill>
                <a:latin typeface="Arial"/>
              </a:rPr>
              <a:t>Active</a:t>
            </a:r>
            <a:r>
              <a:rPr b="0" lang="ar-SA" sz="2800" spc="-1" strike="noStrike">
                <a:solidFill>
                  <a:srgbClr val="ffffff"/>
                </a:solidFill>
                <a:latin typeface="Arial"/>
              </a:rPr>
              <a:t> ( </a:t>
            </a:r>
            <a:r>
              <a:rPr b="0" lang="ar-SA" sz="2800" spc="-1" strike="noStrike">
                <a:solidFill>
                  <a:srgbClr val="ffffff"/>
                </a:solidFill>
                <a:latin typeface="Arial"/>
              </a:rPr>
              <a:t>استخدام مواد تعبئة أو وضع مواد ماصة أو منتجة للغاز</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ظاهرة </a:t>
            </a:r>
            <a:r>
              <a:rPr b="0" lang="en-US" sz="4400" spc="-1" strike="noStrike">
                <a:solidFill>
                  <a:srgbClr val="e3e3ff"/>
                </a:solidFill>
                <a:latin typeface="Arial"/>
              </a:rPr>
              <a:t>climacteric</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ض الأنسجة لا تتنفس بمعدل ثابت عند خزنها على درجة حرارة ثابتة.</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3052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دم الانتظام في معدل التنفس يحدث غالباً في الفواكه التي يطلق عليها </a:t>
            </a:r>
            <a:r>
              <a:rPr b="0" lang="en-US" sz="2400" spc="-1" strike="noStrike">
                <a:solidFill>
                  <a:srgbClr val="ffffff"/>
                </a:solidFill>
                <a:latin typeface="Arial"/>
              </a:rPr>
              <a:t>climacteric</a:t>
            </a:r>
            <a:r>
              <a:rPr b="0" lang="en-US" sz="2400" spc="-1" strike="noStrike">
                <a:solidFill>
                  <a:srgbClr val="ffffff"/>
                </a:solidFill>
                <a:latin typeface="Arial"/>
              </a:rPr>
              <a:t> </a:t>
            </a:r>
            <a:r>
              <a:rPr b="0" lang="ar-SA" sz="2400" spc="-1" strike="noStrike">
                <a:solidFill>
                  <a:srgbClr val="ffffff"/>
                </a:solidFill>
                <a:latin typeface="Arial"/>
              </a:rPr>
              <a:t> وهذا يعني:</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زيادة مفاجئة نسبية ولكن مؤقتة في معدل التنفس</a:t>
            </a:r>
            <a:r>
              <a:rPr b="0" lang="en-US"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لاحظ من شكل رقم </a:t>
            </a:r>
            <a:r>
              <a:rPr b="0" lang="ar-SA" sz="2400" spc="-1" strike="noStrike">
                <a:solidFill>
                  <a:srgbClr val="ffffff"/>
                </a:solidFill>
                <a:latin typeface="Arial"/>
              </a:rPr>
              <a:t>1</a:t>
            </a:r>
            <a:r>
              <a:rPr b="0" lang="ar-SA" sz="2400" spc="-1" strike="noStrike">
                <a:solidFill>
                  <a:srgbClr val="ffffff"/>
                </a:solidFill>
                <a:latin typeface="Arial"/>
              </a:rPr>
              <a:t> أن أقصى الكاليمكتريك </a:t>
            </a:r>
            <a:r>
              <a:rPr b="0" lang="en-US" sz="2400" spc="-1" strike="noStrike">
                <a:solidFill>
                  <a:srgbClr val="ffffff"/>
                </a:solidFill>
                <a:latin typeface="Arial"/>
              </a:rPr>
              <a:t>climacteric maximum</a:t>
            </a:r>
            <a:r>
              <a:rPr b="0" lang="ar-SA" sz="2400" spc="-1" strike="noStrike">
                <a:solidFill>
                  <a:srgbClr val="ffffff"/>
                </a:solidFill>
                <a:latin typeface="Arial"/>
              </a:rPr>
              <a:t> يحدث عادة وليس دائماً عند الحد الأمثل لنضج الفاكهة</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نخفاض الحاد لمعدل التنفس بعد الحد الأقصى للكاليمكتريك يرتبط غالباً بزيادة النضج وتسمى هذه الحالة بالهرم </a:t>
            </a:r>
            <a:r>
              <a:rPr b="0" lang="en-US" sz="2400" spc="-1" strike="noStrike">
                <a:solidFill>
                  <a:srgbClr val="ffffff"/>
                </a:solidFill>
                <a:latin typeface="Arial"/>
              </a:rPr>
              <a:t>senescence</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ar-SA" sz="2400" spc="-1" strike="noStrike">
                <a:solidFill>
                  <a:srgbClr val="ffffff"/>
                </a:solidFill>
                <a:latin typeface="Arial"/>
              </a:rPr>
              <a:t>لذا يمكن أن ينظر لأقصى الكاليمكتريك بأنها النقطة التي تفصل النمو والنضج عن التدهور والموت.</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ar-SA" sz="2400" spc="-1" strike="noStrike">
                <a:solidFill>
                  <a:srgbClr val="ffffff"/>
                </a:solidFill>
                <a:latin typeface="Arial"/>
              </a:rPr>
              <a:t>طبيعة ( وقت حدوثها بعد الحصاد والفترة الزمنية ومدى الزيادة) منحنى التنفس الناتج من الفواكه التي يطلق عليها كاليمكتريك فتختلف كثيراً وتعتمد على الجنس والصنف والنضج والظروف البيئية.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لا تحدث ظاهرة الكاليمكتريك في الخضار كما إنها لا تحدث في بعض الفواكه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تنفس في الكليمتريك وغير الكليمتريك في الفواكه</a:t>
            </a:r>
            <a:endParaRPr b="0" lang="en-US" sz="4000" spc="-1" strike="noStrike">
              <a:solidFill>
                <a:srgbClr val="e3e3ff"/>
              </a:solidFill>
              <a:latin typeface="Arial"/>
            </a:endParaRPr>
          </a:p>
        </p:txBody>
      </p:sp>
      <p:pic>
        <p:nvPicPr>
          <p:cNvPr id="143" name="" descr=""/>
          <p:cNvPicPr/>
          <p:nvPr/>
        </p:nvPicPr>
        <p:blipFill>
          <a:blip r:embed="rId1"/>
          <a:stretch/>
        </p:blipFill>
        <p:spPr>
          <a:xfrm>
            <a:off x="2119320" y="2128680"/>
            <a:ext cx="4869000" cy="337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جدول رقم </a:t>
            </a:r>
            <a:r>
              <a:rPr b="0" lang="ar-SA" sz="4400" spc="-1" strike="noStrike">
                <a:solidFill>
                  <a:srgbClr val="e3e3ff"/>
                </a:solidFill>
                <a:latin typeface="Arial"/>
              </a:rPr>
              <a:t>1</a:t>
            </a:r>
            <a:r>
              <a:rPr b="0" lang="ar-SA" sz="4400" spc="-1" strike="noStrike">
                <a:solidFill>
                  <a:srgbClr val="e3e3ff"/>
                </a:solidFill>
                <a:latin typeface="Arial"/>
              </a:rPr>
              <a:t>. الخصائص التنفسية للفواكه.</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واكه كاليمكترية                                         فواكه غير كاليمكترية</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فاح                                                     الكرز</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رقوق                                                   التين</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افوكادو                                                  العنب</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وز                                                     الجريب فروت</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انجو                                                   الليمون</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رتقال                                                   البطيخ والشمام</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اباي                                                    الأناناس</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كمثرى                                                  الفراولة</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خوخ</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ماطم</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nclimacteric</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فواكه غير الكاليمكترية </a:t>
            </a:r>
            <a:r>
              <a:rPr b="0" lang="en-US" sz="3200" spc="-1" strike="noStrike">
                <a:solidFill>
                  <a:srgbClr val="ffffff"/>
                </a:solidFill>
                <a:latin typeface="Arial"/>
              </a:rPr>
              <a:t>nonclimacteric</a:t>
            </a:r>
            <a:r>
              <a:rPr b="0" lang="ar-SA" sz="3200" spc="-1" strike="noStrike">
                <a:solidFill>
                  <a:srgbClr val="ffffff"/>
                </a:solidFill>
                <a:latin typeface="Arial"/>
              </a:rPr>
              <a:t> تظهر في الغالب انخفاض في النشاط التنفسي خلا التخزين المبرد كما يلاحظ من الشكل رقم </a:t>
            </a:r>
            <a:r>
              <a:rPr b="0" lang="ar-SA" sz="3200" spc="-1" strike="noStrike">
                <a:solidFill>
                  <a:srgbClr val="ffffff"/>
                </a:solidFill>
                <a:latin typeface="Arial"/>
              </a:rPr>
              <a:t>1</a:t>
            </a:r>
            <a:r>
              <a:rPr b="0" lang="ar-SA" sz="3200" spc="-1" strike="noStrike">
                <a:solidFill>
                  <a:srgbClr val="ffffff"/>
                </a:solidFill>
                <a:latin typeface="Arial"/>
              </a:rPr>
              <a:t>.</a:t>
            </a:r>
            <a:endParaRPr b="0" lang="en-US" sz="3200" spc="-1" strike="noStrike">
              <a:solidFill>
                <a:srgbClr val="ffffff"/>
              </a:solidFill>
              <a:latin typeface="Arial"/>
            </a:endParaRPr>
          </a:p>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شابه التصرف التنفسي للخضار ما يحدث للفواكه غير الكاليمكترية عدا في أن العديد من هذه الخضار يظهر انخفاض مفاجئ في معدل التنفس بعد الحصاد مباشرة ثم انخفاض أكثر تدرجاً في معدل التنفس خلال التخزين.</a:t>
            </a:r>
            <a:endParaRPr b="0" lang="en-US" sz="3200" spc="-1" strike="noStrike">
              <a:solidFill>
                <a:srgbClr val="ffffff"/>
              </a:solidFill>
              <a:latin typeface="Arial"/>
            </a:endParaRPr>
          </a:p>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ديد من الخضار والفواكه التابعة للمجموعة غير الكاليمكترية تتنفس بشكل أكثر بطأ مقارنة بتلك التابعة للمجموعة الكاليمكترية إلا أن هنالك بعض الاستثناءات.</a:t>
            </a:r>
            <a:endParaRPr b="0" lang="en-US" sz="3200" spc="-1" strike="noStrike">
              <a:solidFill>
                <a:srgbClr val="ffffff"/>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حصاد للفواكه</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تحصد الفواكه في الغالب عند تمام اكتمالها </a:t>
            </a:r>
            <a:r>
              <a:rPr b="0" lang="en-US" sz="3600" spc="-1" strike="noStrike">
                <a:solidFill>
                  <a:srgbClr val="ffffff"/>
                </a:solidFill>
                <a:latin typeface="Arial"/>
              </a:rPr>
              <a:t>fully mature</a:t>
            </a:r>
            <a:r>
              <a:rPr b="0" lang="ar-SA" sz="3600" spc="-1" strike="noStrike">
                <a:solidFill>
                  <a:srgbClr val="ffffff"/>
                </a:solidFill>
                <a:latin typeface="Arial"/>
              </a:rPr>
              <a:t> وقد تكون ناضجة </a:t>
            </a:r>
            <a:r>
              <a:rPr b="0" lang="en-US" sz="3600" spc="-1" strike="noStrike">
                <a:solidFill>
                  <a:srgbClr val="ffffff"/>
                </a:solidFill>
                <a:latin typeface="Arial"/>
              </a:rPr>
              <a:t>ripe</a:t>
            </a:r>
            <a:r>
              <a:rPr b="0" lang="ar-SA" sz="3600" spc="-1" strike="noStrike">
                <a:solidFill>
                  <a:srgbClr val="ffffff"/>
                </a:solidFill>
                <a:latin typeface="Arial"/>
              </a:rPr>
              <a:t> أو غير ناضجة </a:t>
            </a:r>
            <a:r>
              <a:rPr b="0" lang="en-US" sz="3600" spc="-1" strike="noStrike">
                <a:solidFill>
                  <a:srgbClr val="ffffff"/>
                </a:solidFill>
                <a:latin typeface="Arial"/>
              </a:rPr>
              <a:t>unripe</a:t>
            </a:r>
            <a:r>
              <a:rPr b="0" lang="ar-SA"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298440" indent="-298440" algn="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تحصد الفواكه في الحالة غير الناضجة لتلك الفواكه التي تتمكن من النضج خلال التخزين ( الموالح لا تستطيع النضج خلال التخزين) خاصة مع الفواكه التي تصبح طرية عند النضج وتلك التي تتحول إلى النضج الأمثل لفترة قصيرة جداً ( الافاكادو والموز والكمثرى).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تأثير التعبئة في الأجواء المعدلة على الجودة التغذوية لمنتجات الأغذية التي لا تتنفس</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زداد فترة صلاحية هذه المنتجات ( </a:t>
            </a:r>
            <a:r>
              <a:rPr b="0" lang="ar-SA" sz="3200" spc="-1" strike="noStrike">
                <a:solidFill>
                  <a:srgbClr val="ffffff"/>
                </a:solidFill>
                <a:latin typeface="Arial"/>
              </a:rPr>
              <a:t>50</a:t>
            </a:r>
            <a:r>
              <a:rPr b="0" lang="ar-SA" sz="3200" spc="-1" strike="noStrike">
                <a:solidFill>
                  <a:srgbClr val="ffffff"/>
                </a:solidFill>
                <a:latin typeface="Arial"/>
              </a:rPr>
              <a:t>-</a:t>
            </a:r>
            <a:r>
              <a:rPr b="0" lang="ar-SA" sz="3200" spc="-1" strike="noStrike">
                <a:solidFill>
                  <a:srgbClr val="ffffff"/>
                </a:solidFill>
                <a:latin typeface="Arial"/>
              </a:rPr>
              <a:t>200</a:t>
            </a:r>
            <a:r>
              <a:rPr b="0" lang="ar-SA" sz="3200" spc="-1" strike="noStrike">
                <a:solidFill>
                  <a:srgbClr val="ffffff"/>
                </a:solidFill>
                <a:latin typeface="Arial"/>
              </a:rPr>
              <a:t> ٪ ).</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علومات عن تأثير ذلك على القيمة التغذوية قليلة</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ال الأكسجين من من جو التعبئة لهذه المنتجات في معظم الحالات ← يتوقع توقف التفاعلات التأكسدية.</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فاعلات التحطم الكيميائي محدودة جداً ( التبريد ← ذوبانية الأكسجين).</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سماك واللحوم ( تعبئة في أجواء غنية بالأكسجين , لا تتوفر معلومات عن بعض التفاعلات التأكسدية خاصة للفيتامينات والأحماض الدهنية غير المشبع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تأثير التعبئة في الأجواء المعدلة على الجودة التغذوية في الخضار والفواكه الطازجة</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فيتامين ج :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فواكه منخفضة الـ </a:t>
            </a:r>
            <a:r>
              <a:rPr b="0" lang="en-US" sz="3200" spc="-1" strike="noStrike">
                <a:solidFill>
                  <a:srgbClr val="ffffff"/>
                </a:solidFill>
                <a:latin typeface="Arial"/>
              </a:rPr>
              <a:t>pH</a:t>
            </a:r>
            <a:r>
              <a:rPr b="0" lang="ar-SA" sz="3200" spc="-1" strike="noStrike">
                <a:solidFill>
                  <a:srgbClr val="ffffff"/>
                </a:solidFill>
                <a:latin typeface="Arial"/>
              </a:rPr>
              <a:t> : تعتبر ثابتة نسبياً في حين أن الفواكه اللينة ( الفراولة والتوت) تتعرض إلى تغيرات أسرع وأكثر.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خضار الورقية : قابلة لفقد أكثر في حمض الأسكوربيك.</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لكاروتينات: معلومات قليلة إلا أن الفقد قليل.</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المركبات الفينولية: انخفاض في الأنثوساينين والفلافانو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e3e3ff"/>
                </a:solidFill>
                <a:latin typeface="Arial"/>
              </a:rPr>
              <a:t>الغازات المستخدمة في الوقت الحاضر في التعبئة في الأجواء المعدلة</a:t>
            </a:r>
            <a:endParaRPr b="0" lang="en-US" sz="4000" spc="-1" strike="noStrike">
              <a:solidFill>
                <a:srgbClr val="e3e3ff"/>
              </a:solidFill>
              <a:latin typeface="Arial"/>
            </a:endParaRPr>
          </a:p>
        </p:txBody>
      </p:sp>
      <p:sp>
        <p:nvSpPr>
          <p:cNvPr id="125" name="PlaceHolder 2"/>
          <p:cNvSpPr>
            <a:spLocks noGrp="1"/>
          </p:cNvSpPr>
          <p:nvPr>
            <p:ph/>
          </p:nvPr>
        </p:nvSpPr>
        <p:spPr>
          <a:xfrm>
            <a:off x="457200" y="2055960"/>
            <a:ext cx="8229600" cy="4039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أكسجين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ثاني أكسيد الكربون</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نيتروجين (له خاصية مالئ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وظائف ثاني أكسيد الكربون</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ضاد للميكروبات ولكن لم يعرف دوره بالضبط وتم اقتراح آليات مختلفة لدوره في تثبيط الأحياء الدقيقة تشم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خفض الأس الهيدروجيني في الغذ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نفاذية إلى داخل الخلية يتبعها انخفاض </a:t>
            </a:r>
            <a:r>
              <a:rPr b="0" lang="en-US" sz="3200" spc="-1" strike="noStrike">
                <a:solidFill>
                  <a:srgbClr val="ffffff"/>
                </a:solidFill>
                <a:latin typeface="Arial"/>
              </a:rPr>
              <a:t>pH</a:t>
            </a:r>
            <a:r>
              <a:rPr b="0" lang="ar-SA" sz="3200" spc="-1" strike="noStrike">
                <a:solidFill>
                  <a:srgbClr val="ffffff"/>
                </a:solidFill>
                <a:latin typeface="Arial"/>
              </a:rPr>
              <a:t> سيتوبلازم الخ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نشاط محدد على إنزيمات السيتوبلاز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نشاط محدد على الأغشية الحيو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وظائف الأكسجين في التعبئة في الأجواء المعدلة</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حتفاظ باللون في منتجات اللحوم الطازجة.</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اللون الأحمر الزاهي</a:t>
            </a:r>
            <a:endParaRPr b="0" lang="en-US" sz="2800" spc="-1" strike="noStrike">
              <a:solidFill>
                <a:srgbClr val="ffffff"/>
              </a:solidFill>
              <a:latin typeface="Arial"/>
            </a:endParaRPr>
          </a:p>
          <a:p>
            <a:pPr marL="609480" indent="-6094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ثبيط اختزال</a:t>
            </a:r>
            <a:r>
              <a:rPr b="0" lang="en-US" sz="2800" spc="-1" strike="noStrike">
                <a:solidFill>
                  <a:srgbClr val="ffffff"/>
                </a:solidFill>
                <a:latin typeface="Arial"/>
              </a:rPr>
              <a:t> </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rimethylamine Oxidase</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TMAO</a:t>
            </a:r>
            <a:r>
              <a:rPr b="0"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يستخدم بواسطة الأحياء الدقيقة في الظروف الفقيرة في الأكسجين</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جنب التنفس اللأهوائي للمنتج الطازج</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مركبات مسئولة عن الرائحة غير المرغو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3e3ff"/>
                </a:solidFill>
                <a:latin typeface="Arial"/>
              </a:rPr>
              <a:t>استخدامات التعبئة في الأجواء المعدلة في صناعة الغذاء</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جب معرفة سلوك المنتجات الغذائية بعد الحصاد</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منتجات لا تتنفس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منتجات تتنفس</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تطرق إلى تقنية الحفظ بالتبر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فوائد حفظ الأغذية على درجة حرارة التبريد </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بطاء نمو الأحياء الدقيقة</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خفض النشاطات الأيضية بعد الحصاد للأنسجة النباتية الكاملة </a:t>
            </a:r>
            <a:r>
              <a:rPr b="0" lang="en-US" sz="3200" spc="-1" strike="noStrike">
                <a:solidFill>
                  <a:srgbClr val="ffffff"/>
                </a:solidFill>
                <a:latin typeface="Arial"/>
              </a:rPr>
              <a:t>intact</a:t>
            </a:r>
            <a:r>
              <a:rPr b="0" lang="ar-SA" sz="3200" spc="-1" strike="noStrike">
                <a:solidFill>
                  <a:srgbClr val="ffffff"/>
                </a:solidFill>
                <a:latin typeface="Arial"/>
              </a:rPr>
              <a:t> وكذلك للأنسجة الحيوانية بعد الذبح.</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بطاء التفاعلات الكيميائية المسببة للفساد بما فيها الإنزيمات المساعدة على التفاعلات البنية التأكسدية وأكسدة اللبيدات كما يبطئ التفاعلات الكيميائية المرتبطة بتغير اللون والفساد الذاتي للأسماك وتقليل الفقد في القيمة التغذوية للأغذية بشكل عام.</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لل من فقد الرطو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اعتبارات المرتبطة بخزن الأغذية على درجات حرارة التبريد</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نسجة النباتية ( الفواكه والخضار )</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400" spc="-1" strike="noStrike">
                <a:solidFill>
                  <a:srgbClr val="ffffff"/>
                </a:solidFill>
                <a:latin typeface="Arial"/>
              </a:rPr>
              <a:t>- استمرارية التنفس الهوائي خلال الخزن المبرد</a:t>
            </a:r>
            <a:endParaRPr b="0" lang="en-US" sz="2400" spc="-1" strike="noStrike">
              <a:solidFill>
                <a:srgbClr val="ffffff"/>
              </a:solidFill>
              <a:latin typeface="Arial"/>
            </a:endParaRPr>
          </a:p>
          <a:p>
            <a:pPr marL="335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000" spc="-1" strike="noStrike">
                <a:solidFill>
                  <a:srgbClr val="ffffff"/>
                </a:solidFill>
                <a:latin typeface="Arial"/>
              </a:rPr>
              <a:t>-- استمرارية تفاعلات الأيض للكربوهيدرات والأحماض العضوية</a:t>
            </a:r>
            <a:endParaRPr b="0" lang="en-US" sz="20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1800" spc="-1" strike="noStrike">
                <a:solidFill>
                  <a:srgbClr val="ffffff"/>
                </a:solidFill>
                <a:latin typeface="Arial"/>
              </a:rPr>
              <a:t>--- ثاني أكسيد كربون + ماء + حرارة + مواد عضوية طيارة + مركبات أخرى</a:t>
            </a:r>
            <a:endParaRPr b="0" lang="en-US" sz="1800" spc="-1" strike="noStrike">
              <a:solidFill>
                <a:srgbClr val="ffffff"/>
              </a:solidFill>
              <a:latin typeface="Arial"/>
            </a:endParaRPr>
          </a:p>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لحفظ الأقصى للأنسجة النباتية على درجات حرارة باردة من المرغوب فيه </a:t>
            </a:r>
            <a:endParaRPr b="0" lang="en-US" sz="32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 استمرار التنفس الهوائي (↓)</a:t>
            </a:r>
            <a:endParaRPr b="0" lang="en-US" sz="18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 درجة الحرارة مناسبة لإبطاء التفاعلات المسببة للفساد</a:t>
            </a:r>
            <a:endParaRPr b="0" lang="en-US" sz="18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العلاقة بين معدل التنفس والجودة</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نتجات سريعة التنفس فترة صلاحية أقصر</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اف في معدل التنفس بين الأجناس والأصناف من نفس الجنس عندما تم خزنها على درجة حرارة ثابتة</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كمية الحرارة الناتجة عن التنفس تأثير على الحمل التبريدي</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عند حساب الحمل التبريدي لخزن الأنسجة النباتية لا بد من الأخذ في الحسبان</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حرارة الناتجة من التنفس</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حرارة النوعية للمنتج</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التبريد وخفض معدل التنفس الهوائي</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أخر هرم وفساد الأنسجة النباتية ( عدا بعض الأنسجة الحساسة لجرح التبريد </a:t>
            </a:r>
            <a:r>
              <a:rPr b="0" lang="en-US" sz="3200" spc="-1" strike="noStrike">
                <a:solidFill>
                  <a:srgbClr val="ffffff"/>
                </a:solidFill>
                <a:latin typeface="Arial"/>
              </a:rPr>
              <a:t>chilling injury</a:t>
            </a:r>
            <a:r>
              <a:rPr b="0"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بعض الفواكه من النضج بمعدل متحكم فيه</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افات كبيرة في معدل التنفس</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8:02:29Z</dcterms:created>
  <dc:creator>MyName</dc:creator>
  <dc:description/>
  <dc:language>en-US</dc:language>
  <cp:lastModifiedBy>MyName</cp:lastModifiedBy>
  <dcterms:modified xsi:type="dcterms:W3CDTF">2009-01-16T17:13:58Z</dcterms:modified>
  <cp:revision>35</cp:revision>
  <dc:subject/>
  <dc:title>التعبئة في الأجواء المعدلة Modified Atmosphere Packaging ( MAP)</dc:title>
</cp:coreProperties>
</file>