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70A-5DB8-4EFE-B73D-A8337990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D64-D04D-437A-AC2C-F6D556B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776-A3DC-4E21-B135-9EAB1E0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255-F3F2-40CE-93A7-CDE03C0F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971-2D1B-44A8-AF2F-EE5CD36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356-D2B0-497C-9985-DCDA5183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6F3-C0D2-47A1-B156-96573FC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6DF-A813-40D8-AD95-6F1202E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9DC-441C-47B9-860D-3F39A19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653-8756-429A-B8BE-F6479DA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6BA-02DE-4DBD-B744-9DB351F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F6C-6977-43A4-A2BD-EF3FB2D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44B-9BB4-49AF-B1B8-73B29078F64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8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محاسبة في المنشآت التجار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عنوان فرعي 2"/>
          <p:cNvGrpSpPr/>
          <p:nvPr/>
        </p:nvGrpSpPr>
        <p:grpSpPr>
          <a:xfrm>
            <a:off x="281160" y="781200"/>
            <a:ext cx="8661240" cy="6162480"/>
            <a:chOff x="281160" y="781200"/>
            <a:chExt cx="8661240" cy="6162480"/>
          </a:xfrm>
        </p:grpSpPr>
        <p:pic>
          <p:nvPicPr>
            <p:cNvPr id="43" name="عنوان فرعي 2" descr=""/>
            <p:cNvPicPr/>
            <p:nvPr/>
          </p:nvPicPr>
          <p:blipFill>
            <a:blip r:embed="rId1"/>
            <a:stretch/>
          </p:blipFill>
          <p:spPr>
            <a:xfrm>
              <a:off x="281160" y="781200"/>
              <a:ext cx="8661240" cy="61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57120" y="857160"/>
              <a:ext cx="850104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898989"/>
                  </a:solidFill>
                  <a:latin typeface="Calibri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إليك العمليات التالية الخاصة بشركة النور لشهر محرم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4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اشترت الشركة بضاعة بقيم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25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على الحساب من محلات العمار</a:t>
              </a:r>
              <a:r>
                <a:rPr b="1" lang="fr-FR" sz="2400" spc="-1" strike="noStrike">
                  <a:solidFill>
                    <a:srgbClr val="898989"/>
                  </a:solidFill>
                  <a:latin typeface="Calibri"/>
                </a:rPr>
                <a:t>)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التسديد بعد شهرين). و قد وعدت محلات العمار الشركة بخصم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% إذا سددت قبل نهاي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5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أيام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5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/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باعت الشركة بضاعة بقيم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21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للعميل أحمد. دفع ثلث القيمة بشيك والباقي على الحساب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6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قام أحمد بإرجاع جزء من البضاعة و قيمته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0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نظرا لأنه غير مطابق للمواصفات المتفق عليها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6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سددت الشركة المبلغ المستحق لمحلات العما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2"/>
          <p:cNvSpPr/>
          <p:nvPr/>
        </p:nvSpPr>
        <p:spPr>
          <a:xfrm>
            <a:off x="928800" y="0"/>
            <a:ext cx="8215200" cy="265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إشترت الشركة بضاعة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نقدا، فقدم لها البائع خصم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5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باعت الشركة بضاعة للعميل خالد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على الحسا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حسب الشروط (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أيام ص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يو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شترت الشركة آلة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2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سدد العميل خالد المستحق للشركة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مطلوب: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. تسجيل القيود اللازمة في دفتر اليو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00040" y="0"/>
          <a:ext cx="8286840" cy="6908760"/>
        </p:xfrm>
        <a:graphic>
          <a:graphicData uri="http://schemas.openxmlformats.org/drawingml/2006/table">
            <a:tbl>
              <a:tblPr/>
              <a:tblGrid>
                <a:gridCol w="2384280"/>
                <a:gridCol w="3003840"/>
                <a:gridCol w="1403280"/>
                <a:gridCol w="1495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تري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ائنون(العم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أحم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ودات ومسموحات 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أحم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ائنون(العم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الي 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صم المكتس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4200" y="142920"/>
          <a:ext cx="8596440" cy="7885080"/>
        </p:xfrm>
        <a:graphic>
          <a:graphicData uri="http://schemas.openxmlformats.org/drawingml/2006/table">
            <a:tbl>
              <a:tblPr/>
              <a:tblGrid>
                <a:gridCol w="1765440"/>
                <a:gridCol w="3863880"/>
                <a:gridCol w="1532160"/>
                <a:gridCol w="1434960"/>
              </a:tblGrid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تري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خال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آل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صم المسموح ب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الي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خال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1:23:34Z</dcterms:created>
  <dc:creator>user</dc:creator>
  <dc:description/>
  <dc:language>en-US</dc:language>
  <cp:lastModifiedBy>user</cp:lastModifiedBy>
  <dcterms:modified xsi:type="dcterms:W3CDTF">2010-10-29T22:07:18Z</dcterms:modified>
  <cp:revision>5</cp:revision>
  <dc:subject/>
  <dc:title>المحاسبة في المنشآت التجارية</dc:title>
</cp:coreProperties>
</file>