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3DC-D039-48BF-8C72-904F7CB7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15F-28AF-450B-B250-013CAAFA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A01-FBCA-4B09-A2EE-18EE0E25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3B6-3B25-4413-BC33-0AB9F080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BAC-2A8E-4B6A-8AA3-E9023A9C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0F1-7AE1-4C0A-8947-75973CEC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61D-E17F-4C92-9E71-F09D6BBD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5A3-4313-4214-BC98-8E056706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B56-2EF8-43E8-8775-1A93CAF6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960-ECC0-4741-8120-67C55ECA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BA4-19BE-4DBD-930B-555C95E3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9F3-B30D-4DEA-854D-C4FBB2BB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C50B-647D-46BF-A233-1157A54D006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886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محاسبة في المنشآت التجار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عنوان فرعي 2"/>
          <p:cNvGrpSpPr/>
          <p:nvPr/>
        </p:nvGrpSpPr>
        <p:grpSpPr>
          <a:xfrm>
            <a:off x="281160" y="781200"/>
            <a:ext cx="8661240" cy="6162480"/>
            <a:chOff x="281160" y="781200"/>
            <a:chExt cx="8661240" cy="6162480"/>
          </a:xfrm>
        </p:grpSpPr>
        <p:pic>
          <p:nvPicPr>
            <p:cNvPr id="43" name="عنوان فرعي 2" descr=""/>
            <p:cNvPicPr/>
            <p:nvPr/>
          </p:nvPicPr>
          <p:blipFill>
            <a:blip r:embed="rId1"/>
            <a:stretch/>
          </p:blipFill>
          <p:spPr>
            <a:xfrm>
              <a:off x="281160" y="781200"/>
              <a:ext cx="8661240" cy="61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57120" y="857160"/>
              <a:ext cx="8501040" cy="60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898989"/>
                  </a:solidFill>
                  <a:latin typeface="Calibri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إليك العمليات التالية الخاصة بشركة النور لشهر محرم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- في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1/4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اشترت الشركة بضاعة بقيمة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25000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ريال على الحساب من محلات العمار</a:t>
              </a:r>
              <a:r>
                <a:rPr b="1" lang="fr-FR" sz="2400" spc="-1" strike="noStrike">
                  <a:solidFill>
                    <a:srgbClr val="898989"/>
                  </a:solidFill>
                  <a:latin typeface="Calibri"/>
                </a:rPr>
                <a:t>)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التسديد بعد شهرين). و قد وعدت محلات العمار الشركة بخصم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10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% إذا سددت قبل نهاية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5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أيام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- في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5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/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1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باعت الشركة بضاعة بقيمة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21000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ريال للعميل أحمد. دفع ثلث القيمة بشيك والباقي على الحساب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- في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1/6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قام أحمد بإرجاع جزء من البضاعة و قيمته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10000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ريال نظرا لأنه غير مطابق للمواصفات المتفق عليها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- في 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1/6</a:t>
              </a:r>
              <a:r>
                <a:rPr b="1" lang="ar-SA" sz="2400" spc="-1" strike="noStrike">
                  <a:solidFill>
                    <a:srgbClr val="898989"/>
                  </a:solidFill>
                  <a:latin typeface="Calibri"/>
                </a:rPr>
                <a:t> سددت الشركة المبلغ المستحق لمحلات العمار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ستطيل 2"/>
          <p:cNvSpPr/>
          <p:nvPr/>
        </p:nvSpPr>
        <p:spPr>
          <a:xfrm>
            <a:off x="928800" y="0"/>
            <a:ext cx="8215200" cy="265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في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/1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إشترت الشركة بضاعة بقيم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ريال نقدا، فقدم لها البائع خصم بقيم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5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%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ف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/1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باعت الشركة بضاعة للعميل خالد بقيم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ريا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على الحسا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حسب الشروط (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%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أيام ص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يو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في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/1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اشترت الشركة آلة بقيم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ريال بشي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في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/2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سدد العميل خالد المستحق للشركة بشي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     </a:t>
            </a: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مطلوب:</a:t>
            </a:r>
            <a:r>
              <a:rPr b="0" lang="ar-SA" sz="24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. تسجيل القيود اللازمة في دفتر اليو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00040" y="0"/>
          <a:ext cx="8286840" cy="6908760"/>
        </p:xfrm>
        <a:graphic>
          <a:graphicData uri="http://schemas.openxmlformats.org/drawingml/2006/table">
            <a:tbl>
              <a:tblPr/>
              <a:tblGrid>
                <a:gridCol w="2384280"/>
                <a:gridCol w="3003840"/>
                <a:gridCol w="1403280"/>
                <a:gridCol w="1495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ري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يا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ائ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تري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ائنون(العما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02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ذكور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دينون(أحمد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بيع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ودات ومسموحات المبيع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دينون(أحمد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ائنون(العما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الي مذكور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خصم المكتس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14200" y="142920"/>
          <a:ext cx="8596440" cy="7885080"/>
        </p:xfrm>
        <a:graphic>
          <a:graphicData uri="http://schemas.openxmlformats.org/drawingml/2006/table">
            <a:tbl>
              <a:tblPr/>
              <a:tblGrid>
                <a:gridCol w="1765440"/>
                <a:gridCol w="3863880"/>
                <a:gridCol w="1532160"/>
                <a:gridCol w="1434960"/>
              </a:tblGrid>
              <a:tr h="10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ري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يا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ائ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تري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صندو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دينون(خالد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بيع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آل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02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ذكور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خصم المسموح ب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الي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دينون(خالد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21:23:34Z</dcterms:created>
  <dc:creator>user</dc:creator>
  <dc:description/>
  <dc:language>en-US</dc:language>
  <cp:lastModifiedBy>user</cp:lastModifiedBy>
  <dcterms:modified xsi:type="dcterms:W3CDTF">2010-10-29T22:07:18Z</dcterms:modified>
  <cp:revision>5</cp:revision>
  <dc:subject/>
  <dc:title>المحاسبة في المنشآت التجارية</dc:title>
</cp:coreProperties>
</file>