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DEA-C962-4C6C-B75E-393F3C65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5AE-06AC-45F6-9196-55700310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4D7-DEFB-495C-AC9E-A6F783AE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23C-63EB-4D8A-838B-7E64B035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5A7-1D6A-42CE-A99D-9C6A541B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E8E-EFC7-43B5-A4C7-C0045D3B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9FC-3137-441C-8004-B5021F1F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B18-731A-4784-9841-16B0C12F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A41-839C-4E6E-BA76-8038812E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C80-9CD6-4F0E-B21B-9E21C1F5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7C3-FAA6-4C5F-B75D-6DCEF107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4B3-BADF-4B1C-B649-9CBE4796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42BE-1720-4CD3-BD0A-0B99C1F1D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dddddd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5120" y="1981080"/>
            <a:ext cx="2209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660066"/>
                </a:solidFill>
                <a:latin typeface="Arial"/>
                <a:cs typeface="Andalus"/>
              </a:rPr>
              <a:t>الملكية    </a:t>
            </a:r>
            <a:br>
              <a:rPr sz="4800"/>
            </a:br>
            <a:r>
              <a:rPr b="0" lang="en-US" sz="4800" spc="-1" strike="noStrike">
                <a:solidFill>
                  <a:srgbClr val="660066"/>
                </a:solidFill>
                <a:latin typeface="Arial"/>
                <a:ea typeface="Andalus"/>
              </a:rPr>
              <a:t>  فـي</a:t>
            </a:r>
            <a:br>
              <a:rPr sz="4800"/>
            </a:br>
            <a:r>
              <a:rPr b="0" lang="en-US" sz="4800" spc="-1" strike="noStrike">
                <a:solidFill>
                  <a:srgbClr val="660066"/>
                </a:solidFill>
                <a:latin typeface="Arial"/>
                <a:ea typeface="Andalus"/>
              </a:rPr>
              <a:t> الاقتصاد </a:t>
            </a:r>
            <a:br>
              <a:rPr sz="4800"/>
            </a:br>
            <a:r>
              <a:rPr b="0" lang="en-US" sz="4800" spc="-1" strike="noStrike">
                <a:solidFill>
                  <a:srgbClr val="660066"/>
                </a:solidFill>
                <a:latin typeface="Arial"/>
                <a:ea typeface="Andalus"/>
              </a:rPr>
              <a:t> الإسـلام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47960" y="2285640"/>
            <a:ext cx="1981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4d4d4d"/>
                </a:solidFill>
                <a:latin typeface="Arial"/>
              </a:rPr>
              <a:t>عنوان المحاض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523880" y="1219320"/>
            <a:ext cx="58676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255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تطبيق </a:t>
            </a:r>
            <a:endParaRPr b="1" lang="en-US" sz="3200" spc="1" strike="noStrike">
              <a:ln w="255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3124080"/>
            <a:ext cx="7389720" cy="23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ccff66"/>
                    </a:gs>
                    <a:gs pos="50000">
                      <a:srgbClr val="008200"/>
                    </a:gs>
                    <a:gs pos="100000">
                      <a:srgbClr val="ccff66"/>
                    </a:gs>
                  </a:gsLst>
                  <a:lin ang="8100000"/>
                </a:gradFill>
                <a:latin typeface="Arial Black"/>
              </a:rPr>
              <a:t>أدوات التطبيق :</a:t>
            </a:r>
            <a:endParaRPr b="1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ccff66"/>
                  </a:gs>
                  <a:gs pos="50000">
                    <a:srgbClr val="008200"/>
                  </a:gs>
                  <a:gs pos="100000">
                    <a:srgbClr val="ccff66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ccff66"/>
                    </a:gs>
                    <a:gs pos="50000">
                      <a:srgbClr val="008200"/>
                    </a:gs>
                    <a:gs pos="100000">
                      <a:srgbClr val="ccff66"/>
                    </a:gs>
                  </a:gsLst>
                  <a:lin ang="8100000"/>
                </a:gradFill>
                <a:latin typeface="Arial Black"/>
              </a:rPr>
              <a:t>بطاقات – أقـلام</a:t>
            </a:r>
            <a:endParaRPr b="1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ccff66"/>
                  </a:gs>
                  <a:gs pos="50000">
                    <a:srgbClr val="008200"/>
                  </a:gs>
                  <a:gs pos="100000">
                    <a:srgbClr val="ccff66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ransition spd="slow">
    <p:wheel spokes="8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3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3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9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2362320"/>
            <a:ext cx="76960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udir MT"/>
              </a:rPr>
              <a:t> تقسيم الطالبات إلى مجموعات بحسب كل شعبة بحيث ل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udir MT"/>
              </a:rPr>
              <a:t>      تزيد كل مجموعة ع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udir MT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udir MT"/>
              </a:rPr>
              <a:t> طالب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udir MT"/>
              </a:rPr>
              <a:t> توزيع بطاقة لكل مجموعة على حد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udir MT"/>
              </a:rPr>
              <a:t> كتابة تقرير موجز يتعلق بمحاضرة اليوم مع بيان أهمية إ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udir MT"/>
              </a:rPr>
              <a:t>     الإسلام للملكية الخاص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udir MT"/>
              </a:rPr>
              <a:t> قراءة البطاقات وتقييمها شفويا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38080" y="1219320"/>
            <a:ext cx="4800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تعليمات التطبيق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3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20650200">
            <a:off x="0" y="456840"/>
            <a:ext cx="21337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قدمة 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057040" y="1066680"/>
            <a:ext cx="5257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33"/>
                </a:solidFill>
                <a:latin typeface="Arial"/>
                <a:cs typeface="Akhbar MT"/>
              </a:rPr>
              <a:t>إن حب التملك أمر فطري جُبلت عليه ال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33"/>
                </a:solidFill>
                <a:latin typeface="Arial"/>
                <a:cs typeface="Akhbar MT"/>
              </a:rPr>
              <a:t>الإنسانية , ونجد أن الملكية في الاقتص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33"/>
                </a:solidFill>
                <a:latin typeface="Arial"/>
                <a:cs typeface="Akhbar MT"/>
              </a:rPr>
              <a:t>الإسلامي تنقسم إلى الأنواع الآت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Akhbar MT"/>
              </a:rPr>
              <a:t>الملكية العامة,ملكية الدولة,الملكية الخاص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33"/>
                </a:solidFill>
                <a:latin typeface="Arial"/>
                <a:cs typeface="Akhbar MT"/>
              </a:rPr>
              <a:t>وسوف نتعرف على المقصود بكل نوع وبي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33"/>
                </a:solidFill>
                <a:latin typeface="Arial"/>
                <a:cs typeface="Akhbar MT"/>
              </a:rPr>
              <a:t>أهميته , وأهم خصائصه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20305200">
            <a:off x="6710040" y="2193840"/>
            <a:ext cx="1670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الملكية العامة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743200" y="68544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rial"/>
              </a:rPr>
              <a:t>تعرّف بأنه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5800"/>
                </a:solidFill>
                <a:latin typeface="Arial"/>
              </a:rPr>
              <a:t>كل ما وُجِدَ بإيجاد الله تعالى مما يملكه عموم الأمة دون اختصاص أحد بعينه به . كالأنهار والبراري والآب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447920"/>
            <a:ext cx="1523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876920" cy="7621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82feb1"/>
              </a:gs>
              <a:gs pos="100000">
                <a:srgbClr val="ff9966"/>
              </a:gs>
            </a:gsLst>
            <a:lin ang="8100000"/>
          </a:gra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600" spc="-1" strike="noStrike">
                <a:solidFill>
                  <a:srgbClr val="cc0000"/>
                </a:solidFill>
                <a:latin typeface="Arial"/>
                <a:cs typeface="Andalus"/>
              </a:rPr>
              <a:t>خصائص الملكية العا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209680" y="1676520"/>
            <a:ext cx="5943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1-</a:t>
            </a: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علاقة الملكية العامة مع مصالح عموم المسلمين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كعلاقة العلة بالحكم فمتى وُجِدت العلة وهي المصلحة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العامة وُجِدَ الحكم وهو الملكية العامة ومتى زالت المصلحة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العامة زالت الملكية العامة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4648320"/>
            <a:ext cx="6248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3- </a:t>
            </a: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الملكية العامة ملكية دائمة ومستقرة بدوام واستقرار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5800"/>
              </a:solidFill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مصلحة عموم المسلمين .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58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2480" y="3505320"/>
            <a:ext cx="6400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2- </a:t>
            </a: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الملكية العامة مقررة بحكم الله تعالى ورسوله صلى الله عليه وسلّم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5800"/>
              </a:solidFill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لا يملك أحدا التصرف بها .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5800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3720" y="5638680"/>
            <a:ext cx="6476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4- </a:t>
            </a: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الحق في الملكية العامة حق مستقرللجماعة باعتبارها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5800"/>
              </a:solidFill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مؤلفة من أفراد .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5800"/>
              </a:solidFill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895480" y="2361960"/>
            <a:ext cx="4724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3300"/>
                </a:solidFill>
                <a:uFillTx/>
                <a:latin typeface="Times New Roman"/>
                <a:cs typeface="Andalus"/>
              </a:rPr>
              <a:t>تعرّف بأنه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5800"/>
                </a:solidFill>
                <a:latin typeface="Times New Roman"/>
                <a:cs typeface="Times New Roman"/>
              </a:rPr>
              <a:t>الملكية التي تكون للدولة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5800"/>
                </a:solidFill>
                <a:latin typeface="Times New Roman"/>
                <a:cs typeface="Times New Roman"/>
              </a:rPr>
              <a:t>ومواردها لبيت مال المسلم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5800"/>
                </a:solidFill>
                <a:latin typeface="Times New Roman"/>
                <a:cs typeface="Times New Roman"/>
              </a:rPr>
              <a:t>يتصرف فيها ولي أمر المسلم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5800"/>
                </a:solidFill>
                <a:latin typeface="Times New Roman"/>
                <a:cs typeface="Times New Roman"/>
              </a:rPr>
              <a:t>بموجب ما تقتضيه المصلحة العا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304920"/>
            <a:ext cx="3047760" cy="1371600"/>
          </a:xfrm>
          <a:prstGeom prst="ellipse">
            <a:avLst/>
          </a:prstGeom>
          <a:gradFill rotWithShape="0">
            <a:gsLst>
              <a:gs pos="0">
                <a:srgbClr val="e561ff"/>
              </a:gs>
              <a:gs pos="50000">
                <a:srgbClr val="85ff85"/>
              </a:gs>
              <a:gs pos="100000">
                <a:srgbClr val="e561ff"/>
              </a:gs>
            </a:gsLst>
            <a:lin ang="5400000"/>
          </a:gradFill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660066"/>
                </a:solidFill>
                <a:latin typeface="Tahoma"/>
                <a:cs typeface="Tahoma"/>
              </a:rPr>
              <a:t>ملكية الدو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85ff85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133720" y="1142640"/>
            <a:ext cx="4419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ادن .                           الزكا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خراج .                            الفيء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مس الغنائم .                    الجز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شو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لقطات وتركات المسلمين التي لا وار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ها , وديات القتلى الذين لا أولياء له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وقاف الخيرية .              الضرائب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905120" y="152280"/>
            <a:ext cx="5562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005800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Impact"/>
              </a:rPr>
              <a:t>موارد بيت المال 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005800"/>
                  </a:gs>
                  <a:gs pos="100000">
                    <a:srgbClr val="99cc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990720"/>
            <a:ext cx="1905120" cy="761760"/>
          </a:xfrm>
          <a:prstGeom prst="rightArrow">
            <a:avLst>
              <a:gd name="adj1" fmla="val 50000"/>
              <a:gd name="adj2" fmla="val 62524"/>
            </a:avLst>
          </a:prstGeom>
          <a:solidFill>
            <a:srgbClr val="008000"/>
          </a:solidFill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cc00"/>
                </a:solidFill>
                <a:latin typeface="Arial"/>
              </a:rPr>
              <a:t>المورد الثان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828800"/>
            <a:ext cx="1905120" cy="762120"/>
          </a:xfrm>
          <a:prstGeom prst="rightArrow">
            <a:avLst>
              <a:gd name="adj1" fmla="val 50000"/>
              <a:gd name="adj2" fmla="val 62494"/>
            </a:avLst>
          </a:prstGeom>
          <a:solidFill>
            <a:srgbClr val="008000"/>
          </a:solidFill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cc00"/>
                </a:solidFill>
                <a:latin typeface="Arial"/>
              </a:rPr>
              <a:t>المورد الراب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1905120" cy="761760"/>
          </a:xfrm>
          <a:prstGeom prst="rightArrow">
            <a:avLst>
              <a:gd name="adj1" fmla="val 50000"/>
              <a:gd name="adj2" fmla="val 62524"/>
            </a:avLst>
          </a:prstGeom>
          <a:solidFill>
            <a:srgbClr val="008000"/>
          </a:solidFill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cc00"/>
                </a:solidFill>
                <a:latin typeface="Arial"/>
              </a:rPr>
              <a:t>المورد الساد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4191120"/>
            <a:ext cx="1905120" cy="761760"/>
          </a:xfrm>
          <a:prstGeom prst="rightArrow">
            <a:avLst>
              <a:gd name="adj1" fmla="val 50000"/>
              <a:gd name="adj2" fmla="val 62524"/>
            </a:avLst>
          </a:prstGeom>
          <a:solidFill>
            <a:srgbClr val="008000"/>
          </a:solidFill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cc00"/>
                </a:solidFill>
                <a:latin typeface="Arial"/>
              </a:rPr>
              <a:t>المورد الثام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3429000"/>
            <a:ext cx="1905120" cy="762120"/>
          </a:xfrm>
          <a:prstGeom prst="leftArrow">
            <a:avLst>
              <a:gd name="adj1" fmla="val 50000"/>
              <a:gd name="adj2" fmla="val 62494"/>
            </a:avLst>
          </a:prstGeom>
          <a:solidFill>
            <a:srgbClr val="99cc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5800"/>
                </a:solidFill>
                <a:latin typeface="Arial"/>
              </a:rPr>
              <a:t>المورد الساب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90920"/>
            <a:ext cx="1905120" cy="761760"/>
          </a:xfrm>
          <a:prstGeom prst="leftArrow">
            <a:avLst>
              <a:gd name="adj1" fmla="val 50000"/>
              <a:gd name="adj2" fmla="val 62524"/>
            </a:avLst>
          </a:prstGeom>
          <a:solidFill>
            <a:srgbClr val="99cc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5800"/>
                </a:solidFill>
                <a:latin typeface="Arial"/>
              </a:rPr>
              <a:t>المورد الخام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1828800"/>
            <a:ext cx="1905120" cy="762120"/>
          </a:xfrm>
          <a:prstGeom prst="leftArrow">
            <a:avLst>
              <a:gd name="adj1" fmla="val 50000"/>
              <a:gd name="adj2" fmla="val 62494"/>
            </a:avLst>
          </a:prstGeom>
          <a:solidFill>
            <a:srgbClr val="99cc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5800"/>
                </a:solidFill>
                <a:latin typeface="Arial"/>
              </a:rPr>
              <a:t>المورد الثال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990720"/>
            <a:ext cx="1905120" cy="761760"/>
          </a:xfrm>
          <a:prstGeom prst="leftArrow">
            <a:avLst>
              <a:gd name="adj1" fmla="val 50000"/>
              <a:gd name="adj2" fmla="val 62524"/>
            </a:avLst>
          </a:prstGeom>
          <a:solidFill>
            <a:srgbClr val="99cc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5800"/>
                </a:solidFill>
                <a:latin typeface="Arial"/>
              </a:rPr>
              <a:t>المورد الأ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181480"/>
            <a:ext cx="1905120" cy="762120"/>
          </a:xfrm>
          <a:prstGeom prst="leftArrow">
            <a:avLst>
              <a:gd name="adj1" fmla="val 50000"/>
              <a:gd name="adj2" fmla="val 62494"/>
            </a:avLst>
          </a:prstGeom>
          <a:solidFill>
            <a:srgbClr val="99cc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5800"/>
                </a:solidFill>
                <a:latin typeface="Arial"/>
              </a:rPr>
              <a:t>المورد التاس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5105520"/>
            <a:ext cx="1905120" cy="761760"/>
          </a:xfrm>
          <a:prstGeom prst="rightArrow">
            <a:avLst>
              <a:gd name="adj1" fmla="val 50000"/>
              <a:gd name="adj2" fmla="val 62524"/>
            </a:avLst>
          </a:prstGeom>
          <a:solidFill>
            <a:srgbClr val="008000"/>
          </a:solidFill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cc00"/>
                </a:solidFill>
                <a:latin typeface="Arial"/>
              </a:rPr>
              <a:t>المورد العاش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70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1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6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218960" y="1828800"/>
            <a:ext cx="6629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ahoma"/>
                <a:cs typeface="Tahoma"/>
              </a:rPr>
              <a:t>وهي ما كانت لفرد أو لمجموعة م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ahoma"/>
                <a:cs typeface="Tahoma"/>
              </a:rPr>
              <a:t>الأفراد على سبيل الاشتراك , وتخ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ahoma"/>
                <a:cs typeface="Tahoma"/>
              </a:rPr>
              <a:t>صاحبها الاستئثار بمنافعها والتصر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ahoma"/>
                <a:cs typeface="Tahoma"/>
              </a:rPr>
              <a:t>في محلها , كتملك الإنسان للمسك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ahoma"/>
                <a:cs typeface="Tahoma"/>
              </a:rPr>
              <a:t>والمرك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19520" y="838080"/>
            <a:ext cx="35049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6666ff">
                      <a:alpha val="50000"/>
                    </a:srgbClr>
                  </a:outerShdw>
                </a:effectLst>
                <a:latin typeface="Arial Black"/>
              </a:rPr>
              <a:t>الملكية الخاص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6666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3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90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5"/>
            </a:gs>
            <a:gs pos="100000">
              <a:srgbClr val="fa9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9144000" cy="5943600"/>
          </a:xfrm>
          <a:prstGeom prst="bevel">
            <a:avLst>
              <a:gd name="adj" fmla="val 5477"/>
            </a:avLst>
          </a:prstGeom>
          <a:gradFill rotWithShape="0">
            <a:gsLst>
              <a:gs pos="0">
                <a:srgbClr val="f8b049"/>
              </a:gs>
              <a:gs pos="50000">
                <a:srgbClr val="fc9fcb"/>
              </a:gs>
              <a:gs pos="100000">
                <a:srgbClr val="f8b049"/>
              </a:gs>
            </a:gsLst>
            <a:lin ang="5400000"/>
          </a:gradFill>
          <a:ln w="507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1</a:t>
            </a: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- لا حد لما يمتلكه الإنسان ,  ما دام تملكه من خل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     الوسائل المشروع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- الملكية الخاصة حق كامل يشتمل على جميع الأعي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 والحقوق والمنافع والمزايا التي تمنحها الشريعة لصاحب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3</a:t>
            </a: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- الملكية الخاصة تمكن صاحبها من التصرف فيها كيف يشاء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   ما لم يكن تصرفه ممنوعاً شرعاً كالأضرار بالغي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4</a:t>
            </a: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- الملكية الخاصة تعتبر حقاً دائماً لصاحبها , لا تزول عن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    بحال من الأحوال إلا برضاه ما لم يكن هناك مصالح معتب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    شرعاً كشفعة مثلاً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5</a:t>
            </a: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- الملكية تخول صاحبها التبرع مما يملك دون تحديد أو تقيي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     ما دام أنه في قواه المعتبرة شرعاً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6</a:t>
            </a: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- من خصائص الملكية الخاصة أنها تؤدي إلى النم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    الاقتصاد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52480" y="1522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خصائص الملكية الخاصة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8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80" y="152280"/>
            <a:ext cx="8029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cc99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أهمية إقرار الملكية الخاصة تظهر في الأمور الآتية :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523880"/>
            <a:ext cx="7848720" cy="914400"/>
          </a:xfrm>
          <a:prstGeom prst="ellipse">
            <a:avLst/>
          </a:prstGeom>
          <a:gradFill rotWithShape="0">
            <a:gsLst>
              <a:gs pos="0">
                <a:srgbClr val="fa90d4"/>
              </a:gs>
              <a:gs pos="50000">
                <a:srgbClr val="ccff66"/>
              </a:gs>
              <a:gs pos="100000">
                <a:srgbClr val="fa90d4"/>
              </a:gs>
            </a:gsLst>
            <a:lin ang="5400000"/>
          </a:gra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ahoma"/>
                <a:cs typeface="Tahoma"/>
              </a:rPr>
              <a:t>تحقيق حاجة الإنسان , وما تتطلبه الحياة الكريم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229600" y="1752480"/>
            <a:ext cx="771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أولاً 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705720" y="4952880"/>
            <a:ext cx="771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imes New Roman"/>
              </a:rPr>
              <a:t>رابعاً 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43800" y="2819520"/>
            <a:ext cx="771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Times New Roman"/>
              </a:rPr>
              <a:t>ثانياً 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629400" y="3886200"/>
            <a:ext cx="771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Times New Roman"/>
              </a:rPr>
              <a:t>ثالثاً 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666880"/>
            <a:ext cx="6476760" cy="914400"/>
          </a:xfrm>
          <a:prstGeom prst="ellipse">
            <a:avLst/>
          </a:prstGeom>
          <a:gradFill rotWithShape="0">
            <a:gsLst>
              <a:gs pos="0">
                <a:srgbClr val="fa90d4"/>
              </a:gs>
              <a:gs pos="50000">
                <a:srgbClr val="ccff66"/>
              </a:gs>
              <a:gs pos="100000">
                <a:srgbClr val="fa90d4"/>
              </a:gs>
            </a:gsLst>
            <a:lin ang="5400000"/>
          </a:gra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ahoma"/>
                <a:cs typeface="Tahoma"/>
              </a:rPr>
              <a:t>عمارة الأرض واستغلال موارد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3886200"/>
            <a:ext cx="3429000" cy="762120"/>
          </a:xfrm>
          <a:prstGeom prst="ellipse">
            <a:avLst/>
          </a:prstGeom>
          <a:gradFill rotWithShape="0">
            <a:gsLst>
              <a:gs pos="0">
                <a:srgbClr val="fa90d4"/>
              </a:gs>
              <a:gs pos="50000">
                <a:srgbClr val="ccff66"/>
              </a:gs>
              <a:gs pos="100000">
                <a:srgbClr val="fa90d4"/>
              </a:gs>
            </a:gsLst>
            <a:lin ang="5400000"/>
          </a:gra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ahoma"/>
                <a:cs typeface="Tahoma"/>
              </a:rPr>
              <a:t>إعداد القو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4800600"/>
            <a:ext cx="5029200" cy="914400"/>
          </a:xfrm>
          <a:prstGeom prst="ellipse">
            <a:avLst/>
          </a:prstGeom>
          <a:gradFill rotWithShape="0">
            <a:gsLst>
              <a:gs pos="0">
                <a:srgbClr val="fa90d4"/>
              </a:gs>
              <a:gs pos="50000">
                <a:srgbClr val="ccff66"/>
              </a:gs>
              <a:gs pos="100000">
                <a:srgbClr val="fa90d4"/>
              </a:gs>
            </a:gsLst>
            <a:lin ang="5400000"/>
          </a:gra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ahoma"/>
                <a:cs typeface="Tahoma"/>
              </a:rPr>
              <a:t>البذل والإنفاق في أوجه البِ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000"/>
                            </p:stCondLst>
                            <p:childTnLst>
                              <p:par>
                                <p:cTn id="3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0-11T21:21:3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