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187-80EE-4A38-8D8E-267DC389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DDC-C71E-49CB-A1B9-3107F96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979-06EC-4FBC-8CF0-1362DD91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1DC-DCB0-49E6-B452-3B4A8ED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27A-F7FB-4ABF-9E28-41F45ED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05B-E676-4820-A9F4-60139FC1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F59-D9A5-4452-B786-C460DC2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A61-CFE0-4469-9D74-790205EC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E07-44B5-4143-996B-F1960D1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71-FB4B-4C69-90D9-1EEDBCA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6E3-9066-4E4C-9279-E7C91C1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ACA-F097-4F8B-9A66-1D0402F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01C-AC19-4CFC-AB56-EA022496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dddddd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1981080"/>
            <a:ext cx="220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660066"/>
                </a:solidFill>
                <a:latin typeface="Arial"/>
                <a:cs typeface="Andalus"/>
              </a:rPr>
              <a:t>الملكية    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 فـي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الاقتصاد 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Arial"/>
                <a:ea typeface="Andalus"/>
              </a:rPr>
              <a:t> الإسـلا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47960" y="2285640"/>
            <a:ext cx="198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4d4d4d"/>
                </a:solidFill>
                <a:latin typeface="Arial"/>
              </a:rPr>
              <a:t>عنوان ال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23880" y="1219320"/>
            <a:ext cx="586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تطبيق </a:t>
            </a:r>
            <a:endParaRPr b="1" lang="en-US" sz="3200" spc="1" strike="noStrike">
              <a:ln w="255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3124080"/>
            <a:ext cx="738972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8200"/>
                    </a:gs>
                    <a:gs pos="100000">
                      <a:srgbClr val="ccff66"/>
                    </a:gs>
                  </a:gsLst>
                  <a:lin ang="8100000"/>
                </a:gradFill>
                <a:latin typeface="Arial Black"/>
              </a:rPr>
              <a:t>أدوات التطبيق :</a:t>
            </a:r>
            <a:endParaRPr b="1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66"/>
                  </a:gs>
                  <a:gs pos="50000">
                    <a:srgbClr val="008200"/>
                  </a:gs>
                  <a:gs pos="100000">
                    <a:srgbClr val="ccff66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55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8200"/>
                    </a:gs>
                    <a:gs pos="100000">
                      <a:srgbClr val="ccff66"/>
                    </a:gs>
                  </a:gsLst>
                  <a:lin ang="8100000"/>
                </a:gradFill>
                <a:latin typeface="Arial Black"/>
              </a:rPr>
              <a:t>بطاقات – أقـلام</a:t>
            </a:r>
            <a:endParaRPr b="1" lang="en-US" sz="1800" spc="1" strike="noStrike">
              <a:ln w="255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66"/>
                  </a:gs>
                  <a:gs pos="50000">
                    <a:srgbClr val="008200"/>
                  </a:gs>
                  <a:gs pos="100000">
                    <a:srgbClr val="ccff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2362320"/>
            <a:ext cx="76960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تقسيم الطالبات إلى مجموعات بحسب كل شعبة بحيث ل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     تزيد كل مجموعة ع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طالب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توزيع بطاقة لكل مجموعة على حد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كتابة تقرير موجز يتعلق بمحاضرة اليوم مع بيان أهمية إ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    الإسلام للملكية الخاص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udir MT"/>
              </a:rPr>
              <a:t> قراءة البطاقات وتقييمها شفوي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2193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تعليمات التطبيق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0650200">
            <a:off x="0" y="456840"/>
            <a:ext cx="2133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قدمة 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057040" y="1066680"/>
            <a:ext cx="5257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إن حب التملك أمر فطري جُبلت عليه ال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الإنسانية , ونجد أن الملكية في الاقتص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الإسلامي تنقسم إلى الأنواع الآت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khbar MT"/>
              </a:rPr>
              <a:t>الملكية العامة,ملكية الدولة,الملكية الخاص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وسوف نتعرف على المقصود بكل نوع وبي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3333"/>
                </a:solidFill>
                <a:latin typeface="Arial"/>
                <a:cs typeface="Akhbar MT"/>
              </a:rPr>
              <a:t>أهميته , وأهم خصائصه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305200">
            <a:off x="6710040" y="2193840"/>
            <a:ext cx="167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لملكية العامة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743200" y="68544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rial"/>
              </a:rPr>
              <a:t>تعرّف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5800"/>
                </a:solidFill>
                <a:latin typeface="Arial"/>
              </a:rPr>
              <a:t>كل ما وُجِدَ بإيجاد الله تعالى مما يملكه عموم الأمة دون اختصاص أحد بعينه به . كالأنهار والبراري والآ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1523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876920" cy="762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82feb1"/>
              </a:gs>
              <a:gs pos="100000">
                <a:srgbClr val="ff9966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cc0000"/>
                </a:solidFill>
                <a:latin typeface="Arial"/>
                <a:cs typeface="Andalus"/>
              </a:rPr>
              <a:t>خصائص الملكية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09680" y="1676520"/>
            <a:ext cx="5943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1-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علاقة الملكية العامة مع مصالح عموم المسلمين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كعلاقة العلة بالحكم فمتى وُجِدت العلة وهي المصلحة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العامة وُجِدَ الحكم وهو الملكية العامة ومتى زالت المصلحة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العامة زالت الملكية العامة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4648320"/>
            <a:ext cx="624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3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ملكية العامة ملكية دائمة ومستقرة بدوام واستقرار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مصلحة عموم المسلمين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50532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2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ملكية العامة مقررة بحكم الله تعالى ورسوله صلى الله عليه وسلّم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لا يملك أحدا التصرف بها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56386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4- </a:t>
            </a: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الحق في الملكية العامة حق مستقرللجماعة باعتبارها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5800"/>
                </a:solidFill>
                <a:latin typeface="Times New Roman"/>
              </a:rPr>
              <a:t>مؤلفة من أفراد 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5800"/>
              </a:soli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895480" y="2361960"/>
            <a:ext cx="4724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Times New Roman"/>
                <a:cs typeface="Andalus"/>
              </a:rPr>
              <a:t>تعرّف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الملكية التي تكون للدولة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ومواردها لبيت مال 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يتصرف فيها ولي أمر المسلم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5800"/>
                </a:solidFill>
                <a:latin typeface="Times New Roman"/>
                <a:cs typeface="Times New Roman"/>
              </a:rPr>
              <a:t>بموجب ما تقتضيه المصلحة العا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04920"/>
            <a:ext cx="3047760" cy="1371600"/>
          </a:xfrm>
          <a:prstGeom prst="ellipse">
            <a:avLst/>
          </a:prstGeom>
          <a:gradFill rotWithShape="0">
            <a:gsLst>
              <a:gs pos="0">
                <a:srgbClr val="e561ff"/>
              </a:gs>
              <a:gs pos="50000">
                <a:srgbClr val="85ff85"/>
              </a:gs>
              <a:gs pos="100000">
                <a:srgbClr val="e561ff"/>
              </a:gs>
            </a:gsLst>
            <a:lin ang="5400000"/>
          </a:gra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660066"/>
                </a:solidFill>
                <a:latin typeface="Tahoma"/>
                <a:cs typeface="Tahoma"/>
              </a:rPr>
              <a:t>ملكية الدو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85ff85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33720" y="1142640"/>
            <a:ext cx="4419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ادن .                           الزكا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خراج .                            الفي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مس الغنائم .                    الج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شو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لقطات وتركات المسلمين التي لا وار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ا , وديات القتلى الذين لا أولياء ل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وقاف الخيرية .              الضرائ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5120" y="152280"/>
            <a:ext cx="556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005800"/>
                    </a:gs>
                    <a:gs pos="100000">
                      <a:srgbClr val="99cc00"/>
                    </a:gs>
                  </a:gsLst>
                  <a:lin ang="5400000"/>
                </a:gradFill>
                <a:latin typeface="Impact"/>
              </a:rPr>
              <a:t>موارد بيت المال 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005800"/>
                  </a:gs>
                  <a:gs pos="100000">
                    <a:srgbClr val="99cc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9907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ث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28800"/>
            <a:ext cx="1905120" cy="762120"/>
          </a:xfrm>
          <a:prstGeom prst="rightArrow">
            <a:avLst>
              <a:gd name="adj1" fmla="val 50000"/>
              <a:gd name="adj2" fmla="val 6249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راب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ساد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1911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ثا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342900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ساب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90920"/>
            <a:ext cx="1905120" cy="761760"/>
          </a:xfrm>
          <a:prstGeom prst="leftArrow">
            <a:avLst>
              <a:gd name="adj1" fmla="val 50000"/>
              <a:gd name="adj2" fmla="val 6252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خام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182880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ثال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990720"/>
            <a:ext cx="1905120" cy="761760"/>
          </a:xfrm>
          <a:prstGeom prst="leftArrow">
            <a:avLst>
              <a:gd name="adj1" fmla="val 50000"/>
              <a:gd name="adj2" fmla="val 6252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أ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181480"/>
            <a:ext cx="1905120" cy="762120"/>
          </a:xfrm>
          <a:prstGeom prst="leftArrow">
            <a:avLst>
              <a:gd name="adj1" fmla="val 50000"/>
              <a:gd name="adj2" fmla="val 62494"/>
            </a:avLst>
          </a:prstGeom>
          <a:solidFill>
            <a:srgbClr val="99cc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5800"/>
                </a:solidFill>
                <a:latin typeface="Arial"/>
              </a:rPr>
              <a:t>المورد التاس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105520"/>
            <a:ext cx="1905120" cy="761760"/>
          </a:xfrm>
          <a:prstGeom prst="rightArrow">
            <a:avLst>
              <a:gd name="adj1" fmla="val 50000"/>
              <a:gd name="adj2" fmla="val 62524"/>
            </a:avLst>
          </a:prstGeom>
          <a:solidFill>
            <a:srgbClr val="008000"/>
          </a:solidFill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cc00"/>
                </a:solidFill>
                <a:latin typeface="Arial"/>
              </a:rPr>
              <a:t>المورد العاش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7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وهي ما كانت لفرد أو لمجموعة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الأفراد على سبيل الاشتراك , وت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صاحبها الاستئثار بمنافعها والتصر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في محلها , كتملك الإنسان للمسك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99"/>
                </a:solidFill>
                <a:latin typeface="Tahoma"/>
                <a:cs typeface="Tahoma"/>
              </a:rPr>
              <a:t>والمرك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19520" y="838080"/>
            <a:ext cx="3504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6666ff">
                      <a:alpha val="50000"/>
                    </a:srgbClr>
                  </a:outerShdw>
                </a:effectLst>
                <a:latin typeface="Arial Black"/>
              </a:rPr>
              <a:t>الملكية الخاص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6666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3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5"/>
            </a:gs>
            <a:gs pos="100000">
              <a:srgbClr val="fa9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9144000" cy="5943600"/>
          </a:xfrm>
          <a:prstGeom prst="bevel">
            <a:avLst>
              <a:gd name="adj" fmla="val 5477"/>
            </a:avLst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507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لا حد لما يمتلكه الإنسان ,  ما دام تملكه من خل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 الوسائل المشرو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حق كامل يشتمل على جميع الأعي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والحقوق والمنافع والمزايا التي تمنحها الشريعة لصاحب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تمكن صاحبها من التصرف فيها كيف يشاء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ما لم يكن تصرفه ممنوعاً شرعاً كالأضرار بالغي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الخاصة تعتبر حقاً دائماً لصاحبها , لا تزول ع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بحال من الأحوال إلا برضاه ما لم يكن هناك مصالح معت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شرعاً كشفعة مثلا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5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الملكية تخول صاحبها التبرع مما يملك دون تحديد أو تقيي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 ما دام أنه في قواه المعتبرة شرعا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6</a:t>
            </a: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- من خصائص الملكية الخاصة أنها تؤدي إلى النم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  <a:ea typeface="Tahoma"/>
              </a:rPr>
              <a:t>    الاقتصا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52480" y="1522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خصائص الملكية الخاصة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heel spokes="8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152280"/>
            <a:ext cx="8029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أهمية إقرار الملكية الخاصة تظهر في الأمور الآتية :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3880"/>
            <a:ext cx="784872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تحقيق حاجة الإنسان , وما تتطلبه الحياة الكري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29600" y="1752480"/>
            <a:ext cx="77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أول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05720" y="4952880"/>
            <a:ext cx="77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رابع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43800" y="2819520"/>
            <a:ext cx="77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ثاني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629400" y="3886200"/>
            <a:ext cx="771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ثالثاً 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666880"/>
            <a:ext cx="647676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عمارة الأرض واستغلال موارد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886200"/>
            <a:ext cx="3429000" cy="76212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إعداد القو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800600"/>
            <a:ext cx="5029200" cy="914400"/>
          </a:xfrm>
          <a:prstGeom prst="ellipse">
            <a:avLst/>
          </a:prstGeom>
          <a:gradFill rotWithShape="0">
            <a:gsLst>
              <a:gs pos="0">
                <a:srgbClr val="fa90d4"/>
              </a:gs>
              <a:gs pos="50000">
                <a:srgbClr val="ccff66"/>
              </a:gs>
              <a:gs pos="100000">
                <a:srgbClr val="fa90d4"/>
              </a:gs>
            </a:gsLst>
            <a:lin ang="54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  <a:cs typeface="Tahoma"/>
              </a:rPr>
              <a:t>البذل والإنفاق في أوجه البِ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0-11T21:21:3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