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812-BA3E-4A6C-BAF3-91867CB4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D99-4095-4D81-B7EF-E111464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9EA-C731-44E9-9896-1911B15A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BC5-A6B8-433A-984F-0E2F381C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C92-FD1F-4130-A03B-4953407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FF2-6F0A-4D88-A039-B9BE79E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174-AF7E-49BE-9EFD-5524F6C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507-21E9-4C2A-964C-326B4739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D71-CF45-4A73-BF5A-54C20EF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FF0-040B-40CE-AAB4-902184D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A9D-36A4-46D8-8079-926ED21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DBF-8D5E-4FE6-B312-BB242FAC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2ED-66F3-4216-BF9F-67ECA3560D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1"/>
          <p:cNvGrpSpPr/>
          <p:nvPr/>
        </p:nvGrpSpPr>
        <p:grpSpPr>
          <a:xfrm>
            <a:off x="536400" y="2148120"/>
            <a:ext cx="8120160" cy="1434600"/>
            <a:chOff x="536400" y="2148120"/>
            <a:chExt cx="8120160" cy="1434600"/>
          </a:xfrm>
        </p:grpSpPr>
        <p:pic>
          <p:nvPicPr>
            <p:cNvPr id="42" name="عنوان 1" descr=""/>
            <p:cNvPicPr/>
            <p:nvPr/>
          </p:nvPicPr>
          <p:blipFill>
            <a:blip r:embed="rId1"/>
            <a:stretch/>
          </p:blipFill>
          <p:spPr>
            <a:xfrm>
              <a:off x="536400" y="2322360"/>
              <a:ext cx="8120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2148120"/>
              <a:ext cx="777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17375e"/>
                  </a:solidFill>
                  <a:latin typeface="Monotype Koufi"/>
                  <a:cs typeface="Monotype Koufi"/>
                </a:rPr>
                <a:t>الخلاف في قاعدة تعارض النقل والعق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عنوان فرعي 2"/>
          <p:cNvGrpSpPr/>
          <p:nvPr/>
        </p:nvGrpSpPr>
        <p:grpSpPr>
          <a:xfrm>
            <a:off x="1311120" y="3754440"/>
            <a:ext cx="6516720" cy="853920"/>
            <a:chOff x="1311120" y="3754440"/>
            <a:chExt cx="6516720" cy="853920"/>
          </a:xfrm>
        </p:grpSpPr>
        <p:pic>
          <p:nvPicPr>
            <p:cNvPr id="45" name="عنوان فرعي 2" descr=""/>
            <p:cNvPicPr/>
            <p:nvPr/>
          </p:nvPicPr>
          <p:blipFill>
            <a:blip r:embed="rId2"/>
            <a:stretch/>
          </p:blipFill>
          <p:spPr>
            <a:xfrm>
              <a:off x="1311120" y="3754440"/>
              <a:ext cx="65167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1600" y="3886200"/>
              <a:ext cx="64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898989"/>
                  </a:solidFill>
                  <a:latin typeface="Arial"/>
                  <a:cs typeface="PT Bold Heading"/>
                </a:rPr>
                <a:t>إعداد: وفاء بنت محمد العيس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33"/>
                </a:solidFill>
                <a:latin typeface="Monotype Koufi"/>
                <a:cs typeface="Monotype Koufi"/>
              </a:rPr>
              <a:t>الخلاف في قاعدة تعارض النقل والع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صورة 3" descr="$0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9600"/>
            <a:ext cx="8229600" cy="1432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مثلة لنصوص عرضت بمعارضات عقلي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صورة 3" descr="$1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أبرز أدلة مقدمي العقل على 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صورة 3" descr="$2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رد الإجمالي من وجوه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3" descr="$3$.gif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4:23:48Z</dcterms:created>
  <dc:creator>وفاء بنت محمد العيسى</dc:creator>
  <dc:description/>
  <dc:language>en-US</dc:language>
  <cp:lastModifiedBy>ساره</cp:lastModifiedBy>
  <dcterms:modified xsi:type="dcterms:W3CDTF">2013-03-08T15:14:34Z</dcterms:modified>
  <cp:revision>3</cp:revision>
  <dc:subject/>
  <dc:title>الخلاف في قاعدة تعارض النقل والعقل</dc:title>
</cp:coreProperties>
</file>