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8610-548C-4A1A-8D5C-7507A557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F938-CD27-4C0F-B5FC-3D2CB127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EAE-D1B3-4BB5-98ED-3F955B75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4477-F2BB-4360-A948-BADBD676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93D-9C89-46BB-96B8-B29AC48D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530-C825-4D16-8819-CDA11B71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6971-F58F-4214-8B5E-5A4A51D5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500C-C08C-4527-A7CB-85FB8FCF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509E-3F20-4181-8BE1-799F6F7F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D1AF-700A-41BA-B115-51405DE9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F3C-60B9-4E90-9868-6AF3C415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726-DBF7-4A3F-BDAC-51D5D9BE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932C-283A-451C-BD7A-96129E5DCA4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1"/>
          <p:cNvGrpSpPr/>
          <p:nvPr/>
        </p:nvGrpSpPr>
        <p:grpSpPr>
          <a:xfrm>
            <a:off x="536400" y="2148120"/>
            <a:ext cx="8120160" cy="1434600"/>
            <a:chOff x="536400" y="2148120"/>
            <a:chExt cx="8120160" cy="1434600"/>
          </a:xfrm>
        </p:grpSpPr>
        <p:pic>
          <p:nvPicPr>
            <p:cNvPr id="42" name="عنوان 1" descr=""/>
            <p:cNvPicPr/>
            <p:nvPr/>
          </p:nvPicPr>
          <p:blipFill>
            <a:blip r:embed="rId1"/>
            <a:stretch/>
          </p:blipFill>
          <p:spPr>
            <a:xfrm>
              <a:off x="536400" y="2322360"/>
              <a:ext cx="8120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" y="2148120"/>
              <a:ext cx="7772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17375e"/>
                  </a:solidFill>
                  <a:latin typeface="Monotype Koufi"/>
                  <a:cs typeface="Monotype Koufi"/>
                </a:rPr>
                <a:t>الخلاف في قاعدة تعارض النقل والعقل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عنوان فرعي 2"/>
          <p:cNvGrpSpPr/>
          <p:nvPr/>
        </p:nvGrpSpPr>
        <p:grpSpPr>
          <a:xfrm>
            <a:off x="1311120" y="3754440"/>
            <a:ext cx="6516720" cy="853920"/>
            <a:chOff x="1311120" y="3754440"/>
            <a:chExt cx="6516720" cy="853920"/>
          </a:xfrm>
        </p:grpSpPr>
        <p:pic>
          <p:nvPicPr>
            <p:cNvPr id="45" name="عنوان فرعي 2" descr=""/>
            <p:cNvPicPr/>
            <p:nvPr/>
          </p:nvPicPr>
          <p:blipFill>
            <a:blip r:embed="rId2"/>
            <a:stretch/>
          </p:blipFill>
          <p:spPr>
            <a:xfrm>
              <a:off x="1311120" y="3754440"/>
              <a:ext cx="65167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71600" y="3886200"/>
              <a:ext cx="640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898989"/>
                  </a:solidFill>
                  <a:latin typeface="Arial"/>
                  <a:cs typeface="PT Bold Heading"/>
                </a:rPr>
                <a:t>إعداد: وفاء بنت محمد العيس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9600"/>
            <a:ext cx="8229600" cy="1432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33"/>
                </a:solidFill>
                <a:latin typeface="Monotype Koufi"/>
                <a:cs typeface="Monotype Koufi"/>
              </a:rPr>
              <a:t>الخلاف في قاعدة تعارض النقل والعق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صورة 3" descr="$0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9600"/>
            <a:ext cx="8229600" cy="14324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أمثلة لنصوص عرضت بمعارضات عقلية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صورة 3" descr="$1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61520"/>
            <a:ext cx="8229600" cy="768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أبرز أدلة مقدمي العقل على النق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صورة 3" descr="$2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61520"/>
            <a:ext cx="8229600" cy="768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رد الإجمالي من وجوه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صورة 3" descr="$3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14:23:48Z</dcterms:created>
  <dc:creator>وفاء بنت محمد العيسى</dc:creator>
  <dc:description/>
  <dc:language>en-US</dc:language>
  <cp:lastModifiedBy>ساره</cp:lastModifiedBy>
  <dcterms:modified xsi:type="dcterms:W3CDTF">2013-03-08T15:14:34Z</dcterms:modified>
  <cp:revision>3</cp:revision>
  <dc:subject/>
  <dc:title>الخلاف في قاعدة تعارض النقل والعقل</dc:title>
</cp:coreProperties>
</file>