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E80-59F7-4763-8E3A-13070F5342B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DBBE-4AFB-4B8B-A353-4187F9E7B18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4A01-0AB8-4495-83F5-28C7774756C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49D2-E907-4AF5-B08F-A500C7145FB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DDCE-4F16-4FCD-83F9-41C600F91A4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64D2-6656-4EBA-91E8-00BB888CDBD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0E57-5D0D-4AE9-9CC6-80402635FCD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218A-7EDF-47B9-907B-F2DE7539D22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C6A2-F712-45C9-9DDD-CEEA28DE8D1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798-C55B-4755-A5BA-D321D55A459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AF95-43EA-4C4F-AB37-987683089F2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003F-5631-449D-A8E7-781ACF1C3FF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B3A5-CD8A-42CA-9ECC-B81B93A357C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C155-F16E-408B-B520-57D47C0B389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B8CC-A3BE-4468-98D6-17ED774D201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5D8B-7936-4CEA-BCC9-3CA5A2A34620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E715-EFDB-45B6-A4F4-92CEB37D44E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5ABF-4407-46E1-85DB-29A71F67B10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BFFA-8663-458A-9296-F1E5F4AC8FC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F151-CF17-43AC-9042-98947553E3A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051E-25F8-446F-8041-A9B0F4FF34D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158D-3B2E-420D-A3F4-A61339C5E83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56C-24B5-4495-B9F2-0F80CBC9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2B69-C850-4FF8-A31F-140903DA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524DA-7F16-449A-B4D1-46ECCB06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D8B75-AA85-416E-B1C5-D3B66509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D0B2E-890B-4CB1-90A6-CA255341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850024-2F21-43A9-AA9B-B78AC81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77B782-76E9-43F4-AD8A-518A50C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CEDD83-D7DC-423E-9958-3B066EAF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939371-CEB8-40B4-950F-354D86D8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314A9-A64F-4ACC-A63E-B3758721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11BA1-1576-491E-94AF-E02E91A5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A6667-662C-437D-8B8D-E7934578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3BF-66F2-49D9-8960-7A7504F8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B94BD-4090-4A7D-AEFC-87DA6EC6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51D46-D4FD-4371-9700-639A9D59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02E802-5A4E-4E61-9D47-42FB6A67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C1A1D-9718-437B-B5EB-6BDE0CE0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F4E9A4-133A-43D0-A585-05B553E2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665C3-472A-4049-A4E2-8A2A92E6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33D6C-8FF1-4696-887B-915CC840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326A0-8174-4E19-85F1-788342C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4FF89-D7ED-48C7-A3A6-57C3D506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FD8C4-B45D-42FE-86E4-3D9C9848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AF3-756D-447C-A6F5-DF24B180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F5B3E0-D044-4F43-B866-C0E503F9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62411-35C0-49A6-886B-7252EF55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72741-7EB0-4152-BA5B-EC182474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C249F-DEE2-4E41-B3E7-BDA3B048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C3362-D511-470A-87D9-9B8CC342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BC79E-502C-4754-8844-659983BD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9A02C-9871-427C-A3C4-CC23DE05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2B825-0717-4A18-AEAE-FDE3A40C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5CBA2-EDE5-45E3-9F3D-E36EC0E0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700D0-48F4-4155-8675-30EDA1E6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CDBD-247B-4FD1-A512-66E6A064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0B312-05A7-4CA1-8499-8430FA01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EE695-EDA2-48CA-9699-8ABFBDA4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D2C41-7DF7-4A0B-8C99-8A526A5C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9E7526-A0FC-4157-B1A0-8251DB79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DF42D5-6754-4A21-AA57-B55819EB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61EC26-4434-4FC7-AF09-97A95A6C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70B09-49CF-46CC-8AA8-172249DA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521AF-6F73-4113-B5D2-B92A5048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A5990-B10C-4ECD-A41E-09F5CAFD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77B109-F62F-4E4D-9A99-93D8B5B4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FFBB-7C81-46C1-BB8E-D67B1BC3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FA8DD-94A9-4172-9CFE-E0027E41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67EDB-3FA8-4790-83E8-8F0C3379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9B2155-7417-47A1-87BE-2715BCDB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A760DB-2927-4DEC-AD31-97FEB73F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A9E83-88C8-4C37-AE0D-57242571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FE9A-7634-4376-809B-1D670F52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9FF0-3420-477A-9724-4C641C56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3BBE-86CE-485E-80DC-0929A143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901D-F1BE-4285-895C-EFE074D0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6FAA-D280-405E-B456-639832B1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459-9737-461C-80A9-7DC83F53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254D-39ED-42CE-AAD9-020C13A5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080F-9D52-44D4-81C6-7156D674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5059-7818-4A7F-BE23-911F2225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D9B2-152D-4BD1-93DB-2A59F85D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AA16-C20A-4A72-9D35-75B86E9E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0F50-1F48-46D0-8084-450B9D88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BE1A-E69D-4649-949C-F698293B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27FF-F4D9-4A12-ACEF-38A209D6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75BF-064B-425A-AC99-16331AB5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0F1C-01BB-4F0C-B2AC-30B010C7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F0F-A11F-480C-A831-890EBA16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EA62-6383-4B3F-AAEF-4B37AC77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CB55D-9986-4F87-9EDC-55767149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1F14-6FC2-4013-BA6E-C088EF0A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CF366-7261-42CB-B025-3CA68DBB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786E-B663-4165-ACB4-817B2875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7B5B5-5918-4185-A38C-9512A0AD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EEF40-DDAE-4F26-A552-29A4259C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9A5D-24CA-4961-B773-5A1B5F2D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2C0BE-9923-4E5D-B1E7-CD13B1D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67EC0-AB5A-4946-8D22-304B32E1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FAF-69FC-43CD-9DAD-220B8ECD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F1A7C-1163-4423-BC5D-E56DC3EA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2E9E-0435-453E-A1C1-C29EF7F1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EDDE-8C03-4B51-BF50-1F41DC5C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21F1-196F-4F7F-A7E3-347959E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4C2D-4A10-4E95-BE34-CB94AF14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CC7C4-32F4-441C-80EE-315973C9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C43F-ECE4-4EA0-A9C2-4EC8F1D3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4E68C-F39F-42D6-AEE1-CE73BDFB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21256-D595-4F6B-B1EC-23B409EC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0F7F5-2E52-4FD8-882B-C0CA620C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F4E3-E3F1-4EC5-B4CC-9863340E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31D06-C466-4261-B494-0990A520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087CD-B1A9-48B0-8D3A-B4B5C43E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D098-D3DA-4B93-81F9-10EC9932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B33F-CBA5-475A-8AEA-0A2D627F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E167E-4EFD-4903-919C-746264CC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5D538-2A74-4D07-BA7A-7CD6DF9F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16C26-0839-45B7-80AD-61B06AA7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5D349-8627-4E58-941C-64585D33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3503A-701A-4950-A759-20936249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28EE-5F60-46A4-85FE-B351CEE1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570-D2C2-4CC7-9553-EB6CAA19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4A9A6-DFFE-4B2A-A9FA-6E9E51BD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9F100-1B82-4AF0-984D-7DE591D1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C2895-6125-4D1A-86AA-4962EB4E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70E5C-F260-49F8-8CCE-7A909889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C4484-0477-4DBA-9109-B8E4B3EC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4F927-2756-4F94-AD53-31F0B9D9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400F4-9726-4CCE-B97B-7CAE3F12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533E5-E249-4BE5-AC62-D6F235F1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F064B-9CD1-4CAD-AE95-060F9E9A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E5EC3-89AC-4B48-BA82-E83DE521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4432-CFCA-491B-B619-E773363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6B0B-0245-4B5C-812C-D6CAF8C0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6DCAD-EAF3-4E04-8A05-611F31AD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09B5D-90C9-4581-AC6E-3DBF7985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548FA-1A72-4325-B9DB-C0214698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330ED-3BCE-496E-96E1-E4FA13D3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5FBB5-D4E5-4A14-9A84-C74C32A9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5DF34-B738-4AF1-895D-B5CCD43D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A57E7-1698-4764-8D9E-B1AABDDF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62B71-812D-4D8E-818C-D45DBE8D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F4A76-E9B8-458C-BD1D-286C0590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C7BE-8499-4E42-AB5E-8FDF5B8C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E70FF-8DFE-4AD2-BAA0-6C4DE6E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85D6-8700-4B62-ACA8-EC99907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52E3-E2DC-417A-8984-188A076D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B6367-9324-4C47-965D-178ED40D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78E29-1EE5-486D-B9D1-22A1272D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3B350-97A4-4A89-91BA-C61688BB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2D03A-AE09-4F5B-8DA4-A3B9D083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525F-7B95-481D-8501-BA71A7B5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844E8-4E3B-473C-AB60-5B8D361F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7B642-DDA4-4634-B19A-04C811D9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7510-6A28-4AC9-B168-EB51684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6E0F6-A56A-4CCD-A8AE-184D2AFB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7A2CB-177D-4FC0-B1CD-03F3C7C4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26A64-3E0E-4ED4-BD9B-CCAA1052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C5F4F-A4BB-4295-B308-4499AC1B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72885-7587-4374-B4EA-70B3A175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62F5B-24BA-4DA8-B616-18EEDDD7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FB622-38F9-43C1-9911-02EF8DA5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1EF1B6-D817-48CB-9A94-B9F93393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ECA0C-8E09-4DD4-9107-254ECEE2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25B36-2F55-4D33-99A9-C833EE06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E5D-3A38-4244-A522-21BCA806E232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2270-A68A-4745-90D3-C3B0912844E4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64BF-7DEA-4813-883F-0F6119018FA5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6693-7ED5-461B-AC98-C5901B69C938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A08C-3B5F-440B-88C0-EA98E12BEE86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2BFA-AA0E-4881-879C-575B323C40DD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B3E9-8D1C-43D5-A28A-657EB458E0D0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2445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F13F-2618-4C11-964D-214AE8936C36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2445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FDF5-03D7-49A0-AA64-07FDEFDB4B03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3AF3-E843-43E1-8FDD-C3CF9660EE8B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D5A-7F33-4C5C-80A0-433E73AA18B6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c438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c4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c438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43808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a04da3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c465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b5d3d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8c438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F128-4250-4DD8-9D6A-CCC745197F84}" type="slidenum">
              <a:rPr b="0" lang="ar-SA" sz="1600" spc="-1" strike="noStrike">
                <a:solidFill>
                  <a:srgbClr val="8c438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71320" y="1071720"/>
            <a:ext cx="78548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424456"/>
                </a:solidFill>
                <a:latin typeface="Georgia"/>
              </a:rPr>
              <a:t>المحاضرة الثانية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539280" y="2491920"/>
            <a:ext cx="7851960" cy="39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53548a"/>
                </a:solidFill>
                <a:latin typeface="Georgia"/>
              </a:rPr>
              <a:t>أهمية وشرف مهنة التدريس</a:t>
            </a:r>
            <a:br>
              <a:rPr sz="4000"/>
            </a:br>
            <a:r>
              <a:rPr b="0" lang="ar-SA" sz="4000" spc="-1" strike="noStrike">
                <a:solidFill>
                  <a:srgbClr val="53548a"/>
                </a:solidFill>
                <a:latin typeface="Georgia"/>
              </a:rPr>
              <a:t>أخلاق مهنة التدريس</a:t>
            </a:r>
            <a:br>
              <a:rPr sz="4000"/>
            </a:br>
            <a:r>
              <a:rPr b="0" lang="ar-SA" sz="4000" spc="-1" strike="noStrike">
                <a:solidFill>
                  <a:srgbClr val="53548a"/>
                </a:solidFill>
                <a:latin typeface="Georgia"/>
              </a:rPr>
              <a:t>صفات المعلم</a:t>
            </a:r>
            <a:br>
              <a:rPr sz="4000"/>
            </a:br>
            <a:r>
              <a:rPr b="0" lang="ar-SA" sz="4000" spc="-1" strike="noStrike">
                <a:solidFill>
                  <a:srgbClr val="53548a"/>
                </a:solidFill>
                <a:latin typeface="Georgia"/>
              </a:rPr>
              <a:t>الخصائص الشخصية في مهنة التعليم</a:t>
            </a:r>
            <a:br>
              <a:rPr sz="6000"/>
            </a:br>
            <a:endParaRPr b="0" lang="en-US" sz="4000" spc="-1" strike="noStrike">
              <a:solidFill>
                <a:srgbClr val="8c438f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28760" y="1999800"/>
            <a:ext cx="82296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المدرسة والبيت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ثقة المتبادلة , واحترام التخصص والأخوة المهنية, هي أسس العلاقات بين المعلم وزملائ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شريك الوالدين في التربية , لذا يحرص على توطيد العلاقة بين البيت والمدرس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يؤدي العاملون في مهنة التعليم واجباتهم , ويصبغون سلوكهم بهذه المبادئ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8c438f"/>
                </a:solidFill>
                <a:latin typeface="Georgia"/>
              </a:rPr>
              <a:t>  صفات المعلم:</a:t>
            </a:r>
            <a:endParaRPr b="0" lang="en-US" sz="4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34" name="Content Placeholder 3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8242560" cy="483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 أولا: الصفات العقائدية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تقوى الله وإخلاص العمل لله هي من أهم الصفات العقائد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بعد عن الرياء لأنه يحبط العمل ويضيع الأجر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إيمان الراسخ بعقيدة الدولة التي يعمل في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رغبة في الدعوة لما يؤمن به ونشره بين الناس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الإخلاص في العمل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38" name="Content Placeholder 3" descr="كاريكتير5.jpg"/>
          <p:cNvPicPr/>
          <p:nvPr/>
        </p:nvPicPr>
        <p:blipFill>
          <a:blip r:embed="rId1"/>
          <a:srcRect l="3493" t="3005" r="3493" b="3136"/>
          <a:stretch/>
        </p:blipFill>
        <p:spPr>
          <a:xfrm>
            <a:off x="900000" y="1844640"/>
            <a:ext cx="72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 ثانيا: الصفات الخلقية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صدق في القول والعمل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رحمة والرفق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تواض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صبر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أمان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عدل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6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6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6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6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الرحمة والرفق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42" name="Content Placeholder 3" descr="كاريكتير6.jpg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8c438f"/>
                </a:solidFill>
                <a:latin typeface="Georgia"/>
              </a:rPr>
              <a:t>  ثالثا: الصفات الجسمية</a:t>
            </a:r>
            <a:endParaRPr b="0" lang="en-US" sz="54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19159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صفة عامة بصحة جيدة, بالإضافة لخلو جسمه من الأمراض المزمنة أو الخطير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خلو جسم المعلم من العاهات الظاهرة, التي تؤثر على حالته الصح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هتمام المعلم بمظهره الخارجي, اهتماما منسجما مع تقاليد وعادات البلد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كون المعلم قدوة حسنة لتلاميذه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98960" indent="-4989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 الاهتمام بالمظهر والقدوة الحسنة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46" name="Content Placeholder 3" descr="عودة المعلمين.jpg"/>
          <p:cNvPicPr/>
          <p:nvPr/>
        </p:nvPicPr>
        <p:blipFill>
          <a:blip r:embed="rId1"/>
          <a:stretch/>
        </p:blipFill>
        <p:spPr>
          <a:xfrm>
            <a:off x="974880" y="1547640"/>
            <a:ext cx="7346880" cy="469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خلو الجسم من الأمراض المزمنة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48" name="Content Placeholder 3" descr="كاريكتير3.jpg"/>
          <p:cNvPicPr/>
          <p:nvPr/>
        </p:nvPicPr>
        <p:blipFill>
          <a:blip r:embed="rId1"/>
          <a:stretch/>
        </p:blipFill>
        <p:spPr>
          <a:xfrm>
            <a:off x="1258920" y="1700280"/>
            <a:ext cx="6697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8c438f"/>
                </a:solidFill>
                <a:latin typeface="Georgia"/>
              </a:rPr>
              <a:t>  رابعا: الصفات العقلية والنفسية</a:t>
            </a:r>
            <a:endParaRPr b="0" lang="en-US" sz="54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قدر من الذكاء والفطنة تمكنه من التصرف بحكمة في المواقف المختلف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قدر من الثقافة العامة في شتى مجالات المعرف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تمتع المعلم بقدر مرتفع من فهم الذات والرضا عن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سنتعرف في هذه المحاضرة على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207144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همية وشرف مهنة التدري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خلاق مهنة التدريس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تعليم رسال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وطلاب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والمجتم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رقيب نفس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درسة والبيت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8c438f"/>
                </a:solidFill>
                <a:latin typeface="Georgia"/>
              </a:rPr>
              <a:t>  خامسا: الصفات الأكاديمية والمهنية</a:t>
            </a:r>
            <a:endParaRPr b="0" lang="en-US" sz="54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معرفة واسعة وعميقة في مجال المادة الدراسية التي يقوم بتدريس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المعلم بفهم كامل للأسس النفسية للتعلم, وخصائص المتعلمين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لم المعلم بالطرق والأساليب المختلفة للتدريس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ن يتمتع بقدر من المهارات التدريس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6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الخصائص الشخصية في مهنة التعليم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اهتمام بالآخرين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قوة الملاحظ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حكمة فالتصرف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قوة الشخص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قدوة الحسن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8c438f"/>
                </a:solidFill>
                <a:latin typeface="Georgia"/>
              </a:rPr>
              <a:t>  تابع الخصائص الشخصية في مهنة التعليم:</a:t>
            </a:r>
            <a:endParaRPr b="0" lang="en-US" sz="4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قدرة على اتخاذ القرار الصحيح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سعة الإطلا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حترام الطلاب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رضا عن النفس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قدرة على الإعتراف بالخطأ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تحلي بأخلاق المهن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r" rtl="1">
              <a:spcBef>
                <a:spcPts val="799"/>
              </a:spcBef>
              <a:buClr>
                <a:srgbClr val="a04d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من هدى عمر بن الخطاب في التربية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58" name="Content Placeholder 3" descr="عمر بن الخطاب.jpg"/>
          <p:cNvPicPr/>
          <p:nvPr/>
        </p:nvPicPr>
        <p:blipFill>
          <a:blip r:embed="rId1"/>
          <a:stretch/>
        </p:blipFill>
        <p:spPr>
          <a:xfrm>
            <a:off x="2021040" y="1755720"/>
            <a:ext cx="50670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وقفة للنقاش: هل نحب المدارس؟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60" name="Content Placeholder 3" descr="كاريكتير.jpg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باصات اليابان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62" name="Content Placeholder 3" descr="باصات1.jpg"/>
          <p:cNvPicPr/>
          <p:nvPr/>
        </p:nvPicPr>
        <p:blipFill>
          <a:blip r:embed="rId1"/>
          <a:stretch/>
        </p:blipFill>
        <p:spPr>
          <a:xfrm>
            <a:off x="3419640" y="4005360"/>
            <a:ext cx="2611440" cy="2135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باصات2.jpg"/>
          <p:cNvPicPr/>
          <p:nvPr/>
        </p:nvPicPr>
        <p:blipFill>
          <a:blip r:embed="rId2"/>
          <a:stretch/>
        </p:blipFill>
        <p:spPr>
          <a:xfrm>
            <a:off x="6300720" y="4005360"/>
            <a:ext cx="2538360" cy="21351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5" descr="باصات3.jpg"/>
          <p:cNvPicPr/>
          <p:nvPr/>
        </p:nvPicPr>
        <p:blipFill>
          <a:blip r:embed="rId3"/>
          <a:stretch/>
        </p:blipFill>
        <p:spPr>
          <a:xfrm>
            <a:off x="395280" y="1700280"/>
            <a:ext cx="2771640" cy="208908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6" descr="باصات4.jpg"/>
          <p:cNvPicPr/>
          <p:nvPr/>
        </p:nvPicPr>
        <p:blipFill>
          <a:blip r:embed="rId4"/>
          <a:stretch/>
        </p:blipFill>
        <p:spPr>
          <a:xfrm>
            <a:off x="395280" y="4005360"/>
            <a:ext cx="2808360" cy="22082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7" descr="باصات5.jpg"/>
          <p:cNvPicPr/>
          <p:nvPr/>
        </p:nvPicPr>
        <p:blipFill>
          <a:blip r:embed="rId5"/>
          <a:stretch/>
        </p:blipFill>
        <p:spPr>
          <a:xfrm>
            <a:off x="6227640" y="1700280"/>
            <a:ext cx="2665440" cy="20890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8" descr="باصات6.jpg"/>
          <p:cNvPicPr/>
          <p:nvPr/>
        </p:nvPicPr>
        <p:blipFill>
          <a:blip r:embed="rId6"/>
          <a:stretch/>
        </p:blipFill>
        <p:spPr>
          <a:xfrm>
            <a:off x="3419640" y="1700280"/>
            <a:ext cx="259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مدارسنا الجميلة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69" name="Content Placeholder 3" descr="مدارس.jpg"/>
          <p:cNvPicPr/>
          <p:nvPr/>
        </p:nvPicPr>
        <p:blipFill>
          <a:blip r:embed="rId1"/>
          <a:stretch/>
        </p:blipFill>
        <p:spPr>
          <a:xfrm>
            <a:off x="395280" y="1700280"/>
            <a:ext cx="2736720" cy="194472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" descr="مدارس2.jpg"/>
          <p:cNvPicPr/>
          <p:nvPr/>
        </p:nvPicPr>
        <p:blipFill>
          <a:blip r:embed="rId2"/>
          <a:stretch/>
        </p:blipFill>
        <p:spPr>
          <a:xfrm>
            <a:off x="6300720" y="3933720"/>
            <a:ext cx="2467080" cy="2279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مدارس3.jpg"/>
          <p:cNvPicPr/>
          <p:nvPr/>
        </p:nvPicPr>
        <p:blipFill>
          <a:blip r:embed="rId3"/>
          <a:stretch/>
        </p:blipFill>
        <p:spPr>
          <a:xfrm>
            <a:off x="3348000" y="170028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6" descr="مدارس4.jpg"/>
          <p:cNvPicPr/>
          <p:nvPr/>
        </p:nvPicPr>
        <p:blipFill>
          <a:blip r:embed="rId4"/>
          <a:stretch/>
        </p:blipFill>
        <p:spPr>
          <a:xfrm>
            <a:off x="6300720" y="1700280"/>
            <a:ext cx="2538360" cy="1920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7" descr="مدارس5.jpg"/>
          <p:cNvPicPr/>
          <p:nvPr/>
        </p:nvPicPr>
        <p:blipFill>
          <a:blip r:embed="rId5"/>
          <a:stretch/>
        </p:blipFill>
        <p:spPr>
          <a:xfrm>
            <a:off x="395280" y="3933720"/>
            <a:ext cx="2766960" cy="22892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8" descr="مدارس6.png"/>
          <p:cNvPicPr/>
          <p:nvPr/>
        </p:nvPicPr>
        <p:blipFill>
          <a:blip r:embed="rId6"/>
          <a:stretch/>
        </p:blipFill>
        <p:spPr>
          <a:xfrm>
            <a:off x="3348000" y="3933720"/>
            <a:ext cx="273672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 الواجب المنزلي (نشاط</a:t>
            </a: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2</a:t>
            </a: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)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071360" y="1935000"/>
            <a:ext cx="761508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كتبي بحثا لا يتجاوز </a:t>
            </a: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صفحات عن أسلوب النبي صلى الله عليه وسلم في التربية , مدعمة قولك بالأدلة ؟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أذكري المراجع والمواقع الالكترونية المحكمة؟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45520" indent="-24552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أضيفي وجهة نظرك في نهاية البحث؟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8c438f"/>
                </a:solidFill>
                <a:latin typeface="Georgia"/>
              </a:rPr>
              <a:t>سنتعرف في هذه المحاضرة على:</a:t>
            </a:r>
            <a:endParaRPr b="0" lang="en-US" sz="33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53964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صفات المعلم: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صفات العقائد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الصفات الخلق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صفات النفس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صفات العقلية والنفس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صفات الاكاديمية والمهنية.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Georgia"/>
              </a:rPr>
              <a:t> الخصائص الشخصية في مهنة التعليم</a:t>
            </a: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 </a:t>
            </a:r>
            <a:r>
              <a:rPr b="0" lang="ar-SA" sz="3000" spc="-1" strike="noStrike">
                <a:solidFill>
                  <a:srgbClr val="8c438f"/>
                </a:solidFill>
                <a:latin typeface="Georgia"/>
              </a:rPr>
              <a:t>أهمية وشرف مهنة التدريس:</a:t>
            </a:r>
            <a:endParaRPr b="0" lang="en-US" sz="30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ضرورة من ضروريات الاجتماع البشري وصانع حضارت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هنة الوحيدة التي تتحمل مسئولية تنشئة الفرد ,وبناء شخصيته,وتنمية مهاراته,وتكوين اتجاهات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هي المهنة الأم التي تسبق جميع المهن الأخرى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شرف مهنة التدريس يستمد قوته من شرف الرسالة فلهما نفس الهدف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هذه المهنة العظيمة هي مهنة الأنبياء والمرسلين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من علم الناس الخير وحذرهم من الشر هو من ورثة الأنبياء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457560" indent="-457560" algn="r" rtl="1">
              <a:spcBef>
                <a:spcPts val="675"/>
              </a:spcBef>
              <a:buClr>
                <a:srgbClr val="53548a"/>
              </a:buClr>
              <a:buSzPct val="8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300" spc="-1" strike="noStrike">
              <a:solidFill>
                <a:srgbClr val="8c438f"/>
              </a:solidFill>
              <a:latin typeface="Georgia"/>
            </a:endParaRPr>
          </a:p>
        </p:txBody>
      </p:sp>
      <p:pic>
        <p:nvPicPr>
          <p:cNvPr id="622" name="Content Placeholder 3" descr=""/>
          <p:cNvPicPr/>
          <p:nvPr/>
        </p:nvPicPr>
        <p:blipFill>
          <a:blip r:embed="rId1"/>
          <a:stretch/>
        </p:blipFill>
        <p:spPr>
          <a:xfrm>
            <a:off x="291960" y="1517760"/>
            <a:ext cx="852336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68360" y="191592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التعليم رسالة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تعليم مهنة ذات قداسة خاصة, توجب القائمين بها بأداء حق الانتماء إلي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صاحب رسالة يستشعر عظمتها, ويؤمن بأهميت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عتزاز المعلم بمهنته وتصوره الدائم لرسالته ينأيان به عن مواطن الشبهات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53548a"/>
              </a:buClr>
              <a:buSzPct val="85000"/>
              <a:buFont typeface="Georg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68360" y="177336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المعلم وطلابه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علاقة بين المعلم وطلابه صورة من علاقة الوالد بأبنائ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قدوة لطلابه خاصة وللمجتمع عام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أحرص الناس على نفع طلاب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دؤوب في عطائه ورقابته وتقويمه لأداء طلابه بعدل وإخلاص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31840" indent="-2318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سعي المعلم الدائم لترسيخ مواطن الإتفاق والتعاون والتكامل بين طلاب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 المعلم والمجتمع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موضع إحترام المجتمع واحترامه وثقته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تسعى الجهات المختصة لتوفير أكبر قدر ممكن من الرعاية للعاملين في مهنة التعليم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صاحب رأي وموقف من قضايا المجتمع ومشكلاته المختلف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المعلم مؤمن بتميز هذه الأمة بالأمر بالمعروف والنهي عن المنكر بلين من غير ضعف , وشدة من غير عنف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 rtl="1">
              <a:buClr>
                <a:srgbClr val="8c438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8c438f"/>
                </a:solidFill>
                <a:latin typeface="Georgia"/>
              </a:rPr>
              <a:t> أخلاق مهنة التدريس</a:t>
            </a:r>
            <a:endParaRPr b="0" lang="en-US" sz="4900" spc="-1" strike="noStrike">
              <a:solidFill>
                <a:srgbClr val="8c438f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8360" y="177300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Georgia"/>
              </a:rPr>
              <a:t>المعلم رقيب نفسه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يدرك أن الرقيب الحقيقي على سلوكه بعد الله تعالى هو ضمير يق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في مجال تخصصه طالب علم وباحث, لايدخر وسعا في التزود من المعرف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يساهم المعلم في كل نشاط يحسنه وفي كل موقف يسلكه لتربية سليم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 algn="r" rtl="1">
              <a:spcBef>
                <a:spcPts val="799"/>
              </a:spcBef>
              <a:buClr>
                <a:srgbClr val="53548a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eorgia"/>
              </a:rPr>
              <a:t> المعلم يدرك أن تعلمه عبادة, وتعليمه الناس زكا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5:55:01Z</dcterms:created>
  <dc:creator>( أبــو صــخــر)</dc:creator>
  <dc:description/>
  <dc:language>en-US</dc:language>
  <cp:lastModifiedBy>toshiba</cp:lastModifiedBy>
  <dcterms:modified xsi:type="dcterms:W3CDTF">2012-09-21T14:07:23Z</dcterms:modified>
  <cp:revision>67</cp:revision>
  <dc:subject/>
  <dc:title>صفات المعلم</dc:title>
</cp:coreProperties>
</file>