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2FE0-9F93-410D-929C-55FE1DF005F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0AC7-B209-4DE2-8D1B-5ED18090205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1D67-CC2F-4DED-8466-62D7A1AA671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74CD-B671-40AD-A07B-8BB7F36ADEF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17B5-AC90-4CDC-A346-D989A0F9846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4085-E2CC-46B4-895A-2625EE5267E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E49F-4EE2-448D-91C6-AA1B5572A3B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7F00-36F6-4FAF-AC7A-DC30B9008DF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F1D2-2278-4745-B28F-6723F753284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585A-BAC6-4050-BE76-3FC1D2E1112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A712-0909-475D-A1C4-A2259B4B6E4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8446-B41D-491F-A5E7-93A6424F559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F02C-7F20-427C-A47A-D5F67EC3E2E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AEB8-5B91-4EDE-96CD-430CB804CC1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668C-136E-4C34-B93C-580A3F138EE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6BEF-D975-454C-BC61-BFF943C0010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EC41-E8F5-4AD4-A593-4CD89A1283E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E3AB-4985-48DF-B1E0-4BFEABCD1A4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14DA-9C6B-434C-B05A-8177916D0CB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FF71-0DC1-4FE6-A742-A053DDDC2ED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D5F7-AF41-4061-AF81-806563A540C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96C4-1CAA-4BBA-84EA-1A7921E3BA6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F62-E1CF-4F41-8004-D1DBC496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D67-D71A-4785-B8ED-CC8A38D0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B732F-2A27-4B2D-99EA-A92B7A9B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E0EC4-17C4-49A9-B7DA-7BEC6AE0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14312-A4DE-4235-B580-AC429EA1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0E60A-6B58-44D2-B933-BD779AC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4D5F9-D009-4CAB-8249-DAF98C79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08D2D-0C44-4009-B2EC-35649281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BFCEE-E713-416F-9973-83B71A00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B10C0-1A84-41AA-972E-E551D674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A14AC-AC74-4325-B996-06B1D7DA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CBED6-2F53-4F8D-855B-37865F12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9D0-71B0-40BC-80DE-35EAFC2D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E3C51-08E1-46C2-AA85-C9F1080C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0A6EB-A20A-4BE3-83E3-9647D94F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9CF43-F8FF-4385-9AF5-120CA24A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65BC5-6711-4C15-932C-151256C5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EF97E-1D58-453E-AACE-7D63E14C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9FB11-DAB3-44D9-A795-49B74147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0AAB3-6F2E-445F-8C0A-C41397CE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9EC82-8187-43E2-9C36-0370E419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5FD3F-E837-4E3F-8D5F-243F62E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25CA2-11A7-4923-BAEE-F6B8D1EA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29E-196A-4226-BBA2-37F29B13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0ACCE-6DCC-411B-84DD-EA9A9A8C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0EDED-A718-486A-B84F-6FAA7B1C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98795-CF3E-4BC6-8D19-E3B13A91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D340D-8CD9-4722-A5ED-F8C808C5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2DE71-FDCD-41B7-8ED1-F9980CE7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C76CE-ABB9-4ED4-9A03-39650D50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E0C70-054E-48ED-ABAD-104B82F4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8D5A8-3269-4098-8E5E-ED59F8A0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769D4-F557-431C-8962-C3D163D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D30C6-510A-4910-8D97-3D38E4EA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4884-D1B8-494E-94B8-3776F0D0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79C3E-A382-43D1-B45E-E260F9D8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4CCAF-367D-4E4F-ABB7-6DB41813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A8D24-8B9C-405C-A874-61089BB9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2C455-1148-42FF-8B35-F0589F8F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F46FC-1161-4E86-9C27-07984F5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290E4-AF83-4E4F-9355-6C65B0A6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299F1-71BE-4283-A8BD-2EDD0A7D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504EB-2748-4A00-A2F2-3CA72C18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932B2-CF9F-4986-A3FE-FED7F2D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A6DA8-2600-4168-A6C6-259777DC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0FED-F6C8-4A7A-87B2-39906BF7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B171A-D72B-406C-800F-21A9CEB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DB550-C0FE-40A7-8FA7-06D67CD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120DB-0D09-4AE9-9B50-8670C7F9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21D21-8193-4F53-AE66-B003821B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4116E-1182-461A-915C-6F6C5BC9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2FB6-0194-4F1A-80ED-4851D39B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4314-F9FD-40FC-8B7F-C74A76D3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436A-4C0E-4407-86BB-5B8218B4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F382-F2B1-4DD9-9414-EF2E2FB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97DE-A327-4E6D-A4B9-A4D88A0E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A31-0A61-458D-8059-1A092DD7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A855-F5BA-4461-9271-899FBFB2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EC06-71B3-4745-9D74-227373D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AD78-BD60-4986-A053-88196485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C360-6E20-439A-9EE9-8873EEAA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5167-81D5-40CA-9026-365A4365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54A8-B4CF-4DE0-A294-B8139F81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D946-DFC5-45B9-851F-180B976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2709-0908-4974-9CD7-B9993DCA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2958-9D93-41EC-8235-2AA7F07D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4F97-92B2-41EB-BF6D-D18D3F16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D5E-7B75-4842-8CC7-CF736513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2C0A-B304-47A4-B6C6-4E817A30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7F54-E07E-4377-91CE-CAA28C3E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FA3C-719C-4906-B777-E812A3C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4633-4806-4F6E-8446-68957CC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764A-9E8C-402B-A183-8BC8F025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FDCB-3EB6-4212-B5DF-1AD73926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B446-F464-43C8-8073-281596E8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A832-1E4A-40B5-B975-4E995ACF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DE0A-0E65-4547-8A7B-9DB2BE05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DDB7-FBF8-470E-AC33-3C95449E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A02-983D-4F1C-8AB8-CE539DF9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5DBD-2AA0-4F68-AF17-F684F709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5142-EAA7-4C95-8396-8D0BA6E9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88C2-EB96-4498-B4A8-052EF622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145D-D551-42DB-9720-AE9F99D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667B-FD0C-4B81-B887-2A2177F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5B58-D102-4FCC-ACE4-F1693DA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B5428-2F27-4ED1-92DB-758BB2AB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99761-1426-4F70-A0FE-DD54EF18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1997C-8E03-4ABE-97A4-9927DD44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A28D2-1C11-42A0-8112-022A091D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A32-1409-46A0-B306-CA418F2B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08D57-1C77-4FB7-9577-E0F1EAA5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BE72-53CF-4F61-B8FE-BA42BC11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49740-7545-40F6-9A78-FAE6B92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F957-1B75-48CA-974C-03148030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1B2B-1620-4924-92CB-226094F4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AFCEE-D8F4-45DE-B47A-2964757A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82E9-E1CB-41C2-B778-AA885696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EC9A3-D226-4FB3-83FA-5FB8CB4F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E0AEF-0283-4D09-9137-26BAF352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D5C3-8048-4C91-8956-F829DB2F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572-3B1E-4AE3-8716-CB58F54F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83CCC-5FE2-45B7-ABF7-0BEF8421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D405D-4241-4472-8E1D-DB11915D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D688-4358-4473-8114-44F1B1EE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7682B-D647-4DE1-82C9-56424F13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D06D-6C44-48EE-BF5C-BC7E5374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0A1A-90EF-480C-94ED-A82D4E5E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544D-84AC-457D-AA3C-FA211E14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0F95-9553-45EC-8194-9378B2F0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C9C51-BA1E-4DA4-BFC3-0C50C357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0265-2543-49B6-810C-5AE5299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427-5685-41CF-8F30-E516B16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7BB0B-FBBA-4A97-848E-17A86C85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9356D-1201-4151-B12B-C0DCD7E4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E606D-DF86-48A0-9C0F-E0CFC389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1B8BD-3707-4A06-A865-8EFB6463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BBF13-BD3D-4EAE-9E99-0B447103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21539-99B3-4F71-8592-0157172D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32EDA-7DD9-4513-ADE8-760772DD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60F0F-626A-4FE9-9863-1D1E1A78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9FFFB-183A-4FE5-B4F7-60C02C11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D485-9384-45DB-A075-CC511D9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262-E9FB-40DE-804B-542C177A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35544-41EC-421A-A15A-959F12C6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2A05F-196D-415C-9A57-5F6468C4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C4BA9-B679-4261-B757-DCC27F00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0F5F9-221D-432C-9978-52E5DC89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C3A30-0A32-4BB8-821F-E7484C6C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8C9E1-C71B-440B-9AC7-98932E10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17DE1-6901-4056-A9DC-9FFCA699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DEC70-0951-4023-9F9F-499D890A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977C0-B4C0-4CD1-93B5-EB5E3394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73DD-7480-4E1B-B9FF-5C4D2CD5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0E3-E20C-4B67-8B19-C7DE67B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73EC7-2D77-4B9C-AF0F-E0FFD046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ED596-8FA9-4AC4-A550-843C55D0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2C9DE-E3A4-466B-9EFA-CB20DA6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F460-BA40-4143-AE29-DE4CBB42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E6097-49F5-424E-B516-7AD9D88C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5B0F4-41CA-4683-826D-6F1C6438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68604-3F4C-4CDC-99BE-9D243569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380A2-854D-4FBF-AF94-F8BEC8F5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45FF2-0598-42EA-92C4-0699BAE8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CC70C-EBCC-4862-8EF2-998739CD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3F5A-BB61-4F49-82C3-C7E9A12773B2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9D79-B578-4D66-BCFF-EC0A7B398402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E3C3-B129-4FDF-9F99-C69C0B43E7DC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BEE2-96DD-48BD-BE41-F4A8CACE3EFC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9102-F140-44C9-A930-5895357AC76F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A168-73AB-461D-8502-89195622284F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0156-D074-470C-B40D-E9C7FEE79ADA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2445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E621-D94F-40C8-A1A9-4A33AFF6A549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2445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BABE-A804-4F45-B539-0BADDBAB02FE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EAF4-329A-4C4B-8CC9-DE8CF587B159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1B96-AA5C-46D3-B761-6162D105FF06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3E2E-8F2D-47AD-9792-350776F1554D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71320" y="1071720"/>
            <a:ext cx="78548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24456"/>
                </a:solidFill>
                <a:latin typeface="Georgia"/>
              </a:rPr>
              <a:t>المحاضرة الثانية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39280" y="2491920"/>
            <a:ext cx="7851960" cy="39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3548a"/>
                </a:solidFill>
                <a:latin typeface="Georgia"/>
              </a:rPr>
              <a:t>أهمية وشرف مهنة التدريس</a:t>
            </a:r>
            <a:br>
              <a:rPr sz="4000"/>
            </a:br>
            <a:r>
              <a:rPr b="0" lang="ar-SA" sz="4000" spc="-1" strike="noStrike">
                <a:solidFill>
                  <a:srgbClr val="53548a"/>
                </a:solidFill>
                <a:latin typeface="Georgia"/>
              </a:rPr>
              <a:t>أخلاق مهنة التدريس</a:t>
            </a:r>
            <a:br>
              <a:rPr sz="4000"/>
            </a:br>
            <a:r>
              <a:rPr b="0" lang="ar-SA" sz="4000" spc="-1" strike="noStrike">
                <a:solidFill>
                  <a:srgbClr val="53548a"/>
                </a:solidFill>
                <a:latin typeface="Georgia"/>
              </a:rPr>
              <a:t>صفات المعلم</a:t>
            </a:r>
            <a:br>
              <a:rPr sz="4000"/>
            </a:br>
            <a:r>
              <a:rPr b="0" lang="ar-SA" sz="4000" spc="-1" strike="noStrike">
                <a:solidFill>
                  <a:srgbClr val="53548a"/>
                </a:solidFill>
                <a:latin typeface="Georgia"/>
              </a:rPr>
              <a:t>الخصائص الشخصية في مهنة التعليم</a:t>
            </a:r>
            <a:br>
              <a:rPr sz="6000"/>
            </a:br>
            <a:endParaRPr b="0" lang="en-US" sz="4000" spc="-1" strike="noStrike">
              <a:solidFill>
                <a:srgbClr val="8c438f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28760" y="199980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المدرسة والبيت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ثقة المتبادلة , واحترام التخصص والأخوة المهنية, هي أسس العلاقات بين المعلم وزملائ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شريك الوالدين في التربية , لذا يحرص على توطيد العلاقة بين البيت والمدرس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يؤدي العاملون في مهنة التعليم واجباتهم , ويصبغون سلوكهم بهذه المبادئ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8c438f"/>
                </a:solidFill>
                <a:latin typeface="Georgia"/>
              </a:rPr>
              <a:t>  صفات المعلم:</a:t>
            </a:r>
            <a:endParaRPr b="0" lang="en-US" sz="4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34" name="Content Placeholder 3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48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 أولا: الصفات العقائدية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تقوى الله وإخلاص العمل لله هي من أهم الصفات العقائد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بعد عن الرياء لأنه يحبط العمل ويضيع الأجر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إيمان الراسخ بعقيدة الدولة التي يعمل في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رغبة في الدعوة لما يؤمن به ونشره بين الناس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الإخلاص في العمل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38" name="Content Placeholder 3" descr="كاريكتير5.jpg"/>
          <p:cNvPicPr/>
          <p:nvPr/>
        </p:nvPicPr>
        <p:blipFill>
          <a:blip r:embed="rId1"/>
          <a:srcRect l="3493" t="3005" r="3493" b="3136"/>
          <a:stretch/>
        </p:blipFill>
        <p:spPr>
          <a:xfrm>
            <a:off x="900000" y="1844640"/>
            <a:ext cx="72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 ثانيا: الصفات الخلقية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صدق في القول والعمل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رحمة والرف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تواض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صبر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أمان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عدل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الرحمة والرفق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42" name="Content Placeholder 3" descr="كاريكتير6.jpg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8c438f"/>
                </a:solidFill>
                <a:latin typeface="Georgia"/>
              </a:rPr>
              <a:t>  ثالثا: الصفات الجسمية</a:t>
            </a:r>
            <a:endParaRPr b="0" lang="en-US" sz="54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19159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صفة عامة بصحة جيدة, بالإضافة لخلو جسمه من الأمراض المزمنة أو الخطير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خلو جسم المعلم من العاهات الظاهرة, التي تؤثر على حالته الصح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هتمام المعلم بمظهره الخارجي, اهتماما منسجما مع تقاليد وعادات البلد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كون المعلم قدوة حسنة لتلاميذه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 الاهتمام بالمظهر والقدوة الحسنة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46" name="Content Placeholder 3" descr="عودة المعلمين.jpg"/>
          <p:cNvPicPr/>
          <p:nvPr/>
        </p:nvPicPr>
        <p:blipFill>
          <a:blip r:embed="rId1"/>
          <a:stretch/>
        </p:blipFill>
        <p:spPr>
          <a:xfrm>
            <a:off x="974880" y="1547640"/>
            <a:ext cx="7346880" cy="469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خلو الجسم من الأمراض المزمنة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48" name="Content Placeholder 3" descr="كاريكتير3.jpg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8c438f"/>
                </a:solidFill>
                <a:latin typeface="Georgia"/>
              </a:rPr>
              <a:t>  رابعا: الصفات العقلية والنفسية</a:t>
            </a:r>
            <a:endParaRPr b="0" lang="en-US" sz="54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قدر من الذكاء والفطنة تمكنه من التصرف بحكمة في المواقف المختلف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قدر من الثقافة العامة في شتى مجالات المعرف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تمتع المعلم بقدر مرتفع من فهم الذات والرضا عن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سنتعرف في هذه المحاضرة على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همية وشرف مهنة التدري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خلاق مهنة التدري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تعليم رسال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وطلاب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والمجتم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رقيب نفس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درسة والبيت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8c438f"/>
                </a:solidFill>
                <a:latin typeface="Georgia"/>
              </a:rPr>
              <a:t>  خامسا: الصفات الأكاديمية والمهنية</a:t>
            </a:r>
            <a:endParaRPr b="0" lang="en-US" sz="54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معرفة واسعة وعميقة في مجال المادة الدراسية التي يقوم بتدريس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فهم كامل للأسس النفسية للتعلم, وخصائص المتعلمين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لم المعلم بالطرق والأساليب المختلفة للتدريس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بقدر من المهارات التدريس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الخصائص الشخصية في مهنة التعليم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اهتمام بالآخرين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قوة الملاحظ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حكمة فالتصرف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قوة الشخص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قدوة الحسن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8c438f"/>
                </a:solidFill>
                <a:latin typeface="Georgia"/>
              </a:rPr>
              <a:t>  تابع الخصائص الشخصية في مهنة التعليم:</a:t>
            </a:r>
            <a:endParaRPr b="0" lang="en-US" sz="4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قدرة على اتخاذ القرار الصحيح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سعة الإطلا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حترام الطلاب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رضا عن النفس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قدرة على الإعتراف بالخطأ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تحلي بأخلاق المهن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من هدى عمر بن الخطاب في التربية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58" name="Content Placeholder 3" descr="عمر بن الخطاب.jpg"/>
          <p:cNvPicPr/>
          <p:nvPr/>
        </p:nvPicPr>
        <p:blipFill>
          <a:blip r:embed="rId1"/>
          <a:stretch/>
        </p:blipFill>
        <p:spPr>
          <a:xfrm>
            <a:off x="2021040" y="1755720"/>
            <a:ext cx="5067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وقفة للنقاش: هل نحب المدارس؟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60" name="Content Placeholder 3" descr="كاريكتير.jpg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باصات اليابان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62" name="Content Placeholder 3" descr="باصات1.jpg"/>
          <p:cNvPicPr/>
          <p:nvPr/>
        </p:nvPicPr>
        <p:blipFill>
          <a:blip r:embed="rId1"/>
          <a:stretch/>
        </p:blipFill>
        <p:spPr>
          <a:xfrm>
            <a:off x="3419640" y="4005360"/>
            <a:ext cx="2611440" cy="2135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باصات2.jpg"/>
          <p:cNvPicPr/>
          <p:nvPr/>
        </p:nvPicPr>
        <p:blipFill>
          <a:blip r:embed="rId2"/>
          <a:stretch/>
        </p:blipFill>
        <p:spPr>
          <a:xfrm>
            <a:off x="6300720" y="4005360"/>
            <a:ext cx="2538360" cy="21351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باصات3.jpg"/>
          <p:cNvPicPr/>
          <p:nvPr/>
        </p:nvPicPr>
        <p:blipFill>
          <a:blip r:embed="rId3"/>
          <a:stretch/>
        </p:blipFill>
        <p:spPr>
          <a:xfrm>
            <a:off x="395280" y="1700280"/>
            <a:ext cx="2771640" cy="20890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" descr="باصات4.jpg"/>
          <p:cNvPicPr/>
          <p:nvPr/>
        </p:nvPicPr>
        <p:blipFill>
          <a:blip r:embed="rId4"/>
          <a:stretch/>
        </p:blipFill>
        <p:spPr>
          <a:xfrm>
            <a:off x="395280" y="4005360"/>
            <a:ext cx="2808360" cy="22082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7" descr="باصات5.jpg"/>
          <p:cNvPicPr/>
          <p:nvPr/>
        </p:nvPicPr>
        <p:blipFill>
          <a:blip r:embed="rId5"/>
          <a:stretch/>
        </p:blipFill>
        <p:spPr>
          <a:xfrm>
            <a:off x="6227640" y="1700280"/>
            <a:ext cx="2665440" cy="2089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8" descr="باصات6.jpg"/>
          <p:cNvPicPr/>
          <p:nvPr/>
        </p:nvPicPr>
        <p:blipFill>
          <a:blip r:embed="rId6"/>
          <a:stretch/>
        </p:blipFill>
        <p:spPr>
          <a:xfrm>
            <a:off x="3419640" y="1700280"/>
            <a:ext cx="259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مدارسنا الجميلة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69" name="Content Placeholder 3" descr="مدارس.jpg"/>
          <p:cNvPicPr/>
          <p:nvPr/>
        </p:nvPicPr>
        <p:blipFill>
          <a:blip r:embed="rId1"/>
          <a:stretch/>
        </p:blipFill>
        <p:spPr>
          <a:xfrm>
            <a:off x="395280" y="1700280"/>
            <a:ext cx="2736720" cy="19447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" descr="مدارس2.jpg"/>
          <p:cNvPicPr/>
          <p:nvPr/>
        </p:nvPicPr>
        <p:blipFill>
          <a:blip r:embed="rId2"/>
          <a:stretch/>
        </p:blipFill>
        <p:spPr>
          <a:xfrm>
            <a:off x="6300720" y="3933720"/>
            <a:ext cx="2467080" cy="2279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مدارس3.jpg"/>
          <p:cNvPicPr/>
          <p:nvPr/>
        </p:nvPicPr>
        <p:blipFill>
          <a:blip r:embed="rId3"/>
          <a:stretch/>
        </p:blipFill>
        <p:spPr>
          <a:xfrm>
            <a:off x="3348000" y="170028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مدارس4.jpg"/>
          <p:cNvPicPr/>
          <p:nvPr/>
        </p:nvPicPr>
        <p:blipFill>
          <a:blip r:embed="rId4"/>
          <a:stretch/>
        </p:blipFill>
        <p:spPr>
          <a:xfrm>
            <a:off x="6300720" y="1700280"/>
            <a:ext cx="2538360" cy="1920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7" descr="مدارس5.jpg"/>
          <p:cNvPicPr/>
          <p:nvPr/>
        </p:nvPicPr>
        <p:blipFill>
          <a:blip r:embed="rId5"/>
          <a:stretch/>
        </p:blipFill>
        <p:spPr>
          <a:xfrm>
            <a:off x="395280" y="3933720"/>
            <a:ext cx="2766960" cy="22892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8" descr="مدارس6.png"/>
          <p:cNvPicPr/>
          <p:nvPr/>
        </p:nvPicPr>
        <p:blipFill>
          <a:blip r:embed="rId6"/>
          <a:stretch/>
        </p:blipFill>
        <p:spPr>
          <a:xfrm>
            <a:off x="3348000" y="3933720"/>
            <a:ext cx="273672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 الواجب المنزلي (نشاط</a:t>
            </a: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2</a:t>
            </a: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)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071360" y="1935000"/>
            <a:ext cx="761508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كتبي بحثا لا يتجاوز </a:t>
            </a: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صفحات عن أسلوب النبي صلى الله عليه وسلم في التربية , مدعمة قولك بالأدلة ؟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ذكري المراجع والمواقع الالكترونية المحكمة؟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أضيفي وجهة نظرك في نهاية البحث؟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سنتعرف في هذه المحاضرة على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3964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صفات المعلم: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صفات العقائد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الصفات الخلق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صفات النفس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صفات العقلية والنفس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صفات الاكاديمية والمهن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خصائص الشخصية في مهنة التعليم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 </a:t>
            </a:r>
            <a:r>
              <a:rPr b="0" lang="ar-SA" sz="3000" spc="-1" strike="noStrike">
                <a:solidFill>
                  <a:srgbClr val="8c438f"/>
                </a:solidFill>
                <a:latin typeface="Georgia"/>
              </a:rPr>
              <a:t>أهمية وشرف مهنة التدريس:</a:t>
            </a:r>
            <a:endParaRPr b="0" lang="en-US" sz="30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ضرورة من ضروريات الاجتماع البشري وصانع حضارت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هنة الوحيدة التي تتحمل مسئولية تنشئة الفرد ,وبناء شخصيته,وتنمية مهاراته,وتكوين اتجاهات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هي المهنة الأم التي تسبق جميع المهن الأخرى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شرف مهنة التدريس يستمد قوته من شرف الرسالة فلهما نفس الهدف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هذه المهنة العظيمة هي مهنة الأنبياء والمرسلين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من علم الناس الخير وحذرهم من الشر هو من ورثة الأنبياء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675"/>
              </a:spcBef>
              <a:buClr>
                <a:srgbClr val="53548a"/>
              </a:buClr>
              <a:buSzPct val="8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22" name="Content Placeholder 3" descr=""/>
          <p:cNvPicPr/>
          <p:nvPr/>
        </p:nvPicPr>
        <p:blipFill>
          <a:blip r:embed="rId1"/>
          <a:stretch/>
        </p:blipFill>
        <p:spPr>
          <a:xfrm>
            <a:off x="291960" y="1517760"/>
            <a:ext cx="852336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91592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التعليم رسالة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تعليم مهنة ذات قداسة خاصة, توجب القائمين بها بأداء حق الانتماء إلي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صاحب رسالة يستشعر عظمتها, ويؤمن بأهميت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عتزاز المعلم بمهنته وتصوره الدائم لرسالته ينأيان به عن مواطن الشبهات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68360" y="177336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المعلم وطلابه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علاقة بين المعلم وطلابه صورة من علاقة الوالد بأبنائ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قدوة لطلابه خاصة وللمجتمع عام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أحرص الناس على نفع طلاب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دؤوب في عطائه ورقابته وتقويمه لأداء طلابه بعدل وإخلا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سعي المعلم الدائم لترسيخ مواطن الإتفاق والتعاون والتكامل بين طلاب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 المعلم والمجتمع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موضع إحترام المجتمع واحترامه وثقت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تسعى الجهات المختصة لتوفير أكبر قدر ممكن من الرعاية للعاملين في مهنة التعليم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صاحب رأي وموقف من قضايا المجتمع ومشكلاته المختلف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مؤمن بتميز هذه الأمة بالأمر بالمعروف والنهي عن المنكر بلين من غير ضعف , وشدة من غير عنف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8360" y="177300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المعلم رقيب نفسه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يدرك أن الرقيب الحقيقي على سلوكه بعد الله تعالى هو ضمير يق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في مجال تخصصه طالب علم وباحث, لايدخر وسعا في التزود من المعرف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يساهم المعلم في كل نشاط يحسنه وفي كل موقف يسلكه لتربية سليم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يدرك أن تعلمه عبادة, وتعليمه الناس زكا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5:55:01Z</dcterms:created>
  <dc:creator>( أبــو صــخــر)</dc:creator>
  <dc:description/>
  <dc:language>en-US</dc:language>
  <cp:lastModifiedBy>toshiba</cp:lastModifiedBy>
  <dcterms:modified xsi:type="dcterms:W3CDTF">2012-09-21T14:07:23Z</dcterms:modified>
  <cp:revision>67</cp:revision>
  <dc:subject/>
  <dc:title>صفات المعلم</dc:title>
</cp:coreProperties>
</file>