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7B49D-DBDB-42EA-8C14-E013BDDD5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3DAA7-BB1D-4322-B4EC-0EF9E59F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B440-D76F-4760-A2FC-05396D13E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ABCEF-A92E-4CAA-9483-E596188E3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C22A-0168-48BD-9E1C-35AF2891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D923-8A87-4DD2-A54C-F475EB071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7A70-185E-49D1-A937-D3180545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A77E-48D4-4DB0-B0A0-3E2B59B47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C4CAC-D9E6-408F-84B6-B547CB541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6A29-1EB0-493C-9ED0-4ED50081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8A834-776D-43DC-BFCF-B28EF19B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3CF0-53F7-49CA-B085-5AA8A1BD0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EEAE-D3F0-46E0-BA1E-6E8455806B6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16240"/>
            <a:ext cx="7886880" cy="1012680"/>
            <a:chOff x="628560" y="2316240"/>
            <a:chExt cx="7886880" cy="1012680"/>
          </a:xfrm>
        </p:grpSpPr>
        <p:pic>
          <p:nvPicPr>
            <p:cNvPr id="42" name="عنوان 1" descr=""/>
            <p:cNvPicPr/>
            <p:nvPr/>
          </p:nvPicPr>
          <p:blipFill>
            <a:blip r:embed="rId1"/>
            <a:stretch/>
          </p:blipFill>
          <p:spPr>
            <a:xfrm>
              <a:off x="628560" y="2316240"/>
              <a:ext cx="7886880" cy="101268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DecoType Naskh Extensions"/>
                </a:rPr>
                <a:t>قواعد أخرى في الاستدلال</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304920"/>
            <a:ext cx="8345520" cy="1006200"/>
            <a:chOff x="396720" y="304920"/>
            <a:chExt cx="8345520" cy="10062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Farsi Simple Outline"/>
                </a:rPr>
                <a:t>قواعد أخرى في الاستدلال</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304920"/>
            <a:ext cx="8345520" cy="1006200"/>
            <a:chOff x="396720" y="304920"/>
            <a:chExt cx="8345520" cy="1006200"/>
          </a:xfrm>
        </p:grpSpPr>
        <p:pic>
          <p:nvPicPr>
            <p:cNvPr id="52" name="عنوان 1" descr=""/>
            <p:cNvPicPr/>
            <p:nvPr/>
          </p:nvPicPr>
          <p:blipFill>
            <a:blip r:embed="rId1"/>
            <a:stretch/>
          </p:blipFill>
          <p:spPr>
            <a:xfrm>
              <a:off x="396720" y="304920"/>
              <a:ext cx="8345520" cy="100620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Farsi Simple Outline"/>
                </a:rPr>
                <a:t>اتباع سنة  الخلفاء  الراشدين</a:t>
              </a:r>
              <a:endParaRPr b="0" lang="en-US" sz="4400" spc="-1" strike="noStrike">
                <a:solidFill>
                  <a:srgbClr val="000000"/>
                </a:solidFill>
                <a:latin typeface="Calibri"/>
              </a:endParaRPr>
            </a:p>
          </p:txBody>
        </p:sp>
      </p:grpSp>
      <p:pic>
        <p:nvPicPr>
          <p:cNvPr id="54"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26040"/>
            <a:ext cx="8229600" cy="338364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DecoType Naskh Extensions"/>
              </a:rPr>
              <a:t>ومن أسس السياسة الشرعية اتِّباع  سنة الخلفاء الراشدين فيها، وهو  طريق مهم من جهة اتباعهم في  الجزئيات وفي طريقة النظر الفقهي  المضبوط بحماية المقاصد الشرعية.</a:t>
            </a:r>
            <a:endParaRPr b="0" lang="en-US" sz="3600" spc="-1" strike="noStrike">
              <a:solidFill>
                <a:srgbClr val="000000"/>
              </a:solidFill>
              <a:latin typeface="Calibri"/>
            </a:endParaRPr>
          </a:p>
        </p:txBody>
      </p:sp>
      <p:sp>
        <p:nvSpPr>
          <p:cNvPr id="56" name="PlaceHolder 2"/>
          <p:cNvSpPr>
            <a:spLocks noGrp="1"/>
          </p:cNvSpPr>
          <p:nvPr>
            <p:ph/>
          </p:nvPr>
        </p:nvSpPr>
        <p:spPr>
          <a:xfrm>
            <a:off x="611280" y="2204640"/>
            <a:ext cx="8229600" cy="6096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الخلفاء الراشدين: الخلفاء الأُول الأربعة: أبو بكر الصديق،  وعمر بن الخطاب، وعثمان بن عفان، وعلي بن أبي طالب، رضي الله  عنهم أجمع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هم المعنيّون عند جماهير العلماء في قول النبي صلى الله عليه وسلم:  ((عليكم بسنتي وسنة الخلفاء الراشدين المهديين من بعدي…))؛ بل قد  حكى الإجماع على ذلك، ودلَّل عليه غير واحد من العلماء المحقق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سنَّة الخلفاء الراشدين: ما أفتى به وسنَّه الخلفاءُ الراشدون أو  أحدُهم؛ للأمَّة، وجمعوا الناس عليه، ولم يخالف نصّاً، وإن لم يتقدم من  النبي صلى الله عليه وسلم فيه شيءٌ. ذكره ابن القيم رحمه الله في  معرض استدلاله للاحتجاج بأقوال الصحابة، والخلفاء الأربعة هم  صفوة الصفوة رضي الله عنهم أجمعين ؛ وهذه المسألة أخص؛ وهي  من باب أول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1640"/>
            <a:ext cx="8229600" cy="277308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ecoType Naskh Extensions"/>
              </a:rPr>
              <a:t>أمَّا مَا سنَّه الخلفاء الراشدون، ولم  ينقل أنَّ أحداً من الصحابة خالفهم  فيه؛ فهذا من مسائل الإجماع.</a:t>
            </a:r>
            <a:endParaRPr b="0" lang="en-US" sz="4400" spc="-1" strike="noStrike">
              <a:solidFill>
                <a:srgbClr val="000000"/>
              </a:solidFill>
              <a:latin typeface="Calibri"/>
            </a:endParaRPr>
          </a:p>
        </p:txBody>
      </p:sp>
      <p:sp>
        <p:nvSpPr>
          <p:cNvPr id="58" name="PlaceHolder 2"/>
          <p:cNvSpPr>
            <a:spLocks noGrp="1"/>
          </p:cNvSpPr>
          <p:nvPr>
            <p:ph/>
          </p:nvPr>
        </p:nvSpPr>
        <p:spPr>
          <a:xfrm>
            <a:off x="457200" y="3012840"/>
            <a:ext cx="8229600" cy="447876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أبو العباس ابن تيمية: "والذي لا ريب فيه أنَّه حجة: ما كان من  سنَّة الخلفاء الراشدين الذي سنُّوه للمسلمين، ولم ينقل أنَّ أحداً من  الصحابة خالفهم فيه؛ فهذا لا ريب أنَّه حجَّة؛ بل إجماع. وقد دلَّ عليه  قول النبي صلى الله عليه وسلم: ((عليكم بسنتي وسنة الخلفاء الراشدين  المهديين من بعد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128880"/>
            <a:ext cx="8345520" cy="1434600"/>
            <a:chOff x="396720" y="128880"/>
            <a:chExt cx="8345520" cy="1434600"/>
          </a:xfrm>
        </p:grpSpPr>
        <p:pic>
          <p:nvPicPr>
            <p:cNvPr id="60" name="عنوان 1" descr=""/>
            <p:cNvPicPr/>
            <p:nvPr/>
          </p:nvPicPr>
          <p:blipFill>
            <a:blip r:embed="rId1"/>
            <a:stretch/>
          </p:blipFill>
          <p:spPr>
            <a:xfrm>
              <a:off x="396720" y="304920"/>
              <a:ext cx="8345520" cy="1000080"/>
            </a:xfrm>
            <a:prstGeom prst="rect">
              <a:avLst/>
            </a:prstGeom>
            <a:ln w="0">
              <a:noFill/>
            </a:ln>
          </p:spPr>
        </p:pic>
        <p:sp>
          <p:nvSpPr>
            <p:cNvPr id="61"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الأصل في المنافع الإباحة  وفي المضار التحريم</a:t>
              </a:r>
              <a:endParaRPr b="0" lang="en-US" sz="4400" spc="-1" strike="noStrike">
                <a:solidFill>
                  <a:srgbClr val="000000"/>
                </a:solidFill>
                <a:latin typeface="Calibri"/>
              </a:endParaRPr>
            </a:p>
          </p:txBody>
        </p:sp>
      </p:grpSp>
      <p:pic>
        <p:nvPicPr>
          <p:cNvPr id="62"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600"/>
            <a:ext cx="8229600" cy="143244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الأصل الأول:  الأصل في  المنافع الإباحة</a:t>
            </a:r>
            <a:endParaRPr b="0" lang="en-US" sz="4400" spc="-1" strike="noStrike">
              <a:solidFill>
                <a:srgbClr val="000000"/>
              </a:solidFill>
              <a:latin typeface="Calibri"/>
            </a:endParaRPr>
          </a:p>
        </p:txBody>
      </p:sp>
      <p:sp>
        <p:nvSpPr>
          <p:cNvPr id="64" name="PlaceHolder 2"/>
          <p:cNvSpPr>
            <a:spLocks noGrp="1"/>
          </p:cNvSpPr>
          <p:nvPr>
            <p:ph/>
          </p:nvPr>
        </p:nvSpPr>
        <p:spPr>
          <a:xfrm>
            <a:off x="457200" y="1864800"/>
            <a:ext cx="8229600" cy="69044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ه: أنّ  المنافع التي لم يرد  بشأنها دليل من  الشارع؛ فالقـاعدة  في حكمها: الإباحة؛  حتّى يثبت خلافها  الذي هو المنع.</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إمام الحرمين الجويني: "فما لم  يُعلَم فيه تحريم يجري على حكم  الحِلِّ؛ والسبب فيه أنَّه لا يثبت لله  حكمٌ على المكلفين غير مستند إلى  دليل؛ فإذا انتفى دليل التحريم ثَمَّ،  استحال الحكم به".</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قال: "من الأصول التي آل إليها  مجامع الكلام أنَّه إذا لم يُسْتَيْقَن حجرٌ أو  حظرٌ من الشارع في شيءٍ؛ فلا يثبت  فيه تحريم في خلو الزمان".</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بن تيمية: "وأمَّا العادات فهي ما اعتاده  النَّاس في دنياهم مما يحتاجون إليه؛  والأصل فيها عدم الحظر؛ فلا يحظر منه  إلا ما حظره الله سبحانه وتعالى…  والعادات الأصل فيها العفو؛ فلا يحظر  منها إلا ما حرَّمه وإلا لدخلنا في قول الله  تعالى: ?قُلْ أَرَأَيْتُمْ مَا أَنْزَلَ اللهُ لَكُمْ مِنْ  رِزْقٍ فَجَعَلْتُمْ مِنْهُ حَرَامًا وَحَلَالً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والثاني: الأصل في  المضارّ التحريم</a:t>
            </a:r>
            <a:endParaRPr b="0" lang="en-US" sz="4400" spc="-1" strike="noStrike">
              <a:solidFill>
                <a:srgbClr val="000000"/>
              </a:solidFill>
              <a:latin typeface="Calibri"/>
            </a:endParaRPr>
          </a:p>
        </p:txBody>
      </p:sp>
      <p:sp>
        <p:nvSpPr>
          <p:cNvPr id="66" name="PlaceHolder 2"/>
          <p:cNvSpPr>
            <a:spLocks noGrp="1"/>
          </p:cNvSpPr>
          <p:nvPr>
            <p:ph/>
          </p:nvPr>
        </p:nvSpPr>
        <p:spPr>
          <a:xfrm>
            <a:off x="457200" y="1864800"/>
            <a:ext cx="8229600" cy="40928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قد يعبر بـ(ـالمنع) أو (الحظر)  بدل (التحريم).والمراد به: أنَّ ما لم  يرد بشأنه دليل من الشارع من  المضار فالقاعدة في حكمه،  التحريم؛ حتى يثبت خلافه.</a:t>
            </a:r>
            <a:endParaRPr b="0" lang="en-US" sz="3200" spc="-1" strike="noStrike">
              <a:solidFill>
                <a:srgbClr val="000000"/>
              </a:solidFill>
              <a:latin typeface="Calibri"/>
            </a:endParaRPr>
          </a:p>
          <a:p>
            <a:pPr lvl="1" marL="735480" indent="-282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القرافي: "الأصل في  المنافع: الإذن، وفي المضار  المنع، بأدلة السم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29:06Z</dcterms:created>
  <dc:creator>وفاء بنت محمد العيسى</dc:creator>
  <dc:description/>
  <dc:language>en-US</dc:language>
  <cp:lastModifiedBy>ساره</cp:lastModifiedBy>
  <dcterms:modified xsi:type="dcterms:W3CDTF">2013-03-08T16:43:33Z</dcterms:modified>
  <cp:revision>2</cp:revision>
  <dc:subject/>
  <dc:title>قواعد أخرى في الاستدلال</dc:title>
</cp:coreProperties>
</file>