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13.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1059-CDF5-47A9-86DE-AB64132AE7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7401-73C1-46C2-ACE9-1EC145DD2D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9C641-1DDE-43B3-8FAA-CB8E46B61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1FC5-C010-4C8D-961C-FFB70AD65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D111A-6E5B-48DD-8F50-B37B8E76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01F8-8C3F-4332-BA5E-24C8F4A08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CBC74-6A1F-466C-B820-C06E00506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424E-4488-464E-BAA5-DA0BF419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141A-B2D2-4F30-8C0F-84A9BE422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BAC4-840A-4260-BC96-CB7514EA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365E3-A93E-4616-92DC-1150097D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1989-5B75-49E4-8E39-B8EB9BC6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26B7-5CB5-4621-9F3C-0D45B639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4F75-920A-4D77-B62C-61156E3D5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1C41-FCA9-432E-B208-F39EB0F359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6"/>
          <p:cNvSpPr/>
          <p:nvPr/>
        </p:nvSpPr>
        <p:spPr>
          <a:xfrm>
            <a:off x="2643120" y="357120"/>
            <a:ext cx="3960720" cy="107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التأليف في النحو والصرف </a:t>
            </a:r>
            <a:endParaRPr b="0" lang="en-US" sz="1800" spc="-1" strike="noStrike">
              <a:solidFill>
                <a:srgbClr val="000000"/>
              </a:solidFill>
              <a:latin typeface="Arial"/>
            </a:endParaRPr>
          </a:p>
        </p:txBody>
      </p:sp>
      <p:sp>
        <p:nvSpPr>
          <p:cNvPr id="49" name="Rectangle 7"/>
          <p:cNvSpPr/>
          <p:nvPr/>
        </p:nvSpPr>
        <p:spPr>
          <a:xfrm>
            <a:off x="1285920" y="1714680"/>
            <a:ext cx="6286320" cy="450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كتاب لسيبو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اشتهر المؤلف بلقبه واسمه عمرو بن عثمان بن قنبر من موالي بني الحارث بن كعب وسيبوي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أشهر أصحاباالخليل بن أحمد ألف كتاب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بعد وفاة الخليل وحمله عنه تلميذه الأخفش وأذاعه في</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 الناس باسم الكتاب وسيبو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6b6bcf"/>
                </a:solidFill>
                <a:latin typeface="Arial"/>
              </a:rPr>
              <a:t> أكبر علماء النحو وأشهرهم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وهو أول من بحث في النحو بحثاً منظماً وأول من ألف فيه كتاباً شاملاً لم يدع من علم النحو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شيئاً إلا ضمه فيه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قسم سيبويه الكتاب قسمين متمايزين : قسم النحو وقسم الصرف ولم يحرص على أن يكون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كلام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 عن المسألة الواحدة في باب واحد</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3300"/>
                </a:solidFill>
                <a:latin typeface="Arial"/>
              </a:rPr>
              <a:t> لذلك كثرت فيه الأبواب والتفريعات وشاع التعليل</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 </a:t>
            </a:r>
            <a:r>
              <a:rPr b="1" lang="ar-SA" sz="1400" spc="-1" strike="noStrike">
                <a:solidFill>
                  <a:srgbClr val="00b050"/>
                </a:solidFill>
                <a:latin typeface="Arial"/>
              </a:rPr>
              <a:t>والعربية في أيام سيبويه لم تكن نحواً فقط وإنما كانت شاملة لكل ما يؤدي إلى سلامة اللغة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من ألفاظها من حركة وبناء </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وفي تراكيبها من تقديم وتأخير وذكر وحذف وفي معرفة حقائقها</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وأسلوب الكلام على سمتها فكان في الكتاب نحو وصرف وبلاغة وكانت ف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نصوص أدبية وكان فيه</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 قراءات وأصوات ولهجات"</a:t>
            </a:r>
            <a:endParaRPr b="0" lang="en-US" sz="1400" spc="-1" strike="noStrike">
              <a:solidFill>
                <a:srgbClr val="000000"/>
              </a:solidFill>
              <a:latin typeface="Arial"/>
            </a:endParaRPr>
          </a:p>
        </p:txBody>
      </p:sp>
      <p:sp>
        <p:nvSpPr>
          <p:cNvPr id="50" name="مستطيل 7"/>
          <p:cNvSpPr/>
          <p:nvPr/>
        </p:nvSpPr>
        <p:spPr>
          <a:xfrm>
            <a:off x="571680" y="642960"/>
            <a:ext cx="1500120" cy="257184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4"/>
          <p:cNvSpPr/>
          <p:nvPr/>
        </p:nvSpPr>
        <p:spPr>
          <a:xfrm>
            <a:off x="4572000" y="1285920"/>
            <a:ext cx="4103640" cy="489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5"/>
          <p:cNvSpPr/>
          <p:nvPr/>
        </p:nvSpPr>
        <p:spPr>
          <a:xfrm>
            <a:off x="500040" y="1285920"/>
            <a:ext cx="3743280" cy="4895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ff"/>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AutoShape 6"/>
          <p:cNvSpPr/>
          <p:nvPr/>
        </p:nvSpPr>
        <p:spPr>
          <a:xfrm>
            <a:off x="4857840" y="0"/>
            <a:ext cx="3743280" cy="1368360"/>
          </a:xfrm>
          <a:custGeom>
            <a:avLst/>
            <a:gdLst>
              <a:gd name="textAreaLeft" fmla="*/ 0 w 3743280"/>
              <a:gd name="textAreaRight" fmla="*/ 3743640 w 3743280"/>
              <a:gd name="textAreaTop" fmla="*/ 177120 h 1368360"/>
              <a:gd name="textAreaBottom" fmla="*/ 1191240 h 1368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مقتضب للمبرد</a:t>
            </a:r>
            <a:endParaRPr b="0" lang="en-US" sz="2400" spc="-1" strike="noStrike">
              <a:solidFill>
                <a:srgbClr val="000000"/>
              </a:solidFill>
              <a:latin typeface="Arial"/>
            </a:endParaRPr>
          </a:p>
        </p:txBody>
      </p:sp>
      <p:sp>
        <p:nvSpPr>
          <p:cNvPr id="54" name="AutoShape 7"/>
          <p:cNvSpPr/>
          <p:nvPr/>
        </p:nvSpPr>
        <p:spPr>
          <a:xfrm>
            <a:off x="428760" y="0"/>
            <a:ext cx="4032000" cy="1368360"/>
          </a:xfrm>
          <a:custGeom>
            <a:avLst/>
            <a:gdLst>
              <a:gd name="textAreaLeft" fmla="*/ 0 w 4032000"/>
              <a:gd name="textAreaRight" fmla="*/ 4032360 w 4032000"/>
              <a:gd name="textAreaTop" fmla="*/ 177120 h 1368360"/>
              <a:gd name="textAreaBottom" fmla="*/ 1191240 h 1368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7"/>
          <p:cNvSpPr/>
          <p:nvPr/>
        </p:nvSpPr>
        <p:spPr>
          <a:xfrm>
            <a:off x="4572000" y="1357200"/>
            <a:ext cx="4143240" cy="4786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هو أبو العباس محمد بن يزيد المبرد أحد أعلام البصرة على أن كتابه المقتضب لم ينل من عناية العلماء ما نال غيره من الكتب " كما أن المبرد لم يتمكن من وضع ترتيب جديد لأبواب النحو يغري طلاب العربية بالإقبال عليه وكان المبرد متأثراً بكتاب سيبوبه وتدل تعليقات محقق المقتضب على الصلة الوثيقة بين الكتاب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يعد المبرد آخر أئمة المدرسة البصرية المهمين</a:t>
            </a:r>
            <a:endParaRPr b="0" lang="en-US" sz="2400" spc="-1" strike="noStrike">
              <a:solidFill>
                <a:srgbClr val="000000"/>
              </a:solidFill>
              <a:latin typeface="Arial"/>
            </a:endParaRPr>
          </a:p>
        </p:txBody>
      </p:sp>
      <p:sp>
        <p:nvSpPr>
          <p:cNvPr id="56" name="مستطيل 10"/>
          <p:cNvSpPr/>
          <p:nvPr/>
        </p:nvSpPr>
        <p:spPr>
          <a:xfrm>
            <a:off x="428760" y="1357200"/>
            <a:ext cx="3786120" cy="4786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428760" y="950400"/>
            <a:ext cx="378612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قسم كتابه إلى أربعة أقسام : الأسماء ، والأفعال ، والحروف ، والمشترك ثم قسم كل واحد تقسيماً داخلياً بما تقتضيه طبيع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وفي القسم الرابع بحث في الإمالة والوقف والقسم وتخفيف الهمز والتقاء الساك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Calibri"/>
              </a:rPr>
              <a:t>ولابن يعيش شرح مشهور على المفصل.</a:t>
            </a:r>
            <a:endParaRPr b="0" lang="en-US" sz="2800" spc="-1" strike="noStrike">
              <a:solidFill>
                <a:srgbClr val="000000"/>
              </a:solidFill>
              <a:latin typeface="Arial"/>
            </a:endParaRPr>
          </a:p>
        </p:txBody>
      </p:sp>
      <p:sp>
        <p:nvSpPr>
          <p:cNvPr id="58" name="Rectangle 11"/>
          <p:cNvSpPr/>
          <p:nvPr/>
        </p:nvSpPr>
        <p:spPr>
          <a:xfrm>
            <a:off x="285840" y="430560"/>
            <a:ext cx="4000320" cy="7038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المفصل في صنعة الإعراب للزمخشري (ت </a:t>
            </a:r>
            <a:r>
              <a:rPr b="1" lang="ar-SA" sz="2000" spc="-1" strike="noStrike">
                <a:solidFill>
                  <a:srgbClr val="ff0000"/>
                </a:solidFill>
                <a:latin typeface="Calibri"/>
              </a:rPr>
              <a:t>538</a:t>
            </a:r>
            <a:r>
              <a:rPr b="1" lang="ar-SA" sz="2000" spc="-1" strike="noStrike">
                <a:solidFill>
                  <a:srgbClr val="ff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4"/>
          <p:cNvSpPr/>
          <p:nvPr/>
        </p:nvSpPr>
        <p:spPr>
          <a:xfrm>
            <a:off x="0" y="714240"/>
            <a:ext cx="3357720" cy="4500720"/>
          </a:xfrm>
          <a:prstGeom prst="rect">
            <a:avLst/>
          </a:prstGeom>
          <a:solidFill>
            <a:srgbClr val="dfcdb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ff"/>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Rectangle 5"/>
          <p:cNvSpPr/>
          <p:nvPr/>
        </p:nvSpPr>
        <p:spPr>
          <a:xfrm>
            <a:off x="3571920" y="785880"/>
            <a:ext cx="5227560" cy="3929040"/>
          </a:xfrm>
          <a:prstGeom prst="rect">
            <a:avLst/>
          </a:prstGeom>
          <a:solidFill>
            <a:srgbClr val="dfcdb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Rectangle 7"/>
          <p:cNvSpPr/>
          <p:nvPr/>
        </p:nvSpPr>
        <p:spPr>
          <a:xfrm>
            <a:off x="3357720" y="263880"/>
            <a:ext cx="5214960" cy="4972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alibri"/>
              </a:rPr>
              <a:t>التأليف في النقد الأدب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Calibri"/>
              </a:rPr>
              <a:t>عرف النقد الأدبي منذ عهود الأدب المبكرة لكن النقد المدون المنظم حتى تأثلت قواعد التأليف الذي يهيئ المجال للفحص والتقليب والنظ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عيار الشعر لابن طباطب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مؤلف هو أبو الحسن محمد بن أحمد بن طباطبا وكان شاعراً وعالماً بالأدب مولده ووفاته بأصبهان وله مؤلفات في الأدب والعروض والنقد بقي منها كتاب : ( عيار الشعر) وقد رافق هذا الكتاب ظهور كتب أخرى في المدة نفسها تقريباً مثل : البديع لابن المعتز وطبقات الشعراء له أيضاً وقواعد الشعر للإمام اللغوي ثعلب والشعر والشعراء لابن قتيبة ونقد الشعر لقدامة بن جعفر</a:t>
            </a:r>
            <a:endParaRPr b="0" lang="en-US" sz="2000" spc="-1" strike="noStrike">
              <a:solidFill>
                <a:srgbClr val="000000"/>
              </a:solidFill>
              <a:latin typeface="Arial"/>
            </a:endParaRPr>
          </a:p>
        </p:txBody>
      </p:sp>
      <p:sp>
        <p:nvSpPr>
          <p:cNvPr id="62" name="مستطيل 7"/>
          <p:cNvSpPr/>
          <p:nvPr/>
        </p:nvSpPr>
        <p:spPr>
          <a:xfrm>
            <a:off x="0" y="714240"/>
            <a:ext cx="3286080" cy="44294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Arial"/>
              </a:rPr>
              <a:t>نقد الشع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Arial"/>
              </a:rPr>
              <a:t>المؤلف هو أبو الفرج قدامة بن جعفر البغدادي ت </a:t>
            </a:r>
            <a:r>
              <a:rPr b="1" lang="ar-SA" sz="2400" spc="-1" strike="noStrike">
                <a:solidFill>
                  <a:srgbClr val="ff00ff"/>
                </a:solidFill>
                <a:latin typeface="Arial"/>
              </a:rPr>
              <a:t>337</a:t>
            </a:r>
            <a:r>
              <a:rPr b="1" lang="ar-SA" sz="2400" spc="-1" strike="noStrike">
                <a:solidFill>
                  <a:srgbClr val="ff00ff"/>
                </a:solidFill>
                <a:latin typeface="Arial"/>
              </a:rPr>
              <a:t> هجرياً كاتب من البلغاء الفصحاء المتقدمين في علم المنطق والفلسفة أسلم على يد الخليفة العباسي المكتفي بالل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rPr>
              <a:t>واشتهر كتابه نقد الشعر الذي تأثر بالمنطق الأرسطي وبنى أسساً نقدية متكاملة وأراد من وراء كتابه أن يكون معلم النقد في تاريخ الأدب العرب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4"/>
          <p:cNvSpPr/>
          <p:nvPr/>
        </p:nvSpPr>
        <p:spPr>
          <a:xfrm>
            <a:off x="428760" y="1428840"/>
            <a:ext cx="8286480" cy="3286080"/>
          </a:xfrm>
          <a:prstGeom prst="rect">
            <a:avLst/>
          </a:prstGeom>
          <a:solidFill>
            <a:srgbClr val="ddfe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ff"/>
                </a:solidFill>
                <a:latin typeface="Arial"/>
              </a:rPr>
              <a:t> </a:t>
            </a:r>
            <a:endParaRPr b="0" lang="en-US" sz="2000" spc="-1" strike="noStrike">
              <a:solidFill>
                <a:srgbClr val="000000"/>
              </a:solidFill>
              <a:latin typeface="Arial"/>
            </a:endParaRPr>
          </a:p>
        </p:txBody>
      </p:sp>
      <p:sp>
        <p:nvSpPr>
          <p:cNvPr id="64" name="Rectangle 5"/>
          <p:cNvSpPr/>
          <p:nvPr/>
        </p:nvSpPr>
        <p:spPr>
          <a:xfrm>
            <a:off x="2357280" y="428760"/>
            <a:ext cx="4896000" cy="52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66"/>
                </a:solidFill>
                <a:latin typeface="Arial"/>
              </a:rPr>
              <a:t>التأليف في البلاغة </a:t>
            </a:r>
            <a:endParaRPr b="0" lang="en-US" sz="3200" spc="-1" strike="noStrike">
              <a:solidFill>
                <a:srgbClr val="000000"/>
              </a:solidFill>
              <a:latin typeface="Arial"/>
            </a:endParaRPr>
          </a:p>
        </p:txBody>
      </p:sp>
      <p:sp>
        <p:nvSpPr>
          <p:cNvPr id="65" name="مستطيل 5"/>
          <p:cNvSpPr/>
          <p:nvPr/>
        </p:nvSpPr>
        <p:spPr>
          <a:xfrm>
            <a:off x="428760" y="1857240"/>
            <a:ext cx="8143920" cy="37864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1285920" y="1073160"/>
            <a:ext cx="6858000" cy="558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حين صنف ابن المعتز كتابه ( البديع ) سنة </a:t>
            </a:r>
            <a:r>
              <a:rPr b="1" lang="ar-SA" sz="2400" spc="-1" strike="noStrike">
                <a:solidFill>
                  <a:srgbClr val="0070c0"/>
                </a:solidFill>
                <a:latin typeface="Calibri"/>
              </a:rPr>
              <a:t>274</a:t>
            </a:r>
            <a:r>
              <a:rPr b="1" lang="ar-SA" sz="2400" spc="-1" strike="noStrike">
                <a:solidFill>
                  <a:srgbClr val="0070c0"/>
                </a:solidFill>
                <a:latin typeface="Calibri"/>
              </a:rPr>
              <a:t> هجرياً ، صرح بأن فنون البديع التي عرفها الشعراء والنقاد هي أمور قديمة معروفة في شواهد القرآن والحديث وكلام الصحابة والأعراب وغيرهم وأن المحدثين ليس لهم من ذلك إلا الكثرة ، فالبديع ليس شيئاً اخترع في تلك المدة المتأخرة ولكنه أصيل في التراث قديم وقد عني علماء من مشارب مختلفة ومنذ عصور الرواية والتدوين المبكرة بالملاحظات التي اجتمعت وتطورت وكونت التيار الذي غذى الدراسات النقدية والبلاغية </a:t>
            </a:r>
            <a:r>
              <a:rPr b="1" lang="ar-SA" sz="2400" spc="-1" strike="noStrike">
                <a:solidFill>
                  <a:srgbClr val="00cc00"/>
                </a:solidFill>
                <a:latin typeface="Calibri"/>
              </a:rPr>
              <a:t>ويبرز اسم الجاحظ مثلاً في هذه المرحلة بروزاً كبيراً فقد كان في مؤلفاته وخاصة في البيان والتبيين بذور قضايا مهمة تطورت مع الزمن ومع جهود العلماء والأدباء واللغويين وعلماء الكلا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AutoShape 4"/>
          <p:cNvSpPr/>
          <p:nvPr/>
        </p:nvSpPr>
        <p:spPr>
          <a:xfrm>
            <a:off x="0" y="0"/>
            <a:ext cx="8282160" cy="3814920"/>
          </a:xfrm>
          <a:custGeom>
            <a:avLst/>
            <a:gdLst>
              <a:gd name="textAreaLeft" fmla="*/ 1890720 w 8282160"/>
              <a:gd name="textAreaRight" fmla="*/ 6391440 w 8282160"/>
              <a:gd name="textAreaTop" fmla="*/ 870840 h 3814920"/>
              <a:gd name="textAreaBottom" fmla="*/ 2944080 h 381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a:t>
            </a:r>
            <a:endParaRPr b="0" lang="en-US" sz="2800" spc="-1" strike="noStrike">
              <a:solidFill>
                <a:srgbClr val="000000"/>
              </a:solidFill>
              <a:latin typeface="Arial"/>
            </a:endParaRPr>
          </a:p>
        </p:txBody>
      </p:sp>
      <p:sp>
        <p:nvSpPr>
          <p:cNvPr id="68" name="AutoShape 5"/>
          <p:cNvSpPr/>
          <p:nvPr/>
        </p:nvSpPr>
        <p:spPr>
          <a:xfrm>
            <a:off x="2357280" y="2786040"/>
            <a:ext cx="4929480" cy="4071960"/>
          </a:xfrm>
          <a:custGeom>
            <a:avLst/>
            <a:gdLst>
              <a:gd name="textAreaLeft" fmla="*/ 1125360 w 4929480"/>
              <a:gd name="textAreaRight" fmla="*/ 3804120 w 4929480"/>
              <a:gd name="textAreaTop" fmla="*/ 929520 h 4071960"/>
              <a:gd name="textAreaBottom" fmla="*/ 3142440 h 40719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66"/>
                </a:solidFill>
                <a:latin typeface="Arial"/>
              </a:rPr>
              <a:t> </a:t>
            </a:r>
            <a:endParaRPr b="0" lang="en-US" sz="2800" spc="-1" strike="noStrike">
              <a:solidFill>
                <a:srgbClr val="000000"/>
              </a:solidFill>
              <a:latin typeface="Arial"/>
            </a:endParaRPr>
          </a:p>
        </p:txBody>
      </p:sp>
      <p:sp>
        <p:nvSpPr>
          <p:cNvPr id="69" name="Rectangle 6"/>
          <p:cNvSpPr/>
          <p:nvPr/>
        </p:nvSpPr>
        <p:spPr>
          <a:xfrm>
            <a:off x="1643040" y="487800"/>
            <a:ext cx="5429160" cy="2228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36c0a"/>
                </a:solidFill>
                <a:latin typeface="Calibri"/>
              </a:rPr>
              <a:t>ازدهار الدراسات البلاغ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36c0a"/>
                </a:solidFill>
                <a:latin typeface="Calibri"/>
              </a:rPr>
              <a:t>لعبدالقاهر الجرجاني مكانة كبيرة في تاريخ البلاغة إذا استطاع أن يضع نظريتي علمي المعاني والبيان وضعا دقيقا أما النظرية الأولى فخص بعرضها وتفصيلها كتابه دلائل الإعجاز وأما النظرية الثانية فخص بها وبمباحثها كتابه ( أسرار البلاغة )</a:t>
            </a:r>
            <a:endParaRPr b="0" lang="en-US" sz="2000" spc="-1" strike="noStrike">
              <a:solidFill>
                <a:srgbClr val="000000"/>
              </a:solidFill>
              <a:latin typeface="Arial"/>
            </a:endParaRPr>
          </a:p>
        </p:txBody>
      </p:sp>
      <p:sp>
        <p:nvSpPr>
          <p:cNvPr id="70" name="Rectangle 7"/>
          <p:cNvSpPr/>
          <p:nvPr/>
        </p:nvSpPr>
        <p:spPr>
          <a:xfrm>
            <a:off x="3929040" y="2784960"/>
            <a:ext cx="2286000" cy="466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72727"/>
                </a:solidFill>
                <a:latin typeface="Arial"/>
                <a:cs typeface="Times New Roman"/>
              </a:rPr>
              <a:t>أسرار البلاغ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72727"/>
                </a:solidFill>
                <a:latin typeface="Arial"/>
                <a:cs typeface="Times New Roman"/>
              </a:rPr>
              <a:t>وضع فيه نظرية علم البيان بقواعده وشعبه وتفريعاته الكثيرة والحق يقال إنه فريد في بابه فهو بحث في البيان العربي غير مسبوق ولا ملحوق وهو بحث أصيل عميق في أصول علم البيان من حقيقة ومجاز واستعارة وتشبيه </a:t>
            </a:r>
            <a:endParaRPr b="0" lang="en-US" sz="2000" spc="-1" strike="noStrike">
              <a:solidFill>
                <a:srgbClr val="000000"/>
              </a:solidFill>
              <a:latin typeface="Arial"/>
            </a:endParaRPr>
          </a:p>
        </p:txBody>
      </p:sp>
      <p:sp>
        <p:nvSpPr>
          <p:cNvPr id="71" name="مستطيل 8"/>
          <p:cNvSpPr/>
          <p:nvPr/>
        </p:nvSpPr>
        <p:spPr>
          <a:xfrm>
            <a:off x="428760" y="3357720"/>
            <a:ext cx="2214360" cy="314316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AutoShape 4"/>
          <p:cNvSpPr/>
          <p:nvPr/>
        </p:nvSpPr>
        <p:spPr>
          <a:xfrm rot="21474000">
            <a:off x="2193480" y="331920"/>
            <a:ext cx="4824360" cy="1224000"/>
          </a:xfrm>
          <a:prstGeom prst="flowChartMultidocumen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دلائل الإعجاز</a:t>
            </a:r>
            <a:endParaRPr b="0" lang="en-US" sz="3200" spc="-1" strike="noStrike">
              <a:solidFill>
                <a:srgbClr val="000000"/>
              </a:solidFill>
              <a:latin typeface="Arial"/>
            </a:endParaRPr>
          </a:p>
        </p:txBody>
      </p:sp>
      <p:sp>
        <p:nvSpPr>
          <p:cNvPr id="73" name="Rectangle 6"/>
          <p:cNvSpPr/>
          <p:nvPr/>
        </p:nvSpPr>
        <p:spPr>
          <a:xfrm>
            <a:off x="2071800" y="1744560"/>
            <a:ext cx="5572080" cy="511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مستطيل 8"/>
          <p:cNvSpPr/>
          <p:nvPr/>
        </p:nvSpPr>
        <p:spPr>
          <a:xfrm>
            <a:off x="2286000" y="1857240"/>
            <a:ext cx="5572080" cy="50007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0"/>
          <p:cNvSpPr/>
          <p:nvPr/>
        </p:nvSpPr>
        <p:spPr>
          <a:xfrm>
            <a:off x="2428920" y="889200"/>
            <a:ext cx="5572080" cy="7043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دلائل الإع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Times New Roman"/>
              </a:rPr>
              <a:t>كتابٌ رائدٌ في إعجاز القرآن، قَدَّم فيه صاحبه نظريته في النظم، يعتبر الجرجاني بهذا الكتاب عند كثير من الباحثين واضع نظرية النظم، وملخصها: أن جمال البلاغة ليس في اللفظ ولا في المعنى، وإنما في نظم الكلام، أي الأسلوب، وبناء الجملة، ومواقع الإيجاز والإطناب، وضرورة مطابقة الكلام لمقتضى الحال</a:t>
            </a:r>
            <a:r>
              <a:rPr b="1" lang="ar-SA" sz="2400" spc="-1" strike="noStrike">
                <a:solidFill>
                  <a:srgbClr val="000000"/>
                </a:solidFill>
                <a:latin typeface="Arial"/>
                <a:ea typeface="Times New Roman"/>
              </a:rPr>
              <a:t>. </a:t>
            </a:r>
            <a:r>
              <a:rPr b="1" lang="ar-SA" sz="2400" spc="-1" strike="noStrike">
                <a:solidFill>
                  <a:srgbClr val="272727"/>
                </a:solidFill>
                <a:latin typeface="Arial"/>
                <a:cs typeface="Times New Roman"/>
              </a:rPr>
              <a:t>تلك النظرية التي تركز بعمق على سياقات القرآن البلاغ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72727"/>
                </a:solidFill>
                <a:latin typeface="Arial"/>
                <a:ea typeface="Times New Roman"/>
              </a:rPr>
              <a:t> وتستخرج منها أصولًا للبلاغة في سامق درجاتها. كما عَرَضَ المؤلف لمسائلَ بلاغيةٍ أخرى، مثل: التقديم والتأخير، والفصل والوصل، والحقيقة والمجاز، ثم ختم الكتاب بنماذج تحليلية تبرز أهمية النظم.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مستطيل 10"/>
          <p:cNvSpPr/>
          <p:nvPr/>
        </p:nvSpPr>
        <p:spPr>
          <a:xfrm>
            <a:off x="0" y="857160"/>
            <a:ext cx="2000160" cy="3357720"/>
          </a:xfrm>
          <a:prstGeom prst="rect">
            <a:avLst/>
          </a:prstGeom>
          <a:blipFill rotWithShape="0">
            <a:blip r:embed="rId2"/>
            <a:srcRect/>
            <a:stretch/>
          </a:blip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Documents"/>
          <p:cNvSpPr/>
          <p:nvPr/>
        </p:nvSpPr>
        <p:spPr>
          <a:xfrm>
            <a:off x="4286160" y="1889280"/>
            <a:ext cx="4857840" cy="496872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ان للخليل بن أحمد الفراهيدي فضل استنباط علمي العروض والقاف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وضع المصطلحات لهما وتقديم نظرية متوازنة منكاملة عن أوزان الشعر وشروطه مما تواضع عليه العرب من قديم زمانه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واصطلحوا على قسمة هذا الفن إلى عنوانين اثنين يكمل أحدهما الآخر : علم العروض وعلم القافية وأكثر العلماء ألفوا في الاثنين معاً وفيهم من أفرد واحداً بالتأليف أو لم يصل إلينا إلا شطر مما أل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ونعرض أشهر الكتب المؤلفة في العروض والقافية</a:t>
            </a:r>
            <a:endParaRPr b="0" lang="en-US" sz="1800" spc="-1" strike="noStrike">
              <a:solidFill>
                <a:srgbClr val="000000"/>
              </a:solidFill>
              <a:latin typeface="Arial"/>
            </a:endParaRPr>
          </a:p>
        </p:txBody>
      </p:sp>
      <p:sp>
        <p:nvSpPr>
          <p:cNvPr id="78" name="Letter"/>
          <p:cNvSpPr/>
          <p:nvPr/>
        </p:nvSpPr>
        <p:spPr>
          <a:xfrm>
            <a:off x="684360" y="404640"/>
            <a:ext cx="3527280" cy="201636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79" name="Rectangle 8"/>
          <p:cNvSpPr/>
          <p:nvPr/>
        </p:nvSpPr>
        <p:spPr>
          <a:xfrm>
            <a:off x="714240" y="726480"/>
            <a:ext cx="3286440" cy="1739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كتاب القوافي للأخفش وهو من أقدم الكتب المؤلفة في موضوع القوافي وهو تلميذ الخليل بن أحمد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وكتاب ( القوافي وما اشتقت ألقابها منها ) لأبي العباس المبرد</a:t>
            </a:r>
            <a:endParaRPr b="0" lang="en-US" sz="1800" spc="-1" strike="noStrike">
              <a:solidFill>
                <a:srgbClr val="000000"/>
              </a:solidFill>
              <a:latin typeface="Arial"/>
            </a:endParaRPr>
          </a:p>
        </p:txBody>
      </p:sp>
      <p:sp>
        <p:nvSpPr>
          <p:cNvPr id="80" name="Letter"/>
          <p:cNvSpPr/>
          <p:nvPr/>
        </p:nvSpPr>
        <p:spPr>
          <a:xfrm>
            <a:off x="500040" y="2714760"/>
            <a:ext cx="3600360" cy="180000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81" name="Rectangle 9"/>
          <p:cNvSpPr/>
          <p:nvPr/>
        </p:nvSpPr>
        <p:spPr>
          <a:xfrm>
            <a:off x="1214280" y="3293640"/>
            <a:ext cx="2143440" cy="916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7030a0"/>
                </a:solidFill>
                <a:latin typeface="Arial"/>
                <a:cs typeface="Times New Roman"/>
              </a:rPr>
              <a:t>وكتاب العروض من تأليف أبي الفتح عثمان بن جني </a:t>
            </a:r>
            <a:endParaRPr b="0" lang="en-US" sz="1800" spc="-1" strike="noStrike">
              <a:solidFill>
                <a:srgbClr val="000000"/>
              </a:solidFill>
              <a:latin typeface="Arial"/>
            </a:endParaRPr>
          </a:p>
        </p:txBody>
      </p:sp>
      <p:sp>
        <p:nvSpPr>
          <p:cNvPr id="82" name="مستطيل 10"/>
          <p:cNvSpPr/>
          <p:nvPr/>
        </p:nvSpPr>
        <p:spPr>
          <a:xfrm>
            <a:off x="785880" y="5143680"/>
            <a:ext cx="2928960" cy="13572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يعد ابن عبد ربه الأندلسي في كتابه العقد الفريد أول من خصص في كتاب أدبي واسع جزءاً مستقلا من كتابه لعلمي العروض والقوافي </a:t>
            </a:r>
            <a:endParaRPr b="0" lang="en-US" sz="1800" spc="-1" strike="noStrike">
              <a:solidFill>
                <a:srgbClr val="000000"/>
              </a:solidFill>
              <a:latin typeface="Arial"/>
            </a:endParaRPr>
          </a:p>
        </p:txBody>
      </p:sp>
      <p:sp>
        <p:nvSpPr>
          <p:cNvPr id="83" name="مستطيل 11"/>
          <p:cNvSpPr/>
          <p:nvPr/>
        </p:nvSpPr>
        <p:spPr>
          <a:xfrm>
            <a:off x="5072040" y="285840"/>
            <a:ext cx="3286080" cy="1000080"/>
          </a:xfrm>
          <a:prstGeom prst="rect">
            <a:avLst/>
          </a:prstGeom>
          <a:solidFill>
            <a:srgbClr val="d8c6d7"/>
          </a:soli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تأليف في علم العرو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AutoShape 4"/>
          <p:cNvSpPr/>
          <p:nvPr/>
        </p:nvSpPr>
        <p:spPr>
          <a:xfrm>
            <a:off x="3214800" y="1357200"/>
            <a:ext cx="5616360" cy="3745080"/>
          </a:xfrm>
          <a:prstGeom prst="verticalScroll">
            <a:avLst>
              <a:gd name="adj" fmla="val 125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ff"/>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ff"/>
                </a:solidFill>
                <a:latin typeface="Arial"/>
              </a:rPr>
              <a:t>  </a:t>
            </a:r>
            <a:endParaRPr b="0" lang="en-US" sz="3600" spc="-1" strike="noStrike">
              <a:solidFill>
                <a:srgbClr val="000000"/>
              </a:solidFill>
              <a:latin typeface="Arial"/>
            </a:endParaRPr>
          </a:p>
        </p:txBody>
      </p:sp>
      <p:sp>
        <p:nvSpPr>
          <p:cNvPr id="85" name="AutoShape 5"/>
          <p:cNvSpPr/>
          <p:nvPr/>
        </p:nvSpPr>
        <p:spPr>
          <a:xfrm>
            <a:off x="755640" y="836640"/>
            <a:ext cx="2673360" cy="3021120"/>
          </a:xfrm>
          <a:prstGeom prst="horizontalScrol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66"/>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3T12:55:30Z</dcterms:created>
  <dc:creator>acer</dc:creator>
  <dc:description/>
  <dc:language>en-US</dc:language>
  <cp:lastModifiedBy>acer</cp:lastModifiedBy>
  <dcterms:modified xsi:type="dcterms:W3CDTF">2011-12-25T14:27:55Z</dcterms:modified>
  <cp:revision>5</cp:revision>
  <dc:subject/>
  <dc:title>الشريحة 1</dc:title>
</cp:coreProperties>
</file>