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56A-7312-48A0-BE79-44EE3D11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15CF-1458-4AC7-AF4B-3485F590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4C7-2D06-49A8-8B23-C1E7E403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5892-C157-4E22-835D-17859EAD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B3DD-4D66-46E7-BFE1-0378D756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1613-C92F-4F6B-960F-FC8FF5BA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EA86-55EF-4143-941E-103B5AF0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CC72-65D3-49BF-B854-7B04B2C3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CCA5-C06B-478C-855E-34EDAD1B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8EDF-2409-4FAB-9D32-F9DFD400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D3B2-EDD3-4EC2-AFA3-E29907E5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E081-90A0-43FF-AAF6-8CC8F157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3243-0726-4C8F-888F-CDAFDE07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56E4-1FAC-420D-AA51-ECCE3B0B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EA31-48CF-430B-B7B3-E0F977CA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104B-3765-45BD-8B49-F35306D1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929A-9CCF-499E-A9F7-C0066633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298-A4EE-40A4-AD72-487899B7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8CB-D6F9-43F9-8EE7-D1444D3E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44E-F6C5-4CF2-9352-577106CD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EFA-16C5-432E-9C48-185B6CC7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7EC-BB40-47AA-A115-A50E4BCB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14D-3235-4A5B-B387-069A1502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BE4-33DA-451E-92A2-34AF0CDD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DB4A-EC6A-4217-9200-DEBB0E6A3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8C0B-9F8E-4789-91DB-AB24A6D9FC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eec94"/>
                </a:solidFill>
                <a:latin typeface="Times New Roman"/>
              </a:rPr>
              <a:t>المعاملة الحرارية والجودة التغذوية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826920" y="2276280"/>
            <a:ext cx="75614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غرض من المعاملة الحرا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قضاء على الأحياء الدقيقة الخط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تحطيم مضادات التغذ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خواص الحسية المرغوب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i-IN" sz="3200" spc="-1" strike="noStrike">
                <a:solidFill>
                  <a:srgbClr val="ffffff"/>
                </a:solidFill>
                <a:latin typeface="Times New Roman"/>
              </a:rPr>
              <a:t>القوا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التحولات غير المرتبطة بالسكريات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ارتباط عرضي للأحماض الأمينية في السلاسل الجانبية يحفز بالمعاملات الحرارية للأغذية خاصة تحت الظروف القاعدية ( تحضير مركزات البروتين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ثابتة خلال التحلل الحامضي للبروتي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مهمة في ضبط الجودة كمؤشرات جزيئية للعمليات المستخدمة في تحضير الغذاء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من أكثر الأحماض الأمينية المرتبطة عرضا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(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ysinoalan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درس من حيث تأثيره على النشاط الوظيفي للبروتين والقيمة التغذو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- يؤثر على عمل الإنزيمات ( ↓ هضم البروتين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- التوافر الحيوي للعناصر المعدن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   - احتمال السمية على الكل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تمت دراسته على أغذية الأطفال ( جميع الفئات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طرق المعاملات الحديثة قللت من تركيزه في أغذية الأطفا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النقل الأيضي والتأثيرات الداخلية لمنتجات تفاعل ميلارد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آليات مختلفة قد تشترك في النقل الأيضي لمنتجات تفاعل ميلارد الأولية والمتقدم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التحطم المعوي بالهضم أو بإنزيمات الميكروبات وبالتالي ادمصاص منتجات تفاعل ميلارد أو منتجات تحطمه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تمثيل منتجات تفاعل ميلارد نفسها أو منتجات تحطمها ومن المحتمل أن أي منها لا يعمل كمنتجات أيضية فاعل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 آليات احتفاظ مختلفة في الأنسجة والأعضاء العديد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النشاط المضاد للأكسد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تقسم تأثيرات منتجات تفاعل ميلارد 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lanoidin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في الجسم إل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- تأثيرات ابتدائي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- تأثيرات ثانوية ( تفاعلاها مع عناصر أخرى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تأثير الابتدائي المهم للتلون البني تكون مضادات الأكس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- فترة صلاحية الغذا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    - منع السرطان وأمراض القلب والهرم ( ؟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* مثال على التصنيع وتكون مضادات الأكسدة استخدام التحميص ( لحد معين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تكون المركبات السام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نتيجة السلبية للمعاملة الحرارية احتمال تكون الأمينات الحلقية المتغايرة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Heterocyclic amine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عالية التطفر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حتوي على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0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مادة مشتقة مختلفة في الأغذية العضلية المعاملة بالحرارة وتقسم إلى قسم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amino-carboline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amino-imidazo-azaarene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(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AIA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طلق على القسم الأول منتجات التحلل الحراري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pyrolysis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لأنها عزلت من مكثفات التدخين ( ليست مسببة للطفرات ولكن قد تكون مرافقة لها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طلق على القسم الثاني المطفرات الحرارية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- تبدأ بالتحطم بزيادة التسخ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- درجة الحرارة  ومدة الطبخ معياران لتحديد كميتها خاصة درجة الحرار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- توجد أكثر في  سطح اللحوم والأسماك المشوية والمقلية وبقايا الغذاء في وعاء الطبخ وبكميات أقل في داخل اللح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- قد تستخدم بقايا الطبخ في الوعاء لعمل الـ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gravy</a:t>
            </a: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* المركبات الحلقية مسببة للسرطان في الفئران والجرذان والثدييات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* قد تنشط كبد الإنسان خلال التمثيل بعض المركبات الحلقي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التفاعلات التي تحدث خلال المعاملة الحرار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568240"/>
            <a:ext cx="8229600" cy="35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نترة البروتينات ( تثبيط نشاط الإنزيمات .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نع الأكسدة الذاتية للدهو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تحولات المكونات الثانو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تفاعلات المتعلقة بالأحماض الأمينية الحرة أو المرتبطة بالبروت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تفاعلات الأحماض الأمين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تحطم و/ أو إتحاد جزيئي بيني أو داخلي لجسور ثنائي الكبري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تفاعلات السلاسل الجانبية الحمضية والقاعدية للأحماض الأمينية لإعطاء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peptides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( مثل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ys+ Aps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تفاعلات المرتبطة بالسلاسل الجانبية للأحماض الأمينية مع السكريات المختزلة ( تفاعل ميلارد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تفاعلات المرتبطة بالسلاسل الجانبية للأحماض الأمينية من خلال ترك حذف مجموعة ( منتجات أيضية فعالة تنتج أحماض أمينية خليطة مرتبط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تفاعل ميلار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تلون بني لا إنزيم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يؤثر على القيمة التغذوية للأغذ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- فقد في الجودة التغذوية والسلام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--- تحطم الأحماض الأمينية الأساس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--- تثبيط نشاط الفيتامينا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--- مواد مضادة للتغذية أو سام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* لا يخلو الأمر من تأثيرات إيجابية كبير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المواد المتفاعلة في تفاعل ميلار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سكريات المختزل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- فعالة جداً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←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Pentoses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ribose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arabinose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,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xylos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- أقل فعالية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←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Hexose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الجلوكوز والفركتو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- تتفاعل ببطء أكب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المالتوز واللاكتو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- سكريات غير مختزل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-- السكروز أو سكريات مرتبطة : قد تتحول إلى سكريات غير مختزل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--- الحرار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 --- التخمير ( الكوكا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. البروتينات أو الأحماض الأمينية الحرة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- توجد أصلاً في المادة الخا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- تنتج بالتخمي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التقسيم الوظيفي لمنتجات تفاعل ميلار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630520" y="1697040"/>
            <a:ext cx="3813120" cy="4240080"/>
            <a:chOff x="2630520" y="1697040"/>
            <a:chExt cx="3813120" cy="4240080"/>
          </a:xfrm>
        </p:grpSpPr>
        <p:sp>
          <p:nvSpPr>
            <p:cNvPr id="132" name="_s7199"/>
            <p:cNvSpPr/>
            <p:nvPr/>
          </p:nvSpPr>
          <p:spPr>
            <a:xfrm flipH="1" flipV="1">
              <a:off x="3614760" y="3284280"/>
              <a:ext cx="463680" cy="26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7198"/>
            <p:cNvSpPr/>
            <p:nvPr/>
          </p:nvSpPr>
          <p:spPr>
            <a:xfrm>
              <a:off x="2630520" y="2494080"/>
              <a:ext cx="1058760" cy="1058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ffff"/>
                  </a:solidFill>
                  <a:latin typeface="Arial"/>
                </a:rPr>
                <a:t>مواد الطع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7197"/>
            <p:cNvSpPr/>
            <p:nvPr/>
          </p:nvSpPr>
          <p:spPr>
            <a:xfrm flipH="1">
              <a:off x="3614760" y="4081320"/>
              <a:ext cx="465120" cy="266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7196"/>
            <p:cNvSpPr/>
            <p:nvPr/>
          </p:nvSpPr>
          <p:spPr>
            <a:xfrm>
              <a:off x="2630520" y="4083120"/>
              <a:ext cx="1058760" cy="1058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ffff"/>
                  </a:solidFill>
                  <a:latin typeface="Arial"/>
                </a:rPr>
                <a:t>مواد سام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_s7195"/>
            <p:cNvSpPr/>
            <p:nvPr/>
          </p:nvSpPr>
          <p:spPr>
            <a:xfrm>
              <a:off x="4535640" y="4343400"/>
              <a:ext cx="1440" cy="53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_s7194"/>
            <p:cNvSpPr/>
            <p:nvPr/>
          </p:nvSpPr>
          <p:spPr>
            <a:xfrm>
              <a:off x="4006800" y="4878360"/>
              <a:ext cx="1058760" cy="1058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600" spc="-1" strike="noStrike">
                  <a:solidFill>
                    <a:srgbClr val="00ffff"/>
                  </a:solidFill>
                  <a:latin typeface="Arial"/>
                </a:rPr>
                <a:t>م</a:t>
              </a:r>
              <a:r>
                <a:rPr b="0" lang="hi-IN" sz="1600" spc="-1" strike="noStrike">
                  <a:solidFill>
                    <a:srgbClr val="ffffff"/>
                  </a:solidFill>
                  <a:latin typeface="Arial"/>
                </a:rPr>
                <a:t>اسكة للمعادن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7191"/>
            <p:cNvSpPr/>
            <p:nvPr/>
          </p:nvSpPr>
          <p:spPr>
            <a:xfrm>
              <a:off x="4992840" y="4079880"/>
              <a:ext cx="463320" cy="268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_s7190"/>
            <p:cNvSpPr/>
            <p:nvPr/>
          </p:nvSpPr>
          <p:spPr>
            <a:xfrm>
              <a:off x="5384880" y="4083120"/>
              <a:ext cx="1058760" cy="1058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-1" strike="noStrike">
                  <a:solidFill>
                    <a:srgbClr val="ff3399"/>
                  </a:solidFill>
                  <a:latin typeface="Arial"/>
                </a:rPr>
                <a:t>م</a:t>
              </a:r>
              <a:r>
                <a:rPr b="0" lang="hi-IN" sz="1200" spc="-1" strike="noStrike">
                  <a:solidFill>
                    <a:srgbClr val="ffffff"/>
                  </a:solidFill>
                  <a:latin typeface="Arial"/>
                </a:rPr>
                <a:t>ضادات أكسدة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7189"/>
            <p:cNvSpPr/>
            <p:nvPr/>
          </p:nvSpPr>
          <p:spPr>
            <a:xfrm flipV="1">
              <a:off x="4992840" y="3285720"/>
              <a:ext cx="463320" cy="266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7188"/>
            <p:cNvSpPr/>
            <p:nvPr/>
          </p:nvSpPr>
          <p:spPr>
            <a:xfrm>
              <a:off x="5384880" y="2492280"/>
              <a:ext cx="1058760" cy="1059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ffff"/>
                  </a:solidFill>
                  <a:latin typeface="Arial"/>
                </a:rPr>
                <a:t>مركبات بني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7187"/>
            <p:cNvSpPr/>
            <p:nvPr/>
          </p:nvSpPr>
          <p:spPr>
            <a:xfrm flipV="1">
              <a:off x="4535640" y="2754360"/>
              <a:ext cx="0" cy="53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7186"/>
            <p:cNvSpPr/>
            <p:nvPr/>
          </p:nvSpPr>
          <p:spPr>
            <a:xfrm>
              <a:off x="4006800" y="1697040"/>
              <a:ext cx="1058760" cy="1058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ffff"/>
                  </a:solidFill>
                  <a:latin typeface="Arial"/>
                </a:rPr>
                <a:t>مركبات طيار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7185"/>
            <p:cNvSpPr/>
            <p:nvPr/>
          </p:nvSpPr>
          <p:spPr>
            <a:xfrm>
              <a:off x="4006800" y="3289320"/>
              <a:ext cx="1058760" cy="1058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66ff"/>
                  </a:solidFill>
                  <a:latin typeface="Arial"/>
                </a:rPr>
                <a:t>تفاعل ميلار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الأهمية التغذوية والمؤشرات الجزيئية لتفاعل ميلارد في الغذاء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تركز الاهتمام الأكبر على الحليب ومنتجاته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تحطم الكربوهيدرات لا يشكل أهمي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التحطم غير الرجعي للأحماض الأمينية الأساسية في البروتين ( الأحماض الأمينية الحرة قليلة في الغذاء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أكثر التأثيرات ذات الصلة بالتغذية لتفاعل ميلار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   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lycosyla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( اللإنزيمي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    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ysin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( أكثرها تأثراً , التوافر الحيوي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 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المنتجات الأولى لـ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lyca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←منتج امادوري (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uctosyllysine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 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يرتبط مع مجموعات الأمين الأخرى في داخل أو بين الجز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 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يطلق على التكتلات الناتجة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GEs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(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vanced Glycation End Products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تابع الأهمية التغذوية.....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واف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Lys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مؤشر تغذوي مهم ( أغذية الأطفال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قد معنوي لـ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Lys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المتوفر (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٪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قترحت منتجات مختلفة لتفاعل ميلارد كمؤشرات لـ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glycosylation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Fructosyllys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( غير ثابت في الظروف الحامضية لتحلل البروتين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-- ينتج حوالي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٪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Furos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pyridos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وحوالي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50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٪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L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-- تحديد كمية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furos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تقدير جيد للـ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Lys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غير المتوفر تغذويا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N-carboxymethyllys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(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CM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hydroxymethylfurfura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(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HMF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Pyrrolelysine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( مناسب للأغذية الجافة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Lysinoalan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elanoidi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تتكون خلال المعاملات الحرارية المتوسطة الشدة أو معاملات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يصعب فيها ملاحظة التغيرات على شكل الغذا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تتكون خلال الخبز وتحميص القهوة والمكسرات وتحمير اللح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تركيبها معقد وصعب التحدي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سكريات المختزلة والمركبات التي تمتلك مجموعة أمين حرة مسئولة عن تكونه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لها نشاط مضاد للأكسدة ( شدة التحميص تلغي هذه الخاصية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20:03:59Z</dcterms:created>
  <dc:creator>MyName</dc:creator>
  <dc:description/>
  <dc:language>en-US</dc:language>
  <cp:lastModifiedBy>MyName</cp:lastModifiedBy>
  <dcterms:modified xsi:type="dcterms:W3CDTF">2005-10-11T21:55:12Z</dcterms:modified>
  <cp:revision>41</cp:revision>
  <dc:subject/>
  <dc:title>المعاملة الحرارية والجودة التغذوية</dc:title>
</cp:coreProperties>
</file>