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A28C-67DE-46AA-9456-AD03C01C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359C-0D11-42ED-877F-E883A311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CD89-63F4-4C3E-8658-BEF224AB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99F0-1E93-44DF-9F7B-D5EB7DF8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6AE0-6A19-4E0F-8396-4EA3D6AA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28A8-35B3-461B-92AF-7EC63BFE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BCB5-F993-4D78-A3C0-8AD2DFA0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81A8-262C-428C-940A-DD4EF988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42FE-66DA-4CBA-BD4C-1208D7D3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4C50-4DB6-439B-8C11-AB343633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3C97-AAF4-44A8-BFE3-9C33CDB7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357-A821-4715-8207-07AB0FAA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0CB0-D323-47E5-B3A1-7C54877A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54EE-B9A9-4BDF-B3CD-B707A5B2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4671-20EB-4FC0-BE73-E7D075ED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0D63-347D-425E-9CA4-91AB9B26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1960-B5E9-47D2-83D8-A2D1CD4F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6DC-4524-4F0A-95C7-8468C051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574-DB74-4843-B29C-43584D80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DA4D-2613-4B79-98A1-2E3D15DA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12D6-D74C-4DED-AE56-4685F54A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FD6E-1875-43F3-AACC-9E7BDA1C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0E43-3E4D-4A70-A3E1-D89614E5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FC03-3208-4557-A015-BAA1EB0D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59BE-7729-44B5-A101-E79DCDAC1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E6A5-1AB5-43E9-B5F4-3A114BBAA7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eec94"/>
                </a:solidFill>
                <a:latin typeface="Times New Roman"/>
              </a:rPr>
              <a:t>المعاملة الحرارية والجودة التغذوية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26920" y="2276280"/>
            <a:ext cx="75614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غرض من المعاملة الحرار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قضاء على الأحياء الدقيقة الخط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تحطيم مضادات التغذ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خواص الحسية المرغوب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قوا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التحولات غير المرتبطة بالسكريات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ارتباط عرضي للأحماض الأمينية في السلاسل الجانبية يحفز بالمعاملات الحرارية للأغذية خاصة تحت الظروف القاعدية ( تحضير مركزات البروتين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ثابتة خلال التحلل الحامضي للبروتي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مهمة في ضبط الجودة كمؤشرات جزيئية للعمليات المستخدمة في تحضير الغذاء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من أكثر الأحماض الأمينية المرتبطة عرضاً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L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(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ysinoalani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درس من حيث تأثيره على النشاط الوظيفي للبروتين والقيمة التغذو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- يؤثر على عمل الإنزيمات ( ↓ هضم البروتين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- التوافر الحيوي للعناصر المعدن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- احتمال السمية على الكل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مت دراسته على أغذية الأطفال ( جميع الفئات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طرق المعاملات الحديثة قللت من تركيزه في أغذية الأطفا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النقل الأيضي والتأثيرات الداخلية لمنتجات تفاعل ميلارد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آليات مختلفة قد تشترك في النقل الأيضي لمنتجات تفاعل ميلارد الأولية والمتقدمة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التحطم المعوي بالهضم أو بإنزيمات الميكروبات وبالتالي ادمصاص منتجات تفاعل ميلارد أو منتجات تحطمه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تمثيل منتجات تفاعل ميلارد نفسها أو منتجات تحطمها ومن المحتمل أن أي منها لا يعمل كمنتجات أيضية فاعل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آليات احتفاظ مختلفة في الأنسجة والأعضاء العديد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النشاط المضاد للأكسد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تقسم تأثيرات منتجات تفاعل ميلارد و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lanoidin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في الجسم إل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- تأثيرات ابتدائي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- تأثيرات ثانوية ( تفاعلاها مع عناصر أخرى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تأثير الابتدائي المهم للتلون البني تكون مضادات الأكس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- فترة صلاحية الغذا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- منع السرطان وأمراض القلب والهرم ( ؟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* مثال على التصنيع وتكون مضادات الأكسدة استخدام التحميص ( لحد معين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تكون المركبات السام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نتيجة السلبية للمعاملة الحرارية احتمال تكون الأمينات الحلقية المتغايرة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Heterocyclic amines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عالية التطفر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حتوي على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0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مادة مشتقة مختلفة في الأغذية العضلية المعاملة بالحرارة وتقسم إلى قسمي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amino-carbolines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amino-imidazo-azaarenes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(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AIAs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طلق على القسم الأول منتجات التحلل الحراري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pyrolysis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لأنها عزلت من مكثفات التدخين ( ليست مسببة للطفرات ولكن قد تكون مرافقة لها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طلق على القسم الثاني المطفرات الحرارية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- تبدأ بالتحطم بزيادة التسخي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- درجة الحرارة  ومدة الطبخ معياران لتحديد كميتها خاصة درجة الحرار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- توجد أكثر في  سطح اللحوم والأسماك المشوية والمقلية وبقايا الغذاء في وعاء الطبخ وبكميات أقل في داخل اللح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- قد تستخدم بقايا الطبخ في الوعاء لعمل الـ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gravy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* المركبات الحلقية مسببة للسرطان في الفئران والجرذان والثدييات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* قد تنشط كبد الإنسان خلال التمثيل بعض المركبات الحلقي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التفاعلات التي تحدث خلال المعاملة الحراري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568240"/>
            <a:ext cx="8229600" cy="35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نترة البروتينات ( تثبيط نشاط الإنزيمات .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نع الأكسدة الذاتية للدهو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تحولات المكونات الثانو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تفاعلات المتعلقة بالأحماض الأمينية الحرة أو المرتبطة بالبروتي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تفاعلات الأحماض الأميني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تحطم و/ أو إتحاد جزيئي بيني أو داخلي لجسور ثنائي الكبري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تفاعلات السلاسل الجانبية الحمضية والقاعدية للأحماض الأمينية لإعطاء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peptides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( مثل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ys+ Aps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تفاعلات المرتبطة بالسلاسل الجانبية للأحماض الأمينية مع السكريات المختزلة ( تفاعل ميلارد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R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تفاعلات المرتبطة بالسلاسل الجانبية للأحماض الأمينية من خلال ترك حذف مجموعة ( منتجات أيضية فعالة تنتج أحماض أمينية خليطة مرتبط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تفاعل ميلارد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تلون بني لا إنزيم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يؤثر على القيمة التغذوية للأغذ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- فقد في الجودة التغذوية والسلام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--- تحطم الأحماض الأمينية الأساس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--- تثبيط نشاط الفيتامين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--- مواد مضادة للتغذية أو سام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* لا يخلو الأمر من تأثيرات إيجابية كبي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المواد المتفاعلة في تفاعل ميلارد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سكريات المختزل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- فعالة جداً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←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Pentoses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ribose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arabinose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xylos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- أقل فعالية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←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Hexose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الجلوكوز والفركتو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- تتفاعل ببطء أكب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المالتوز واللاكتو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- سكريات غير مختزل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-- السكروز أو سكريات مرتبطة : قد تتحول إلى سكريات غير مختزل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--- الحرار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--- التخمير ( الكوكا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. البروتينات أو الأحماض الأمينية الحرة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- توجد أصلاً في المادة الخا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- تنتج بالتخمي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التقسيم الوظيفي لمنتجات تفاعل ميلارد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630520" y="1697040"/>
            <a:ext cx="3813120" cy="4240080"/>
            <a:chOff x="2630520" y="1697040"/>
            <a:chExt cx="3813120" cy="4240080"/>
          </a:xfrm>
        </p:grpSpPr>
        <p:sp>
          <p:nvSpPr>
            <p:cNvPr id="132" name="_s7199"/>
            <p:cNvSpPr/>
            <p:nvPr/>
          </p:nvSpPr>
          <p:spPr>
            <a:xfrm flipH="1" flipV="1">
              <a:off x="3614760" y="3284280"/>
              <a:ext cx="463680" cy="26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7198"/>
            <p:cNvSpPr/>
            <p:nvPr/>
          </p:nvSpPr>
          <p:spPr>
            <a:xfrm>
              <a:off x="2630520" y="2494080"/>
              <a:ext cx="1058760" cy="1058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ffffff"/>
                  </a:solidFill>
                  <a:latin typeface="Arial"/>
                </a:rPr>
                <a:t>مواد الطع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7197"/>
            <p:cNvSpPr/>
            <p:nvPr/>
          </p:nvSpPr>
          <p:spPr>
            <a:xfrm flipH="1">
              <a:off x="3614760" y="4081320"/>
              <a:ext cx="465120" cy="266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7196"/>
            <p:cNvSpPr/>
            <p:nvPr/>
          </p:nvSpPr>
          <p:spPr>
            <a:xfrm>
              <a:off x="2630520" y="4083120"/>
              <a:ext cx="1058760" cy="1058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ffffff"/>
                  </a:solidFill>
                  <a:latin typeface="Arial"/>
                </a:rPr>
                <a:t>مواد سام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7195"/>
            <p:cNvSpPr/>
            <p:nvPr/>
          </p:nvSpPr>
          <p:spPr>
            <a:xfrm>
              <a:off x="4535640" y="4343400"/>
              <a:ext cx="1440" cy="536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7194"/>
            <p:cNvSpPr/>
            <p:nvPr/>
          </p:nvSpPr>
          <p:spPr>
            <a:xfrm>
              <a:off x="4006800" y="4878360"/>
              <a:ext cx="1058760" cy="1058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600" spc="-1" strike="noStrike">
                  <a:solidFill>
                    <a:srgbClr val="00ffff"/>
                  </a:solidFill>
                  <a:latin typeface="Arial"/>
                </a:rPr>
                <a:t>م</a:t>
              </a:r>
              <a:r>
                <a:rPr b="0" lang="hi-IN" sz="1600" spc="-1" strike="noStrike">
                  <a:solidFill>
                    <a:srgbClr val="ffffff"/>
                  </a:solidFill>
                  <a:latin typeface="Arial"/>
                </a:rPr>
                <a:t>اسكة للمعادن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7191"/>
            <p:cNvSpPr/>
            <p:nvPr/>
          </p:nvSpPr>
          <p:spPr>
            <a:xfrm>
              <a:off x="4992840" y="4079880"/>
              <a:ext cx="463320" cy="268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7190"/>
            <p:cNvSpPr/>
            <p:nvPr/>
          </p:nvSpPr>
          <p:spPr>
            <a:xfrm>
              <a:off x="5384880" y="4083120"/>
              <a:ext cx="1058760" cy="1058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ff3399"/>
                  </a:solidFill>
                  <a:latin typeface="Arial"/>
                </a:rPr>
                <a:t>م</a:t>
              </a:r>
              <a:r>
                <a:rPr b="0" lang="hi-IN" sz="1200" spc="-1" strike="noStrike">
                  <a:solidFill>
                    <a:srgbClr val="ffffff"/>
                  </a:solidFill>
                  <a:latin typeface="Arial"/>
                </a:rPr>
                <a:t>ضادات أكسدة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7189"/>
            <p:cNvSpPr/>
            <p:nvPr/>
          </p:nvSpPr>
          <p:spPr>
            <a:xfrm flipV="1">
              <a:off x="4992840" y="3285720"/>
              <a:ext cx="463320" cy="266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7188"/>
            <p:cNvSpPr/>
            <p:nvPr/>
          </p:nvSpPr>
          <p:spPr>
            <a:xfrm>
              <a:off x="5384880" y="2492280"/>
              <a:ext cx="1058760" cy="1059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ffffff"/>
                  </a:solidFill>
                  <a:latin typeface="Arial"/>
                </a:rPr>
                <a:t>مركبات بني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7187"/>
            <p:cNvSpPr/>
            <p:nvPr/>
          </p:nvSpPr>
          <p:spPr>
            <a:xfrm flipV="1">
              <a:off x="4535640" y="2754360"/>
              <a:ext cx="0" cy="534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7186"/>
            <p:cNvSpPr/>
            <p:nvPr/>
          </p:nvSpPr>
          <p:spPr>
            <a:xfrm>
              <a:off x="4006800" y="1697040"/>
              <a:ext cx="1058760" cy="1058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ffffff"/>
                  </a:solidFill>
                  <a:latin typeface="Arial"/>
                </a:rPr>
                <a:t>مركبات طيار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7185"/>
            <p:cNvSpPr/>
            <p:nvPr/>
          </p:nvSpPr>
          <p:spPr>
            <a:xfrm>
              <a:off x="4006800" y="3289320"/>
              <a:ext cx="1058760" cy="1058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66ff"/>
                  </a:solidFill>
                  <a:latin typeface="Arial"/>
                </a:rPr>
                <a:t>تفاعل ميلار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الأهمية التغذوية والمؤشرات الجزيئية لتفاعل ميلارد في الغذاء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تركز الاهتمام الأكبر على الحليب ومنتجاته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تحطم الكربوهيدرات لا يشكل أهمي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التحطم غير الرجعي للأحماض الأمينية الأساسية في البروتين ( الأحماض الأمينية الحرة قليلة في الغذاء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أكثر التأثيرات ذات الصلة بالتغذية لتفاعل ميلار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                            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lycosyla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 ( اللإنزيمي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                             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ysin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( أكثرها تأثراً , التوافر الحيوي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                          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                         المنتجات الأولى لـ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lyca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←منتج امادوري (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ructosyllysine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                          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                   يرتبط مع مجموعات الأمين الأخرى في داخل أو بين الجز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                          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                يطلق على التكتلات الناتجة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GEs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(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vanced Glycation End Products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تابع الأهمية التغذوية.....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وافر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Lys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مؤشر تغذوي مهم ( أغذية الأطفال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قد معنوي لـ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Lys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متوفر (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٪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قترحت منتجات مختلفة لتفاعل ميلارد كمؤشرات لـ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glycosylation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Fructosyllysi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( غير ثابت في الظروف الحامضية لتحلل البروتين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-- ينتج حوالي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3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٪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Furosi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pyridosi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حوالي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5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٪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L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-- تحديد كم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furosi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قدير جيد للـ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Lys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غير المتوفر تغذويا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N-carboxymethyllysi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(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CML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hydroxymethylfurfural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(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HMF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Pyrrolelysi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( مناسب للأغذية الجافة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Lysinoalan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elanoidi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تتكون خلال المعاملات الحرارية المتوسطة الشدة أو معاملات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يصعب فيها ملاحظة التغيرات على شكل الغذا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تتكون خلال الخبز وتحميص القهوة والمكسرات وتحمير اللح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تركيبها معقد وصعب التحدي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سكريات المختزلة والمركبات التي تمتلك مجموعة أمين حرة مسئولة عن تكونه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لها نشاط مضاد للأكسدة ( شدة التحميص تلغي هذه الخاصية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20:03:59Z</dcterms:created>
  <dc:creator>MyName</dc:creator>
  <dc:description/>
  <dc:language>en-US</dc:language>
  <cp:lastModifiedBy>MyName</cp:lastModifiedBy>
  <dcterms:modified xsi:type="dcterms:W3CDTF">2005-10-11T21:55:12Z</dcterms:modified>
  <cp:revision>41</cp:revision>
  <dc:subject/>
  <dc:title>المعاملة الحرارية والجودة التغذوية</dc:title>
</cp:coreProperties>
</file>