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70C-D8CE-4D62-AA18-469AAB46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A03-3E0D-4768-8CBD-214B3447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286-1E45-4EF6-8C11-8F127CA6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AC9-0C6F-4890-8DA0-29DB8AAE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62D-01E6-4E52-9C77-4F31D4F9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D2D-E436-4D24-9545-A2120EDF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E3A-082C-4F61-83A1-D129906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CC5-10B7-432F-B337-53AF119C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136-A14F-4F87-BF16-FD538636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E16-2C04-4A0F-A8F9-A20BD22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559-ABA4-43FB-99E4-8F130AC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AE9-93C8-46E9-8CC8-C66A24D7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88E-3E0B-4135-99A2-F445A49B3D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886880" cy="785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ستهلاك الأصول الثابت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785520"/>
            <a:ext cx="9144000" cy="571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سب الاستهلاك بطريق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ريقة القسط الثاب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يتم حساب الاستهلاك وفقاً للمعادلة التا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القسط الثابت =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لفة الأصل- قيمة النفا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العمر الإنتاجي للأ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فبفرض أن  تكلفة الأصل ه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ريال، قيمة النفاية ه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ريال ، العمر الإنتاجي ل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نوات  يكون القسط الثابت على النحو التال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قسط الثابت =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10000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=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95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ري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قسط المتناق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357280"/>
          <a:ext cx="9144000" cy="378648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195560"/>
                <a:gridCol w="1522440"/>
                <a:gridCol w="1773360"/>
                <a:gridCol w="1158840"/>
                <a:gridCol w="880920"/>
              </a:tblGrid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قيمة الدفترية في نهاية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صاريف الاستهلا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عدل الاستهلا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قيمة الدفترية في بداية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جمع الاستهلاك في بداية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ك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ـــــــــــــــ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4305960" y="932400"/>
            <a:ext cx="4680360" cy="1008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Calibri"/>
              </a:rPr>
              <a:t>معدل القسط الثابت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/%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Calibri"/>
              </a:rPr>
              <a:t>معدل الاستهلاك السنوي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Calibri"/>
              </a:rPr>
              <a:t>مضاعف القسط الثابت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Calibri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3:17:59Z</dcterms:created>
  <dc:creator>user</dc:creator>
  <dc:description/>
  <dc:language>en-US</dc:language>
  <cp:lastModifiedBy>user</cp:lastModifiedBy>
  <dcterms:modified xsi:type="dcterms:W3CDTF">2010-10-29T21:13:29Z</dcterms:modified>
  <cp:revision>7</cp:revision>
  <dc:subject/>
  <dc:title>استهلاك الأصول الثابتة</dc:title>
</cp:coreProperties>
</file>