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D0B-9C8C-4B86-9990-5AAF11EE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A02-F85D-4D89-B062-D0148836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5D9-DAEF-44FD-BFBA-62E8C66A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839-ABDC-482F-B40A-770D6708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352-BC30-4778-8355-2158A4A1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CB5-87D3-4697-BC40-4A86D07B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740-89CD-49A6-A866-73F4CB7B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CF0-7963-4203-B122-C3ECDAE4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ADC-444A-45AF-97E5-7CEDE51A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0C7-E266-4820-9EA4-50C3F9B4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B65-18CF-4F48-B704-C2212FFF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902-98FF-4812-AFC5-C501B75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888F-14A5-4361-B26C-C82CF136F5E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886880" cy="785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ستهلاك الأصول الثابت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785520"/>
            <a:ext cx="9144000" cy="571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سب الاستهلاك بطريق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ريقة القسط الثاب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يتم حساب الاستهلاك وفقاً للمعادلة التا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القسط الثابت =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لفة الأصل- قيمة النفا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العمر الإنتاجي للأ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فبفرض أن  تكلفة الأصل ه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0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ريال، قيمة النفاية ه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0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ريال ، العمر الإنتاجي ل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نوات  يكون القسط الثابت على النحو التال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قسط الثابت =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10000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-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=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950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ري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00"/>
                </a:solidFill>
                <a:uFillTx/>
                <a:latin typeface="Calibri"/>
              </a:rPr>
              <a:t>القسط المتناق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2357280"/>
          <a:ext cx="9144000" cy="378648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195560"/>
                <a:gridCol w="1522440"/>
                <a:gridCol w="1773360"/>
                <a:gridCol w="1158840"/>
                <a:gridCol w="880920"/>
              </a:tblGrid>
              <a:tr h="120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قيمة الدفترية في نهاية الس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صاريف الاستهلا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عدل الاستهلا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قيمة الدفترية في بداية الس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جمع الاستهلاك في بداية الس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ك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س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ـــــــــــــــــــــــ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1"/>
          <p:cNvSpPr/>
          <p:nvPr/>
        </p:nvSpPr>
        <p:spPr>
          <a:xfrm>
            <a:off x="4305960" y="932400"/>
            <a:ext cx="4680360" cy="10087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Calibri"/>
              </a:rPr>
              <a:t>معدل القسط الثابت=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/%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20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Calibri"/>
              </a:rPr>
              <a:t>معدل الاستهلاك السنوي=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40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Calibri"/>
              </a:rPr>
              <a:t>مضاعف القسط الثابت=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20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Calibri"/>
              </a:rPr>
              <a:t>×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40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3:17:59Z</dcterms:created>
  <dc:creator>user</dc:creator>
  <dc:description/>
  <dc:language>en-US</dc:language>
  <cp:lastModifiedBy>user</cp:lastModifiedBy>
  <dcterms:modified xsi:type="dcterms:W3CDTF">2010-10-29T21:13:29Z</dcterms:modified>
  <cp:revision>7</cp:revision>
  <dc:subject/>
  <dc:title>استهلاك الأصول الثابتة</dc:title>
</cp:coreProperties>
</file>