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F4C-A079-43C8-A6A0-C19AC9C0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4B9-A511-4285-AB5B-88550F90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8080-3533-4575-A59E-3EB48464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BDA0-4D5C-401F-8D79-470D89E5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BF28-74BA-47B3-ADB3-9ABF33C0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2BB-6877-4A03-9FAC-54D5E498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7203-82E0-425D-A5F9-EB77F248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C2B-A675-4706-B699-045A5098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6B4-EACF-47B4-B48E-CEF1D46F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9FB0-8E13-47E0-9C70-5AC39B6A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1A3-961D-426D-A474-3E19F094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DC62-035C-4A82-A1CF-68630D0A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A8FC-5930-4DB1-96B3-7A7B8AA88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شروط لا إله إلاَّ الله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الأول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: العلم المنافي للجه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والمراد العلم بمعناها المراد منها نفياً وإثباتاً، قال الله سبحانه:[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َاعْلَمْ أَنَّهُ لَا إِلَهَ إِلَّا اللهُ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الثاني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: اليقين المنافي للش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بأن يكون قائلها مستيقناً بمـدلول هـذه الكلمة يقيناً جازمـاً، لا يدخـل فيـه الظن أو الشك، قال تعالى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إِنَّمَا المُؤْمِنُونَ الَّذِينَ آَمَنُوا بِاللهِ وَرَسُولِهِ ثُمَّ لَمْ يَرْتَابُوا وَجَاهَدُوا بِأَمْوَالِهِمْ وَأَنْفُسِهِمْ فِي سَبِيلِ اللهِ أُولَئِكَ هُمُ الصَّادِقُونَ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ثالث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القبول المنافي للر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لمراد القبول لما اقتضته هذه الكل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رابع: الانقياد المنافي للتر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لمراد الانقياد لما دلّت عليه مــن إخــلاص العبادة لله وحده وترك عبـادة ما سـواه، قـال عـز وج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َأَنِيبُوا إِلَى رَبِّكُمْ وَأَسْلِمُوا لَهُ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خامس: الصدق المنافي للكذب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هو أن يقولها صادقاً من قبله يواطئ قلبه لسانه، قال تعالى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[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*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أَحَسِبَ النَّاسُ أَنْ يُتْرَكُوا أَنْ يَقُولُوا آَمَنَّا وَهُمْ لَا يُفْتَنُونَ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سادس: الإخلاص المنافي للشر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هو تصفية العلم بالنية الصالحة عن جميع شوائب الشرك، قال تعالى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َمَا أُمِرُوا إِلَّا لِيَعْبُدُوا اللهَ مُخْلِصِينَ لَهُ الدِّينَ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سابع: المحبة المنافية للبغض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المراد المحبة لهذه الكلمة ولما اقتضته ودلّت عليه والمحبة لأهلها العاملين بها الملتزمين شروطها، وبغض ما ناقض ذلك من الشرك وأهل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َمِنَ النَّاسِ مَنْ يَتَّخِذُ مِنْ دُونِ اللهِ أَنْدَادًا يُحِبُّونَهُمْ كَحُبِّ اللهِ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 {البقرة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65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العبا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معنى العبادة لغة وشرعا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في اللغة : الذل والخضوع والتعب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والعبودية نوعا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قسرية واختيارية، فالعبد يراد به المعبَّد الذي عبّده الله، فذللـه ودبّر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ويراد به العابد، وهو الذي يقرّ بأنَّ الله خالقه ومالكه ومدبره، وأنَّه المستحق للعبادة وحده دون سواه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تعريف العبادة شرعا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عبادة اسم جامع لكل ما يحبه الله ويرضاه من الأقوال والأعمال الباطنة والظاهرة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4:00:30Z</dcterms:created>
  <dc:creator>Saud Center</dc:creator>
  <dc:description/>
  <dc:language>en-US</dc:language>
  <cp:lastModifiedBy>user</cp:lastModifiedBy>
  <dcterms:modified xsi:type="dcterms:W3CDTF">2005-06-17T07:59:26Z</dcterms:modified>
  <cp:revision>9</cp:revision>
  <dc:subject/>
  <dc:title>الشريحة 1</dc:title>
</cp:coreProperties>
</file>