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E714-33D5-4E01-AA9A-3DA6FE883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3D5E-8638-4E75-80B9-28DB1C369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786B-3FAD-4939-A721-01B26E8D0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FDD1-4008-407F-82D7-7926EEF39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30EF-06CB-410A-878A-C19C42F42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9E4A-2D27-44EA-92F5-2C6E9E392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0BF3-F91F-4F83-B706-0E06EBC8D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E9ED-3388-4BF6-B590-DC9673906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EC80-A11B-4F90-8824-CF1A04F80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7EEA-2A31-4E7B-95D3-EBD8B2E9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6FAF-0AFE-468C-BF11-3119A898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FAFA-C79D-4D20-9A66-AA103046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FD461-07BC-4D6C-A1C2-F373BC33C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Monotype Koufi"/>
              </a:rPr>
              <a:t>شروط لا إله إلاَّ الله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Arial"/>
                <a:cs typeface="Monotype Koufi"/>
              </a:rPr>
              <a:t>الأول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: العلم المنافي للجهل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والمراد العلم بمعناها المراد منها نفياً وإثباتاً، قال الله سبحانه:[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فَاعْلَمْ أَنَّهُ لَا إِلَهَ إِلَّا اللهُ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Arial"/>
                <a:cs typeface="Monotype Koufi"/>
              </a:rPr>
              <a:t>الثاني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: اليقين المنافي للش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بأن يكون قائلها مستيقناً بمـدلول هـذه الكلمة يقيناً جازمـاً، لا يدخـل فيـه الظن أو الشك، قال تعالى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[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إِنَّمَا المُؤْمِنُونَ الَّذِينَ آَمَنُوا بِاللهِ وَرَسُولِهِ ثُمَّ لَمْ يَرْتَابُوا وَجَاهَدُوا بِأَمْوَالِهِمْ وَأَنْفُسِهِمْ فِي سَبِيلِ اللهِ أُولَئِكَ هُمُ الصَّادِقُونَ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ثالث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: القبول المنافي للر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المراد القبول لما اقتضته هذه الكلم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رابع: الانقياد المنافي للتر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المراد الانقياد لما دلّت عليه مــن إخــلاص العبادة لله وحده وترك عبـادة ما سـواه، قـال عـز وج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وَأَنِيبُوا إِلَى رَبِّكُمْ وَأَسْلِمُوا لَهُ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خامس: الصدق المنافي للكذب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وهو أن يقولها صادقاً من قبله يواطئ قلبه لسانه، قال تعالى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[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لم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*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أَحَسِبَ النَّاسُ أَنْ يُتْرَكُوا أَنْ يَقُولُوا آَمَنَّا وَهُمْ لَا يُفْتَنُونَ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]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سادس: الإخلاص المنافي للشر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وهو تصفية العلم بالنية الصالحة عن جميع شوائب الشرك، قال تعالى[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وَمَا أُمِرُوا إِلَّا لِيَعْبُدُوا اللهَ مُخْلِصِينَ لَهُ الدِّينَ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سابع: المحبة المنافية للبغض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والمراد المحبة لهذه الكلمة ولما اقتضته ودلّت عليه والمحبة لأهلها العاملين بها الملتزمين شروطها، وبغض ما ناقض ذلك من الشرك وأهل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وَمِنَ النَّاسِ مَنْ يَتَّخِذُ مِنْ دُونِ اللهِ أَنْدَادًا يُحِبُّونَهُمْ كَحُبِّ اللهِ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] {البقرة: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165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</a:rPr>
              <a:t>العباد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معنى العبادة لغة وشرعا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في اللغة : الذل والخضوع والتعبي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</a:rPr>
              <a:t>والعبودية نوعا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قسرية واختيارية، فالعبد يراد به المعبَّد الذي عبّده الله، فذللـه ودبّره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ويراد به العابد، وهو الذي يقرّ بأنَّ الله خالقه ومالكه ومدبره، وأنَّه المستحق للعبادة وحده دون سواه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</a:rPr>
              <a:t>تعريف العبادة شرعا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العبادة اسم جامع لكل ما يحبه الله ويرضاه من الأقوال والأعمال الباطنة والظاهرة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8T14:00:30Z</dcterms:created>
  <dc:creator>Saud Center</dc:creator>
  <dc:description/>
  <dc:language>en-US</dc:language>
  <cp:lastModifiedBy>user</cp:lastModifiedBy>
  <dcterms:modified xsi:type="dcterms:W3CDTF">2005-06-17T07:59:26Z</dcterms:modified>
  <cp:revision>9</cp:revision>
  <dc:subject/>
  <dc:title>الشريحة 1</dc:title>
</cp:coreProperties>
</file>