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0E7-768F-424C-AF2A-1AF5C414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5A6-5F4B-43D9-A21E-337ED2E6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CFD-7451-4EDA-87C8-793A8442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B8E-7BE5-443B-9117-18EE1B37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236-082B-4D0D-8FDB-50FD095C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ED0-6433-42A8-A81C-9254E55E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4BA-62A1-4C57-9898-65AD5D3A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4F8-A809-4D35-AEF2-051C3EE2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F9C-2069-4336-8A39-24F7F675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F86-82D2-4844-A574-57ED9246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65E-53B0-49FF-9E57-12FD4D0A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D61-9C1E-4BB9-8CDE-0240981B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35C7-D0CC-4535-9EA6-753F9A90A0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286760" cy="1071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قائمة الدخل في منشأة تج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عنوان فرعي 2"/>
          <p:cNvGrpSpPr/>
          <p:nvPr/>
        </p:nvGrpSpPr>
        <p:grpSpPr>
          <a:xfrm>
            <a:off x="701640" y="2341440"/>
            <a:ext cx="7667640" cy="4388040"/>
            <a:chOff x="701640" y="2341440"/>
            <a:chExt cx="7667640" cy="4388040"/>
          </a:xfrm>
        </p:grpSpPr>
        <p:pic>
          <p:nvPicPr>
            <p:cNvPr id="43" name="عنوان فرعي 2" descr=""/>
            <p:cNvPicPr/>
            <p:nvPr/>
          </p:nvPicPr>
          <p:blipFill>
            <a:blip r:embed="rId1"/>
            <a:stretch/>
          </p:blipFill>
          <p:spPr>
            <a:xfrm>
              <a:off x="701640" y="2341440"/>
              <a:ext cx="7667640" cy="43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785880" y="2428920"/>
              <a:ext cx="750096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معادلات المستخدمة لإعداد قائمة الدخل بشكل تقرير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صافي المبيعات = المبيعات -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}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مردودات المبيعات +مسموحات المبيعات +الخصم المسموح به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تكلفة البضاعة المباعة = تكلفة البضاعة المتاحة للبيع – بضاعة آخر المد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تكلفة البضاعة المتاحة للبيع = بضاعة أول المدة + صافي المشتري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صافي المشتريات =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}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المشتريات + مصروفات المشتريات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{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}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مردودات المشتريات + مسموحات المشتريات + الخصم المكتسب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مجمل الربح = صافي المبيعات – تكلفة البضاعة المبا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صافي الربح = مجمل الربح + إيرادات أخرى – مصروفات أخر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857240" y="357120"/>
          <a:ext cx="5357880" cy="6096240"/>
        </p:xfrm>
        <a:graphic>
          <a:graphicData uri="http://schemas.openxmlformats.org/drawingml/2006/table">
            <a:tbl>
              <a:tblPr/>
              <a:tblGrid>
                <a:gridCol w="1332000"/>
                <a:gridCol w="1092240"/>
                <a:gridCol w="2933640"/>
              </a:tblGrid>
              <a:tr h="6708600">
                <a:tc>
                  <a:txBody>
                    <a:bodyPr lIns="65160" rIns="65160" tIns="0" bIns="0" anchor="t">
                      <a:noAutofit/>
                    </a:bodyPr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××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××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×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ــــ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×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×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بي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ردودات المبي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موحات المبي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خصم المسموح ب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صافي المبي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بضاعة أول الم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مصروفات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ردودات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سموحات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خصم المكتس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صافي المشت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كلفة البضاعة المتاحة للبي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بضاعة آخر الم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كلفة البضاعة المب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مجمل الرب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أو (مجمل الخسارة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جميع الإيراد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جميع المصرو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صافي الربح (أو صافي الخسارة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7" name="Rectangle 2"/>
          <p:cNvSpPr/>
          <p:nvPr/>
        </p:nvSpPr>
        <p:spPr>
          <a:xfrm>
            <a:off x="0" y="36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ئمة الدخل عن السنة المنتهية  ف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1400" spc="-1" strike="noStrike">
                <a:solidFill>
                  <a:srgbClr val="800000"/>
                </a:solidFill>
                <a:latin typeface="Traditional Arabic"/>
                <a:ea typeface="Traditional Arabic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1:52:41Z</dcterms:created>
  <dc:creator>user</dc:creator>
  <dc:description/>
  <dc:language>en-US</dc:language>
  <cp:lastModifiedBy>user</cp:lastModifiedBy>
  <dcterms:modified xsi:type="dcterms:W3CDTF">2010-10-29T21:08:56Z</dcterms:modified>
  <cp:revision>5</cp:revision>
  <dc:subject/>
  <dc:title>قائمة الدخل في منشأة تجارية</dc:title>
</cp:coreProperties>
</file>