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66B72-3625-429D-B74E-1F68D743D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61748-A967-4E9C-BC20-AD387F14E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DED12-469E-48BA-B91E-3D6E86E7A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ECA2C-281D-4540-BE25-36E74AC7C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480C4-F38D-4BAC-9686-DF1AEFFFC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C0B56-6695-46A9-84EA-4EFB10209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8388E-183B-4881-8B62-EC08F0960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07E11-D093-4889-B395-995DAAC14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A8AA6-83C1-4953-8A92-683AC93E4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07E33-7C1F-4545-9B64-B1CE277D2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3D09F-75FE-4672-B9EE-DE89A592C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EDBB3-B20A-4B60-BCDC-627FE089F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D8F2A-71FD-422E-88F2-A54F8ECB38D8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6800" y="999720"/>
            <a:ext cx="7286760" cy="107172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قائمة الدخل في منشأة تجارية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2" name="عنوان فرعي 2"/>
          <p:cNvGrpSpPr/>
          <p:nvPr/>
        </p:nvGrpSpPr>
        <p:grpSpPr>
          <a:xfrm>
            <a:off x="701640" y="2341440"/>
            <a:ext cx="7667640" cy="4388040"/>
            <a:chOff x="701640" y="2341440"/>
            <a:chExt cx="7667640" cy="4388040"/>
          </a:xfrm>
        </p:grpSpPr>
        <p:pic>
          <p:nvPicPr>
            <p:cNvPr id="43" name="عنوان فرعي 2" descr=""/>
            <p:cNvPicPr/>
            <p:nvPr/>
          </p:nvPicPr>
          <p:blipFill>
            <a:blip r:embed="rId1"/>
            <a:stretch/>
          </p:blipFill>
          <p:spPr>
            <a:xfrm>
              <a:off x="701640" y="2341440"/>
              <a:ext cx="7667640" cy="438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"/>
            <p:cNvSpPr/>
            <p:nvPr/>
          </p:nvSpPr>
          <p:spPr>
            <a:xfrm>
              <a:off x="785880" y="2428920"/>
              <a:ext cx="7500960" cy="421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00"/>
                  </a:solidFill>
                  <a:latin typeface="Calibri"/>
                </a:rPr>
                <a:t>المعادلات المستخدمة لإعداد قائمة الدخل بشكل تقرير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00"/>
                  </a:solidFill>
                  <a:latin typeface="Calibri"/>
                </a:rPr>
                <a:t>صافي المبيعات = المبيعات -</a:t>
              </a: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}</a:t>
              </a:r>
              <a:r>
                <a:rPr b="1" lang="ar-SA" sz="2400" spc="-1" strike="noStrike">
                  <a:solidFill>
                    <a:srgbClr val="000000"/>
                  </a:solidFill>
                  <a:latin typeface="Calibri"/>
                </a:rPr>
                <a:t> مردودات المبيعات +مسموحات المبيعات +الخصم المسموح به</a:t>
              </a: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{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00"/>
                  </a:solidFill>
                  <a:latin typeface="Calibri"/>
                </a:rPr>
                <a:t>تكلفة البضاعة المباعة = تكلفة البضاعة المتاحة للبيع – بضاعة آخر المد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00"/>
                  </a:solidFill>
                  <a:latin typeface="Calibri"/>
                </a:rPr>
                <a:t>تكلفة البضاعة المتاحة للبيع = بضاعة أول المدة + صافي المشتريات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00"/>
                  </a:solidFill>
                  <a:latin typeface="Calibri"/>
                </a:rPr>
                <a:t>صافي المشتريات = </a:t>
              </a: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}</a:t>
              </a:r>
              <a:r>
                <a:rPr b="1" lang="ar-SA" sz="2400" spc="-1" strike="noStrike">
                  <a:solidFill>
                    <a:srgbClr val="000000"/>
                  </a:solidFill>
                  <a:latin typeface="Calibri"/>
                </a:rPr>
                <a:t> المشتريات + مصروفات المشتريات </a:t>
              </a: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{</a:t>
              </a:r>
              <a:r>
                <a:rPr b="1" lang="ar-SA" sz="2400" spc="-1" strike="noStrike">
                  <a:solidFill>
                    <a:srgbClr val="000000"/>
                  </a:solidFill>
                  <a:latin typeface="Calibri"/>
                </a:rPr>
                <a:t>-</a:t>
              </a: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}</a:t>
              </a:r>
              <a:r>
                <a:rPr b="1" lang="ar-SA" sz="2400" spc="-1" strike="noStrike">
                  <a:solidFill>
                    <a:srgbClr val="000000"/>
                  </a:solidFill>
                  <a:latin typeface="Calibri"/>
                </a:rPr>
                <a:t> مردودات المشتريات + مسموحات المشتريات + الخصم المكتسب</a:t>
              </a: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{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00"/>
                  </a:solidFill>
                  <a:latin typeface="Calibri"/>
                </a:rPr>
                <a:t>مجمل الربح = صافي المبيعات – تكلفة البضاعة المباع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00"/>
                  </a:solidFill>
                  <a:latin typeface="Calibri"/>
                </a:rPr>
                <a:t>صافي الربح = مجمل الربح + إيرادات أخرى – مصروفات أخرى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1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324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1857240" y="357120"/>
          <a:ext cx="5357880" cy="6096240"/>
        </p:xfrm>
        <a:graphic>
          <a:graphicData uri="http://schemas.openxmlformats.org/drawingml/2006/table">
            <a:tbl>
              <a:tblPr/>
              <a:tblGrid>
                <a:gridCol w="1332000"/>
                <a:gridCol w="1092240"/>
                <a:gridCol w="2933640"/>
              </a:tblGrid>
              <a:tr h="6708600">
                <a:tc>
                  <a:txBody>
                    <a:bodyPr lIns="65160" rIns="65160" tIns="0" bIns="0" anchor="t">
                      <a:noAutofit/>
                    </a:bodyPr>
                    <a:p>
                      <a:pPr marL="10944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944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×××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944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(××××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944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××××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944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(××××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944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××××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944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(×××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944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×××××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 marL="10944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××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944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(×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944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(×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944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(×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944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××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944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××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944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××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944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(×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944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(×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944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(×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944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Times New Roman"/>
                        </a:rPr>
                        <a:t>ــــ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944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×××××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944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×××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944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(××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944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×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944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×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944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×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 marL="10944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Times New Roman"/>
                        </a:rPr>
                        <a:t>المبيعات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944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Times New Roman"/>
                        </a:rPr>
                        <a:t>مردودات المبيعات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944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Times New Roman"/>
                        </a:rPr>
                        <a:t>مسموحات المبيعات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944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Times New Roman"/>
                        </a:rPr>
                        <a:t>الخصم المسموح ب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944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Times New Roman"/>
                        </a:rPr>
                        <a:t>صافي المبيعات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944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Times New Roman"/>
                        </a:rPr>
                        <a:t>بضاعة أول المد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944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+ المشتريات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944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+مصروفات المشتريات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944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Times New Roman"/>
                        </a:rPr>
                        <a:t>مردودات المشتريات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944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Times New Roman"/>
                        </a:rPr>
                        <a:t>مسموحات المشتريات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944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Times New Roman"/>
                        </a:rPr>
                        <a:t>الخصم المكتس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944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Times New Roman"/>
                        </a:rPr>
                        <a:t>صافي المشتريات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944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Times New Roman"/>
                        </a:rPr>
                        <a:t>تكلفة البضاعة المتاحة للبي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944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- بضاعة آخر المد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944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Times New Roman"/>
                        </a:rPr>
                        <a:t>تكلفة البضاعة المباع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944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Times New Roman"/>
                        </a:rPr>
                        <a:t>مجمل الرب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944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  أو (مجمل الخسارة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944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+جميع الإيرادات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944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Times New Roman"/>
                        </a:rPr>
                        <a:t>جميع المصروفات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944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Times New Roman"/>
                        </a:rPr>
                        <a:t>صافي الربح (أو صافي الخسارة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</a:tr>
            </a:tbl>
          </a:graphicData>
        </a:graphic>
      </p:graphicFrame>
      <p:sp>
        <p:nvSpPr>
          <p:cNvPr id="47" name="Rectangle 2"/>
          <p:cNvSpPr/>
          <p:nvPr/>
        </p:nvSpPr>
        <p:spPr>
          <a:xfrm>
            <a:off x="0" y="360"/>
            <a:ext cx="7358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324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Times New Roman"/>
              </a:rPr>
              <a:t>قائمة الدخل عن السنة المنتهية  في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30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10</a:t>
            </a:r>
            <a:r>
              <a:rPr b="1" lang="ar-SA" sz="1400" spc="-1" strike="noStrike">
                <a:solidFill>
                  <a:srgbClr val="800000"/>
                </a:solidFill>
                <a:latin typeface="Traditional Arabic"/>
                <a:ea typeface="Traditional Arabic"/>
              </a:rPr>
              <a:t>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0T21:52:41Z</dcterms:created>
  <dc:creator>user</dc:creator>
  <dc:description/>
  <dc:language>en-US</dc:language>
  <cp:lastModifiedBy>user</cp:lastModifiedBy>
  <dcterms:modified xsi:type="dcterms:W3CDTF">2010-10-29T21:08:56Z</dcterms:modified>
  <cp:revision>5</cp:revision>
  <dc:subject/>
  <dc:title>قائمة الدخل في منشأة تجارية</dc:title>
</cp:coreProperties>
</file>