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614-E4D7-4733-87A2-F749ECEC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AB4-0940-43A1-B632-F48FC4AD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656-5FD8-4FE1-95F3-0D7C4383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047-221F-4811-8884-634BEC3E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CD2-4D77-4912-8E3F-391A99C1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4E2-2595-41F8-B1FB-CE9EB1D3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5D0-D86C-4EF3-99DC-26F0A4B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273-E6D8-4535-B37E-684A52D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5C0-1FE5-4C68-A39A-90927DE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F24-8B85-4C34-A53D-FC60DAE2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68B-73EE-4F07-BE70-65DC8DA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862-5F84-4930-BDF9-61FBF62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6584-9335-4E6C-9C39-1D3D3CAD16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15520" cy="92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قائمة الدخل وقائمة المركز المالي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نشأة خد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135720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71680" y="1571760"/>
          <a:ext cx="7643520" cy="4857480"/>
        </p:xfrm>
        <a:graphic>
          <a:graphicData uri="http://schemas.openxmlformats.org/drawingml/2006/table">
            <a:tbl>
              <a:tblPr/>
              <a:tblGrid>
                <a:gridCol w="2547720"/>
                <a:gridCol w="1949400"/>
                <a:gridCol w="3146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جما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تفصي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ـــــــــــــــــــــــــــــــــ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يرادات الخد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يطر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صروفات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 الإيج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 الكهرباء والهات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 الروات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صروفات إدارية متفر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جمالي المصروف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افي الدخ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214280" y="0"/>
          <a:ext cx="7143840" cy="6886440"/>
        </p:xfrm>
        <a:graphic>
          <a:graphicData uri="http://schemas.openxmlformats.org/drawingml/2006/table">
            <a:tbl>
              <a:tblPr/>
              <a:tblGrid>
                <a:gridCol w="1084320"/>
                <a:gridCol w="960480"/>
                <a:gridCol w="1506600"/>
                <a:gridCol w="1103400"/>
                <a:gridCol w="969840"/>
                <a:gridCol w="15192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فصي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يـــــــــــــــــــ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فصي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بيـــــــــــــــــــ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الخصوم المتداو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أصول متداو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دائن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صند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حقوق الملك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بن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رأس الم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دينو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جاري صاحب المنشأ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 أ. متداو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9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 صافي الرب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cs typeface="Calibri"/>
                        </a:rPr>
                        <a:t>أصول ثابت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سيار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صافى حقوق الملك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أثاث مكتب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عق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ى أ. ثابت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ي الخصوم وحقوق الملك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إجمالي الأص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01Z</dcterms:created>
  <dc:creator>user</dc:creator>
  <dc:description/>
  <dc:language>en-US</dc:language>
  <cp:lastModifiedBy>user</cp:lastModifiedBy>
  <dcterms:modified xsi:type="dcterms:W3CDTF">2010-10-29T21:15:43Z</dcterms:modified>
  <cp:revision>4</cp:revision>
  <dc:subject/>
  <dc:title>قائمة الدخل وقائمة المركز المالي  منشأة خدمية</dc:title>
</cp:coreProperties>
</file>