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A53-C5B7-4905-A12C-E88B814E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81E-6E1E-4C9D-9C28-DC27241E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FAF-E8F2-4B47-B785-C52915CB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621-F3CF-4CC0-815A-76C3FB41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688-0EAC-49E1-803D-3416F6F2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99F-51C9-40E9-B43F-4BF54E5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6CA-5723-4138-A947-15AAB9A1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DDA-D762-4109-B0B0-36EDA8DC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A5D-79EE-4E1B-886A-708EDA1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FC6-BBC9-465E-895D-34D246EE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AD7-600A-4785-A0F2-AE4C9E03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7FB-53D4-4F45-A242-76EFBA49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670A-BBD2-432A-A492-3D4244AE8B4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15520" cy="92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قائمة الدخل وقائمة المركز المالي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نشأة خد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135720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71680" y="1571760"/>
          <a:ext cx="7643520" cy="4857480"/>
        </p:xfrm>
        <a:graphic>
          <a:graphicData uri="http://schemas.openxmlformats.org/drawingml/2006/table">
            <a:tbl>
              <a:tblPr/>
              <a:tblGrid>
                <a:gridCol w="2547720"/>
                <a:gridCol w="1949400"/>
                <a:gridCol w="3146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إجما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فصي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ـــــــــــــــــــــــــــــــــ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يرادات الخد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يطر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صروف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صروف الإيج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صروف الكهرباء والهات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صروف الروات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صروفات إدارية متفر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جمالي المصروف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افي الدخ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214280" y="0"/>
          <a:ext cx="7143840" cy="6886440"/>
        </p:xfrm>
        <a:graphic>
          <a:graphicData uri="http://schemas.openxmlformats.org/drawingml/2006/table">
            <a:tbl>
              <a:tblPr/>
              <a:tblGrid>
                <a:gridCol w="1084320"/>
                <a:gridCol w="960480"/>
                <a:gridCol w="1506600"/>
                <a:gridCol w="1103400"/>
                <a:gridCol w="969840"/>
                <a:gridCol w="15192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فصي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بيـــــــــــــــــــ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فصي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بيـــــــــــــــــــ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cs typeface="Calibri"/>
                        </a:rPr>
                        <a:t>الخصوم المتداو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cs typeface="Calibri"/>
                        </a:rPr>
                        <a:t>أصول متداو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دائن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صند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cs typeface="Calibri"/>
                        </a:rPr>
                        <a:t>حقوق الملك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رأس الم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دين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جاري صاحب المنشأ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ى أ. متداو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9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صافي الرب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cs typeface="Calibri"/>
                        </a:rPr>
                        <a:t>أصول ثابت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سيار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صافى حقوق الملك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أثاث مكتب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عق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ى أ. ثابت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ي الخصوم وحقوق الملك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ي الأص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1:09:01Z</dcterms:created>
  <dc:creator>user</dc:creator>
  <dc:description/>
  <dc:language>en-US</dc:language>
  <cp:lastModifiedBy>user</cp:lastModifiedBy>
  <dcterms:modified xsi:type="dcterms:W3CDTF">2010-10-29T21:15:43Z</dcterms:modified>
  <cp:revision>4</cp:revision>
  <dc:subject/>
  <dc:title>قائمة الدخل وقائمة المركز المالي  منشأة خدمية</dc:title>
</cp:coreProperties>
</file>