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65E00-64AD-4BC0-892D-C774CDC17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AD2C4-E87F-49DF-9346-38FB96EE6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7260A-DEAF-4614-AF47-06CFF0919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9F1E1-5089-4A80-B558-57ED52488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0C3E7-036C-4823-9FEB-237C8D481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15301-DEDC-4334-B195-1003E0ABD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6BCBA-26DA-433B-B6CB-1CBE018E0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17517-5A85-4288-999C-0AEA44AAC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75752-6133-4952-AA74-29159395E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76765-E257-43CD-9F1A-47B4A42A6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6603A-2DD7-42CF-B242-51841A2B8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2E9EC-7EC7-4C24-8AD4-FC9D9B088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31F3-8FC8-4535-83F6-67C30A0F5F15}"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304920" y="1728360"/>
            <a:ext cx="8504280" cy="1434600"/>
            <a:chOff x="304920" y="1728360"/>
            <a:chExt cx="8504280" cy="1434600"/>
          </a:xfrm>
        </p:grpSpPr>
        <p:pic>
          <p:nvPicPr>
            <p:cNvPr id="42" name="عنوان 1" descr=""/>
            <p:cNvPicPr/>
            <p:nvPr/>
          </p:nvPicPr>
          <p:blipFill>
            <a:blip r:embed="rId1"/>
            <a:stretch/>
          </p:blipFill>
          <p:spPr>
            <a:xfrm>
              <a:off x="304920" y="1901880"/>
              <a:ext cx="8504280" cy="1006560"/>
            </a:xfrm>
            <a:prstGeom prst="rect">
              <a:avLst/>
            </a:prstGeom>
            <a:ln w="0">
              <a:noFill/>
            </a:ln>
          </p:spPr>
        </p:pic>
        <p:sp>
          <p:nvSpPr>
            <p:cNvPr id="43" name=""/>
            <p:cNvSpPr/>
            <p:nvPr/>
          </p:nvSpPr>
          <p:spPr>
            <a:xfrm>
              <a:off x="395280" y="1728360"/>
              <a:ext cx="827892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33"/>
                  </a:solidFill>
                  <a:latin typeface="Arial"/>
                  <a:cs typeface="Bold Italic Art"/>
                </a:rPr>
                <a:t>تنزيل الأدلة على أحوالها المختلفة</a:t>
              </a:r>
              <a:endParaRPr b="0" lang="en-US" sz="4400" spc="-1" strike="noStrike">
                <a:solidFill>
                  <a:srgbClr val="000000"/>
                </a:solidFill>
                <a:latin typeface="Calibri"/>
              </a:endParaRPr>
            </a:p>
          </p:txBody>
        </p:sp>
      </p:grpSp>
      <p:grpSp>
        <p:nvGrpSpPr>
          <p:cNvPr id="44" name="عنوان فرعي 2"/>
          <p:cNvGrpSpPr/>
          <p:nvPr/>
        </p:nvGrpSpPr>
        <p:grpSpPr>
          <a:xfrm>
            <a:off x="1311120" y="3767040"/>
            <a:ext cx="6516720" cy="774720"/>
            <a:chOff x="1311120" y="3767040"/>
            <a:chExt cx="6516720" cy="774720"/>
          </a:xfrm>
        </p:grpSpPr>
        <p:pic>
          <p:nvPicPr>
            <p:cNvPr id="45" name="عنوان فرعي 2" descr=""/>
            <p:cNvPicPr/>
            <p:nvPr/>
          </p:nvPicPr>
          <p:blipFill>
            <a:blip r:embed="rId2"/>
            <a:stretch/>
          </p:blipFill>
          <p:spPr>
            <a:xfrm>
              <a:off x="1311120" y="3767040"/>
              <a:ext cx="6516720" cy="774720"/>
            </a:xfrm>
            <a:prstGeom prst="rect">
              <a:avLst/>
            </a:prstGeom>
            <a:ln w="0">
              <a:noFill/>
            </a:ln>
          </p:spPr>
        </p:pic>
        <p:sp>
          <p:nvSpPr>
            <p:cNvPr id="46" name=""/>
            <p:cNvSpPr/>
            <p:nvPr/>
          </p:nvSpPr>
          <p:spPr>
            <a:xfrm>
              <a:off x="1371600" y="3886200"/>
              <a:ext cx="64008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akkal Majalla"/>
                  <a:cs typeface="Sakkal Majalla"/>
                </a:rPr>
                <a:t>إعداد: وفاء بنت محمد العيسى</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عنوان 1"/>
          <p:cNvGrpSpPr/>
          <p:nvPr/>
        </p:nvGrpSpPr>
        <p:grpSpPr>
          <a:xfrm>
            <a:off x="396720" y="128880"/>
            <a:ext cx="8345520" cy="1434600"/>
            <a:chOff x="396720" y="128880"/>
            <a:chExt cx="8345520" cy="1434600"/>
          </a:xfrm>
        </p:grpSpPr>
        <p:pic>
          <p:nvPicPr>
            <p:cNvPr id="48" name="عنوان 1" descr=""/>
            <p:cNvPicPr/>
            <p:nvPr/>
          </p:nvPicPr>
          <p:blipFill>
            <a:blip r:embed="rId1"/>
            <a:stretch/>
          </p:blipFill>
          <p:spPr>
            <a:xfrm>
              <a:off x="396720" y="304920"/>
              <a:ext cx="8345520" cy="1006200"/>
            </a:xfrm>
            <a:prstGeom prst="rect">
              <a:avLst/>
            </a:prstGeom>
            <a:ln w="0">
              <a:noFill/>
            </a:ln>
          </p:spPr>
        </p:pic>
        <p:sp>
          <p:nvSpPr>
            <p:cNvPr id="49" name=""/>
            <p:cNvSpPr/>
            <p:nvPr/>
          </p:nvSpPr>
          <p:spPr>
            <a:xfrm>
              <a:off x="457200" y="12888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33"/>
                  </a:solidFill>
                  <a:latin typeface="Sakkal Majalla"/>
                  <a:cs typeface="Sakkal Majalla"/>
                </a:rPr>
                <a:t>تنزيل الأدلة على أحوالها المختلفة</a:t>
              </a:r>
              <a:endParaRPr b="0" lang="en-US" sz="4400" spc="-1" strike="noStrike">
                <a:solidFill>
                  <a:srgbClr val="000000"/>
                </a:solidFill>
                <a:latin typeface="Calibri"/>
              </a:endParaRPr>
            </a:p>
          </p:txBody>
        </p:sp>
      </p:grpSp>
      <p:pic>
        <p:nvPicPr>
          <p:cNvPr id="50" name="صورة 3" descr="$0$.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4480"/>
            <a:ext cx="8229600" cy="19206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akkal Majalla"/>
                <a:cs typeface="Sakkal Majalla"/>
              </a:rPr>
              <a:t>المراد بها: حمل الأدلة التي يظهر بينها اختلاف وتعارض  في نظر المجتهد - مما ليس منسوخاً - على الأحوال التي  وردت هذه الأدلة في بيان أحكامها؛ بحيث يلزم المجتهدَ  البحثُ في موارد هذه الأحكام تنظيراً وتطبيقاً، وتنزيل هذا  الاختلاف الذي ظهر له على اختلاف هذه الموارد</a:t>
            </a:r>
            <a:endParaRPr b="0" lang="en-US" sz="2400" spc="-1" strike="noStrike">
              <a:solidFill>
                <a:srgbClr val="000000"/>
              </a:solidFill>
              <a:latin typeface="Calibri"/>
            </a:endParaRPr>
          </a:p>
        </p:txBody>
      </p:sp>
      <p:pic>
        <p:nvPicPr>
          <p:cNvPr id="52" name="صورة 3" descr="$1$.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5560"/>
            <a:ext cx="8229600" cy="21027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cs typeface="Sakkal Majalla"/>
              </a:rPr>
              <a:t>أهم ضوابط هذه  القاعدة عند العلماء،  وذلك بإيجازها في  أمرين:</a:t>
            </a:r>
            <a:endParaRPr b="0" lang="en-US" sz="4400" spc="-1" strike="noStrike">
              <a:solidFill>
                <a:srgbClr val="000000"/>
              </a:solidFill>
              <a:latin typeface="Calibri"/>
            </a:endParaRPr>
          </a:p>
        </p:txBody>
      </p:sp>
      <p:pic>
        <p:nvPicPr>
          <p:cNvPr id="54" name="صورة 3" descr="$2$.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20"/>
            <a:ext cx="8229600" cy="22863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قال الشيخ العلامة المحقق سلطان العلماء عبد  العزيز بن عبد السلام رحمه الله: في بيانه أمثلة  قاعدة الشريعة في الحمل على الغالب والأغلب:  "ومنها: أنَّ من ملك التصرف القولي بأسباب  مختلفة، ثم صدر منه تصرف صالح للاستناد إلى  كلِّ واحد من تلك الأسباب، فإنَّه يُحمل على  أغلبها.</a:t>
            </a:r>
            <a:endParaRPr b="0" lang="en-US" sz="2400" spc="-1" strike="noStrike">
              <a:solidFill>
                <a:srgbClr val="000000"/>
              </a:solidFill>
              <a:latin typeface="Calibri"/>
            </a:endParaRPr>
          </a:p>
        </p:txBody>
      </p:sp>
      <p:sp>
        <p:nvSpPr>
          <p:cNvPr id="56" name="PlaceHolder 2"/>
          <p:cNvSpPr>
            <a:spLocks noGrp="1"/>
          </p:cNvSpPr>
          <p:nvPr>
            <p:ph/>
          </p:nvPr>
        </p:nvSpPr>
        <p:spPr>
          <a:xfrm>
            <a:off x="468360" y="2349360"/>
            <a:ext cx="8229600" cy="6530040"/>
          </a:xfrm>
          <a:prstGeom prst="rect">
            <a:avLst/>
          </a:prstGeom>
          <a:noFill/>
          <a:ln w="0">
            <a:noFill/>
          </a:ln>
        </p:spPr>
        <p:txBody>
          <a:bodyPr anchor="t">
            <a:normAutofit fontScale="99000"/>
          </a:bodyPr>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فمن هذا تصرف النبي صلى الله  عليه وسلم بالفتيا والحكم  والإمامة العظمى، فإنَّه إمام  الأئمة، فإذا صدر منه تصرُّف،  حُمِل على أغلب تصرفاته، وهي  الإفتاء، ما لم يدل دليل على  خلافه".</a:t>
            </a:r>
            <a:endParaRPr b="0" lang="en-US" sz="3200" spc="-1" strike="noStrike">
              <a:solidFill>
                <a:srgbClr val="000000"/>
              </a:solidFill>
              <a:latin typeface="Calibri"/>
            </a:endParaRPr>
          </a:p>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فهذه قاعدة مهمَّة جدّاً؛ وقد نبَّه  إلى مراعاتها عددٌ من المحققين  من العلماء، وبيَّنو بعض قواعد  ضبطها وإن كانت لا تزال في  حاجة إلى دراسة تأصيلية أعمق،  وأضبط؛ تعتمد استقراء  التصرفات النبوية من مصادرها،  ثم إعمال النظر التأصيلي في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عنوان 1"/>
          <p:cNvGrpSpPr/>
          <p:nvPr/>
        </p:nvGrpSpPr>
        <p:grpSpPr>
          <a:xfrm>
            <a:off x="396720" y="304920"/>
            <a:ext cx="8345520" cy="1006200"/>
            <a:chOff x="396720" y="304920"/>
            <a:chExt cx="8345520" cy="1006200"/>
          </a:xfrm>
        </p:grpSpPr>
        <p:pic>
          <p:nvPicPr>
            <p:cNvPr id="58" name="عنوان 1" descr=""/>
            <p:cNvPicPr/>
            <p:nvPr/>
          </p:nvPicPr>
          <p:blipFill>
            <a:blip r:embed="rId1"/>
            <a:stretch/>
          </p:blipFill>
          <p:spPr>
            <a:xfrm>
              <a:off x="396720" y="304920"/>
              <a:ext cx="8345520" cy="1006200"/>
            </a:xfrm>
            <a:prstGeom prst="rect">
              <a:avLst/>
            </a:prstGeom>
            <a:ln w="0">
              <a:noFill/>
            </a:ln>
          </p:spPr>
        </p:pic>
        <p:sp>
          <p:nvSpPr>
            <p:cNvPr id="59"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cs typeface="Sakkal Majalla"/>
                </a:rPr>
                <a:t>مراعاة نوع التصرف النبوي:</a:t>
              </a:r>
              <a:endParaRPr b="0" lang="en-US" sz="4400" spc="-1" strike="noStrike">
                <a:solidFill>
                  <a:srgbClr val="000000"/>
                </a:solidFill>
                <a:latin typeface="Calibri"/>
              </a:endParaRPr>
            </a:p>
          </p:txBody>
        </p:sp>
      </p:grpSp>
      <p:pic>
        <p:nvPicPr>
          <p:cNvPr id="60" name="صورة 3" descr="$3$.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65520"/>
            <a:ext cx="8229600" cy="86245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Sakkal Majalla"/>
                <a:cs typeface="Sakkal Majalla"/>
              </a:rPr>
              <a:t>قال القرافي رحمه الله: "اعلم أنَّ رسول الله -  صلى الله عليه وسلم - هو الإمام الأعظم،  والقاضي الأحكم، والمفتي الأعلم؛ فهو - صلى  الله عليه وسلم - إمام الأئمة، وقاضي القضاة،  وعالم العلماء؛ فجميع المناصب الدينية فوضها  الله تعالى إليه في رسالته… غير أنَّ غالب  تصرّفه - صلى الله عليه وسلم - بالتبليغ؛ لأنَّ  وصف الرسالة غالب عليه، ثم تقع تصرفاته -  صلى الله عليه وسلم-.</a:t>
            </a:r>
            <a:endParaRPr b="0" lang="en-US" sz="4000" spc="-1" strike="noStrike">
              <a:solidFill>
                <a:srgbClr val="000000"/>
              </a:solidFill>
              <a:latin typeface="Calibri"/>
            </a:endParaRPr>
          </a:p>
        </p:txBody>
      </p:sp>
      <p:sp>
        <p:nvSpPr>
          <p:cNvPr id="62" name="PlaceHolder 2"/>
          <p:cNvSpPr>
            <a:spLocks noGrp="1"/>
          </p:cNvSpPr>
          <p:nvPr>
            <p:ph/>
          </p:nvPr>
        </p:nvSpPr>
        <p:spPr>
          <a:xfrm>
            <a:off x="457200" y="7075440"/>
            <a:ext cx="8229600" cy="5262480"/>
          </a:xfrm>
          <a:prstGeom prst="rect">
            <a:avLst/>
          </a:prstGeom>
          <a:noFill/>
          <a:ln w="0">
            <a:noFill/>
          </a:ln>
        </p:spPr>
        <p:txBody>
          <a:bodyPr anchor="t">
            <a:normAutofit/>
          </a:bodyPr>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ا ما يكون بالتبليغ والفتوى إجماعاً [كإبلاغ  الصلوات، وإقامتها، وإقامة مناسك الحج</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منها ما يُجمع النَّاس على أنَّه بالقضاء [كإلزام  أداء الديون، وتسليم السلع، وفسخ الأنكحة.</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منها ما يُجمع النَّاس على أنَّه بالإمامة [كإقطاع  الأراضي، وإقامة الحدود، وإرسال الجيوش</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منها ما يختلف العلماء فيه [كإحياء الموات،  والاختصاص بالسلب لمن قتل الحربي لتردُّده بين  رتبتين فصاعداً، فمنهم من يُغلِّب عليه رتبة،  ومنهم من يُغَلِّب عليه أخرى</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كل ما تصرف فيه - عليه السلام - بوصف الإمامة،  لا يجوز لأحد أن يُقدم عليـه إلا بإذن الإمام…</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ما تصرف فيـه - صلى الله عليه وسلم - بوصف  القضاء، لا يجوز لأحد أن يُقدم عليه إلا بحكم حاك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9T13:41:39Z</dcterms:created>
  <dc:creator>وفاء بنت محمد العيسى</dc:creator>
  <dc:description/>
  <dc:language>en-US</dc:language>
  <cp:lastModifiedBy>ساره</cp:lastModifiedBy>
  <dcterms:modified xsi:type="dcterms:W3CDTF">2013-03-08T16:40:26Z</dcterms:modified>
  <cp:revision>2</cp:revision>
  <dc:subject/>
  <dc:title>تنزيل الأدلة على أحوالها المختلفة</dc:title>
</cp:coreProperties>
</file>