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5B0-249E-4B90-8C78-442BB140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110-F6E4-4BC0-AD15-B9003292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7C4-F533-43E3-B7A8-1240A249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D73-C745-410E-BC98-6E24637E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C22-CE63-4417-AB79-5DBEE63B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E3D-13FE-4252-849D-1E3AADD3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172-0196-40A3-931B-12882E63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68D-0075-4FD7-ABF0-E6D6FD9F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EB8-4B58-47CB-86D2-A0AA12E6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403-A037-4480-8CFC-081C0FAA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FCA-AF17-44F3-9EB4-203B0A8F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B6D-66ED-44F6-9AD9-F020FF9B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02C2-59AE-4B5A-B95A-D32A28E8B71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1"/>
          <p:cNvGrpSpPr/>
          <p:nvPr/>
        </p:nvGrpSpPr>
        <p:grpSpPr>
          <a:xfrm>
            <a:off x="628560" y="2200320"/>
            <a:ext cx="7886880" cy="1201680"/>
            <a:chOff x="628560" y="2200320"/>
            <a:chExt cx="7886880" cy="1201680"/>
          </a:xfrm>
        </p:grpSpPr>
        <p:pic>
          <p:nvPicPr>
            <p:cNvPr id="42" name="عنوان 1" descr=""/>
            <p:cNvPicPr/>
            <p:nvPr/>
          </p:nvPicPr>
          <p:blipFill>
            <a:blip r:embed="rId1"/>
            <a:stretch/>
          </p:blipFill>
          <p:spPr>
            <a:xfrm>
              <a:off x="628560" y="2200320"/>
              <a:ext cx="78868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2406960"/>
              <a:ext cx="77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أصول الفكر الإسلامي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عنوان فرعي 2"/>
          <p:cNvGrpSpPr/>
          <p:nvPr/>
        </p:nvGrpSpPr>
        <p:grpSpPr>
          <a:xfrm>
            <a:off x="1311120" y="3767040"/>
            <a:ext cx="6516720" cy="774720"/>
            <a:chOff x="1311120" y="3767040"/>
            <a:chExt cx="6516720" cy="774720"/>
          </a:xfrm>
        </p:grpSpPr>
        <p:pic>
          <p:nvPicPr>
            <p:cNvPr id="45" name="عنوان فرعي 2" descr=""/>
            <p:cNvPicPr/>
            <p:nvPr/>
          </p:nvPicPr>
          <p:blipFill>
            <a:blip r:embed="rId2"/>
            <a:stretch/>
          </p:blipFill>
          <p:spPr>
            <a:xfrm>
              <a:off x="1311120" y="3767040"/>
              <a:ext cx="6516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71600" y="3886200"/>
              <a:ext cx="64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898989"/>
                  </a:solidFill>
                  <a:latin typeface="Sakkal Majalla"/>
                  <a:cs typeface="Sakkal Majalla"/>
                </a:rPr>
                <a:t>إعداد: وفاء بنت محمد العيس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عنوان 1"/>
          <p:cNvGrpSpPr/>
          <p:nvPr/>
        </p:nvGrpSpPr>
        <p:grpSpPr>
          <a:xfrm>
            <a:off x="396720" y="304920"/>
            <a:ext cx="8345520" cy="1006200"/>
            <a:chOff x="396720" y="304920"/>
            <a:chExt cx="8345520" cy="1006200"/>
          </a:xfrm>
        </p:grpSpPr>
        <p:pic>
          <p:nvPicPr>
            <p:cNvPr id="48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04920"/>
              <a:ext cx="8345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Sakkal Majalla"/>
                  <a:cs typeface="Sakkal Majalla"/>
                </a:rPr>
                <a:t>أصول الفكر الإسلامي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صورة 3" descr="$0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عنوان 1"/>
          <p:cNvGrpSpPr/>
          <p:nvPr/>
        </p:nvGrpSpPr>
        <p:grpSpPr>
          <a:xfrm>
            <a:off x="396720" y="304920"/>
            <a:ext cx="8345520" cy="1006200"/>
            <a:chOff x="396720" y="304920"/>
            <a:chExt cx="8345520" cy="1006200"/>
          </a:xfrm>
        </p:grpSpPr>
        <p:pic>
          <p:nvPicPr>
            <p:cNvPr id="5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04920"/>
              <a:ext cx="8345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Sakkal Majalla"/>
                  <a:cs typeface="Sakkal Majalla"/>
                </a:rPr>
                <a:t>تعريف الفكر لغة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صورة 3" descr="$1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عنوان 1"/>
          <p:cNvGrpSpPr/>
          <p:nvPr/>
        </p:nvGrpSpPr>
        <p:grpSpPr>
          <a:xfrm>
            <a:off x="396720" y="128880"/>
            <a:ext cx="8345520" cy="1434600"/>
            <a:chOff x="396720" y="128880"/>
            <a:chExt cx="8345520" cy="1434600"/>
          </a:xfrm>
        </p:grpSpPr>
        <p:pic>
          <p:nvPicPr>
            <p:cNvPr id="56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04920"/>
              <a:ext cx="8345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128880"/>
              <a:ext cx="8229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Andalus"/>
                  <a:cs typeface="Andalus"/>
                </a:rPr>
                <a:t>تعريفات الفكر الإسلامي ما يلي 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صورة 3" descr="$2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97360"/>
            <a:ext cx="8229600" cy="228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مفكر : من يبحث حلول  المشكلات بقراءة   نصوص الشريعة في  ضوء مقاصدها مع إيجاد  آليات تطبيقها في الواقع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صورة 3" descr="$3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4960"/>
            <a:ext cx="8229600" cy="20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يمكن تعريف الفكر الإسلامي  بأنه : " مقتضى النظر  الشرعي، في المعقولات التي  تتطلب نوعا من الاجتهاد،  وفق أدلة الأحكام وقواعد  الاستدلال"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صورة 3" descr="$4$.gif"/>
          <p:cNvPicPr/>
          <p:nvPr/>
        </p:nvPicPr>
        <p:blipFill>
          <a:blip r:embed="rId1"/>
          <a:stretch/>
        </p:blipFill>
        <p:spPr>
          <a:xfrm>
            <a:off x="468360" y="198900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عنوان 1"/>
          <p:cNvGrpSpPr/>
          <p:nvPr/>
        </p:nvGrpSpPr>
        <p:grpSpPr>
          <a:xfrm>
            <a:off x="396720" y="304920"/>
            <a:ext cx="8345520" cy="1006200"/>
            <a:chOff x="396720" y="304920"/>
            <a:chExt cx="8345520" cy="1006200"/>
          </a:xfrm>
        </p:grpSpPr>
        <p:pic>
          <p:nvPicPr>
            <p:cNvPr id="64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04920"/>
              <a:ext cx="8345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Sakkal Majalla"/>
                  <a:cs typeface="Sakkal Majalla"/>
                </a:rPr>
                <a:t>مصطلح الفكر الإسلامي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صورة 3" descr="$5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280440"/>
            <a:ext cx="8229600" cy="283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يكاد يجمع الباحثون  الواعون لمدلول هذا  المصطلح على أنّ ( الفكر  الإسلامي ) في حقيقته  ليس أمرا جديدا ؛ وإنما  تنحصر الجِدَّة في أمرين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76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: فمصطلح ( الفكر  الإسلامي ) بهذا التركيب  ، من المصطلحات  الحديثة والحقيقة أن  الفكر ورد في التراث  الإسلامي بما يفيد المعنى  المعاصر، وإن لم يكن  معنى جامعا مانعا للفكر  اليوم 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يقول أبو حامد الغزالي : "اعلم أن  معنى الفكر هو احضار معرفتين في  القلب ليستثمر منهما معرفة ثالثة" .  وقد جعل الفكر مرادفا للتأمل والتدب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بالنسبة لإمام الحرمين الجويني،  يدل الفكر على النظر، يقول :  "والنظر في اصطلاح الموحدين هو  الفكر الذي يطلب به من قام به علما  أو غلبة ظن ؛ ثم ينقسم النظر إلى  قسمين : إلى الصحيح وإلى الفاسد"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الثاني : مجالات الفكر الإسلامي، وأهلية المفكّر الإسلامي . فالنتاج  الفكري الموصوف بأنه إسلامي ، منه ما لا تنطبق عليه شروط الفكر  الإسلامي بمعنى الفكر الشرعي أو المشروع . كما أنَّ كثيرا من  المفكرين الموصوفين بأنَّهم من المفكرين الإسلاميين ، لا تتوفر فيهم  شروط المفكر الإسلامي ، وفق ضوابط الفكر الإسلام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4:38:25Z</dcterms:created>
  <dc:creator>وفاء بنت محمد العيسى</dc:creator>
  <dc:description/>
  <dc:language>en-US</dc:language>
  <cp:lastModifiedBy>ساره</cp:lastModifiedBy>
  <dcterms:modified xsi:type="dcterms:W3CDTF">2013-03-08T16:38:23Z</dcterms:modified>
  <cp:revision>3</cp:revision>
  <dc:subject/>
  <dc:title>أصول الفكر الإسلامي</dc:title>
</cp:coreProperties>
</file>