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D4B-D91D-4B79-A04C-6CDA3D37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3AA-9EDC-4AA3-8FF7-EB6BF4F0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620-48D2-4915-9D13-B8691A9B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D8F-883A-465F-9487-2BB7E628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AC2-DFF6-414C-9DBC-3F593F7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C5E-B10E-4BC1-9EB4-DCD5D6F1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D6F-C848-49B3-9831-37ACE19D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7DB-C02E-4BCD-BC0B-27867462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0D4-C408-4EE8-9ACE-D9B23AF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BCA-CBDC-44DB-A8AB-6F16E4A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87D-4D69-4C6B-8C2E-6178A04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79D-F5A8-4148-ABEA-416C240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CE4-0AED-49C2-ADF0-B147783A07C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2200320"/>
            <a:ext cx="7886880" cy="1201680"/>
            <a:chOff x="628560" y="2200320"/>
            <a:chExt cx="7886880" cy="12016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2200320"/>
              <a:ext cx="7886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40696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صول الفكر الإسلامي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774720"/>
            <a:chOff x="1311120" y="3767040"/>
            <a:chExt cx="6516720" cy="7747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898989"/>
                  </a:solidFill>
                  <a:latin typeface="Sakkal Majalla"/>
                  <a:cs typeface="Sakkal Majalla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48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Sakkal Majalla"/>
                  <a:cs typeface="Sakkal Majalla"/>
                </a:rPr>
                <a:t>أصول الفكر الإسلام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صورة 3" descr="$0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52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Sakkal Majalla"/>
                  <a:cs typeface="Sakkal Majalla"/>
                </a:rPr>
                <a:t>تعريف الفكر لغ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صورة 3" descr="$1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عنوان 1"/>
          <p:cNvGrpSpPr/>
          <p:nvPr/>
        </p:nvGrpSpPr>
        <p:grpSpPr>
          <a:xfrm>
            <a:off x="396720" y="128880"/>
            <a:ext cx="8345520" cy="1434600"/>
            <a:chOff x="396720" y="128880"/>
            <a:chExt cx="8345520" cy="1434600"/>
          </a:xfrm>
        </p:grpSpPr>
        <p:pic>
          <p:nvPicPr>
            <p:cNvPr id="56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12888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تعريفات الفكر الإسلامي ما يلي 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صورة 3" descr="$2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228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فكر : من يبحث حلول  المشكلات بقراءة   نصوص الشريعة في  ضوء مقاصدها مع إيجاد  آليات تطبيقها في الواقع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4960"/>
            <a:ext cx="8229600" cy="204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يمكن تعريف الفكر الإسلامي  بأنه : " مقتضى النظر  الشرعي، في المعقولات التي  تتطلب نوعا من الاجتهاد،  وفق أدلة الأحكام وقواعد  الاستدلال"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صورة 3" descr="$4$.gif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عنوان 1"/>
          <p:cNvGrpSpPr/>
          <p:nvPr/>
        </p:nvGrpSpPr>
        <p:grpSpPr>
          <a:xfrm>
            <a:off x="396720" y="304920"/>
            <a:ext cx="8345520" cy="1006200"/>
            <a:chOff x="396720" y="304920"/>
            <a:chExt cx="8345520" cy="1006200"/>
          </a:xfrm>
        </p:grpSpPr>
        <p:pic>
          <p:nvPicPr>
            <p:cNvPr id="64" name="عنوان 1" descr=""/>
            <p:cNvPicPr/>
            <p:nvPr/>
          </p:nvPicPr>
          <p:blipFill>
            <a:blip r:embed="rId1"/>
            <a:stretch/>
          </p:blipFill>
          <p:spPr>
            <a:xfrm>
              <a:off x="396720" y="304920"/>
              <a:ext cx="83455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46404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Sakkal Majalla"/>
                  <a:cs typeface="Sakkal Majalla"/>
                </a:rPr>
                <a:t>مصطلح الفكر الإسلام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صورة 3" descr="$5$.gif"/>
          <p:cNvPicPr/>
          <p:nvPr/>
        </p:nvPicPr>
        <p:blipFill>
          <a:blip r:embed="rId2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280440"/>
            <a:ext cx="8229600" cy="283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كاد يجمع الباحثون  الواعون لمدلول هذا  المصطلح على أنّ ( الفكر  الإسلامي ) في حقيقته  ليس أمرا جديدا ؛ وإنما  تنحصر الجِدَّة في أمرين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76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: فمصطلح ( الفكر  الإسلامي ) بهذا التركيب  ، من المصطلحات  الحديثة والحقيقة أن  الفكر ورد في التراث  الإسلامي بما يفيد المعنى  المعاصر، وإن لم يكن  معنى جامعا مانعا للفكر  اليوم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يقول أبو حامد الغزالي : "اعلم أن  معنى الفكر هو احضار معرفتين في  القلب ليستثمر منهما معرفة ثالثة" .  وقد جعل الفكر مرادفا للتأمل والتدب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بالنسبة لإمام الحرمين الجويني،  يدل الفكر على النظر، يقول :  "والنظر في اصطلاح الموحدين هو  الفكر الذي يطلب به من قام به علما  أو غلبة ظن ؛ ثم ينقسم النظر إلى  قسمين : إلى الصحيح وإلى الفاسد"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الثاني : مجالات الفكر الإسلامي، وأهلية المفكّر الإسلامي . فالنتاج  الفكري الموصوف بأنه إسلامي ، منه ما لا تنطبق عليه شروط الفكر  الإسلامي بمعنى الفكر الشرعي أو المشروع . كما أنَّ كثيرا من  المفكرين الموصوفين بأنَّهم من المفكرين الإسلاميين ، لا تتوفر فيهم  شروط المفكر الإسلامي ، وفق ضوابط الفكر الإسلام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38:25Z</dcterms:created>
  <dc:creator>وفاء بنت محمد العيسى</dc:creator>
  <dc:description/>
  <dc:language>en-US</dc:language>
  <cp:lastModifiedBy>ساره</cp:lastModifiedBy>
  <dcterms:modified xsi:type="dcterms:W3CDTF">2013-03-08T16:38:23Z</dcterms:modified>
  <cp:revision>3</cp:revision>
  <dc:subject/>
  <dc:title>أصول الفكر الإسلامي</dc:title>
</cp:coreProperties>
</file>