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19C-5E82-425A-9D6A-1CF68740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35C-4521-4748-BB3C-B15A708D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893-57CF-427E-856E-97A8C07E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2B2-C1F5-4507-8155-FF7CA8D1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5C3-4430-48F7-9664-B199D492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F38-44D7-4190-90E9-86C7151B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C7B-3987-49E2-8A21-C32A8124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DBA-1EE5-4532-8980-ADC98CD7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D25-FB83-427A-863C-F53266D6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BD8-20BB-4CFF-B723-870E78AE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585-E94A-424C-A227-A03022AC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138-243F-4B3F-8CF8-F60D0161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FC1A-56D0-45DE-ACB3-0EE17D013C6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628560" y="807480"/>
            <a:ext cx="7886880" cy="4115880"/>
            <a:chOff x="628560" y="807480"/>
            <a:chExt cx="7886880" cy="411588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628560" y="1560600"/>
              <a:ext cx="7886880" cy="24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807480"/>
              <a:ext cx="777240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6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مصادر الفكر الإسلامي: </a:t>
              </a:r>
              <a:br>
                <a:rPr sz="6600"/>
              </a:br>
              <a:r>
                <a:rPr b="1" lang="ar-SA" sz="66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أسس السياسة الشرعية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268280" y="4748040"/>
            <a:ext cx="6516720" cy="781200"/>
            <a:chOff x="1268280" y="4748040"/>
            <a:chExt cx="6516720" cy="78120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268280" y="4748040"/>
              <a:ext cx="6516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32000" y="48690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2f2f2"/>
                  </a:solidFill>
                  <a:latin typeface="Arial"/>
                  <a:cs typeface="Farsi Simple Bold"/>
                </a:rPr>
                <a:t>إعداد: 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صورة 3" descr="$0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grpSp>
        <p:nvGrpSpPr>
          <p:cNvPr id="48" name="عنوان 1"/>
          <p:cNvGrpSpPr/>
          <p:nvPr/>
        </p:nvGrpSpPr>
        <p:grpSpPr>
          <a:xfrm>
            <a:off x="622440" y="276840"/>
            <a:ext cx="7888320" cy="1191240"/>
            <a:chOff x="622440" y="276840"/>
            <a:chExt cx="7888320" cy="1191240"/>
          </a:xfrm>
        </p:grpSpPr>
        <p:pic>
          <p:nvPicPr>
            <p:cNvPr id="49" name="عنوان 1" descr=""/>
            <p:cNvPicPr/>
            <p:nvPr/>
          </p:nvPicPr>
          <p:blipFill>
            <a:blip r:embed="rId2"/>
            <a:stretch/>
          </p:blipFill>
          <p:spPr>
            <a:xfrm>
              <a:off x="622440" y="420840"/>
              <a:ext cx="78883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76840"/>
              <a:ext cx="777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2f2f2"/>
                  </a:solidFill>
                  <a:latin typeface="Andalus"/>
                  <a:cs typeface="Andalus"/>
                </a:rPr>
                <a:t>مصادر الفكر الإسلامي: أسس السياسة الشرعي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صدر الأول : (القران الكريم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ـو: كلام الله  -تعالى - حقاً، لفظاً ومعنى،  نزل به جبريل على محمد  -صلى الله عليه وسلم - بلسان عربي مبين، المعجز  بنفسه، المتعبد بتلاوت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قال تعالى: ” وَإِنَّهُ لَتَنزِيلُ رَبِّ الْعَالَمِينَ * نَزَلَ بِهِ الرُّوحُ  الْأَمِينُ * عَلَى قَلْبِكَ لِتَكُونَ مِنَ الْمُنذِرِينَ * بِلِسَانٍ عَرَبِيٍّ مُّبِينٍ ”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515160"/>
            <a:ext cx="8229600" cy="307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صدر الثاني:السنّة النبوية: وهي في  اصطلاح علماء أصول الفقه: ما صدر عن  النبي  -صلى الله عليه وسلم -، غير  القرآن، من قول، أو فعل، أو تقرير.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إن  شئت فقل هي: ما شرعه النبي  -صلى الله  عليه وسلم -، بياناً أو تأكيداً لما جاء في  القرآن الكريم، أو تأسيساً لما لم يرد في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صورة 3" descr="$4$.gif"/>
          <p:cNvPicPr/>
          <p:nvPr/>
        </p:nvPicPr>
        <p:blipFill>
          <a:blip r:embed="rId1"/>
          <a:stretch/>
        </p:blipFill>
        <p:spPr>
          <a:xfrm>
            <a:off x="468360" y="213372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05560"/>
            <a:ext cx="8229600" cy="210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إجماع: الاتفاق على معنى  النص، مع عدم النزاع على  حكم غير منصو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$3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61520"/>
            <a:ext cx="8229600" cy="76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Farsi Simple Bold"/>
              </a:rPr>
              <a:t>القياس: الإلحاق بمعنى الن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3" descr="$2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14120"/>
            <a:ext cx="8229600" cy="192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استدلال: الاحتجاج  بالأصول الكلية عند  عدم النص والاجماع  والقيا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صورة 3" descr="$1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09:23:09Z</dcterms:created>
  <dc:creator>وفاء بنت محمد العيسى</dc:creator>
  <dc:description/>
  <dc:language>en-US</dc:language>
  <cp:lastModifiedBy>ساره</cp:lastModifiedBy>
  <dcterms:modified xsi:type="dcterms:W3CDTF">2013-03-08T16:43:48Z</dcterms:modified>
  <cp:revision>2</cp:revision>
  <dc:subject/>
  <dc:title>مصادر الفكر الإسلامي:  أسس السياسة الشرعية</dc:title>
</cp:coreProperties>
</file>