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7686-B64A-43AF-9BC5-2D33C7FB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0B92-25AA-4717-B5A9-A750D8E8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4C4E-8EDD-423B-9C0B-4C2FF95B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166D-6321-49C7-BE02-35724083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71C9-6431-4751-8767-7A7BA965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C72-DB60-498D-B304-8D1C663D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C716-C13C-418A-BBC1-3408EFE0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93F9-5A19-4C91-99D0-02A274EB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69FE-BE49-4D8A-944A-D2DC81F7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8F6F-602D-4526-9878-20FD8B69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79AA-612E-48DB-A12F-790A9F82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6552-A97E-4685-8FB4-D32539BA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8533-FD5D-4599-9C0E-96F78A0DA57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عنوان 1"/>
          <p:cNvGrpSpPr/>
          <p:nvPr/>
        </p:nvGrpSpPr>
        <p:grpSpPr>
          <a:xfrm>
            <a:off x="628560" y="807480"/>
            <a:ext cx="7886880" cy="4115880"/>
            <a:chOff x="628560" y="807480"/>
            <a:chExt cx="7886880" cy="4115880"/>
          </a:xfrm>
        </p:grpSpPr>
        <p:pic>
          <p:nvPicPr>
            <p:cNvPr id="42" name="عنوان 1" descr=""/>
            <p:cNvPicPr/>
            <p:nvPr/>
          </p:nvPicPr>
          <p:blipFill>
            <a:blip r:embed="rId1"/>
            <a:stretch/>
          </p:blipFill>
          <p:spPr>
            <a:xfrm>
              <a:off x="628560" y="1560600"/>
              <a:ext cx="7886880" cy="24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85800" y="807480"/>
              <a:ext cx="7772400" cy="41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600" spc="-1" strike="noStrike">
                  <a:solidFill>
                    <a:srgbClr val="333333"/>
                  </a:solidFill>
                  <a:latin typeface="Andalus"/>
                  <a:cs typeface="Andalus"/>
                </a:rPr>
                <a:t>مصادر الفكر الإسلامي: </a:t>
              </a:r>
              <a:br>
                <a:rPr sz="6600"/>
              </a:br>
              <a:r>
                <a:rPr b="1" lang="ar-SA" sz="6600" spc="-1" strike="noStrike">
                  <a:solidFill>
                    <a:srgbClr val="333333"/>
                  </a:solidFill>
                  <a:latin typeface="Andalus"/>
                  <a:cs typeface="Andalus"/>
                </a:rPr>
                <a:t>أسس السياسة الشرعية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عنوان فرعي 2"/>
          <p:cNvGrpSpPr/>
          <p:nvPr/>
        </p:nvGrpSpPr>
        <p:grpSpPr>
          <a:xfrm>
            <a:off x="1268280" y="4748040"/>
            <a:ext cx="6516720" cy="781200"/>
            <a:chOff x="1268280" y="4748040"/>
            <a:chExt cx="6516720" cy="781200"/>
          </a:xfrm>
        </p:grpSpPr>
        <p:pic>
          <p:nvPicPr>
            <p:cNvPr id="45" name="عنوان فرعي 2" descr=""/>
            <p:cNvPicPr/>
            <p:nvPr/>
          </p:nvPicPr>
          <p:blipFill>
            <a:blip r:embed="rId2"/>
            <a:stretch/>
          </p:blipFill>
          <p:spPr>
            <a:xfrm>
              <a:off x="1268280" y="4748040"/>
              <a:ext cx="651672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332000" y="4869000"/>
              <a:ext cx="640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2f2f2"/>
                  </a:solidFill>
                  <a:latin typeface="Arial"/>
                  <a:cs typeface="Farsi Simple Bold"/>
                </a:rPr>
                <a:t>إعداد: وفاء بنت محمد العيس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صورة 3" descr="$0$.gif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grpSp>
        <p:nvGrpSpPr>
          <p:cNvPr id="48" name="عنوان 1"/>
          <p:cNvGrpSpPr/>
          <p:nvPr/>
        </p:nvGrpSpPr>
        <p:grpSpPr>
          <a:xfrm>
            <a:off x="622440" y="276840"/>
            <a:ext cx="7888320" cy="1191240"/>
            <a:chOff x="622440" y="276840"/>
            <a:chExt cx="7888320" cy="1191240"/>
          </a:xfrm>
        </p:grpSpPr>
        <p:pic>
          <p:nvPicPr>
            <p:cNvPr id="49" name="عنوان 1" descr=""/>
            <p:cNvPicPr/>
            <p:nvPr/>
          </p:nvPicPr>
          <p:blipFill>
            <a:blip r:embed="rId2"/>
            <a:stretch/>
          </p:blipFill>
          <p:spPr>
            <a:xfrm>
              <a:off x="622440" y="420840"/>
              <a:ext cx="788832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84360" y="276840"/>
              <a:ext cx="7772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f2f2f2"/>
                  </a:solidFill>
                  <a:latin typeface="Andalus"/>
                  <a:cs typeface="Andalus"/>
                </a:rPr>
                <a:t>مصادر الفكر الإسلامي: أسس السياسة الشرعية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مصدر الأول : (القران الكريم)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هـو: كلام الله  -تعالى - حقاً، لفظاً ومعنى،  نزل به جبريل على محمد  -صلى الله عليه وسلم - بلسان عربي مبين، المعجز  بنفسه، المتعبد بتلاوته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 قال تعالى: ” وَإِنَّهُ لَتَنزِيلُ رَبِّ الْعَالَمِينَ * نَزَلَ بِهِ الرُّوحُ  الْأَمِينُ * عَلَى قَلْبِكَ لِتَكُونَ مِنَ الْمُنذِرِينَ * بِلِسَانٍ عَرَبِيٍّ مُّبِينٍ ”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515160"/>
            <a:ext cx="8229600" cy="307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مصدر الثاني:السنّة النبوية: وهي في  اصطلاح علماء أصول الفقه: ما صدر عن  النبي  -صلى الله عليه وسلم -، غير  القرآن، من قول، أو فعل، أو تقرير. 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إن  شئت فقل هي: ما شرعه النبي  -صلى الله  عليه وسلم -، بياناً أو تأكيداً لما جاء في  القرآن الكريم، أو تأسيساً لما لم يرد في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صورة 3" descr="$4$.gif"/>
          <p:cNvPicPr/>
          <p:nvPr/>
        </p:nvPicPr>
        <p:blipFill>
          <a:blip r:embed="rId1"/>
          <a:stretch/>
        </p:blipFill>
        <p:spPr>
          <a:xfrm>
            <a:off x="468360" y="213372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205560"/>
            <a:ext cx="8229600" cy="210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إجماع: الاتفاق على معنى  النص، مع عدم النزاع على  حكم غير منصو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صورة 3" descr="$3$.gif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61520"/>
            <a:ext cx="8229600" cy="76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Farsi Simple Bold"/>
              </a:rPr>
              <a:t>القياس: الإلحاق بمعنى الن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3" descr="$2$.gif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114120"/>
            <a:ext cx="8229600" cy="192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استدلال: الاحتجاج  بالأصول الكلية عند  عدم النص والاجماع  والقيا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صورة 3" descr="$1$.gif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09:23:09Z</dcterms:created>
  <dc:creator>وفاء بنت محمد العيسى</dc:creator>
  <dc:description/>
  <dc:language>en-US</dc:language>
  <cp:lastModifiedBy>ساره</cp:lastModifiedBy>
  <dcterms:modified xsi:type="dcterms:W3CDTF">2013-03-08T16:43:48Z</dcterms:modified>
  <cp:revision>2</cp:revision>
  <dc:subject/>
  <dc:title>مصادر الفكر الإسلامي:  أسس السياسة الشرعية</dc:title>
</cp:coreProperties>
</file>