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E81-6A08-453D-AB88-BC4A1489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ECE-DB1B-4348-9483-9F18F680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1DA-AFA4-4D43-87C2-E10804D4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D90-A5EE-45DB-AFF3-3AA1CDDB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01B-979E-4463-AC63-031E5064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7FC-DDB8-46D9-BDF2-526F3EAC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46F-B423-4865-8CE9-9A46EE4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739-CBB0-4F91-ACC9-AD952DAC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16C-E694-423F-BD85-83E33E30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BF1-5A8C-4264-9AB4-4995894C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295-41DC-4F5F-AA53-5933ED8E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762-CCA0-43C4-86C1-E126D4B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34F2-B133-474D-9C1D-1D16014705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807480"/>
            <a:ext cx="7886880" cy="4115880"/>
            <a:chOff x="628560" y="807480"/>
            <a:chExt cx="7886880" cy="41158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1560600"/>
              <a:ext cx="788688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807480"/>
              <a:ext cx="777240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مصادر الفكر الإسلامي: </a:t>
              </a:r>
              <a:br>
                <a:rPr sz="6600"/>
              </a:br>
              <a:r>
                <a:rPr b="1" lang="ar-SA" sz="66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سس السياسة الشرعية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268280" y="4748040"/>
            <a:ext cx="6516720" cy="781200"/>
            <a:chOff x="1268280" y="4748040"/>
            <a:chExt cx="6516720" cy="78120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268280" y="4748040"/>
              <a:ext cx="6516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32000" y="48690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Arial"/>
                  <a:cs typeface="Farsi Simple Bold"/>
                </a:rPr>
                <a:t>إعداد: 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grpSp>
        <p:nvGrpSpPr>
          <p:cNvPr id="48" name="عنوان 1"/>
          <p:cNvGrpSpPr/>
          <p:nvPr/>
        </p:nvGrpSpPr>
        <p:grpSpPr>
          <a:xfrm>
            <a:off x="622440" y="276840"/>
            <a:ext cx="7888320" cy="1191240"/>
            <a:chOff x="622440" y="276840"/>
            <a:chExt cx="7888320" cy="1191240"/>
          </a:xfrm>
        </p:grpSpPr>
        <p:pic>
          <p:nvPicPr>
            <p:cNvPr id="49" name="عنوان 1" descr=""/>
            <p:cNvPicPr/>
            <p:nvPr/>
          </p:nvPicPr>
          <p:blipFill>
            <a:blip r:embed="rId2"/>
            <a:stretch/>
          </p:blipFill>
          <p:spPr>
            <a:xfrm>
              <a:off x="622440" y="420840"/>
              <a:ext cx="78883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76840"/>
              <a:ext cx="777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2f2f2"/>
                  </a:solidFill>
                  <a:latin typeface="Andalus"/>
                  <a:cs typeface="Andalus"/>
                </a:rPr>
                <a:t>مصادر الفكر الإسلامي: أسس السياسة الشرعي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صدر الأول : (القران الكريم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ـو: كلام الله  -تعالى - حقاً، لفظاً ومعنى،  نزل به جبريل على محمد  -صلى الله عليه وسلم - بلسان عربي مبين، المعجز  بنفسه، المتعبد بتلاوت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قال تعالى: ” وَإِنَّهُ لَتَنزِيلُ رَبِّ الْعَالَمِينَ * نَزَلَ بِهِ الرُّوحُ  الْأَمِينُ * عَلَى قَلْبِكَ لِتَكُونَ مِنَ الْمُنذِرِينَ * بِلِسَانٍ عَرَبِيٍّ مُّبِينٍ ”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515160"/>
            <a:ext cx="8229600" cy="307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صدر الثاني:السنّة النبوية: وهي في  اصطلاح علماء أصول الفقه: ما صدر عن  النبي  -صلى الله عليه وسلم -، غير  القرآن، من قول، أو فعل، أو تقرير.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إن  شئت فقل هي: ما شرعه النبي  -صلى الله  عليه وسلم -، بياناً أو تأكيداً لما جاء في  القرآن الكريم، أو تأسيساً لما لم يرد في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3" descr="$4$.gif"/>
          <p:cNvPicPr/>
          <p:nvPr/>
        </p:nvPicPr>
        <p:blipFill>
          <a:blip r:embed="rId1"/>
          <a:stretch/>
        </p:blipFill>
        <p:spPr>
          <a:xfrm>
            <a:off x="468360" y="213372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5560"/>
            <a:ext cx="8229600" cy="21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إجماع: الاتفاق على معنى  النص، مع عدم النزاع على  حكم غير منصو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$3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76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Farsi Simple Bold"/>
              </a:rPr>
              <a:t>القياس: الإلحاق بمعنى الن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3" descr="$2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192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استدلال: الاحتجاج  بالأصول الكلية عند  عدم النص والاجماع  والقيا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صورة 3" descr="$1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09:23:09Z</dcterms:created>
  <dc:creator>وفاء بنت محمد العيسى</dc:creator>
  <dc:description/>
  <dc:language>en-US</dc:language>
  <cp:lastModifiedBy>ساره</cp:lastModifiedBy>
  <dcterms:modified xsi:type="dcterms:W3CDTF">2013-03-08T16:43:48Z</dcterms:modified>
  <cp:revision>2</cp:revision>
  <dc:subject/>
  <dc:title>مصادر الفكر الإسلامي:  أسس السياسة الشرعية</dc:title>
</cp:coreProperties>
</file>