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087-702D-4532-8F5B-3F12A0D2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4A8-C01A-44A9-9165-1A4F2590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252-3149-4579-9A9E-9C92A632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257-7064-48FA-8734-E33D9856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24B-A707-4F31-8E21-6BEEC108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A2D-BB6C-4F44-B85F-4450F8D2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740-CDC6-47AA-8A4C-5733F6DC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460-E655-46A3-9887-FC411396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F8A-6EDA-48B1-B8DA-14ECC866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533-06EE-4965-91A7-0A7696FB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4EE-EB88-4543-8136-7EE3F172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ED0-7584-4338-B0C3-C27049D3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736A-45CA-4693-82D0-131B6C8432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2148120"/>
            <a:ext cx="7886880" cy="1434600"/>
            <a:chOff x="628560" y="2148120"/>
            <a:chExt cx="7886880" cy="143460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2322360"/>
              <a:ext cx="7886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2148120"/>
              <a:ext cx="777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2f2f2"/>
                  </a:solidFill>
                  <a:latin typeface="Andalus"/>
                  <a:cs typeface="Andalus"/>
                </a:rPr>
                <a:t>خصائص الفكر الإسلامي الحديث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67040"/>
            <a:ext cx="6516720" cy="774720"/>
            <a:chOff x="1311120" y="3767040"/>
            <a:chExt cx="6516720" cy="77472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67040"/>
              <a:ext cx="6516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Arabic Typesetting"/>
                  <a:cs typeface="Arabic Typesetting"/>
                </a:rPr>
                <a:t>إعداد: 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عنوان 1"/>
          <p:cNvGrpSpPr/>
          <p:nvPr/>
        </p:nvGrpSpPr>
        <p:grpSpPr>
          <a:xfrm>
            <a:off x="622440" y="360"/>
            <a:ext cx="7888320" cy="1434600"/>
            <a:chOff x="622440" y="360"/>
            <a:chExt cx="7888320" cy="1434600"/>
          </a:xfrm>
        </p:grpSpPr>
        <p:pic>
          <p:nvPicPr>
            <p:cNvPr id="50" name="عنوان 1" descr=""/>
            <p:cNvPicPr/>
            <p:nvPr/>
          </p:nvPicPr>
          <p:blipFill>
            <a:blip r:embed="rId2"/>
            <a:stretch/>
          </p:blipFill>
          <p:spPr>
            <a:xfrm>
              <a:off x="622440" y="171360"/>
              <a:ext cx="7888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360"/>
              <a:ext cx="777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2f2f2"/>
                  </a:solidFill>
                  <a:latin typeface="Andalus"/>
                  <a:cs typeface="Andalus"/>
                </a:rPr>
                <a:t>خصائص الفكر الإسلامي الحديث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3:37:49Z</dcterms:created>
  <dc:creator>وفاء بنت محمد العيسى</dc:creator>
  <dc:description/>
  <dc:language>en-US</dc:language>
  <cp:lastModifiedBy>ساره</cp:lastModifiedBy>
  <dcterms:modified xsi:type="dcterms:W3CDTF">2013-03-08T16:43:17Z</dcterms:modified>
  <cp:revision>2</cp:revision>
  <dc:subject/>
  <dc:title>خصائص الفكر الإسلامي الحديث</dc:title>
</cp:coreProperties>
</file>