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648-D724-49AA-BC83-29C29AAB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923-FDB8-4819-B451-0F1C788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CE3-4413-4A19-B4AC-238C68C4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D03-5FCD-4799-AAE3-96ED0D2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965-3B09-4C7D-81E9-B3AE65E0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F39-4C5D-4706-9A70-858A3F9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492-ABBA-4269-BAA2-5CBD7999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AD3-CFFD-49B2-BCB4-F7A264DC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1DA-F9C2-4A2C-ACFA-145BD7F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157-5D36-490B-847F-D2A56BD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9F2-EC53-4FB2-B5AB-DDEC943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9F1-6936-49F1-86FF-13AD263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0AE7-334E-4981-8E36-E5B5BDEBF6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2148120"/>
            <a:ext cx="7886880" cy="1434600"/>
            <a:chOff x="628560" y="2148120"/>
            <a:chExt cx="7886880" cy="143460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2322360"/>
              <a:ext cx="7886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14812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خصائص الفكر الإسلامي الحديث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67040"/>
            <a:ext cx="6516720" cy="774720"/>
            <a:chOff x="1311120" y="3767040"/>
            <a:chExt cx="6516720" cy="7747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67040"/>
              <a:ext cx="6516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abic Typesetting"/>
                  <a:cs typeface="Arabic Typesetting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عنوان 1"/>
          <p:cNvGrpSpPr/>
          <p:nvPr/>
        </p:nvGrpSpPr>
        <p:grpSpPr>
          <a:xfrm>
            <a:off x="622440" y="360"/>
            <a:ext cx="7888320" cy="1434600"/>
            <a:chOff x="622440" y="360"/>
            <a:chExt cx="7888320" cy="1434600"/>
          </a:xfrm>
        </p:grpSpPr>
        <p:pic>
          <p:nvPicPr>
            <p:cNvPr id="50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171360"/>
              <a:ext cx="7888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36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خصائص الفكر الإسلامي الحديث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37:49Z</dcterms:created>
  <dc:creator>وفاء بنت محمد العيسى</dc:creator>
  <dc:description/>
  <dc:language>en-US</dc:language>
  <cp:lastModifiedBy>ساره</cp:lastModifiedBy>
  <dcterms:modified xsi:type="dcterms:W3CDTF">2013-03-08T16:43:17Z</dcterms:modified>
  <cp:revision>2</cp:revision>
  <dc:subject/>
  <dc:title>خصائص الفكر الإسلامي الحديث</dc:title>
</cp:coreProperties>
</file>