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63C1-E12E-413F-9CDF-9E53CD85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B15E-3046-4BCD-A03F-E50650BC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161A-9E80-4F16-9415-6E0132A85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CB7F-A327-4FED-B4BD-78826F118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434F-98EA-4EF8-951E-9D48657B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C0F2-59A3-4409-832C-D7B8FE91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D577-2A56-4BE9-AA23-B74A83DC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2CD9-F6BB-4FED-B0CF-E8D708ED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336E-BF72-4F19-B0C8-D4CFF1A3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D330-A571-4B22-AEA6-32E68898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6DF4-BAA4-4E30-82D6-AA997247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EC99-B36F-4112-928F-6B603765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E47E-FC31-4B85-A17F-73C19AF5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786D-E0D8-4E4D-941E-9AD07C38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8495-310F-4AD8-A70E-0E1F6A6B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C833-D344-4E25-A36F-EAE4A0218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351A-04ED-4BE2-89D8-D0DC3F2A3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6CD6-A22D-4D01-AD58-811C3AF4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E043-33BC-4012-90CA-5328156C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5A66-EE9D-41E5-9BF6-05C07662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5766-B616-44EB-9B2C-0741EAF4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CEF5-725E-4119-87DA-582BADD2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7E45-8DB0-4D03-9AD9-A5A39E14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6AA4-DCFB-4A37-8B3D-9BF2F3D4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1B9F-D81A-4901-89CC-DB3C4574869C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53A4-AC4C-43A3-A18F-E7022CEDBCD9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006666"/>
                </a:solidFill>
                <a:latin typeface="Verdana"/>
                <a:cs typeface="PT Simple Bold Ruled"/>
              </a:rPr>
              <a:t>ثباتية الفيتامينات أثناء التصنيع الغذائي</a:t>
            </a:r>
            <a:endParaRPr b="1" lang="en-US" sz="43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55280" y="2421000"/>
            <a:ext cx="7777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Factors affecting the stability of vitamins: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Temperature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Moisture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Oxygen 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Light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pH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Presence of metallic ions( e.g. copper, iron)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Oxidizing and reducing agents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Presence of other vitamins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Other components of food ( e.g. sulphur dioxide)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Combinations of the above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666"/>
                </a:solidFill>
                <a:latin typeface="Verdana"/>
                <a:cs typeface="PT Bold Dusky"/>
              </a:rPr>
              <a:t>تابع فقد الثيامي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فقد الثيامين في عملية الخبز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- الفقد من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15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20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% وجزء منه يحدث أثناء التخمر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   - الأبحاث الأولى عن فقده بالخبيز أظهرت تكسر أولي للثيامين إلى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pyrimidine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و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thiazole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تأثير المركبات الكبريتية على الثيامين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   -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حساس لل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sulphites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و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bisulphite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- هذا التفاعل سريع على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pH</a:t>
            </a:r>
            <a:r>
              <a:rPr b="0" lang="ar-SA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مرتفع ( سلق الخضار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    - عند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pH</a:t>
            </a:r>
            <a:r>
              <a:rPr b="0" lang="ar-SA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منخفض ( عصائر الفواكه ) لا يحصل فقد معنوي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    - فقد الثيامين خلال إعداد وخزن اللحم المفروم يكون خطياً مع تركيز ثاني أكسيد الكبريت حتى تركيز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,.%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-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يتحطم بالعوامل المؤكسدة والمختزلة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666"/>
                </a:solidFill>
                <a:latin typeface="Verdana"/>
                <a:cs typeface="PT Simple Bold Ruled"/>
              </a:rPr>
              <a:t>العوامل المؤثرة على ثباتية الثيامي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تحمي البروتينات عموماً الثيامين من التحطم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تعيق المواد التالية من معدل تحطم الثيامين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   - الفركتوز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   -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vertas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   - المانيتول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   -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osito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 Unicode MS"/>
                <a:ea typeface="Arial Unicode MS"/>
              </a:rPr>
              <a:t>Riboflavi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وجد في الأغذية على شكلين مرتبطين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bound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-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flavin adenine nucleotide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     -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riboflavin mononucleotide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ضوء من أكثر العوامل أهمية في التأثير على ثباتية الفيتامين ( الطول الموجي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420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–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560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µ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رايبوفلافين وفوسفات الرايبوفلافين ثابتان للحرارة والأكسجين الجوي خاصة في الأوساط الحامضيه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تحطم بالمواد المختزلة خاصة بزيادة الـ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H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*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ثابت للمعاملات الحرارية التي تجرى للحليب ( يفقد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20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80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% خلال ساعتين من التعرض للضوء 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바탕"/>
              </a:rPr>
              <a:t>Niaci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اسم عام لكل من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   -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nicotinic acid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   -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nicotinamide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يوجد في الذرة وبعض أنواع الحبوب الأخرى على شكل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niacytin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( مرتبط مع السكريات العديدة والببتيدات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لا يتأثر بالأكسجين الجوي والحرارة والضوء في الأوساط الصلبة والسائلة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484360" y="1916280"/>
            <a:ext cx="1511280" cy="129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antothenic acid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oenzyme 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يفقد الحليب أقل من 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10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% من الفيتامين خلال التصنيع ويفقد من اللحوم ولكن ليس بكميات كبيرة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الشكل الحر من الفيتامين غير ثابت و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ygroscopic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التحضيرات التجارية تكون في العادة على شكل أملاح للكالسيوم أو الصوديوم ( متوسطة الثباتية للأكسجين والضوء وحساسة للمعاملة الحرارية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rmolabile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الثباتية القصوى له عند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H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من 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6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7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52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52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11280" y="5373720"/>
            <a:ext cx="1511280" cy="1041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333000"/>
            <a:ext cx="8244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Folic acid / Folat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لا يوجد حمض الفوليك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pteroylglutamic acid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في الطبيعة ولكن يمكن إنتاجه تجاريا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الموجود طبيعياً عدد من المشتقات تعرف بالفوليت أو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olacin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( 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أو أكثر من حمض الجلوتاميك المرتبط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تسود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polyglutamates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في الأغذية الطازجة وتتحطم ببطء عند التخزين إلى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monoglutamates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وتتأكسد إلى فوليت ( أقل توافراً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bioavialable</a:t>
            </a:r>
            <a:r>
              <a:rPr b="0" lang="ar-SA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987640" y="5013360"/>
            <a:ext cx="1511280" cy="863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476280"/>
            <a:ext cx="82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Stability of folates &amp; Folic acid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معظم دراسات الثباتية أجريت على حمض الفوليك المتوفر تجاريا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متوسط الثباتية للحرارة والأكسجين الجو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حمض الفوليك السائل ثابت على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H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= 7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تزداد حساسيته في الأوساط الحامضية والقاعدية خاصة عند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H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أقل من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تحطم حمض الفوليك بالعوامل المؤكسدة والمختزل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V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لها تأثير خطير على ثباتية الفيتامين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تزداد سرعة التحطم بالضوء في وجود الرايبوفلافين ( إضافة مادة مضادة للأكسدة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333360"/>
            <a:ext cx="82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66"/>
                </a:solidFill>
                <a:latin typeface="Verdana"/>
                <a:cs typeface="PT Simple Bold Ruled"/>
              </a:rPr>
              <a:t>ثباتية</a:t>
            </a:r>
            <a:r>
              <a:rPr b="0" lang="ar-SA" sz="4400" spc="-1" strike="noStrike">
                <a:solidFill>
                  <a:srgbClr val="006666"/>
                </a:solidFill>
                <a:latin typeface="Verdana"/>
                <a:ea typeface="PT Simple Bold Ruled"/>
              </a:rPr>
              <a:t> </a:t>
            </a:r>
            <a:r>
              <a:rPr b="0" lang="en-US" sz="3200" spc="-1" strike="noStrike">
                <a:solidFill>
                  <a:srgbClr val="006666"/>
                </a:solidFill>
                <a:latin typeface="Verdana"/>
                <a:ea typeface="PT Simple Bold Ruled"/>
              </a:rPr>
              <a:t>Folates</a:t>
            </a:r>
            <a:r>
              <a:rPr b="0" lang="ar-SA" sz="3200" spc="-1" strike="noStrike">
                <a:solidFill>
                  <a:srgbClr val="006666"/>
                </a:solidFill>
                <a:latin typeface="Verdana"/>
                <a:ea typeface="PT Simple Bold Ruled"/>
              </a:rPr>
              <a:t> في الأغذية خلال التصنيع والتخزين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الحليب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    - البسترة : فقد أقل من </a:t>
            </a: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5</a:t>
            </a: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 %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    - 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UHT</a:t>
            </a: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 : 20</a:t>
            </a: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 %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    - التعقيم :  </a:t>
            </a: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30</a:t>
            </a: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 %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    - 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UHT</a:t>
            </a: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 والتخزين : الفقد </a:t>
            </a: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50</a:t>
            </a: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 % خلال </a:t>
            </a: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 شهور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البيض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- البيض المسلوق : </a:t>
            </a: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10</a:t>
            </a: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 %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ar-SA" sz="1800" spc="-1" strike="noStrike">
                <a:solidFill>
                  <a:srgbClr val="006699"/>
                </a:solidFill>
                <a:latin typeface="Verdana"/>
              </a:rPr>
              <a:t>- </a:t>
            </a: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القلي والخلط    : </a:t>
            </a: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30</a:t>
            </a: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35</a:t>
            </a: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 %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سبانخ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6699"/>
                </a:solidFill>
                <a:latin typeface="Verdana"/>
              </a:rPr>
              <a:t>    - السلق بالبخار : الاحتفاظية  </a:t>
            </a:r>
            <a:r>
              <a:rPr b="0" lang="ar-SA" sz="1800" spc="-1" strike="noStrike">
                <a:solidFill>
                  <a:srgbClr val="006699"/>
                </a:solidFill>
                <a:latin typeface="Verdana"/>
              </a:rPr>
              <a:t>58</a:t>
            </a:r>
            <a:r>
              <a:rPr b="0" lang="ar-SA" sz="1800" spc="-1" strike="noStrike">
                <a:solidFill>
                  <a:srgbClr val="006699"/>
                </a:solidFill>
                <a:latin typeface="Verdana"/>
              </a:rPr>
              <a:t> %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- السلق بالماء : 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17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% ( الاحتفاظية 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- التجميد     :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72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% بعد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شهور من التخزين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   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333000"/>
            <a:ext cx="82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yridoxin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ثابت عادة للأكسجين الجوي والحرارة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تسرع أيونات المعادن من تحطمه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حساس للضوء خاصة في المحاليل القاعدية والمتعادلة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ثابت في الحليب عند البسترة ويفقد منه 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20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% خلال التعقيم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يفقد 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20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% منه خلال تحمير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oasting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وشي اللحوم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غلي اللحوم في الماء يؤدي إلى فقد 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30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60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% من الفيتامين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يفقد 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20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40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% من الفيتامين عند تعليب الخضار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1206360" cy="1054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333000"/>
            <a:ext cx="8244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Vitamin B12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يتحطم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cyanocobalamine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بالعوامل المؤكسدة والمختزلة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ثابت نسبياً في المحاليل المتعادلة والضعيفة الحموضة للأكسجين الجوي والحرارة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ثباتيته ضعيفة في المحاليل القاعدية وقوية الحموضة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 algn="r" rtl="1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حساس للضوء و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UV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ثابت للبسترة ويفقد 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20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% منه خلال التعقيم و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20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35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% عند تجفيف الحليب بالرذا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تتأثر ثباتيته معنوياً بوجود الفيتامينات الأخرى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755640" y="4941720"/>
            <a:ext cx="1384200" cy="1397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666"/>
                </a:solidFill>
                <a:latin typeface="Verdana"/>
                <a:cs typeface="PT Simple Bold Ruled"/>
              </a:rPr>
              <a:t>تابع ثباتية الفيتامينات أثناء التصنيع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تختلف الثباتية من فيتامين إلى فيتامين آخر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قد يحدث التدهور في الفيتامينات خلال تخزين الخضار والفواكه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قد يحصل الفقد خلال إعداد وتصنيع الأغذية ومكوناتها ( المعاملة الحرارية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عوامل المؤثرة على تدهور الفيتامينات متشابهة ( الفيتامينات الموجودة في الأغذية أو المضافة للغذاء من مصادر صناعية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شكل الذي يوجد عليه الفيتامين من مصدر صناعي يعزز من الثباتية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    -- استرات التوكوفيرول أكثر ثباتية من التوكوفيرول نفسه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  <a:cs typeface="PT Simple Bold Ruled"/>
              </a:rPr>
              <a:t>فيتامين ج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أكثر المركبات أهمية التي لها شك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L-ascorbic acid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(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L-AA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يوجد بمستويات عالية نسبياً في بعض الفواكه والخضار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يتحول إلى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dehydro-L- ascorbic acid </a:t>
            </a:r>
            <a:r>
              <a:rPr b="0" lang="ar-SA" sz="1800" spc="-1" strike="noStrike">
                <a:solidFill>
                  <a:srgbClr val="006699"/>
                </a:solidFill>
                <a:latin typeface="Verdana"/>
              </a:rPr>
              <a:t> (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DHA</a:t>
            </a:r>
            <a:r>
              <a:rPr b="0" lang="ar-SA" sz="1800" spc="-1" strike="noStrike">
                <a:solidFill>
                  <a:srgbClr val="006699"/>
                </a:solidFill>
                <a:latin typeface="Verdana"/>
              </a:rPr>
              <a:t> 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ليس للمتجازئات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D-isomers</a:t>
            </a:r>
            <a:r>
              <a:rPr b="0" lang="ar-SA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نشاط فيتاميني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يسود الشكل المختزل من الفيتامين عادة في الأغذية الطازجة ولكن المعاملات والتخزين والطبخ تزيد من نسبة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DHA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يوجد تجارياً على شكل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L-AA</a:t>
            </a:r>
            <a:r>
              <a:rPr b="0" lang="ar-SA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وأملاحه من الكالسيوم والصوديوم والمغنيسيوم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يوجد على شكل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ascorbyl palimatate</a:t>
            </a:r>
            <a:r>
              <a:rPr b="0" lang="ar-SA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ويستخدم على هذا الشكل كمضاد للأكسدة في الأغذية المصنعة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1143000" cy="1054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44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666"/>
                </a:solidFill>
                <a:latin typeface="Verdana"/>
                <a:cs typeface="PT Bold Stars"/>
              </a:rPr>
              <a:t>ثباتية فيتامين ج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فيتامين حمض الأسكوربيك وأملاحه ثابت نسبياً في الهواء الجاف ولكنه غير ثابت في وجود الرطوبة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يتأكسد بسهولة في المحاليل المائية إلى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DHA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( رجعي ) ثم إلى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diketogulonic acid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( أكسدة غير رجعية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يستخدم في المشروبات ( غير ثابت في عصير التفاح وثابت في عصير العنب الأسود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  <a:cs typeface="PT Bold Stars"/>
              </a:rPr>
              <a:t>تأثير الأكسجين على فيتامين ج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الأكسجين المذاب له تأثير مهم على ثباتية الفيتامين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يتأكسد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11,2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ملجم من 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AA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/ 1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ملجم من الأكسجين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يتحطم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75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100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ملجم من الفيتامين/ لتر من العصير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تستخدم معاملات التفريغ لتقليل هذه المشكلة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تأثيرات أيونات المعادن: النحاس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&lt;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الحديد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&lt;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الزنك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يقلل 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EDTA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و 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Cysteine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من أكسدة فيتامين ج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من المهم اختيار أجهزة تصنيع مناسبة ( حديد غير قابل للصدأ , المنيوم , بلاستيك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يعتمد معدل التحطم في المحاليل المائية على الـ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pH</a:t>
            </a:r>
            <a:r>
              <a:rPr b="0" lang="ar-SA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(التحطم الأقصى على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pH</a:t>
            </a:r>
            <a:r>
              <a:rPr b="0" lang="ar-SA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حوالي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4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الفقد في الثلج أسرع من الماء السائل ( يفقد جزء منه خلال التجميد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260280"/>
            <a:ext cx="824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6666"/>
                </a:solidFill>
                <a:latin typeface="comic"/>
                <a:cs typeface="PT Simple Bold Ruled"/>
              </a:rPr>
              <a:t>فقد فيتامين ج خلال تصنيع وطبخ الأغذية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بسترة : فقد حوالي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25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%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عقيم  :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60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%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UHT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التخزين (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 من التخزين ) : الفقد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100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%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فقد كبير بعد الطبخ أو التخزين على درجات حرارة عالية للخضار والفواكه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جفيف التجاري للبطاطس : فقد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35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45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%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تقطيع الخضار يزيد من معدل فقد الفيتامين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سلق الكرنب :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20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% وفقد إضافي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30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% بعد التجفيف التالي للسل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333000"/>
            <a:ext cx="82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Vitamin-vitamin Interactions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تفاعلات غير متوقعة وغير مفهومة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يقود ذلك إلى تحطم أسرع لواحد أو أكثر من الفيتامينات في الغذاء أو العصائر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يجب أخذ ذلك في الحسبان عند استخدام الفيتامينات لإرجاع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restore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أو تدعيم العصائر والمشروبات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معظم دراسات تفاعلات الفيتامينات مع بعضها البعض أجريت من قبل الصناعة الصيدلانية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أربع من الفيتامينات يحدث بينها تفاعل ذو تأثير ضار( ج , ب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, ب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,ب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12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21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440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Principal vitamin-vitamin Interactions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__________________________________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ِ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Activator                             Increased instability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ــــــــــــــــــــــــــــــــــــــــــــــــــــــــــــــــــــــــــــــــــــــــــــــــــــــــــــــــــــــــــــــ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Ascorbic acid                       Folic acid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Ascorbic acid                       Vitamin B12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Thiamin                              Folic acid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Thiamin                              Vitamin B12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Riboflavin                           Thiamin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Riboflavin                           Folic acid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Riboflavin                           Ascorbic acid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ــــــــــــــــــــــــــــــــــــــــــــــــــــــــــــــــــــــــــــــــــــــــــــــــــــــــــــــــــــــــــــــــــــ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  <a:cs typeface="Andalus"/>
              </a:rPr>
              <a:t>فقد الفيتامينات خلال التصنيع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كل الفيتامينات لها درجة من عدم الثباتية يعتمد معدلها على عدد من العوامل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تتعرض الفيتامينات الموجودة طبيعياً في الأغذية للعديد من هذه العوامل خلال حصاد وتصنيع وتخزين الغذاء ومكوناته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جب أخذ هذه التأثيرات في الحسبان عند تقييم ثباتية الفيتامين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حرارة من أكثر العوامل تأثيراً ( التعليب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أجريت دراسات الثباتية للسلق والتعليب في الخضار والفواكه خلال الأربعينيات والخمسينيات من القرن العشرين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6666"/>
                </a:solidFill>
                <a:latin typeface="Verdana"/>
                <a:cs typeface="Monotype Koufi"/>
              </a:rPr>
              <a:t>تأثير العمليات التصنيعية على الفيتامينات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سلق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Blanching</a:t>
            </a:r>
            <a:r>
              <a:rPr b="0" lang="ar-SA" sz="1800" spc="-1" strike="noStrike">
                <a:solidFill>
                  <a:srgbClr val="006699"/>
                </a:solidFill>
                <a:latin typeface="Verdana"/>
              </a:rPr>
              <a:t> 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- حرارة عالية ووقت قصير يعطي إحتفاظية أفضل للفيتامين مقارنة بالوقت الطويل والحرارة المنخفضة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   - السلق بالبخار أفضل من السلق بالماء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   - إضافة الكبريت يترك أثر مهم على مستوى الثيامين في الخضار والفواكه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   - البيتاكارويتن الأفضل من حيث الاحتفاظية خلال السل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   - احتفاظية الرايبوفلافين في السلق :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80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95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%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   - احتفاظية فيتامين ج :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70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90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%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6699"/>
                </a:solidFill>
                <a:latin typeface="Verdana"/>
              </a:rPr>
              <a:t>     - ا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حتفاظية النياسين    :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75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90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%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440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تأثير العمليات التصنيعية على الفيتامينات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المعاملة الحرارية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   - فقد مهم لفيتامين ج والثيامين بالمعاملات الحرارية في عبوات زجاجية أو علب الصفيح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i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   - كانت نسبة فيتامين ج مباشرة عقب المعاملة الحرارية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15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45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% من مستواه في المنتج الطازج مع فقد إضافي خلال التخزين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   - نقص الثيامين بحوالي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50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% خلال المعاملة الحرارية وتناقص إلى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15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40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% من المستوى الأصلي بعد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12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شهر من التخزين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   - الرايبوفلافين :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12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15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% خلال التصنيع ,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50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% من المستوى الأصلي بعد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12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شهر من التخزين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   - النياسين : أكثر ثباتية (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15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20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%) ولكن فقده خلال التخزين أقل من فقد الرايبوفلافين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   - البيتاكاروتين : ثابت نسبيا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40428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  <a:cs typeface="PT Simple Bold Ruled"/>
              </a:rPr>
              <a:t>تأثير المعاملة الحرارية على الحلي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فيتامينات ثابتة نسبياً 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أ , د , ب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, النياسين , حمض البنتوثونيك والبيوتين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 algn="r" rtl="1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فيتامينات تتأثر بالمعاملة الحرارية 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ج , ب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, ب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6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,ب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12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وحمض الفوليك ( كلما زادت المعاملة الحرارية زاد الفقد 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 algn="r" rtl="1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بسترة الحليب :فقد الفيتامينات عموماً أقل من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10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% عدا ج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 algn="r" rtl="1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HT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: بين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10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و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20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%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 algn="r" rtl="1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تعقيم الحليب :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20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% للثيامين و ب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6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و ب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12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و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30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% لحمض الفوليك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 algn="r" rtl="1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تتأثر ثباتية فيتامين ج أيضاً بالأكسجين خلال المعاملة الحرارية للحليب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   - البسترة :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25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%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   -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HT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 : 30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%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   - التعقيم   :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60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%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   - احتفاظية أكبر في الحليب المكثف كامل الدسم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7564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  <a:cs typeface="PT Simple Bold Ruled"/>
              </a:rPr>
              <a:t>الفيتامينات الذائبة في الدهو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  <a:cs typeface="PT Bold Dusky"/>
              </a:rPr>
              <a:t>فيتامين أ (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  <a:ea typeface="PT Bold Dusky"/>
              </a:rPr>
              <a:t>A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  <a:ea typeface="PT Bold Dusky"/>
              </a:rPr>
              <a:t>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r" rtl="1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المصادر: جاهز أوعلى شكل </a:t>
            </a:r>
            <a:r>
              <a:rPr b="0" lang="el-GR" sz="2000" spc="-1" strike="noStrike">
                <a:solidFill>
                  <a:srgbClr val="006699"/>
                </a:solidFill>
                <a:latin typeface="Verdana"/>
              </a:rPr>
              <a:t>β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-carotene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أو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related carotenoids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r" rtl="1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غير ثابت ويعتبر الريتنول أقل ثباتية من استرات الريتنول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retinyl esters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r" rtl="1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قابل للتجازؤ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isomerisation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خاصة في الوسط المائي تحت الظروف الحامضية ( الروابط المزدوجة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r" rtl="1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المتجازئ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isomer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الأعلى نشاطاً من الناحية الحيوية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all-trans-vit. 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r" rtl="1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المتجازئ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cis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السائد هو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13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cis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(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neovitamin A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)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يعادل 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75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% من المتجازئ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all-tran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r" rtl="1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أما المتجازئات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6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cis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و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2,6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di-cis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نشاطها أقل من 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25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% من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all-tran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r" rtl="1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تحتوي المصادر الطبيعية لفيتامين أ على 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1/3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neovitamin 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r" rtl="1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يعتبر فيتامين أ ثابت نسبياً في الأوساط القاعدية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r" rtl="1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حساس للأوكسجين الجوي والشكل الكحولي أقل ثباتية من الأسترات ( خاصة في وجود العناصر المعدنية 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    -- يحضر تجارياً كخليط من الفيتامين ومضاد للأكسدة أو مع مادة مغلفة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    --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BHA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أو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BHT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( يفضل استخدام التوكوفيرول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* يثبط الريتنول واستراته بالأشعة فوق البنفسجية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8360" y="5229360"/>
            <a:ext cx="1574640" cy="1368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333000"/>
            <a:ext cx="82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6666"/>
                </a:solidFill>
                <a:latin typeface="Verdana"/>
                <a:cs typeface="PT Simple Bold Ruled"/>
              </a:rPr>
              <a:t>تأثير المعاملة الحرارية على اللحوم والخبز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ؤثر تحمير اللحم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oasting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الثيامين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رايبوفلافين والنياسين وفيتامين ب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12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ثابتة خلال طبخ اللحم إذا أخذ السائل المتقطر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ripping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في الحسبان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فقد حمض البنتوثونيك أقل من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10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% في اللحم المطبوخ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فقد الفوليت أكثر من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50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% في اللحم المغلي لمدة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15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د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تسوية لحم البقر بعد الذبح :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30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% للنياسين (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7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أيام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فقد حوالي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20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% من الثيامين وحوالي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17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% من ب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6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حوالي ثلث الفوليت عند الخبز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نياسين وحمض البنتوثونيك ثابتان عادة خلال الخبز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259920"/>
            <a:ext cx="8244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  <a:cs typeface="Akhbar MT"/>
              </a:rPr>
              <a:t>الفيتامينات وفترة صلاحية المنتج الغذائي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بطاقة الأغذية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Food lab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المعلومات في البطاقة تخضع للتشريعات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الفيتامينات من أكثر العناصر الغذائية التي يتم الإشارة لها في بطاقة الغذاء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تتعرض للفقد خلال فترة الصلاحية ( التخزين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يجب على المصنعين إجراء تحاليل لتقييم الثباتية لكل فيتامين وخلال فترة الصلاحية المنصوص عليها في بطاقة الغذاء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   - يعتمد على تركيب وشكل وطرق تصنيع الغذاء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   - نوعية العبوة وجودتها ( النفاذية للأكسجين والرطوبة والضوء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 algn="r" rtl="1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من الصعب إعطاء خطوات أو طرق محددة لتحديد فترة صلاحية الفيتامينات لذا وضعت أدلة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Guideline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التدعيم ( إضافة كمية أكبر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overage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ولكن ضمن المستويات الآمنة 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580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حماية الفيتامينات في الأغذية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تقييم كل مراحل التصنيع والتداول والتخزين للمنتج لتقليل تحطم الفيتامينات عند حدها الأدنى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    - الحرارة العالية والوقت القصير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    - الحد من التعرض للضوء والأكسجين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* تغليف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encapsulated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أو تغطية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coating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المصادر الصناعية للفيتامينات المضافة للأغذية لتحسين الثباتية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666"/>
                </a:solidFill>
                <a:latin typeface="Verdana"/>
                <a:cs typeface="PT Bold Heading"/>
              </a:rPr>
              <a:t>تابع ثباتية فيتامين أ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فيتامين ثابت نسبياً بوجه عام خلال المعاملات الحرا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 algn="r" rtl="1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Palmitate ester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أكثر ثباتاً للحرارة من الريتنول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 algn="r" rtl="1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ثابت خلال تصنيع الحليب (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UHT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أو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terli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 algn="r" rtl="1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ثباتية المولدات مشابهة للفتيامين من حيث الحساسية للأكسجين والضوء والأوساط الحامض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 algn="r" rtl="1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تقلل المعاملة بثاني أكسيد الكبريت من تحطم الكاروتينات خلال التجفيف والتخزين ( أفضل من النيتروجين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 algn="r" rtl="1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بيتاكاروتين أكثر حساسية من الألفاكاروتين (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1,9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) للتحطم الحراري خلال الطبخ العادي والسل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 algn="r" rtl="1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تحفظ المنتجات المحتوية على بيتاكاروتين بعيداً عن الضوء ويكون الهواء في الفراغ الراسي في أدنى مستوياته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Rockwell Extra Bold"/>
              </a:rPr>
              <a:t>Vitamin 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مركبات التي لها نشاط فيتامين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E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l-GR" sz="2400" spc="-1" strike="noStrike">
                <a:solidFill>
                  <a:srgbClr val="006699"/>
                </a:solidFill>
                <a:latin typeface="Verdana"/>
              </a:rPr>
              <a:t>α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 , </a:t>
            </a:r>
            <a:r>
              <a:rPr b="0" lang="el-GR" sz="2400" spc="-1" strike="noStrike">
                <a:solidFill>
                  <a:srgbClr val="006699"/>
                </a:solidFill>
                <a:latin typeface="Verdana"/>
              </a:rPr>
              <a:t>β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,</a:t>
            </a:r>
            <a:r>
              <a:rPr b="0" lang="el-GR" sz="2400" spc="-1" strike="noStrike">
                <a:solidFill>
                  <a:srgbClr val="006699"/>
                </a:solidFill>
                <a:latin typeface="Verdana"/>
              </a:rPr>
              <a:t>γ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 and </a:t>
            </a:r>
            <a:r>
              <a:rPr b="0" lang="el-GR" sz="2400" spc="-1" strike="noStrike">
                <a:solidFill>
                  <a:srgbClr val="006699"/>
                </a:solidFill>
                <a:latin typeface="Verdana"/>
              </a:rPr>
              <a:t>δ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tocopherol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6699"/>
                </a:solidFill>
                <a:latin typeface="Verdana"/>
              </a:rPr>
              <a:t>α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tocotrienol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تتوفر كل من المصادر الطبيعية والصناعية لأشكال فيتامين هـ تجاريا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نشاط الحيوي الأعلى للمصادر الطبيعية للتوكوفيرولات تكون على شكل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تنتج الأشكال التجارية على شكل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l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فقط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 algn="r" rtl="1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تتوفر كل من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l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تجارياً على شكل استرات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ster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فيتامين هـ أكثر الفيتامينات ثباتية إلا أن التوكوفيرول  غير المؤسترأقل ثباتية (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free phenolic hydroxyl group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1536840" cy="1511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  <a:cs typeface="PT Bold Dusky"/>
              </a:rPr>
              <a:t>تابع فيتامين هـ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فيتامين غير عادي ( تنخفض ثباتيته على درجات حرارة تحت التجميد 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    - تتحطم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peroxides</a:t>
            </a:r>
            <a:r>
              <a:rPr b="0" lang="ar-SA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على درجات الحرارة العالية ولكنها ثابتة على درجات حرارة تحت الصفر المئوي لذا تتفاعل مع فيتامين هـ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      - يعمل </a:t>
            </a:r>
            <a:r>
              <a:rPr b="0" lang="el-GR" sz="2000" spc="-1" strike="noStrike">
                <a:solidFill>
                  <a:srgbClr val="006699"/>
                </a:solidFill>
                <a:latin typeface="Verdana"/>
              </a:rPr>
              <a:t>α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-tocopherol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كمؤكسد أولي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pro-oxidant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في وجود أيونات المعادن مثل الحديد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 algn="r" rtl="1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يتأكسد </a:t>
            </a:r>
            <a:r>
              <a:rPr b="0" lang="el-GR" sz="2000" spc="-1" strike="noStrike">
                <a:solidFill>
                  <a:srgbClr val="006699"/>
                </a:solidFill>
                <a:latin typeface="Verdana"/>
              </a:rPr>
              <a:t>α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-tocopherol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بسهولة في الهواء ويعتبر ثابت للحرارة في غياب الهواء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     - يتأكسد بسهولة خلال تصنيع وتخزين الأغذية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     - يؤدي القلي العميق للزيوت إلى فقد 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10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% من فيتامين هـ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*خزن الأغذية المقلية على درجات حرارة تصل إلى -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12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°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م يؤدي إلى فقد مهم جداً في الفيتامين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*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DL-</a:t>
            </a:r>
            <a:r>
              <a:rPr b="0" lang="el-GR" sz="2000" spc="-1" strike="noStrike">
                <a:solidFill>
                  <a:srgbClr val="006699"/>
                </a:solidFill>
                <a:latin typeface="Verdana"/>
              </a:rPr>
              <a:t>α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-tocopherol acetate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ثابت نسبياً للهواء ولكنه يتحلل بالرطوبة إلى توكوفيرولات حرة في وجود القلويات أو الأحماض القوية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Tw Cen MT Condensed Extra Bold"/>
              </a:rPr>
              <a:t>Vitamin D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تحطم كل من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3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( 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cholecalciferol</a:t>
            </a: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 )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2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ergocalciferol</a:t>
            </a: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)</a:t>
            </a: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سرعة نسبية إذا عرضا للضو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تحضيرات فيتامين د في زيوت الأكل أكثر ثباتية من أشكاله البلو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حضر تجارياً في العادة على شكل مستحضر زيتي أو مسحوق ويحافظ على ثباتيته بإضافة مضاد أكسدة ( توكوفيرول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تعبأ التحضيرات في عبوات غير منفذة للضوء مع غاز خامل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قابل للتجازؤ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somerisation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لوجود الروابط المزدوجة ويحفز بالجزء الحامضي من المركبات التي تضاف للتحضيرات التجا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D2</a:t>
            </a: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متبلور  حساس للأكسجين الجوي ( أيام قليلة من التخزين على حرارة الغرفة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1600" indent="-291600" algn="r" rtl="1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D3</a:t>
            </a: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تحطم كذلك بالأكسجين الجوي ولكنه أكثر ثباتيه من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1371600" cy="711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Vitamin K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K1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(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phytomenadione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=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phyloquinone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K2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( menaquinone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Both are laible to isomerisation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rans –K1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شكل  الطبيعي المتواجد في الأغذية ذو الفعالية الحيوية أما الشكل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i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من الفيتامين فليس له فعالية حيو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أشكال المختلفة للفيتامين ثابتة نسبياً للحرار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تحطم بأشعة الشمس ويتكسر بالقواعد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من النادر إضافته إلى الأغذ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87280" y="4797360"/>
            <a:ext cx="1511640" cy="1224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Stencil"/>
              </a:rPr>
              <a:t>Water-soluble vitamin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iami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6699"/>
                </a:solidFill>
                <a:latin typeface="Verdana"/>
              </a:rPr>
              <a:t>على شكل مفسفر في الأغذية الحيوانية وغير مفسفر في الأغذية النباتية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6699"/>
                </a:solidFill>
                <a:latin typeface="Verdana"/>
              </a:rPr>
              <a:t>يتوفر تجارياً على شكل 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    - 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thiamin hydrochloride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    - 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thiamin mononitrate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الثبات الحراري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    - التحطم أكثر سرعة في الأوساط القاعدية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      - الفقد بالمعاملات الحرارية للحليب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          -- أقل من 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10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% للحليب المبستر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          -- 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5-15%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UH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          -- 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30-40%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الحليب المعقم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          -- 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30-50%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الحليب المبخر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258920" y="3429000"/>
            <a:ext cx="2951280" cy="2073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8:33:01Z</dcterms:created>
  <dc:creator>user</dc:creator>
  <dc:description/>
  <dc:language>en-US</dc:language>
  <cp:lastModifiedBy>MyName</cp:lastModifiedBy>
  <dcterms:modified xsi:type="dcterms:W3CDTF">2007-10-30T15:54:36Z</dcterms:modified>
  <cp:revision>132</cp:revision>
  <dc:subject/>
  <dc:title>ثباتية الفيتامينات أثناء التصنيع الغذائي</dc:title>
</cp:coreProperties>
</file>