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B59-44C7-443F-A520-63529B9A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A28-7852-4624-A691-162A6AFD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296-42CD-4364-A1F2-55783818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587-28C5-4439-AB98-0E72121D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863A-3EF2-45E4-A850-C94ABDFF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FEC9-20D3-4B54-869E-9C3B890F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849-23B8-4062-856F-3EC6563E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204-A25D-4BAE-A38C-187B975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A449-3401-42B7-8D5F-22AAD27A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B90D-687A-498B-AB06-C57AE1D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4E1-66BA-47F5-AEDC-E729DCE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751-EEF4-4E21-A6CB-FD94CAD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EDFE-FA64-493E-BEA8-DA421FE2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184-47F8-4C92-9273-9057BE6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30E-E265-4BB6-9DC3-62DFD4C1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5B6-2D0C-43B5-B4C7-89E667D6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7F0-C36C-489F-B1D2-D56BA5E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119-3B0F-45DC-9840-0673E6C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222-656C-4F01-9AD7-036DFB2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DC7-AC3D-408D-ADE5-0F2D2E3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790-C7A6-4265-8813-D3B2BE5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D90-E51F-4223-AC8E-88198E6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855-A5CD-4701-BAA5-B150A59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4C3-96A5-4B9F-BDF9-9F36DE7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660-3A2E-4AE6-8DA4-B2D9CCCCFFD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8E5-09FD-45CA-A3BF-688B8196E70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ثباتية الفيتامينات أثناء التصنيع الغذائي</a:t>
            </a: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77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Factors affecting the stability of vitamins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emperatur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oistur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xygen 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Light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H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resence of metallic ions( e.g. copper, iron)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xidizing and reducing agents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resence of other vitamins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Other components of food ( e.g. sulphur dioxide)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Combinations of the above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Dusky"/>
              </a:rPr>
              <a:t>تابع فقد الثيامي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الثيامين في عملية الخب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الفقد م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% وجزء منه يحدث أثناء التخم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أبحاث الأولى عن فقده بالخبيز أظهرت تكسر أولي للثيامين إ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yrimidin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iazol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أثير المركبات الكبريتية على الثيامين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حساس ل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ulphites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isulphit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هذا التفاعل سريع ع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رتفع ( سلق الخضار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 - عند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خفض ( عصائر الفواكه ) لا يحصل فقد معنو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 - فقد الثيامين خلال إعداد وخزن اللحم المفروم يكون خطياً مع تركيز ثاني أكسيد الكبريت حتى تركيز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,.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طم بالعوامل المؤكسدة والمختزل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العوامل المؤثرة على ثباتية الثيامي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حمي البروتينات عموماً الثيامين من التحط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عيق المواد التالية من معدل تحطم الثيامين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الفركتو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verta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المانيتول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osito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Riboflav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وجد في الأغذية على شكلين مرتبطي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ound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lavin adenine nucleotid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 -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iboflavin mononucleotid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ضوء من أكثر العوامل أهمية في التأثير على ثباتية الفيتامين ( الطول الموج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4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56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µ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رايبوفلافين وفوسفات الرايبوفلافين ثابتان للحرارة والأكسجين الجوي خاصة في الأوساط الحامضي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بالمواد المختزلة خاصة بزيادة الـ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ثابت للمعاملات الحرارية التي تجرى للحليب ( ي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8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% خلال ساعتين من التعرض للضوء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바탕"/>
              </a:rPr>
              <a:t>Niac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سم عام لكل من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cotinic aci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cotinamid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وجد في الذرة وبعض أنواع الحبوب الأخرى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acyti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( مرتبط مع السكريات العديدة والببتيدات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لا يتأثر بالأكسجين الجوي والحرارة والضوء في الأوساط الصلبة والسائ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1511280" cy="129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ntothenic aci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enzyme 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الحليب أقل من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% من الفيتامين خلال التصنيع ويفقد من اللحوم ولكن ليس بكميات كبي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شكل الحر من الفيتامين غير ثابت و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ygrosc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تحضيرات التجارية تكون في العادة على شكل أملاح للكالسيوم أو الصوديوم ( متوسطة الثباتية للأكسجين والضوء وحساسة للمعاملة الحرارية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molabil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ثباتية القصوى له عن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من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1511280" cy="10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lic acid / Folat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لا يوجد حمض الفولي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teroylglutamic acid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 الطبيعة ولكن يمكن إنتاجه تجاريا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الموجود طبيعياً عدد من المشتقات تعرف بالفوليت أو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lacin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(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أكثر من حمض الجلوتاميك المرتبط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سود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lyglutamate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 الأغذية الطازجة وتتحطم ببطء عند التخزين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onoglutamate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وتتأكسد إلى فوليت ( أقل توافراً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ioavialable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15112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47628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ability of folates &amp; Folic aci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عظم دراسات الثباتية أجريت على حمض الفوليك المتوفر تجاريا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توسط الثباتية للحرارة والأكسجين الجو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حمض الفوليك السائل ثابت على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= 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تزداد حساسيته في الأوساط الحامضية والقاعدية خاصة عن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قل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حمض الفوليك بالعوامل المؤكسدة والمختزل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V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لها تأثير خطير على ثباتية الفيت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زداد سرعة التحطم بالضوء في وجود الرايبوفلافين ( إضافة مادة مضادة للأكسد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ثباتية</a:t>
            </a:r>
            <a:r>
              <a:rPr b="0" lang="ar-SA" sz="44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Folates</a:t>
            </a:r>
            <a:r>
              <a:rPr b="0" lang="ar-SA" sz="3200" spc="-1" strike="noStrike">
                <a:solidFill>
                  <a:srgbClr val="006666"/>
                </a:solidFill>
                <a:latin typeface="Verdana"/>
                <a:ea typeface="PT Simple Bold Ruled"/>
              </a:rPr>
              <a:t> في الأغذية خلال التصنيع والتخزين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حليب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البسترة : فقد أقل من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: 2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التعقيم : 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والتخزين : الفقد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 خلال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شهور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بي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- البيض المسلوق :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القلي والخلط    :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سبان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- السلق بالبخار : الاحتفاظية 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58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- السلق بالماء :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7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% ( الاحتفاظية 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التجميد  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و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yridoxi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عادة للأكسجين الجوي والحرا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سرع أيونات المعادن من تحطم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حساس للضوء خاصة في المحاليل القاعدية والمتعاد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في الحليب عند البسترة ويفقد منه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خلال التعقي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ه خلال تحمير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asting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وشي اللحو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غلي اللحوم في الماء يؤدي إلى 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 الفيتامي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4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 الفيتامين عند تعليب الخضا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120636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itamin B1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تحطم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yanocobalam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بالعوامل المؤكسدة والمختزل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نسبياً في المحاليل المتعادلة والضعيفة الحموضة للأكسجين الجوي والحرار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باتيته ضعيفة في المحاليل القاعدية وقوية الحموض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حساس للضوء 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ثابت للبسترة ويفقد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منه خلال التعقيم و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% عند تجفيف الحليب بالرذا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تأثر ثباتيته معنوياً بوجود الفيتامينات الأخر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1384200" cy="139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ابع ثباتية الفيتامينات أثناء التصني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ختلف الثباتية من فيتامين إلى فيتامين آخ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د يحدث التدهور في الفيتامينات خلال تخزين الخضار والفواك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د يحصل الفقد خلال إعداد وتصنيع الأغذية ومكوناتها ( المعاملة الحرارية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عوامل المؤثرة على تدهور الفيتامينات متشابهة ( الفيتامينات الموجودة في الأغذية أو المضافة للغذاء من مصادر صناعية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شكل الذي يوجد عليه الفيتامين من مصدر صناعي يعزز من الثباتية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-- استرات التوكوفيرول أكثر ثباتية من التوكوفيرول نفسه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أكثر المركبات أهمية التي لها شك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scorbic aci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بمستويات عالية نسبياً في بعض الفواكه والخضا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ول إ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ehydro-L- ascorbic acid 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(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HA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ليس للمتجازئات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-isomers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نشاط فيتامين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سود الشكل المختزل من الفيتامين عادة في الأغذية الطازجة ولكن المعاملات والتخزين والطبخ تزيد من نسبة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H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تجارياً على شك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-AA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وأملاحه من الكالسيوم والصوديوم والمغنيسيو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وجد على شكل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scorbyl palimatate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ويستخدم على هذا الشكل كمضاد للأكسدة في الأغذية المصنع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114300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Stars"/>
              </a:rPr>
              <a:t>ثباتية 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فيتامين حمض الأسكوربيك وأملاحه ثابت نسبياً في الهواء الجاف ولكنه غير ثابت في وجود الرطوب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تأكسد بسهولة في المحاليل المائية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H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( رجعي ) ثم إلى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ketogulonic acid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( أكسدة غير رجعية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ستخدم في المشروبات ( غير ثابت في عصير التفاح وثابت في عصير العنب الأسود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Bold Stars"/>
              </a:rPr>
              <a:t>تأثير الأكسجين على فيتامين ج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أكسجين المذاب له تأثير مهم على ثباتية الفيتام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أكس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1,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A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/ 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الأكسج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تحطم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لجم من الفيتامين/ لتر من العصي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ستخدم معاملات التفريغ لتقليل هذه المشكل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أثيرات أيونات المعادن: النحاس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&lt;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حديد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&lt;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زن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قلل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EDTA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Cysteine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من أكسدة فيتامين ج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 المهم اختيار أجهزة تصنيع مناسبة ( حديد غير قابل للصدأ , المنيوم , بلاستيك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عتمد معدل التحطم في المحاليل المائية على ال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(التحطم الأقصى على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H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حوالي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فقد في الثلج أسرع من الماء السائل ( يفقد جزء منه خلال التجميد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comic"/>
                <a:cs typeface="PT Simple Bold Ruled"/>
              </a:rPr>
              <a:t>فقد فيتامين ج خلال تصنيع وطبخ الأغذية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بسترة : فقد 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عقيم 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التخزين (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 من التخزين ) : ال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قد كبير بعد الطبخ أو التخزين على درجات حرارة عالية للخضار والفواك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جفيف التجاري للبطاطس : فقد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قطيع الخضار يزيد من معدل فقد الفيت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سلق الكرنب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وفقد إضاف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بعد التجفيف التالي للسل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Vitamin-vitamin Interactio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فاعلات غير متوقعة وغير مفهوم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قود ذلك إلى تحطم أسرع لواحد أو أكثر من الفيتامينات في الغذاء أو العصائ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يجب أخذ ذلك في الحسبان عند استخدام الفيتامينات لإرجاع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tore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تدعيم العصائر والمشروبات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معظم دراسات تفاعلات الفيتامينات مع بعضها البعض أجريت من قبل الصناعة الصيدلان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أربع من الفيتامينات يحدث بينها تفاعل ذو تأثير ضار( ج , 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, 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,ب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al vitamin-vitamin Interactions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__________________________________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ِ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ctivator                             Increased instabilit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corbic acid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scorbic acid                       Vitamin B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iamin       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iamin                              Vitamin B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Thiami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Fol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iboflavin                           Ascorbic aci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Andalus"/>
              </a:rPr>
              <a:t>فقد الفيتامينات خلال التصني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كل الفيتامينات لها درجة من عدم الثباتية يعتمد معدلها على عدد من العوام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عرض الفيتامينات الموجودة طبيعياً في الأغذية للعديد من هذه العوامل خلال حصاد وتصنيع وتخزين الغذاء ومكونات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جب أخذ هذه التأثيرات في الحسبان عند تقييم ثباتية الفيتامين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حرارة من أكثر العوامل تأثيراً ( التعليب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أجريت دراسات الثباتية للسلق والتعليب في الخضار والفواكه خلال الأربعينيات والخمسينيات من القرن العشر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Verdana"/>
                <a:cs typeface="Monotype Koufi"/>
              </a:rPr>
              <a:t>تأثير العمليات التصنيعية على الفيتامينات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سلق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lanching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 حرارة عالية ووقت قصير يعطي إحتفاظية أفضل للفيتامين مقارنة بالوقت الطويل والحرارة المنخفض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سلق بالبخار أفضل من السلق بالم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إضافة الكبريت يترك أثر مهم على مستوى الثيامين في الخضار والفواك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يتاكارويتن الأفضل من حيث الاحتفاظية خلال السل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الرايبوفلافين في السلق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8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فيتامين ج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    - ا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حتفاظية النياسين 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9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تأثير العمليات التصنيعية على الفيتامينات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معاملة الحراري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فقد مهم لفيتامين ج والثيامين بالمعاملات الحرارية في عبوات زجاجية أو علب الصفيح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كانت نسبة فيتامين ج مباشرة عقب المعاملة الحرارية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مستواه في المنتج الطازج مع فقد إضافي خلال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نقص الثيامين بحوالي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خلال المعاملة الحرارية وتناقص إلى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4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المستوى الأصلي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رايبوفلافين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خلال التصنيع ,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من المستوى الأصلي بعد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شهر من التخز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نياسين : أكثر ثباتية (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) ولكن فقده خلال التخزين أقل من فقد الرايبوفلاف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يتاكاروتين : ثابت نسبيا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أثير المعاملة الحرارية على الحلي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فيتامينات ثابتة نسبياً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أ , د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 النياسين , حمض البنتوثونيك والبيوتين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فيتامينات تتأثر بالمعاملة الحرارية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ج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,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حمض الفوليك ( كلما زادت المعاملة الحرارية زاد الفقد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بسترة الحليب :فقد الفيتامينات عموماً أقل م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عدا ج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: بين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عقيم الحليب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للثيامين و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 ب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لحمض الفولي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تأثر ثباتية فيتامين ج أيضاً بالأكسجين خلال المعاملة الحرارية للحليب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بسترة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: 3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لتعقيم   :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60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%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احتفاظية أكبر في الحليب المكثف كامل الدس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الفيتامينات الذائبة في الدهو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  <a:cs typeface="PT Bold Dusky"/>
              </a:rPr>
              <a:t>فيتامين أ 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PT Bold Dusky"/>
              </a:rPr>
              <a:t>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  <a:ea typeface="PT Bold Dusky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صادر: جاهز أوعلى شكل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β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carotene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lated carotenoid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غير ثابت ويعتبر الريتنول أقل ثباتية من استرات الريتنول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tinyl ester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قابل للتجازؤ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somerisation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خاصة في الوسط المائي تحت الظروف الحامضية ( الروابط المزدوجة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somer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أعلى نشاطاً من الناحية الحيوية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-vit. 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سائد ه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3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ovitamin 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)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يعادل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المتجازئ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أما المتجازئات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,6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-ci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نشاطها أقل من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l-tran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تحتوي المصادر الطبيعية لفيتامين أ على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/3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ovitamin 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يعتبر فيتامين أ ثابت نسبياً في الأوساط القاعد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حساس للأوكسجين الجوي والشكل الكحولي أقل ثباتية من الأسترات ( خاصة في وجود العناصر المعدنية 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- يحضر تجارياً كخليط من الفيتامين ومضاد للأكسدة أو مع مادة مغلف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-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HA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H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( يفضل استخدام التوكوفيرول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 يثبط الريتنول واستراته بالأشعة فوق البنفسج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5229360"/>
            <a:ext cx="1574640" cy="136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66"/>
                </a:solidFill>
                <a:latin typeface="Verdana"/>
                <a:cs typeface="PT Simple Bold Ruled"/>
              </a:rPr>
              <a:t>تأثير المعاملة الحرارية على اللحوم والخب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ؤثر تحمير اللحم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oasting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الثيامي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رايبوفلافين والنياسين وفيتامين ب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ثابتة خلال طبخ اللحم إذا أخذ السائل المتقطر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ripping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ي الحسبا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حمض البنتوثونيك أقل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في اللحم المطبو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قد الفوليت أكثر من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في اللحم المغلي لمدة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د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سوية لحم البقر بعد الذبح :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للنياسين (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يام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فقد 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20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من الثيامين وحوالي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7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% من ب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حوالي ثلث الفوليت عند الخب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نياسين وحمض البنتوثونيك ثابتان عادة خلال الخب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Akhbar MT"/>
              </a:rPr>
              <a:t>الفيتامينات وفترة صلاحية المنتج الغذائ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بطاقة الأغذية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od lab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معلومات في البطاقة تخضع للتشريعات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فيتامينات من أكثر العناصر الغذائية التي يتم الإشارة لها في بطاقة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تتعرض للفقد خلال فترة الصلاحية ( التخزين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يجب على المصنعين إجراء تحاليل لتقييم الثباتية لكل فيتامين وخلال فترة الصلاحية المنصوص عليها في بطاقة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يعتمد على تركيب وشكل وطرق تصنيع الغذا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   - نوعية العبوة وجودتها ( النفاذية للأكسجين والرطوبة والضوء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من الصعب إعطاء خطوات أو طرق محددة لتحديد فترة صلاحية الفيتامينات لذا وضعت أدلة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uidelin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التدعيم ( إضافة كمية أكبر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verage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ولكن ضمن المستويات الآمنة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حماية الفيتامينات في الأغذية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تقييم كل مراحل التصنيع والتداول والتخزين للمنتج لتقليل تحطم الفيتامينات عند حدها الأدن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 - الحرارة العالية والوقت القصي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    - الحد من التعرض للضوء والأكسجين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* تغليف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ncapsulated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أو تغطية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ating</a:t>
            </a:r>
            <a:r>
              <a:rPr b="0" lang="ar-SA" sz="3200" spc="-1" strike="noStrike">
                <a:solidFill>
                  <a:srgbClr val="006699"/>
                </a:solidFill>
                <a:latin typeface="Verdana"/>
              </a:rPr>
              <a:t> المصادر الصناعية للفيتامينات المضافة للأغذية لتحسين الثباتي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66"/>
                </a:solidFill>
                <a:latin typeface="Verdana"/>
                <a:cs typeface="PT Bold Heading"/>
              </a:rPr>
              <a:t>تابع ثباتية فيتامين أ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يتامين ثابت نسبياً بوجه عام خلال المعاملات الحرا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almitate ester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كثر ثباتاً للحرارة من الريتنو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ثابت خلال تصنيع الحليب (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HT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أو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erl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ثباتية المولدات مشابهة للفتيامين من حيث الحساسية للأكسجين والضوء والأوساط الحامض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قلل المعاملة بثاني أكسيد الكبريت من تحطم الكاروتينات خلال التجفيف والتخزين ( أفضل من النيتروجين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بيتاكاروتين أكثر حساسية من الألفاكاروتين (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1,9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) للتحطم الحراري خلال الطبخ العادي والسل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حفظ المنتجات المحتوية على بيتاكاروتين بعيداً عن الضوء ويكون الهواء في الفراغ الراسي في أدنى مستوياته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Rockwell Extra Bold"/>
              </a:rPr>
              <a:t>Vitamin 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مركبات التي لها نشاط فيتامي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,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,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γ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and </a:t>
            </a: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δ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tocophero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tocotrieno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وفر كل من المصادر الطبيعية والصناعية لأشكال فيتامين هـ تجاريا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نشاط الحيوي الأعلى للمصادر الطبيعية للتوكوفيرولات تكون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نتج الأشكال التجارية على شكل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l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فق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توفر كل من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l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تجارياً على شكل استرا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فيتامين هـ أكثر الفيتامينات ثباتية إلا أن التوكوفيرول  غير المؤسترأقل ثباتية (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ee phenolic hydroxyl group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53684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  <a:cs typeface="PT Bold Dusky"/>
              </a:rPr>
              <a:t>تابع فيتامين ه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فيتامين غير عادي ( تنخفض ثباتيته على درجات حرارة تحت التجميد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    - تتحطم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eroxides</a:t>
            </a: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على درجات الحرارة العالية ولكنها ثابتة على درجات حرارة تحت الصفر المئوي لذا تتفاعل مع فيتامين ه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- يعمل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كمؤكسد أولي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o-oxidant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في وجود أيونات المعادن مثل الحديد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 algn="r" rtl="1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يتأكسد 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بسهولة في الهواء ويعتبر ثابت للحرارة في غياب الهواء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- يتأكسد بسهولة خلال تصنيع وتخزين الأغذ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- يؤدي القلي العميق للزيوت إلى فقد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من فيتامين ه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خزن الأغذية المقلية على درجات حرارة تصل إلى -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°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م يؤدي إلى فقد مهم جداً في الفيتامين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*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L-</a:t>
            </a:r>
            <a:r>
              <a:rPr b="0" lang="el-GR" sz="2000" spc="-1" strike="noStrike">
                <a:solidFill>
                  <a:srgbClr val="006699"/>
                </a:solidFill>
                <a:latin typeface="Verdana"/>
              </a:rPr>
              <a:t>α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tocopherol acetate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ثابت نسبياً للهواء ولكنه يتحلل بالرطوبة إلى توكوفيرولات حرة في وجود القلويات أو الأحماض القوية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w Cen MT Condensed Extra Bold"/>
              </a:rPr>
              <a:t>Vitamin 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كل من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3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(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cholecalciferol</a:t>
            </a:r>
            <a:r>
              <a:rPr b="0" lang="ar-SA" sz="1600" spc="-1" strike="noStrike">
                <a:solidFill>
                  <a:srgbClr val="006699"/>
                </a:solidFill>
                <a:latin typeface="Verdana"/>
              </a:rPr>
              <a:t> )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2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ergocalciferol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سرعة نسبية إذا عرضا للضو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حضيرات فيتامين د في زيوت الأكل أكثر ثباتية من أشكاله البلو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حضر تجارياً في العادة على شكل مستحضر زيتي أو مسحوق ويحافظ على ثباتيته بإضافة مضاد أكسدة ( توكوفيرول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تعبأ التحضيرات في عبوات غير منفذة للضوء مع غاز خام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قابل للتجازؤ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somerisation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لوجود الروابط المزدوجة ويحفز بالجزء الحامضي من المركبات التي تضاف للتحضيرات التجا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2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متبلور  حساس للأكسجين الجوي ( أيام قليلة من التخزين على حرارة الغرفة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3</a:t>
            </a: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كذلك بالأكسجين الجوي ولكنه أكثر ثباتيه من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371600" cy="7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tamin 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1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ytomenadio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yloquinon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 menaquinon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oth are laible to isomerisati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ans –K1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شكل  الطبيعي المتواجد في الأغذية ذو الفعالية الحيوية أما الشكل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من الفيتامين فليس له فعالية حيو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أشكال المختلفة للفيتامين ثابتة نسبياً للحرار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تحطم بأشعة الشمس ويتكسر بالقواعد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من النادر إضافته إلى الأغذ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1511640" cy="122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Stencil"/>
              </a:rPr>
              <a:t>Water-soluble vitami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am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على شكل مفسفر في الأغذية الحيوانية وغير مفسفر في الأغذية النباتية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99"/>
                </a:solidFill>
                <a:latin typeface="Verdana"/>
              </a:rPr>
              <a:t>يتوفر تجارياً على شكل 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thiamin hydrochlorid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thiamin mononitrat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الثبات الحراري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- التحطم أكثر سرعة في الأوساط القاعدية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- الفقد بالمعاملات الحرارية للحليب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أقل من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% للحليب المبستر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5-15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H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30-40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حليب المعق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          -- 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30-50%</a:t>
            </a:r>
            <a:r>
              <a:rPr b="0" lang="ar-SA" sz="2000" spc="-1" strike="noStrike">
                <a:solidFill>
                  <a:srgbClr val="006699"/>
                </a:solidFill>
                <a:latin typeface="Verdana"/>
              </a:rPr>
              <a:t> الحليب المبخر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3429000"/>
            <a:ext cx="2951280" cy="207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8:33:01Z</dcterms:created>
  <dc:creator>user</dc:creator>
  <dc:description/>
  <dc:language>en-US</dc:language>
  <cp:lastModifiedBy>MyName</cp:lastModifiedBy>
  <dcterms:modified xsi:type="dcterms:W3CDTF">2007-10-30T15:54:36Z</dcterms:modified>
  <cp:revision>132</cp:revision>
  <dc:subject/>
  <dc:title>ثباتية الفيتامينات أثناء التصنيع الغذائي</dc:title>
</cp:coreProperties>
</file>