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CDE-3E1C-4E9D-8E2B-6D949969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3AF-D264-45FE-98B8-26BAF6C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5AE5E-FA54-444E-9AA6-C63A4FD1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E6A83-BF55-4D56-A51B-A0969A1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61E98-5A3B-4B83-98EB-BED4AC31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75CE-A2A3-43DB-9F48-B8129251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998BD-F89D-46BB-AEA1-BA1D72A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9A902-B26A-4A37-9510-03B3F01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49884-3FB0-4626-976F-C0649399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88D3-9A7B-416F-8105-026835DF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607B8-A697-4BE0-B372-88819DFA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7F70B-1E2F-44BF-B03E-3D5041F9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329-58DA-4493-9CDA-9E0132D5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174E2-C25D-4EC1-A311-42126BA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9F8B3-21D5-4CF7-A954-C91F75F0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8526B-7A55-4093-BA1E-02AB1507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58206-2158-4867-85C6-32C45AD6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2D8B2-DE70-431D-A2D3-8E3E92DC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9E55D-C5BB-493F-9439-E0C3BDDD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28BD5-EF7D-4562-9932-A7EB5C5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E254D-B23E-4065-A571-5126BA8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D63EF-AC97-418F-804B-AC8DFBEE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4313D-6004-43E2-A90C-E92ADAE8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506-DF68-4B30-A05A-258B9F07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51C99-0DBA-413B-86C3-92F8B175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C931E-BA62-4112-B6B7-E6377E9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A939-1B66-45D3-AD56-8CCE59FD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2BBCC-DAC7-49A7-AB51-E89CEEDE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A3DCC-B351-46D7-A807-42E0F9F4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E9AC2-DBE9-4391-834D-B539CB8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FD860-9521-4D69-8839-02C7CED6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323F6-863F-4819-89EA-D5AB1EB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04183-46E1-4965-A80E-CD2FFBD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9D42-BBB1-4B34-8378-117EEF4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0B43-C61B-4DCE-917F-E2393A50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DB8F-63FB-46D8-AC9C-440BE0E9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45FD6-B99C-4123-B668-F74501FC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A1D44-876A-4E9B-BA61-1DD45D72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E9E71-7B47-45E9-9A1D-2A7D8B75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A36C6-BB88-4323-9C30-8AF06FB9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7842A-BF59-445D-9D95-D8DA3C0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748C3-2639-4CF2-850E-B6F815D8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558B1-F00D-4A9B-90DC-99081B4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4A18F-F36E-4CB0-898B-1C862EFA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9AE98-849D-4976-9AAF-0C58EF5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EC8C-725C-4BEC-BB49-C29E2B6D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6EFE0-15D6-4A7E-8581-46C2B1A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AC31E-64C8-4CF7-B33F-C1F4D90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F6612-DD5A-45B4-936B-DDF3230B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3CC21-0D04-4D7E-903A-295FBB87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6AEFB-CE66-418F-AD7B-01F4277E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52A2A-59FC-432A-909E-9AB344AC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12420-011B-4F32-AB35-DC0AD4AD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8E91E-7010-4970-A039-389CB56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06871-B59C-4981-8382-FC470295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17510-3BA4-4A4E-B111-70CB1583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96D4-1767-47BA-8052-FFEDFEEF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AC12A-97EA-428B-BFC3-B156FE07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0A50C-C4DC-47FC-ADAD-A120329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535C4-A769-482E-86F4-CE80BEF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B0058-BDD0-4B42-ACD6-F74EFF8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6A06F-0656-4379-90D5-7CA02E0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81CBE-1DBA-47D5-AC03-C5E63E07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7FE17-920D-4D36-8485-DED4AC64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B8B0F-22DD-4DFB-9689-E026221B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DAEA9-0438-4D6B-ACEE-A56E168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3D31D-861F-4189-8F0F-030A5FAD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0683-271B-499D-8FF2-45F9BB6E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6944D-8DF9-471D-B035-C86F7E5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C0896-8020-4190-AEFB-2FAF90B7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E80A8-CAF1-4267-96A3-D74BF80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DF565-B241-4F97-8C92-503A491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D8C2-C115-47D1-9578-512C91E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4F2C6-D420-443A-BB71-BC46844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C28E9-81F6-4AD1-AD33-DBBD99AF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444A6-65DD-421D-B813-E52C0573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E468E-1653-4141-A648-238748EC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EF265A-F86D-4289-BE39-03E41AA4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456E-6D87-4034-8538-ACCDB60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0E66A8-BED1-4772-B5C1-FFC05E3C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EC738A-F558-495F-8905-BFAAB5F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1DAA73-9D21-438C-8AB4-2773353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B2841F-11C2-4E68-835E-F1987C2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86A76A-9D67-4545-B191-1404F940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6A1445-67F2-4DA5-8437-7F1F887E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49577B-E256-4A3E-87B0-B49E7F2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CD83CD-137C-4E7D-893E-6C3103B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FF5151-AEA9-4444-8FA6-32E089E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153823-BA2B-4C23-8F64-F7580000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AAB3-5264-42A9-A2EB-7A063D45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7D4004-957E-4BE1-8BCD-EF577872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F9F52-325E-4856-A0C2-72DAE206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E8901-96E9-4183-A61B-C956DB48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F839D-49FE-4AB5-83CC-17821E8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D60D2-F482-4A30-9103-0AFE3AF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0F461-7C58-477A-98B2-CF886E3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5983D-161D-4384-B660-BB3AA106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D452F-CB2A-4366-9235-22EF441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9A8CC-4E11-48CB-AEE4-0ED5DB1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788B0-3B87-4E24-AB23-91FBE22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FD9-B04D-4500-8FAC-723576F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D5E56-F889-4A38-AF3F-02E41DB2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4DFAF-D412-442A-9D0C-9DA5331D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E06C6-B205-4000-9599-6D86E1B3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2A6B41-67EC-4C1B-A984-EF98392B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DDB6CF-A7F1-4DD7-9A5E-A4F84D9E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5979AE-48D9-474B-944B-B78DF182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733A0C-4D0B-497D-AAE8-973385E2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AB89CB-06DA-4154-AFEF-B86A76A5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29795E-FEE3-41F4-A261-EE87E18E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F1B9CD-1B7D-426B-8887-DD9D67D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4FF-9676-44DB-A1B7-778BA26D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DEE-7342-480E-AA81-A42CF535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ED1D14-1F78-4F60-B987-66B2D8D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01171-A786-42E8-8414-3ED934D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0A1874-35A9-4586-86C5-73F716E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58ACDB-6026-4461-BAA5-C61A3A05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8A40B9-5843-43B4-A804-8DC9268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0B2CB4-F81D-4F71-ADEA-37CBB3DD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09E5BB-B886-4795-8455-FAED3818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0F647F-D983-4081-BD91-FF254C9D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5D79F2-5C7A-488D-B9D5-BA809CE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84ED8E-5CBF-44A3-8266-D53D369B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50FD-AFEA-43AB-B6B0-3CD94B6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71F547-EC0E-4579-8351-9F5204D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CF5FA8-DB80-43B3-98FB-437D5D5D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53C2A1-B771-427F-B554-E0CE2A0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16609E-A972-42D3-92BC-612C23A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BCBB4A-7369-4DA3-81BD-D620518C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8223B7-B5FB-4606-8D8F-DC9FC101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A32BA9-D7C2-4E2E-AE70-8C48F344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6952655-CD70-4630-89F2-096D1263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98DEF8-835F-40C4-B18E-28A70DB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F0703D-979B-4AAF-B6BD-98141C5D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E7D0-55D9-4D4E-8897-919D2992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22B3BF-E7EE-48B8-8CE0-C471041E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04CC6F-D493-4EE6-A08A-1172941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5B76D7-E51C-444A-993A-D3B507B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2C1DD6-752E-4453-BDED-3E05BD8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B6BE4C-85F9-48C3-80C5-D05AAB3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3C19AD-6B0B-4FD2-BC7E-989C6AD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A27A06-5215-4E31-93AD-0A4C2EB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17C507-B943-47BA-8A29-536C19C7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3890F1-B0FB-4E12-A28A-FB457204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07898-AD0B-42AB-8D73-8582E5F9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BA64-D072-4D19-BF79-18B4C723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FF4DD-D7E7-486E-9398-0895D4E5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E9044-D2C9-49AB-9952-0EDBF40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D3F01-6630-416B-9E9F-E76CF7E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00CF8-AED9-4387-BB6D-E266D6C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8517E-B0B3-43B8-B718-D275CDBB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949E6-BC05-4AB9-A3AB-828980A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7E952-3A9E-463E-8320-FF9E425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BCBAE-8DCD-41BC-B663-DAE8502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48267-95A4-4AD5-A29E-65A4744A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88CE4-5B8D-4D19-8190-9BFE9F25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307-79D6-4C4C-9872-3701DD3C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44EFB-B9DC-421A-A01B-35BED93E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0499E-C075-4064-A054-5044FAF1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218AF-7D7F-4AA6-967A-C567970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F73BCC-057A-43A7-8FC8-AB9BB48E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0631D-6573-438C-B171-3090BDF3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DF8BD-C6C4-4AC1-A2A1-66503C8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322ED-5CA8-465F-9AF1-88E0E86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B623C-D285-4438-B49B-91E9227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90F0E-8202-4A99-BF6E-0EA823D9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9A754-57FB-421A-9676-8F91EFB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F8ED-4640-4F9A-8228-C58FED87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ACE0B-DF22-4A60-9458-91E621DB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A3708-6881-4443-BF25-1FB73147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430DE-AEE0-4D3C-8315-89EE48B6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FB23A-D71E-4656-B9F6-F35819A1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5FF371-BC5F-418D-BFD6-BC6C1831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7E804D-27D2-4E66-9596-76B10A5B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7BB880-C87A-4B36-AF3D-E134B7B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931095-BEB3-4152-A568-2679BB9B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4502F-F20C-46D1-A752-54C2067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215AA-521F-4174-BE0D-97453FB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04E3-01EF-4E94-B47F-54EF8540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9E8BA7-F37F-45AB-B03A-C2EE61A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45E876-7A59-4E98-B6D2-CCAAF79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D9230-1A7A-4CA5-9D2A-EA7C394F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7DDFD2-8C09-46C6-BF80-BA2F32D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4E523-587A-45F3-B95C-B0AE1A85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285E80-89FE-4B0F-A4FF-742F380B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ACC7E-8122-48C5-B116-4CB30F1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A2239-283D-4717-A206-C690AF4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803A84-1594-44A5-B18E-DBEE965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39625D-8B6D-43DF-A263-167B55E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8C4B-ABCA-44BD-B4B6-1E72E21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C2717-674E-4609-95D8-CA4A154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234434-3143-4FD9-BAD8-732D772E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BC91E5-F267-4753-AE29-0448D47F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E7433D-4ED0-4F02-8EAE-1BA650E0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7F36F7-33D4-4E39-A5E3-49F64B6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B7030-94C7-4308-93DF-2431BE9A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C23CC5-2556-4D47-B2B0-83D6C805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8A96D6-D2E5-4ED5-A9EC-2859D41F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8683AF-1EDC-4957-91BD-F40B04A4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D03BA5-A566-4F94-8F32-28112345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BE21-6741-4E19-AB54-691E18D0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44C292-7EBE-4F23-8B02-5C191CE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F71E72-E80C-4FB6-B349-B2EF5BE6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7811D2-5C85-4E9D-BB4F-F3BF924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DF21F5-B57B-4DBF-8F62-322B8D1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F08E0-78D1-49DC-ACCC-81D7DA5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F1076E-74F1-4F6D-A606-B8C646E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3E1BEB-C3FA-42AF-90C1-FC07E54D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CA0FD4-1800-4A35-A3A5-B503F951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B0B7D5-CC99-477A-8120-7A6C8937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9227EB-CEF7-4B48-B7EE-BD5AEA03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A527-713A-4342-AC21-9251637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6E37A8-F5D9-4960-ACDE-424E16B1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D38BA0-CF7B-4332-A31D-BAA514F5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5611C-048F-4526-AD5D-B92DE95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B3BD4F-8FCB-4049-94D3-A1DFFF47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C73CDF-2DB4-459F-9991-BF86A30A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F9C77-78DB-4912-B9FE-1ED2FF7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79AC22-D9DB-46CB-AAC1-DD30D79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7B60EF-C211-4714-A87F-479BE0B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2B396A-123E-49D5-9096-BBAAEA1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862CF-FAD4-4BE9-A57D-5124D4B8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092-8938-43C0-86CC-E597E89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FC94-5F46-4F76-A743-6EEE041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6D0F6E-8C96-4694-A85C-2C50ADBE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7A63FD-A4F5-4708-80AF-E795DB1F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398800-3E2D-4146-94EC-C782DD9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683DD5-9299-4CDC-A1A7-9C029FDE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3C20E4-479C-4ABA-8D58-874111EC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643EE1-6AFC-427E-86BD-3FE95EBE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033F6C-52E0-4F11-A998-A73F096A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E72BF3-6866-466E-8FCB-3B09D90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62DF7-1067-45A1-8CD1-9C9A7D4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F50F22-2327-4A4B-A792-DE8D1C1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A162-6943-43B0-B22E-D2092B7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1B2161-EFB1-4D82-AD00-01030453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C7067E-CF82-4DE1-BDAE-BCECC05E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FD9A4E-9436-433C-8AD9-CE2C85F0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BC1AAC-9135-4A11-9E10-41CA2BE5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C10FD9-6A67-4F76-90BE-C793241C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0FB362-7745-48D0-98AE-7079B0E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1E9310-1BAB-48A3-ABB7-9E44D774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42D582-E30E-4226-9C80-12E04B17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063B27-C645-4EFB-8020-2CF88726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D44D30-1D90-462D-8592-E6313C01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3912-E381-4E1F-9EC5-39B708D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F24FBC-DEB2-4158-85A6-9C684F6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6DC6B4-873F-40A0-BCBC-1C917F7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EBC208-665A-4557-9CC9-F8BEFB3F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FAA23E-CF12-4A2B-8FAF-F1CC4A6F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C951A5-9082-4BB7-80ED-B0ED801A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8E4FC7-8647-472F-B005-72F95108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1218ED-12EA-4E53-9EE7-F19B6BA3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F0BB8D-1104-4502-92D8-95AB249C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D549CA-D115-4F6C-98C4-D3AA8ED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0173E1-09D1-422A-A97E-66B73B7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5ECB-A6AE-41E1-A34A-B07E4BA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CC02A2-BAD6-4619-ACB7-66C9A462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DB07D1-FF41-4AC8-96A6-80876B0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9527B3-2733-4D8C-A87B-A7EEB9C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C6F021-DD69-45BC-AC7C-34A4AEF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D06576-EB95-46FB-AF82-D0A3F339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F5746C-CA54-44A5-A5E9-E1972BAD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9ACFC4-FD7D-4DCF-ADB9-FDE23664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31AA4D-A563-439C-BDDB-D562B978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FAD0B6-DA63-4793-8838-D1DBF26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99C055-E02F-4A78-B6F4-807F052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7501-3E25-4AB2-9C77-5403208B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0FC60B-384F-44B6-B390-2E6C4F2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FB3D2B-5336-4AE2-817A-95DD6384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8A68C6-6866-4A6C-9425-9822E7AF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D30C9E-1300-4AB7-ABE5-1F5F644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487873-2949-4D20-8236-2925519D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D0FC7E-D8C7-4859-BE7F-9454BF0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09A6A8-6B0F-4012-828D-5F0019A9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B740A5-F294-4517-8D5C-F2211740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90057A-321A-405B-8C71-A40EE00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5AFFE8-7EA4-4603-8EDE-79DDEB1D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824D-01E0-4296-96A4-6C41DBC5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8C3D57-B3F7-47AC-8629-083B0457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08202A-3683-4FC3-A3AA-660F713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96B1FF-E0B0-425A-B72F-65853FDF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7C9163-A8F5-4302-9260-1BD0522B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C535FF-1EEE-43DB-8488-4B390520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044C3E-576A-4349-A2E4-A2CEE2D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491A38-332D-4676-BEA8-6E4CDEB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A5E6A9-6434-4A02-91B4-D336084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74775A-54D1-4329-8F09-988E84C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0E5E91-928D-4B2D-A76E-BF28377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AF60-F5CB-4729-A99A-CD4E1F74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DF1E82-2829-4AEA-AFFD-F3EBE88D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53EB-E376-4248-8CB2-C261A88D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5CCC-8234-412A-8F62-9259AD8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B3C9-69C7-490E-B015-D7E7ABB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288-9390-42D3-A7B7-DDDA695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B6F7-3CE0-46FE-92EE-13BF40A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1058-6D3C-43FF-93FB-5A6243BF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0C4C-91A5-467F-85B0-0E487C84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9D93-5A38-4FC1-92E2-33F9D195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9E02-41C8-4CE3-8552-872181C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13E2-E922-4233-84AE-FA984DD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4D8D-DD94-40A8-BB94-7B3837E2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522C-0FDF-4E99-BAF8-97D8AEA2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98F9-71FF-4D9F-8C88-EAD5B62B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3444-1757-44C2-9459-B983B385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E37-1BDD-4771-832B-90653F1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46D5-83F8-43C4-BB87-EF565E8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D76B-0D0E-4066-AE63-7439CCAF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CF684-DBF9-4004-84AE-DDBD8A8A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504F4-2127-464D-AD8D-40C2CAC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3E6D-B867-46A3-8A61-8791B2AA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ED71-ED17-4669-A238-91CDB69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5B78-0BDE-41A0-9649-38043EA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7A31-D30A-4618-B559-219A9C3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10DF8-B5DE-42D5-940E-47F8A8A0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F99C-A73D-4B5A-861A-F389D8D3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0ED-56FB-4B2B-83C9-29A8DFC0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4E65-FD58-4C6F-9F62-04E8A5EE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EEE1A-A736-4ED6-A58E-36F31D8D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69C3-F5DD-4BD4-8C6A-4DC5877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1780-BBE5-4F64-A650-D9527F8B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7CEB-8ADE-452F-A917-5B85260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948D-79D5-432C-AD7E-0A503B2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89675-B201-4FFE-AC50-875D8F9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B7DA-B02B-499A-882A-F69563B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526DA-0E00-4214-A3A9-0AB5EB0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7281-C41C-486A-AC9D-4E06D75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AD9-0B91-4023-B444-CA035C2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89CC-A2D1-4CB2-B353-A354243E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847A-1E96-4FB7-8745-1960D40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0C0DE-C651-45FE-99AF-74A33ADE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4CF2-8BAF-42E6-8AC3-F35BB85F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483F-F314-4197-9308-849EBA90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6B44-D742-4245-A994-6ADB1F47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3A3E-1075-4FFD-80FA-8ADCAE4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75F6-BECE-4AFE-B1C7-EFC6C528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10C2-38E0-458F-A66B-83FB9997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E69A2-053C-4222-8CFB-DF761C6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69D-3CF8-4875-819B-EAE6844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CA2B-BE97-418E-BACA-500D517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63024-3883-468A-9692-D13E761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ABE24-D723-49D6-A054-C4BAD1F8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FCE8-F26C-4EF4-B7F7-E76BEC5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12E7-92E8-4223-9093-293C735B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00A2-0DDA-4750-ABCC-62299918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582A-F42B-4AB4-9A5F-7D19DB6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7C6B0-25B7-4193-92EE-E3DAD3D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A7D1-A237-4248-8420-CAACF17C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82DA-CDC4-42B2-BA3F-780B936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930-22C9-47C5-ACB7-D4784EF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0181-B7C9-462F-824D-53AAC57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CAB71-110F-4B08-9158-A0D575A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209A-7493-4927-AA77-334C67C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2CF8-FA36-4956-958E-6AC64A8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AAA4B-3537-4EFD-BAA6-08A517CB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9515-DEB9-4CC6-9D29-6B3AD09E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43A21-23EB-4AD3-A8BC-A2AAA68E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3D3F2-CD9C-4186-81B4-CDB4ABAF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DE6B5-348A-40EB-88BC-2C5E8A04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142EC-1177-4A1E-803C-6A4FBBF9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307-31C3-4416-B91B-B0CED971B8CD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9FC-C067-42B4-BDBB-0802A5C58BA7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5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6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49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C542-BAFA-4654-9280-AFA644B69334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5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6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99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0A7F-15BD-4D9A-9799-AFE6B806AEE5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شكل حر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شكل حر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687A-CA68-459F-A44C-46CBB0D1B5F9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مستطيل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مستطيل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مستطيل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مستطيل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رابط مستقيم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رابط مستقيم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رابط مستقيم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رابط مستقيم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رابط مستقيم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رابط مستقيم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مستطيل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شكل بيضاوي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شكل بيضاوي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شكل بيضاوي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شكل بيضاوي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شكل بيضاوي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C31-6B43-4757-B7CF-DFE2B77FB71B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5E90-EBC2-4215-8FF2-FDBCBA0EBE6B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مستطيل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مستطيل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مستطيل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مستطيل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رابط مستقيم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رابط مستقيم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رابط مستقيم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رابط مستقيم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رابط مستقيم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شكل بيضاوي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شكل بيضاوي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شكل بيضاوي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رابط مستقيم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6D6-0350-4AB0-9496-38764EE237F9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63D3-2C3C-40D7-990F-73DF1C277B43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رابط مستقيم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رابط مستقيم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رابط مستقيم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رابط مستقيم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مستطيل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رابط مستقيم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شكل بيضاوي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F4DC-DC27-498A-9B3B-FEA2E64FE6AC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رابط مستقيم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شكل بيضاوي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رابط مستقيم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رابط مستقيم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666C-AF27-46A7-9150-AE05A61259E9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417-4ACC-4F46-8419-332E340A36C2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92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4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5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5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C815-60B5-4085-B8BD-4B091C9B0A05}" type="slidenum">
              <a:rPr b="0" lang="ar-SA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6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6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4B24-8E4D-4FA6-93B8-ADC235093C51}" type="slidenum">
              <a:rPr b="0" lang="ar-S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3A1D-D0D7-4A14-A923-9B02641638C4}" type="slidenum">
              <a:rPr b="0" lang="ar-SA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024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205-3B0F-4524-903A-9A8A78B8CDA0}" type="slidenum">
              <a:rPr b="0" lang="ar-S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8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069" name="شكل حر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شكل حر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1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72" name="شكل حر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4" name="رابط مستقيم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6870-392E-4895-820F-FE6162C0BC1C}" type="slidenum"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19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1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22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4BBA-6E7A-43B7-B1C4-41DBBCA9C6BE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68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0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AA5-99C6-43A0-8855-CEC99C344852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8F76-E1B8-4D26-9F0C-A4E0D8926599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56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8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0C8C-BE6F-42B2-A18E-B9F77105E8B2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7C8-0E64-43A6-83A4-B5DFA47EC7DB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E68-B754-4307-9C83-7C21EDDED9E4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شكل حر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شكل حر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3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44" name="مثلث قائم الزاوية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6" name="رابط مستقيم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47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4D75-B697-4B73-92EE-5D7B8D4918D1}" type="slidenum"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4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103-3A75-4B89-81A7-09825CB488BE}" type="slidenum">
              <a:rPr b="0" lang="ar-S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9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CF10-BC42-456D-97EF-728AA5B137B8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شكل حر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شكل حر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1334-6987-40EE-8126-8C236454ACEB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شكل حر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شكل حر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A961-9F9D-474E-8646-B4DD0F7789E4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092-5A6E-4128-BC0B-6576B8F4D36B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شكل حر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شكل حر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9FF-451C-49F0-8BE8-89CA612A00D5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مخطط انسيابي: شريط مثقب 3"/>
          <p:cNvSpPr/>
          <p:nvPr/>
        </p:nvSpPr>
        <p:spPr>
          <a:xfrm>
            <a:off x="1428840" y="1357200"/>
            <a:ext cx="6643440" cy="3448080"/>
          </a:xfrm>
          <a:prstGeom prst="flowChartPunchedTape">
            <a:avLst/>
          </a:prstGeom>
          <a:solidFill>
            <a:srgbClr val="b1b1b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1" name="مستطيل 4" descr=""/>
          <p:cNvPicPr/>
          <p:nvPr/>
        </p:nvPicPr>
        <p:blipFill>
          <a:blip r:embed="rId1"/>
          <a:stretch/>
        </p:blipFill>
        <p:spPr>
          <a:xfrm>
            <a:off x="1316160" y="1962000"/>
            <a:ext cx="6748200" cy="19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موجة مزدوجة 1"/>
          <p:cNvSpPr/>
          <p:nvPr/>
        </p:nvSpPr>
        <p:spPr>
          <a:xfrm>
            <a:off x="1214280" y="1643040"/>
            <a:ext cx="6286680" cy="3200400"/>
          </a:xfrm>
          <a:custGeom>
            <a:avLst/>
            <a:gdLst>
              <a:gd name="textAreaLeft" fmla="*/ 0 w 6286680"/>
              <a:gd name="textAreaRight" fmla="*/ 6287040 w 6286680"/>
              <a:gd name="textAreaTop" fmla="*/ 399960 h 3200400"/>
              <a:gd name="textAreaBottom" fmla="*/ 28004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6bdb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haroni"/>
                <a:cs typeface="Majalla UI"/>
              </a:rPr>
              <a:t>لقد كان الوحي السماوي من الوهلة الأولى يحصن المسلمين من الغزو الفكري والثقافي المتمثل في العقائد الضال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haroni"/>
                <a:cs typeface="Majalla UI"/>
              </a:rPr>
              <a:t>والمنحرفة ولقد أنكر النبي صلى الله علية وسلم إنكاراً شديداً على من طلب الهداية من كتب اليهود والنصارى وزادن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haroni"/>
                <a:cs typeface="Majalla UI"/>
              </a:rPr>
              <a:t>تحصيناً عندما أعلمنا بما عند اليهود والنصارى من انحراف وباطل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رسم تخطيطي 1" descr=""/>
          <p:cNvPicPr/>
          <p:nvPr/>
        </p:nvPicPr>
        <p:blipFill>
          <a:blip r:embed="rId1"/>
          <a:stretch/>
        </p:blipFill>
        <p:spPr>
          <a:xfrm>
            <a:off x="1504800" y="1390680"/>
            <a:ext cx="6134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رسم تخطيطي 1" descr=""/>
          <p:cNvPicPr/>
          <p:nvPr/>
        </p:nvPicPr>
        <p:blipFill>
          <a:blip r:embed="rId1"/>
          <a:stretch/>
        </p:blipFill>
        <p:spPr>
          <a:xfrm>
            <a:off x="1517760" y="1322280"/>
            <a:ext cx="610848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رسم تخطيطي 1" descr=""/>
          <p:cNvPicPr/>
          <p:nvPr/>
        </p:nvPicPr>
        <p:blipFill>
          <a:blip r:embed="rId1"/>
          <a:stretch/>
        </p:blipFill>
        <p:spPr>
          <a:xfrm>
            <a:off x="1494000" y="212760"/>
            <a:ext cx="61070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22:33Z</dcterms:created>
  <dc:creator>بهلوله</dc:creator>
  <dc:description/>
  <dc:language>en-US</dc:language>
  <cp:lastModifiedBy>بهلوله</cp:lastModifiedBy>
  <dcterms:modified xsi:type="dcterms:W3CDTF">2009-01-11T04:08:32Z</dcterms:modified>
  <cp:revision>5</cp:revision>
  <dc:subject/>
  <dc:title>الشريحة 1</dc:title>
</cp:coreProperties>
</file>