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C91-4477-41DA-885C-D0CA44F7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C63-998E-4B02-96FA-E403A53A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AD811-E0C8-436F-8A67-E8F8C28D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480D-8DBC-4824-9966-577D286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6810B-5F78-4CB3-B542-2F658796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FB471-ABB2-4A48-B395-1B686BD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2542-EDD9-42CB-96E4-3A8D806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F2031-D274-42DC-866A-7FE9D91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5EAB-9E4B-467C-A15C-80DBA14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F43D-046D-4004-A3D1-CD2AAF02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0D05-5B3E-4E26-B51A-3DF59B68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C69FB-6672-4D09-B966-09F2E77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B2E-40B9-40A8-9D81-F2202BE2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3C5DA-09E0-4A1A-B0D4-DC97DF58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EB202-6A86-4012-BF60-84821BF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54542-A048-427D-9224-44C7317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0C91-479F-46E6-9E5B-8676E31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03A25-73D0-4D7E-890C-7437769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DD184-D5CB-4BB7-B034-F03962F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DFE09-531A-448F-AB39-E87BBB3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6F4E9-F08D-4DA7-9082-E3ADDB6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5794D-3B9A-4672-9C62-289C66C6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5BBDF-BBB5-49EC-8B00-EEC3E9AF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E40-B4FE-405E-8FDE-A9FCB2D2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24E4B-6F90-4DD2-8E15-ABC63E1E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20214-8D61-4A38-A991-FC32A6E8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8212C-E480-476E-ABDE-3F793A4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219E-375B-40AD-AC84-52A9B5D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C3E0F-2607-4D42-9CC6-88F6227A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CBB4-BE25-4303-BBFD-85D69F95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E6F68-D7F0-4950-8DBE-04414376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94EAA-0FAC-485A-8BBA-0A2E099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2FC42-601C-4964-8821-BE339CB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BE59-DCDD-4471-8711-503F926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0956-60AF-4497-967B-50ADF1C6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8FF91-C711-4991-B1C7-E622EFE7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C1778-81FA-4561-8C35-531A1DB7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3699A-780C-4AA9-A1A3-47E6E732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BE133-841C-4988-80D0-3E79BC0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510ED-B288-43AA-8B48-A87054B8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FE182-C55A-45C8-A9B5-02357D19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C9DCD-926B-4DF2-A4F5-BE955FE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A22C0-D3F0-4C33-9FC3-467ABCA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11615-9379-4AAD-BB62-CAE3559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5F56-A600-4BB5-97B3-A3F9242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4FF-0922-4876-9096-F7FF0A3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576A3-0EED-4BCD-9017-2ABB192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F9E89-CC8A-42C0-9C73-A00C098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C284-D3DC-453B-91DC-3FAF13F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4B40D-6D4D-474A-AA4B-68CBE3BC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9D548-F917-45DD-87F5-2A9BB65C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C4247-F534-41D5-AF3D-8FD6DC1B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8B06C-B3DB-4B72-9E29-430A8BC9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AE351-571A-463B-AC21-45CDAFD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780F0-F483-40E8-98EA-FCCE1989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7CAA3-31C9-4F95-91C3-65DE537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E271-3506-4EB2-A588-0DCC3546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3AEF9-310B-4DED-8903-DE3AA84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CECB1-4E2B-4CC8-8EB9-B84EB0A7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2A439-58F1-47A1-A5E8-1637781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F3B82-E14A-4D46-B74A-01881A9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27F70-700D-4D43-802B-CC063F2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2F773-360C-4493-A6ED-08A1BAE5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CB37D-49DA-4A5A-891F-DD97404C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6F9A3-3829-456E-B492-82ABB792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CBEB76-3EA9-4916-935B-E2B750D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D06EE-FD8F-41BF-A979-E4B42C73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6FCA-3C8C-4186-8A0A-5C0A865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53B6E-ABA6-4FB7-B9B4-8595C30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C16FC-5447-4D5C-962B-B9CA3236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E063A-453D-4F7C-8201-5D7EBD9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C7CB1-ECC5-43DB-8DB7-1E1A9EA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11429-7F03-4099-AE2D-33C123A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236D7-2B13-4DB3-91CE-9407738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A6A78-CB4F-4EFF-920A-54380FD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DB580-4058-4004-B2E6-2916222A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C8CD3-0A69-433E-BEF4-B4BB3885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921D4F-3CB2-48E4-90EA-3E80C73A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9DA8-ADDE-4480-B4A9-8ECCCE3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00029F-3C5A-4454-AD76-82AEB84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C44E6C-ABC6-4AA3-8724-D386096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B45B17-466F-4570-8196-B9364B0B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2C808C-6F9B-4311-9633-9DB209F3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13E6A8-57C0-4558-BBAB-7507D12F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B4576E-76AC-4515-8B96-0587275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5B329D-DBA7-4840-9E00-5AB6D7D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1B7FE4-AF37-4D78-8001-55E1838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299682-6B04-45AF-AF19-B0AF3652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2DCDEE-F8D5-4AE5-99AA-C6C9B021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620-CDC5-4BDC-8565-5818F2AE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5ABF97-0128-4FA3-89AD-26439BD6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88E27-DF1B-4924-BFA2-5554BE64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340EC-AF1D-4698-BAFD-AF40FC8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CC39D-807C-4630-8651-9835928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F067C-5AF3-40B4-A7AC-A5065F1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98793-FB96-4E59-B66B-6E3D01D1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DFEFE-B3F4-49B2-9021-E238E81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31E88-6E7D-482F-B5F3-FF3EA2C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6B3BB-5392-4A40-B9A7-0F52B11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07398-D13A-4C54-B254-E2A5F67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33BA-3438-480E-B24C-FCC505D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B7426-BA9E-45A5-844A-77021B9E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D4634-FA7D-4B2F-9FF4-1B588C71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C1906-F332-4CF6-99AB-51A2B0A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0612DB-492E-46C6-B058-9BBDC6FD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05F588-5F83-4E0C-BB36-74F80192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E8E254-3331-41C5-85C5-03229EA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F245E0-8EEA-48F7-A6E9-B0065078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738525-C45B-4A6F-BA88-742F476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9EDA57-2D40-4C73-8A21-88AE4188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E1A547-2B82-4DCA-A05F-FE1BAAC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5BD-63B5-442C-84A9-1B36D52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E2D5-0B29-4CD8-B754-2100A65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E3D646-75F3-4694-8C04-CF6B1C8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69D767-CF64-4E4E-8165-0EA74FC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3DA220-6185-48FB-86C3-2F2F3782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BC8EA8-134D-4D36-A1A0-A2255E61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B01584-E2C3-4A37-BDA0-B07F3AAB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17BFC3-6043-49A3-AB29-3B800D8F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999B69-100B-4785-8FAC-585D0F0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22A3C6-69D1-4E91-BEE9-EE477FB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C0D222-6E60-4E80-A559-E85AC28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708A9E-8D73-491A-8DE1-323965CF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70B0-3C31-444E-82CD-CB270FB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5D201C-7D83-4104-AF61-929DEF5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165979-D1B3-41B9-B04F-845EC79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E533BF-3677-4B84-BD7B-A483CA2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29E4D4-6D2F-4B54-AE14-C153BA9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969DDE-70F7-415F-9800-AB41F26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140A1F-8087-4711-81B4-9FE61780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BD2B74-859F-42CC-8472-F905D203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E6E467-3204-419F-BB25-B341EF0B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EDCF5C-74D9-40F4-90DF-10D2CC8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720AC2-20AF-499E-B335-3F4B3A8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815-778E-49C4-A64D-09CFF123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243A4C-35D8-4078-BD2F-108E5AA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68FFED-A40C-4E2C-859D-73B1A1D5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128C9D-693D-4150-BD9E-687CE48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02C1D9-98FE-4D30-A0AB-4AB07AB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49365C-04C4-4419-9316-B5E4A72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2FB5C8-7420-4A67-AE7B-D6705F1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37F33E-4D63-44D5-8F43-A6BFDA36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810B99-C9AC-4486-A25F-A002BEC9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02E2C6-6BFF-4303-8DA9-6F8A1780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C365A-B838-4035-80D0-6E6DF475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B30-7E2D-41FC-8ED4-FA139C8C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204D5-7FE0-421C-8D83-3C9C38C4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E8277-6B0F-4113-89B3-33BECFDF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9A213-2605-4AD4-B0E1-F4EEB93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083A0-1EC9-4AF1-A8C0-FDA793EE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CBC50-4E4B-4D50-859C-41C071B0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C7003-7BFF-417C-A999-A48CDED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A8E51-8765-44C5-87B4-19B5E18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0B0B75-46FC-48D2-8D5C-537E09B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140E3-B88A-4C1B-B740-2E9D4BF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D5CF1-B91F-4B8C-B8CC-ED140F5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1078-2189-417F-90DE-0F613119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352A3-3A09-408B-8C68-72FE5AD1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E54C4-7B56-47EB-95A3-4A3E68AF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B9FA0-003D-4A1B-9877-DAD11BBB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1E6F3B-5972-4C60-874A-C19B020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E2B32-E053-409E-B519-8598CF0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AA280-E6D8-429A-964D-9FCF32FB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AD01B-2F31-4A92-B541-7E19489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8F35F-3AAB-4C05-9198-8A24036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9F9C7-2F41-43A5-9F6E-A73E96D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04E66-B099-4194-B94F-EC9B99E0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0062-2F44-4F23-9669-388D6F17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D579C-AD7B-462F-A9CD-44AAA94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995DE-2596-4AA6-A875-0617D948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42E29-682F-47A1-8013-335A59AA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A63B73-B6F4-4955-89EA-8B1A57C8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5C596-3D0D-49A9-B2DF-135B3C0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7E90E4-9AE4-4CC6-8E45-20B2A04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B1823-DED5-4135-8D2C-5F016950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16549-04E2-479F-B179-AE308AC9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2727E-FB35-42B5-9296-21086E9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BEDA1-79E8-43B7-B3BF-61141A4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604D-EE96-448C-B7A4-3230CA8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CCEEE-A98F-4758-BAA4-1AABF8A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79DF6-B080-4B98-8152-C755D9B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20E09-6827-46FA-84B7-214E8B98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B1DA3-7239-41D0-A95C-1CA2C715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8A4B77-0A5C-4AFF-B19D-B467D66E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6FD37-3F35-43BD-9782-FCE24D77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95E0B-2DE7-42C9-AFB2-4318AC30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8CF1C-1839-4113-9259-BC102E5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21F83-B81F-4E15-BFDC-1228FC69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FBE54C-95EC-4DC7-8091-84B56C98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5DA2-4828-4109-AD28-21B20F1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8C5CEF-7171-4613-AF61-23519BCA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295FA-BE0D-47B3-8A4D-555909D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ED3688-EAF6-4C2C-903D-4BB7816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58E763-9E96-40E8-85AF-F9A21F0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F7657D-19A6-4FFC-8F00-5710559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AD3A7-068D-4CAD-ABF9-A7181541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FA4FB1-7CDD-43DA-98BF-89C81FCE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4FC58C-8996-442F-B91F-14845DEB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240F2-421C-4E86-A094-91ACA08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AF7025-8030-4878-AA7F-DC7DF97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1F2CE-FBA7-4B74-98D6-6671AEF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568741-B3A1-4E87-B078-C2824D7D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6ADD47-F978-4175-978D-2A7F2122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20B40-AF2F-4400-B08C-BBE6935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8592C7-D3C7-4C3B-AACC-3A9A09E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0E04E6-2030-4662-9FCF-EF17EA2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B3604-3F84-470D-A063-A312161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3B8851-0BA5-4B6A-B482-7D078553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AED01-A8EB-4B3F-ACCC-DC5EC8A2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EF9268-7856-4555-9CEA-F2E9C7D9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4628EC-1F54-441D-B5DB-0E3ED451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79FAA-1BFF-4A01-B0EE-FEBE1EA6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31837D-B2B3-45D0-BE74-7060B58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4B7237-50E7-40AE-BA0A-9BE4D335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123E04-2D6E-47CD-B2FE-AB7ACAC1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DBB323-CD64-4914-80A1-A50F007F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C355EA-1FD0-495F-BAC5-44D6DC5F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61E073-00E8-4E6D-A351-A0B45A1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B4E0A-C5F0-4C7A-AFF5-3440DD4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D64788-7C4A-4C3F-A6EB-99D59C4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07F643-D4B0-4DB4-9EBA-21909406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A59B5-7307-44D3-B471-1AF496B4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ED2-C65E-412F-9955-69B6F36F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0F23-8FD6-437C-ADA3-843E29C9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95E98F-EDE3-49D2-A782-CCFE6C33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D656D5-3C61-4246-B89D-E360546B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316C8D-29BE-40C0-A846-123A417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AB423E-37EB-4BCF-AA83-CE323FF9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817484-1F1B-4CFC-83D3-4E52926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A54E5D-9FF5-4D94-9FB8-BB275F9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B2859A-EF63-4D58-A979-18462776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CC90EF-D8C1-4637-ADF4-ECAEABC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8143AD-526C-4A09-88D5-B67BB6D4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344307-CE3F-4B75-A845-CFCE550C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E8D4-EDBA-4E46-951E-81C4BF4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4E582E-7524-45CF-BB6E-A8440B5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10B6D7-73D7-4A93-8A3E-CE54835B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B1A47A-5452-4B89-A2A8-4EA3C42F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29EF41-2A21-436F-AB80-52C24114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DCF4F9-B949-40DE-9876-8AB7A0D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2EC999-E177-4052-9B5F-DD7CBC8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2DDA21-DF46-4815-9B79-E3925BC3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67F3C-5C1D-4051-8752-204E51A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C207C0-6961-4A20-8F01-F7DE6E5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398295-EB53-47FC-A010-33D543E9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D2370-9924-4F7B-8CF9-5164037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401A01-9662-4F0E-ABAE-1C793A2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CB19BE-D099-40A2-B3A2-E22B842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8A622-6669-43E3-BC9A-69EF2E8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440CF8-F801-4E04-B755-288FBD7D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7CDD13-B886-464A-B69F-DE189D8A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DB6265-0BD8-4BB0-8B04-7DD690B5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89E77F-CFB4-4915-B238-6AA65C3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55DAE-F122-4DF1-B92F-995B5456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0A21C7-ABC2-49AC-81DC-5EA7D00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39CCFE-8B91-4FB8-8B27-57D53EA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D405-E01E-41AD-841C-0C2EB73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6E2276-E389-4108-AB54-CA0AB3E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2F0A5C-F8E9-495D-ACBC-B979BAE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CD1ACB-B078-4BC0-AC75-E2459BF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CE0CE-D99E-46B5-91C6-429E6D54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2E7A89-2B28-4AB0-8985-8925B90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A1A4AE-C15E-4EC5-B28A-6787706A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42431E-5D87-42B7-A195-C507D283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2A0E94-447B-4464-8AAB-C9ABA99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26EECA-0F5D-474A-B29D-6E3C9097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03BA59-8469-47F1-93D4-EECEC18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F10F-B59E-4C5A-8308-F689AE03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1C2255-B331-45E8-A236-94B61334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DD3100-3186-43AD-95DA-1FA0427F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29D86F-C1CE-4C18-8008-809F83F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EECE9F-6C3B-4D56-8761-CD98A3E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1BB3D8-FEB0-4305-AD9A-3A8DF01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D16396-68C2-4863-BD68-96DC81BB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CC958D-1474-4EF7-A6F6-44187B84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309203-EEAA-4B84-AF6B-6F6B4600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5FC1AF-90AD-4FE8-BED2-2161ED7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AF00E3-F1ED-4DFD-94FB-449C5700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3979-B06E-4B6A-A339-727FA6C8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C7DEF8-A6EF-447C-9EF1-ADE8999C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007D00-681D-4530-B6C8-13BE847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4BFDD-CC9E-4DC0-871D-B892627A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BE53B7-8B11-422A-AC41-F811D1C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C8899A-94DA-4F72-887D-D9AB38B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828113-F1F3-4524-A7AB-65D9013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F5310D-B733-4CC3-A699-8A1A736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63F885-B8C2-458F-9A79-27ECF4A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1EB67F-5B67-4656-AB27-2944EC20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3BE24A-BEDF-4D99-BFBF-330DB4DE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A427-83E0-4009-B212-90BAAF20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783BF-E81A-4E6F-88DD-99AB3EF1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EB73-E2CB-4883-9D25-6E068287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3B82-77C9-4BF9-92BE-217B02E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AF6B-2C2F-4447-A3C9-56F44C52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745-1D68-4735-BFCD-62D76759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1820C-F875-4BAE-94CA-0A6E0826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71B7-C917-4CE1-9A2A-B7003FE2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9941-6D9F-40C0-A246-4F72737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5A4D1-180E-4143-98BA-7599D87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9F46-CC8E-461E-A131-EA6313B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37E1-A5C8-43C8-AB7D-F047505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5F69-31F8-4184-A56B-B40D8C6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E1EF-49F6-47BE-93C6-31B348E8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0BBAA-C78E-4019-AFC2-2D6BBD5B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39F4-E80F-4D40-A342-EBA2254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30C-86DA-4D0F-ABE6-D5007D3B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75FB-CDF9-4A3A-99B3-D28267BE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53E8-E109-4F65-A11F-E718890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07C2-0B4E-4AC7-9E7B-6675D46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035F-3D1C-43C2-AAE3-33620F54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4ECF-989E-406C-83CD-8647827E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60F25-D450-477A-8035-8294053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7AED-80C4-49AE-9F73-993D596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5E54-3D18-4D50-BE90-9D6D49C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3ED0-50A6-4E64-A025-FC209546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1346-487D-428B-B916-35F1192A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1F7-6383-4BB8-AAB8-5BB10DB8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2D6E-DCF0-425C-BC7D-45482A5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D285-B29A-40F6-9733-AFB521D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DAD9-C95F-4E74-8F8B-0418E82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5B74-D490-41C7-953D-71AD693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BA2E-C0AB-4009-BB9A-5CF4317B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920F-1EEC-4B0E-8D44-78D4BB7C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0E55-4FB3-4224-B9D1-751C56B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0422-9748-4EA8-80D7-0C5F12B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0BBE-E4B5-437D-AF67-520EA0E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694B-D857-4A16-881F-A35D493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B1A-4FA5-48BA-BB9D-13D27C9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D09D-1023-4507-9E41-82DFE3AC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7A0A3-E8E9-487C-9BC5-91BA87A4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88FD-2A86-4291-A77F-2F38F33D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5B41-392C-4395-8D0E-AF4E9C09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339E-0A9F-4537-81BD-B2C269D7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299F-007F-4B54-9B80-66C9971D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99A0-2386-43E5-A740-3DFBF2B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331C-F353-4EEC-8051-FC13652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FCCE-001B-4AF2-864C-8B63CBF2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0B58-1394-4645-BA4A-0ED32E6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AAF-5667-4619-924A-63F39FB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DD54-FC04-48A0-AFAD-FD15F02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AC272-420C-4327-86D8-0EC63CE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3FE9-B8F9-4D37-81E2-1584BA5C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F360-2039-4486-8DE0-5830BB16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A1E8-40C6-4E92-8256-9E80545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3865-ED69-4A41-AD68-CB0D9A1C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DF77-DDB8-48AE-9BF7-AE8B839F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4E04A-EECC-47B7-BDD3-867181D9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2B7C8-C19C-405D-B3B5-86D26E33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25AC0-B390-4CAA-B963-92044B3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651-1554-49A0-A3DA-0E2DB82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DEACE-71B5-4A68-8430-8668290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CC9C-9235-4F99-A146-25F596B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620E-90F8-4A94-95CA-171B1D64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DD28A-E00A-4B60-A3CE-47B8EB9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EB99B-5C30-42D6-9F25-4A2F36C8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D475-F39A-424B-8C2C-376A3FE9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BBF7-53F1-4004-945F-E6B18A9C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67B9-D235-49B3-A1C9-4B65749F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9D05E-C711-4C34-A6D9-F1D2013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7B46C-903B-4A84-BEED-87ECEC9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494-F169-47A9-9789-1189562081DE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E91-BEAB-43AD-A23F-2A1A0A720C53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5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6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9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887-E7C9-4322-840F-50EB1C84A60C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5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6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99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F95-B8F7-4A8F-9FA6-A1C4E98DE9A2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B444-3A38-4D5E-98C0-94F582B7B426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مستطيل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مستطيل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مستطيل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مستطيل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رابط مستقيم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رابط مستقيم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رابط مستقيم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رابط مستقيم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رابط مستقيم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رابط مستقيم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مستطيل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شكل بيضاوي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شكل بيضاوي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شكل بيضاوي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شكل بيضاوي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شكل بيضاوي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1408-AE3A-4FE6-A253-F3ED2B69A33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701-D677-4608-A649-39100E2BFD1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مستطيل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مستطيل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مستطيل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مستطيل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رابط مستقيم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رابط مستقيم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رابط مستقيم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رابط مستقيم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رابط مستقيم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شكل بيضاوي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شكل بيضاوي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شكل بيضاوي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رابط مستقيم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DD5-4188-4117-A5EE-F35AC559EFF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457-6C9D-485E-917B-5D6D43C0685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رابط مستقيم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رابط مستقيم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رابط مستقيم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رابط مستقيم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مستطيل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رابط مستقيم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شكل بيضاوي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A34-1523-4012-BCFC-8AD1D1654EC0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رابط مستقيم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شكل بيضاوي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رابط مستقيم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رابط مستقيم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A9DD-9500-40B4-B577-864B10BF93FF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ADBA-8A42-4EE7-999A-B1B4CBC0BFD7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2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4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6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C18-6E46-437A-960C-07B06C6D7C0C}" type="slidenum">
              <a:rPr b="0" lang="ar-S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6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6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78A8-A098-44BE-94E9-A28E2E3A8085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CDB1-921D-4F96-805F-128425CC527F}" type="slidenum">
              <a:rPr b="0" lang="ar-S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024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8C8-E425-4C93-A8AD-FF5E5A9E5BFE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8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69" name="شكل حر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شكل حر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1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72" name="شكل حر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4" name="رابط مستقيم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374-9037-4880-86B5-794C3FA9F399}" type="slidenum"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19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1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22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68F5-932E-4530-844D-D28C3E2FFEF0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68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0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0CB2-3C2F-4058-960A-CCC1DFA25D40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E0ED-2A84-4E18-A359-FAB5FD2D4BBA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56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8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6AD-EB1E-4732-BCDE-5396C73087E6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11F-3239-4415-9290-11FFE142A47D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0B0F-2856-4A80-9618-8DD403AFF51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شكل حر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شكل حر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3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4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6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47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C2AB-78C3-4975-BFC0-A95147B24EFD}" type="slidenum">
              <a:rPr b="0" lang="ar-S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4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058-DA9C-41CC-87B1-6BB0785945D9}" type="slidenum">
              <a:rPr b="0" lang="ar-S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9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2D88-E942-47F8-B19E-CA2A4DD1869A}" type="slidenum">
              <a:rPr b="0" lang="ar-S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4B7-084C-42B6-84E0-04EA275D77E1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شكل حر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شكل حر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08A-C1DA-4029-8CAB-E15F59A19534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34E-190C-4907-83F0-0CEE60F37309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شكل حر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شكل حر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6C40-1353-476E-B798-BA6826E2FD06}" type="slidenum">
              <a:rPr b="0" lang="ar-SA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مخطط انسيابي: شريط مثقب 3"/>
          <p:cNvSpPr/>
          <p:nvPr/>
        </p:nvSpPr>
        <p:spPr>
          <a:xfrm>
            <a:off x="1428840" y="1357200"/>
            <a:ext cx="6643440" cy="3448080"/>
          </a:xfrm>
          <a:prstGeom prst="flowChartPunchedTape">
            <a:avLst/>
          </a:prstGeom>
          <a:solidFill>
            <a:srgbClr val="b1b1b1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مستطيل 4" descr=""/>
          <p:cNvPicPr/>
          <p:nvPr/>
        </p:nvPicPr>
        <p:blipFill>
          <a:blip r:embed="rId1"/>
          <a:stretch/>
        </p:blipFill>
        <p:spPr>
          <a:xfrm>
            <a:off x="1316160" y="1962000"/>
            <a:ext cx="6748200" cy="19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موجة مزدوجة 1"/>
          <p:cNvSpPr/>
          <p:nvPr/>
        </p:nvSpPr>
        <p:spPr>
          <a:xfrm>
            <a:off x="1214280" y="1643040"/>
            <a:ext cx="6286680" cy="3200400"/>
          </a:xfrm>
          <a:custGeom>
            <a:avLst/>
            <a:gdLst>
              <a:gd name="textAreaLeft" fmla="*/ 0 w 6286680"/>
              <a:gd name="textAreaRight" fmla="*/ 6287040 w 6286680"/>
              <a:gd name="textAreaTop" fmla="*/ 399960 h 3200400"/>
              <a:gd name="textAreaBottom" fmla="*/ 28004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6bdb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لقد كان الوحي السماوي من الوهلة الأولى يحصن المسلمين من الغزو الفكري والثقافي المتمثل في العقائد الضال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والمنحرفة ولقد أنكر النبي صلى الله علية وسلم إنكاراً شديداً على من طلب الهداية من كتب اليهود والنصارى وزادن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haroni"/>
                <a:cs typeface="Majalla UI"/>
              </a:rPr>
              <a:t>تحصيناً عندما أعلمنا بما عند اليهود والنصارى من انحراف وباطل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رسم تخطيطي 1" descr=""/>
          <p:cNvPicPr/>
          <p:nvPr/>
        </p:nvPicPr>
        <p:blipFill>
          <a:blip r:embed="rId1"/>
          <a:stretch/>
        </p:blipFill>
        <p:spPr>
          <a:xfrm>
            <a:off x="1504800" y="1390680"/>
            <a:ext cx="6134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رسم تخطيطي 1" descr=""/>
          <p:cNvPicPr/>
          <p:nvPr/>
        </p:nvPicPr>
        <p:blipFill>
          <a:blip r:embed="rId1"/>
          <a:stretch/>
        </p:blipFill>
        <p:spPr>
          <a:xfrm>
            <a:off x="1517760" y="1322280"/>
            <a:ext cx="61084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رسم تخطيطي 1" descr=""/>
          <p:cNvPicPr/>
          <p:nvPr/>
        </p:nvPicPr>
        <p:blipFill>
          <a:blip r:embed="rId1"/>
          <a:stretch/>
        </p:blipFill>
        <p:spPr>
          <a:xfrm>
            <a:off x="1494000" y="212760"/>
            <a:ext cx="61070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22:33Z</dcterms:created>
  <dc:creator>بهلوله</dc:creator>
  <dc:description/>
  <dc:language>en-US</dc:language>
  <cp:lastModifiedBy>بهلوله</cp:lastModifiedBy>
  <dcterms:modified xsi:type="dcterms:W3CDTF">2009-01-11T04:08:32Z</dcterms:modified>
  <cp:revision>5</cp:revision>
  <dc:subject/>
  <dc:title>الشريحة 1</dc:title>
</cp:coreProperties>
</file>