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011-0087-4499-9460-2C43BB35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C84-909F-45E0-8A3D-6CBB13AD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EE8-B2CE-495C-B413-DA1476FA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429-5A08-45C9-9095-652DF8AF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71F-251D-4E53-BA12-A75E680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E16-AB2D-4C25-B170-7FC352C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620-5288-4BE1-AFF7-E9F16E6E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0CD-6D53-4DC4-981D-1CDE74B5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67F-DA5D-4ACF-9B19-6C686F1B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5CE-6840-4DEF-A8DE-8193FF7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CAA-07BA-4F7F-AA58-DA77EF3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291-6156-4DD1-A156-4F4C9E79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FEAC-6DAD-497F-A3BD-8A5839903BF2}" type="slidenum">
              <a:rPr b="0" lang="ar-SA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85840" y="214200"/>
            <a:ext cx="8578800" cy="67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در الخلي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كون من مواد غير حيه تفرز من قبل الدكتوسومات ليحيط ببروتوبلاست الخليه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Times New Roman"/>
                <a:cs typeface="Times New Roman"/>
              </a:rPr>
              <a:t>له اهميه في حماية الخليه عند تشربها للما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Times New Roman"/>
                <a:cs typeface="Times New Roman"/>
              </a:rPr>
              <a:t>يتكون م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الصفيحه الوسطى</a:t>
            </a:r>
            <a:r>
              <a:rPr b="0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الطبقه التي تربط بين الخلايا وتتكون من مواد بكتينيه , وقد يدخل في تركيبها اللجنين </a:t>
            </a:r>
            <a:r>
              <a:rPr b="0" lang="ar-SA" sz="20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خصوصا في الانسجه الخشبيه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الجدار الابتدائ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جدار الاساسي في حياة الخليه المرستيميه ويتكون من</a:t>
            </a:r>
            <a:r>
              <a:rPr b="0" lang="ar-SA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السليلوز واشباه السليلوز. </a:t>
            </a:r>
            <a:r>
              <a:rPr b="0" lang="ar-SA" sz="2000" spc="-1" strike="noStrike">
                <a:solidFill>
                  <a:srgbClr val="953735"/>
                </a:solidFill>
                <a:latin typeface="Times New Roman"/>
                <a:cs typeface="Times New Roman"/>
              </a:rPr>
              <a:t>وقد يدخل اللجنين او السوبرين او الكيوتين في </a:t>
            </a:r>
            <a:r>
              <a:rPr b="0" lang="ar-SA" sz="20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تركيبه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ar-SA" sz="2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- الجدار الثانو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نضج الخليه وتوقفها عن النمو تترسب مادة الجدار الثانوي فوق الجدار الابتدائي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لايغطي تماما الجدار الابتدائي  بل يترك مسافات تسمى </a:t>
            </a:r>
            <a:r>
              <a:rPr b="0" lang="ar-SA" sz="2000" spc="-1" strike="noStrike" u="sng">
                <a:solidFill>
                  <a:srgbClr val="953735"/>
                </a:solidFill>
                <a:uFillTx/>
                <a:latin typeface="Times New Roman"/>
                <a:cs typeface="Times New Roman"/>
              </a:rPr>
              <a:t>بالنق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ويتكون من  السليلوز واشباه السليلوز واللجني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 Box 6" descr=""/>
          <p:cNvPicPr/>
          <p:nvPr/>
        </p:nvPicPr>
        <p:blipFill>
          <a:blip r:embed="rId1"/>
          <a:stretch/>
        </p:blipFill>
        <p:spPr>
          <a:xfrm>
            <a:off x="914400" y="1274760"/>
            <a:ext cx="7497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ext Box 4" descr=""/>
          <p:cNvPicPr/>
          <p:nvPr/>
        </p:nvPicPr>
        <p:blipFill>
          <a:blip r:embed="rId1"/>
          <a:stretch/>
        </p:blipFill>
        <p:spPr>
          <a:xfrm>
            <a:off x="1560600" y="1560600"/>
            <a:ext cx="69548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8224920" y="178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928800" y="571680"/>
            <a:ext cx="78548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358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جدار الابتدائ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</a:rPr>
              <a:t>او قد يكون سميك كما في خلايا اندسبيرم بذرة النخي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</a:rPr>
              <a:t>قد يكون الجدار الابتدائي رقيق مثل الخلايا المرستيميه او البرنشيمي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نسيج برنشيمي متساوي الاقطار يوضح الجدر الابتدائيه"/>
          <p:cNvPicPr/>
          <p:nvPr/>
        </p:nvPicPr>
        <p:blipFill>
          <a:blip r:embed="rId2"/>
          <a:stretch/>
        </p:blipFill>
        <p:spPr>
          <a:xfrm>
            <a:off x="4643280" y="214308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جدار اولي"/>
          <p:cNvPicPr/>
          <p:nvPr/>
        </p:nvPicPr>
        <p:blipFill>
          <a:blip r:embed="rId3"/>
          <a:stretch/>
        </p:blipFill>
        <p:spPr>
          <a:xfrm>
            <a:off x="357120" y="214308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جدار الثانو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ary 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root1600"/>
          <p:cNvPicPr/>
          <p:nvPr/>
        </p:nvPicPr>
        <p:blipFill>
          <a:blip r:embed="rId3"/>
          <a:stretch/>
        </p:blipFill>
        <p:spPr>
          <a:xfrm>
            <a:off x="4643280" y="1643040"/>
            <a:ext cx="4071960" cy="450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plasmo2"/>
          <p:cNvPicPr/>
          <p:nvPr/>
        </p:nvPicPr>
        <p:blipFill>
          <a:blip r:embed="rId4"/>
          <a:stretch/>
        </p:blipFill>
        <p:spPr>
          <a:xfrm>
            <a:off x="500040" y="1571760"/>
            <a:ext cx="4064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bers"/>
          <p:cNvPicPr/>
          <p:nvPr/>
        </p:nvPicPr>
        <p:blipFill>
          <a:blip r:embed="rId1"/>
          <a:srcRect l="0" t="20367" r="0" b="26367"/>
          <a:stretch/>
        </p:blipFill>
        <p:spPr>
          <a:xfrm>
            <a:off x="4500720" y="2428920"/>
            <a:ext cx="4176720" cy="4071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412320" y="24300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d0d0d"/>
                </a:solidFill>
                <a:uFillTx/>
                <a:latin typeface="Verdana"/>
              </a:rPr>
              <a:t>النقره :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179280" y="2357280"/>
            <a:ext cx="4114800" cy="4346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-1226520" y="826920"/>
            <a:ext cx="11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هي تجاويف في الجدار الابتدائي والثانوي للخليه النباتيه   تسمى </a:t>
            </a:r>
            <a:r>
              <a:rPr b="1" lang="ar-SA" sz="2000" spc="-1" strike="noStrike">
                <a:solidFill>
                  <a:srgbClr val="00ff00"/>
                </a:solidFill>
                <a:latin typeface="Verdana"/>
              </a:rPr>
              <a:t>بالحقول النقريه الابتدائيه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ف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حالة وجود الجدار الابتدائي  فقط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وتسمى </a:t>
            </a:r>
            <a:r>
              <a:rPr b="1" lang="ar-SA" sz="2000" spc="-1" strike="noStrike">
                <a:solidFill>
                  <a:srgbClr val="00ff00"/>
                </a:solidFill>
                <a:latin typeface="Verdana"/>
              </a:rPr>
              <a:t>نقره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اذا كان هناك جدار ثانوي حيث تفتح في فراغ الخليه ويحد النهايه الاخر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غشاء النقره ( الصفيحه الوسطى )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782800" y="149400"/>
            <a:ext cx="6869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53735"/>
                </a:solidFill>
                <a:uFillTx/>
                <a:latin typeface="Verdana"/>
              </a:rPr>
              <a:t>انواع النقر: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بسيطه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   كما في الخلايا الحجريه  والياف الخشب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قد تكون زوج من النقر البسيطه  ،، او نقره عمياء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مضفوفه </a:t>
            </a: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كما في القصيبات وعاريات البذو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5" descr="النقر المضفوفه منظر جانبي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382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328360" y="55292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نقر مضفوفه  منظر جانب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7" descr="Pinus03"/>
          <p:cNvPicPr/>
          <p:nvPr/>
        </p:nvPicPr>
        <p:blipFill>
          <a:blip r:embed="rId2"/>
          <a:stretch/>
        </p:blipFill>
        <p:spPr>
          <a:xfrm>
            <a:off x="0" y="1052640"/>
            <a:ext cx="4292640" cy="5155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-422640" y="6283440"/>
            <a:ext cx="45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Verdana"/>
              </a:rPr>
              <a:t>نقر مضفوفه منظر جانبي + سطح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3789360"/>
            <a:ext cx="4321080" cy="290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nus07"/>
          <p:cNvPicPr/>
          <p:nvPr/>
        </p:nvPicPr>
        <p:blipFill>
          <a:blip r:embed="rId2"/>
          <a:stretch/>
        </p:blipFill>
        <p:spPr>
          <a:xfrm>
            <a:off x="1908000" y="115920"/>
            <a:ext cx="5077080" cy="334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النقر المضفوفه منظر سطحي"/>
          <p:cNvPicPr/>
          <p:nvPr/>
        </p:nvPicPr>
        <p:blipFill>
          <a:blip r:embed="rId3"/>
          <a:stretch/>
        </p:blipFill>
        <p:spPr>
          <a:xfrm>
            <a:off x="5508720" y="3618000"/>
            <a:ext cx="350028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24000" y="1268280"/>
            <a:ext cx="12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Verdana"/>
              </a:rPr>
              <a:t>منظر جانب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951360" y="47973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53735"/>
                </a:solidFill>
                <a:latin typeface="Verdana"/>
              </a:rPr>
              <a:t>منظر سطح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349880" y="3445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953735"/>
                </a:solidFill>
                <a:uFillTx/>
                <a:latin typeface="Verdana"/>
              </a:rPr>
              <a:t>التركيب الكيميائي للجدار الخلوي: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Text Box 5" descr=""/>
          <p:cNvPicPr/>
          <p:nvPr/>
        </p:nvPicPr>
        <p:blipFill>
          <a:blip r:embed="rId1"/>
          <a:stretch/>
        </p:blipFill>
        <p:spPr>
          <a:xfrm>
            <a:off x="1200240" y="1060560"/>
            <a:ext cx="67546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6:08:29Z</dcterms:created>
  <dc:creator>HELP</dc:creator>
  <dc:description/>
  <dc:language>en-US</dc:language>
  <cp:lastModifiedBy>Admin</cp:lastModifiedBy>
  <dcterms:modified xsi:type="dcterms:W3CDTF">2011-03-01T15:12:17Z</dcterms:modified>
  <cp:revision>26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