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9D10-8E63-4076-9A56-EACD619B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FA63-C01B-487A-AF32-584938B5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773E-6FDA-42DD-992A-B3EB2C29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D05E-2887-4B66-8797-1ADA8D41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1C97-1A58-447C-A835-F39CBBE4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7301-0325-49F7-B556-43A944B9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3683-21F5-48FA-975F-5DA51DE4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1C60-E9C1-4CB4-8848-D1F6E7E3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4AE7-D77B-4538-A9E6-7B42E68C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CF69-29B5-4698-92E9-9ACA2589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17F5-64D5-4CD0-AECC-3A1BC7F9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7A31-CFCA-4664-A682-7ABD0A38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6E73-0D28-4264-9500-FA68E7535B67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علم تشريح النب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 rtl="1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دراسة التركيب الداخلي لجسم النبات – الساق والجذر والورقة وأجزاء الزهرة – من حيث أنواع الخلايا والأنسجة والتمييز فيما بينها وكذلك العلاقة التي تربط بينها سواء كانت وظيفية أم شكلية أو تركيب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500040" y="2286000"/>
            <a:ext cx="2643120" cy="3571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6072120" y="2286000"/>
            <a:ext cx="2786040" cy="3571920"/>
          </a:xfrm>
          <a:prstGeom prst="rect">
            <a:avLst/>
          </a:prstGeom>
          <a:ln w="0">
            <a:noFill/>
          </a:ln>
        </p:spPr>
      </p:pic>
      <p:pic>
        <p:nvPicPr>
          <p:cNvPr id="80" name="صورة 7" descr="حميض كنترول ورقه1.bmp"/>
          <p:cNvPicPr/>
          <p:nvPr/>
        </p:nvPicPr>
        <p:blipFill>
          <a:blip r:embed="rId3"/>
          <a:srcRect l="18754" t="7038" r="48959" b="42195"/>
          <a:stretch/>
        </p:blipFill>
        <p:spPr>
          <a:xfrm>
            <a:off x="3286080" y="2286000"/>
            <a:ext cx="2571840" cy="3571920"/>
          </a:xfrm>
          <a:prstGeom prst="rect">
            <a:avLst/>
          </a:prstGeom>
          <a:ln w="0">
            <a:noFill/>
          </a:ln>
        </p:spPr>
      </p:pic>
      <p:sp>
        <p:nvSpPr>
          <p:cNvPr id="81" name="مستطيل 8"/>
          <p:cNvSpPr/>
          <p:nvPr/>
        </p:nvSpPr>
        <p:spPr>
          <a:xfrm>
            <a:off x="6568920" y="142884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مل بلو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مستطيل 9"/>
          <p:cNvSpPr/>
          <p:nvPr/>
        </p:nvSpPr>
        <p:spPr>
          <a:xfrm>
            <a:off x="3506400" y="135720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لورات نجم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مستطيل 10"/>
          <p:cNvSpPr/>
          <p:nvPr/>
        </p:nvSpPr>
        <p:spPr>
          <a:xfrm>
            <a:off x="642600" y="1357200"/>
            <a:ext cx="23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لورات فرد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خلية حج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35720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الخلية : وحده التركيب والوظيفة في الكائن الح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Calibri"/>
              </a:rPr>
              <a:t>تتكون الخلية النبات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جدار الخ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صفيحة الوسطى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جدار الابتدائ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جدار الثانو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محتويات الخ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</a:rPr>
              <a:t>المحتويات البروتوبلازمية الح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بلاستيد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نوا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سيتوبلاز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</a:rPr>
              <a:t>المحتويات البروتوبلازمية غير الح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حبيبات النش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حبيبات الأليرو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بلور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الجدارالخلو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سيتوبلاز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    النوا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سلخه البصل"/>
          <p:cNvPicPr/>
          <p:nvPr/>
        </p:nvPicPr>
        <p:blipFill>
          <a:blip r:embed="rId1"/>
          <a:stretch/>
        </p:blipFill>
        <p:spPr>
          <a:xfrm>
            <a:off x="714240" y="1285920"/>
            <a:ext cx="5015160" cy="4357800"/>
          </a:xfrm>
          <a:prstGeom prst="rect">
            <a:avLst/>
          </a:prstGeom>
          <a:ln w="0">
            <a:noFill/>
          </a:ln>
        </p:spPr>
      </p:pic>
      <p:cxnSp>
        <p:nvCxnSpPr>
          <p:cNvPr id="51" name="رابط كسهم مستقيم 6"/>
          <p:cNvCxnSpPr/>
          <p:nvPr/>
        </p:nvCxnSpPr>
        <p:spPr>
          <a:xfrm flipH="1">
            <a:off x="5214240" y="1928880"/>
            <a:ext cx="107244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رابط كسهم مستقيم 8"/>
          <p:cNvCxnSpPr/>
          <p:nvPr/>
        </p:nvCxnSpPr>
        <p:spPr>
          <a:xfrm flipH="1" flipV="1">
            <a:off x="5071680" y="2642760"/>
            <a:ext cx="1572480" cy="21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رابط كسهم مستقيم 10"/>
          <p:cNvCxnSpPr/>
          <p:nvPr/>
        </p:nvCxnSpPr>
        <p:spPr>
          <a:xfrm flipH="1">
            <a:off x="4857120" y="4428000"/>
            <a:ext cx="1786680" cy="143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بلاستيد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لاستيدات الملونة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mopla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لاستيدات الخضراء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opla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بلاستيدات خضراء"/>
          <p:cNvPicPr/>
          <p:nvPr/>
        </p:nvPicPr>
        <p:blipFill>
          <a:blip r:embed="rId1"/>
          <a:stretch/>
        </p:blipFill>
        <p:spPr>
          <a:xfrm>
            <a:off x="4643280" y="2214720"/>
            <a:ext cx="4071960" cy="1992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سبيروجيرا"/>
          <p:cNvPicPr/>
          <p:nvPr/>
        </p:nvPicPr>
        <p:blipFill>
          <a:blip r:embed="rId2"/>
          <a:stretch/>
        </p:blipFill>
        <p:spPr>
          <a:xfrm>
            <a:off x="4643280" y="4357800"/>
            <a:ext cx="4071960" cy="1906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928800" y="2143080"/>
            <a:ext cx="2876400" cy="40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حبيبات النشاء (مركبات كربوهيدراتي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بسيطة : يتجمع النشا حول نقطة واحدة تسمى السرة في طبقات متتال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ركبة: يتجمع النشا حول أكثر من سرة في الحبيبة الواحد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حبيبة نشآ ذآت سره شق في الفاصوليا"/>
          <p:cNvPicPr/>
          <p:nvPr/>
        </p:nvPicPr>
        <p:blipFill>
          <a:blip r:embed="rId1"/>
          <a:stretch/>
        </p:blipFill>
        <p:spPr>
          <a:xfrm>
            <a:off x="3571920" y="2571840"/>
            <a:ext cx="2286000" cy="335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حبيبه نشا بسيطه ذات سره مركزيه"/>
          <p:cNvPicPr/>
          <p:nvPr/>
        </p:nvPicPr>
        <p:blipFill>
          <a:blip r:embed="rId2"/>
          <a:stretch/>
        </p:blipFill>
        <p:spPr>
          <a:xfrm>
            <a:off x="928800" y="3000240"/>
            <a:ext cx="2286000" cy="2571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نشآ بسيطه"/>
          <p:cNvPicPr/>
          <p:nvPr/>
        </p:nvPicPr>
        <p:blipFill>
          <a:blip r:embed="rId3"/>
          <a:stretch/>
        </p:blipFill>
        <p:spPr>
          <a:xfrm>
            <a:off x="6072120" y="2571840"/>
            <a:ext cx="2357640" cy="3357360"/>
          </a:xfrm>
          <a:prstGeom prst="rect">
            <a:avLst/>
          </a:prstGeom>
          <a:ln w="0">
            <a:noFill/>
          </a:ln>
        </p:spPr>
      </p:pic>
      <p:sp>
        <p:nvSpPr>
          <p:cNvPr id="66" name="مربع نص 7"/>
          <p:cNvSpPr/>
          <p:nvPr/>
        </p:nvSpPr>
        <p:spPr>
          <a:xfrm>
            <a:off x="3714840" y="6072120"/>
            <a:ext cx="20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ركبة ذات شق طو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مربع نص 8"/>
          <p:cNvSpPr/>
          <p:nvPr/>
        </p:nvSpPr>
        <p:spPr>
          <a:xfrm>
            <a:off x="1214280" y="578628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بسيط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مربع نص 9"/>
          <p:cNvSpPr/>
          <p:nvPr/>
        </p:nvSpPr>
        <p:spPr>
          <a:xfrm>
            <a:off x="6500880" y="6072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ركب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. حبيبات الاليرون (مركبات بروتينية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جسم شبة كرو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جسم شبة بلور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وجد في برنشيمة اندوسبيرم بذرة الخروع او كطبقة اليرونية في حبة القم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حبيبات الأليرون في بذور الخرو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طبقه الأليرون في القم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. البلو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نواتج ايضية من مركبات الكالسيوم , أشهرها اكسالات الكالسيو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أنواعها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فرد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نجمي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أبر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رمل بلور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كربونات الكالسيوم التي تترسب على هيئة حويصلات حجرية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18:11:39Z</dcterms:created>
  <dc:creator>User</dc:creator>
  <dc:description/>
  <dc:language>en-US</dc:language>
  <cp:lastModifiedBy>Admin</cp:lastModifiedBy>
  <dcterms:modified xsi:type="dcterms:W3CDTF">2011-02-22T18:13:53Z</dcterms:modified>
  <cp:revision>22</cp:revision>
  <dc:subject/>
  <dc:title>تركيب الخليه النباتي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