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D03E-D9E1-4B42-9C99-32E12D075C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DA93-F990-4E78-B6C7-C74C34E2E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3B4A6-FFAE-4384-A890-5EACFAA47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42A6-6E9A-4618-96B7-92781B665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47D2C9-1B2D-4D3A-A5BB-4E70529D9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F4B345-4C6B-4658-B3DD-66C1EDA9BE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E2F689-8996-47EE-A798-D23538D68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20A0C-C1A0-47A7-AD9E-9FBFB0431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0040ED-6758-471B-BD4D-8763CE81D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0367B-0ABE-4E0E-8500-44CA47B15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BC82A3-04F7-4858-B458-E2537F7D1D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EE28EA-1DEC-47E5-BD55-8705456DAA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255A91-B22D-4997-875E-90B5CB29F7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A4723AE-4882-4DE7-A684-5DA8B20035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8F26F-7EBB-4215-B9B8-FB71E76A2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316F89F-B65F-4DD1-B34A-E7974D02FD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1CD1FFD-83D2-4400-A9F7-3BA1B95C9C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F393FB0-E050-4590-AD8D-8AEFF0B27B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BAED5C3-0949-44E5-BA7E-4DCBE35DF6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287EC45-28B0-442E-9F03-15AFE833D7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991231B-DD51-4113-9B43-5DEE30E897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2C1340C-B40A-4261-9AFD-025F046ABF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BFCDFD3-801E-4CAA-BA96-53DF909CAE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E2D74C5-1BAB-4E27-8BF1-9DC0F5BA3F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5C82DEA-995A-4805-AA13-CD3D38B117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6F424-47F7-488C-A406-65C12A73B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865F3D6-DC07-4E7A-80F4-FB0C7BFC3C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B5B85C-3BD8-4B03-A160-1A95EED2C5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9EF20F-1BC7-4664-9F84-FA6C86917E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5A13A8-45A4-4573-A140-0FE2C26C16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6D0D06-A9C9-4F49-AB99-B95FDB7A1C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9527CF-5BEA-48B3-A054-71A71F43A2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55A46C-FDE7-49E9-B0BD-2A0C0A58DC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F94BC1-979B-4601-8446-D761D3AB2E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234E63-F6C7-4D92-BF20-AF023966F9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FAB7A8-FAE8-4FD0-BB33-EBAB999C43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C7D24-A391-4091-8CAB-9E932F5E2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292EB2-C8CA-4270-8A1D-6C5A5A9B2C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19B9EA-634A-48DA-B019-C8C2AFEAA0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6BD700-8899-4C11-8177-459FFBDD5D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680B13-D442-4FBE-9FCD-309060E72A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D1004D-5E55-4CF6-95D1-FFD3BBA3BB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48DB26-65A6-40BF-8493-2E791FD08F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9F53AE-C502-4D41-B021-ECCD2CBF2C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08DDE5-6578-41B5-BFB7-01F5163C08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F9B076-0C58-428A-ACDC-8D9F3839E9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771932-37F1-4240-B02A-95C41AE48C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6D182-D9C3-4AC6-AA12-131C5138E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EE0E7F-F0C0-4148-83B6-E84D35997F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4CE175-1680-4211-989E-BA21C9EBC9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1C8FDD-95FB-4E83-BCD8-333FD2218E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A604C8-4223-47D3-A5D6-AE575B639B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570486-F089-4A68-AB6F-78FFBA70DB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7BAD5-AE87-4175-B0B5-FD92FF385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3F459-E6C2-4CCF-907F-35E5D41B8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34C98-F66B-452F-AF42-19F17D1BD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2CA57-C469-4995-B6EE-4100AB791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0A7E8-1715-4D4B-A50D-755263C2E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A2F7A-6767-4DFE-9948-B22F23295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E8F2B-496A-4733-8506-EF05BDF12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8358A-5397-4AF3-8930-F7578C4E2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A6F65-390E-44D9-B64A-1BC0DA2C5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FD27A-4F4B-4420-82F1-8D6576CFC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5FCA4-F247-4619-9EE2-5A2CF01C3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6E0EA-0684-4FAA-9939-E2F49809D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F1F60-822A-4494-9125-D3A8A52F1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AA0B0-6B94-4DB3-9024-CD2AF3333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A03731-8690-4D69-8833-8718D7A6E3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3BAD9-5B8A-418F-BA6D-3598D9EBE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EEBC-FE16-40B7-B6A3-E7AF60426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54CF6-43CA-4A2E-8751-FF28C1DC30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788AF-23A3-48EC-9595-2F14C115B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BDAEE-54A0-4956-A33E-364046394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69284-4A9A-4CA6-9407-F4A5500A5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1620E5-4AE7-4973-B1AC-C49F4FF26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553C03-59A5-4FFE-92A0-893B77CF2F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43E0F9-D8AB-4B0E-A986-5979C5C38D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95E58E-E926-4903-B0E2-1C0FEB26F3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61028B-6DD0-47A3-8B76-B2758DE4C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8C1853-0B09-4D7F-AB93-875EC4D85E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AC4A0-5F43-462A-A254-48D7110AD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F419DE-4728-45CE-94C5-C70D7C23A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2E07DE-6F48-453D-A471-2AC212658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11FC55-0B6B-46FB-993B-75C0C56FA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85B8BA-84C5-4248-B961-F3AB9931F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2F176F-1FBA-4FF5-AF8B-1A7451847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3C87EB-B864-4D73-9466-5B3DDBC19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430A1D-31EC-49F9-8431-BBD8C3D0D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3AD516-7F5E-4DBA-B143-B36456E75D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8987BED-C622-41C3-9A7C-03A4DF745C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5F2B36-CA6C-4BBD-BCB9-E7FA4357CF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8B96C-B315-4F3B-B461-5E1C98A2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32E39C-603E-43FB-96CC-45B9F2B5B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C0CD2D-B82A-44EB-B7AD-35E468B224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3EC97B-D553-4CED-B448-1900B9FF2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F88AC7-4D9A-4080-B0AA-3ED5D76D5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77650F-27CE-4957-9976-76ADC8DDE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FD072B-BCAF-47FB-A950-BCE69234D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5F0EE1-6C47-483D-81C1-83C30D33A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7778E5-FE83-4DD3-9C1A-84FCD122A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BBD0D1-3FCB-4DF6-B171-C02A19CDB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3E72070-0FFE-4349-814C-A88064DD50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06233-5A32-46FB-9B76-5BFF1A2B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341BF67-FB0C-4AE5-94FA-9E58E0674A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9DBE263-DFE3-4C1A-AA53-34745A1295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09A8C8-D6F5-46D3-AFCE-B0172FAA35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090D58-AE6A-4C34-9619-BCACBA84E3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9C31C76-CFC9-438B-A8DB-5FCDD3C36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DEEF36-0703-4D0D-95DB-F22469CA50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49AEC11-B9C5-46C0-B07C-78FEAFBCF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ACFABD-87AA-49A8-898C-F57EE43EB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AABA18-614D-4BB9-9BB2-298A4B7D5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FDF2B7-FAD3-4863-9FD7-7A5AF511A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36832-CF36-4F9C-9A6F-F5D746039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D0B8A25-BC0C-4BAA-9E40-8897447AA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928CE98-D27B-46F7-8A3A-4897735751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EC1BF48-6C01-4F1A-ABAB-89E66AF8E2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0EDFFC-52D8-45B5-9D34-8B361FC034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EE09E-B1A7-45F9-9507-FA069424C9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AAD0C9-30F7-4A20-A259-887DD97A49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2ACE95-5B9D-47D8-A6FF-5100AB715A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0DF9B-85C4-4F0F-8AD6-A4C2715F3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30642-0012-4B93-9D37-ACF0BFBD8A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DF501-C3A1-4FBD-8A2C-0C2E8262E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078D-DED8-424B-BDEA-47441CEB8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1E5BE-E8F8-4B5E-9580-BC0F9FDBE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B6B15-20CF-4AD5-844C-F78317BA1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95DDB-DC05-4DB9-8455-5024E77D4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AD955-1C45-4C66-A019-299E7C587C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43E745-A1A5-44E4-BF0F-64985C5A73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0F9164-2740-4635-80A4-A2AF203338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3D2384-36D1-41BB-AEE1-7C2500815C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C4E9B-8585-4A35-9D50-D090CAAC10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70D780-AB15-44F6-BFE9-39BA6E2E9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E6D773-B6F8-4F51-AB51-9659A28A16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6616C-E50C-4E1E-92E6-924B078D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D17689-DAFD-4112-9D5B-1B697F27E7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26B5E-E9A8-4B19-905F-A076B37B3C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BFF143-FBF3-4D3E-8C5E-13386684EE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E0839-8DBC-49C2-8A9B-F9123864A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21A98-9BA2-44CE-8B60-EB1FF533B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E86689-C295-44C5-A809-B0171359D1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C0323E-C895-4855-B84B-D1D09B80FB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F98C72-B5E4-43D7-A8DE-C1D24B7680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A2381-37A3-4BCF-90A9-17647C46ED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87607F-99C7-4096-BFC2-8CA10CC0B8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AE20-292A-47CD-ADA4-FAE215C2246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BA300E2-46F4-4C28-96D1-A05FEA156021}"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D7A3-BEC7-420C-B313-77ADA55559EB}"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229A-0816-4662-AE1C-CBE54FB111DD}"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3DEE115-E66D-498E-933F-0CD3469F8C25}"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0797-1451-478F-8856-F2919FF7E0CE}"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BB0C-51E5-477C-AA7E-4BB959C26F3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FF2BF8D-A6C4-43A5-B34A-C1C300C1298B}"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8915-2050-4D64-859C-CA033F89310B}"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4AB2-6578-4D3B-B8B8-85806F4AC1C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1336135-1EC3-4D24-8D39-FEDA94A665E8}"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AA8A-8B9A-4548-9E7F-C1645729FDD2}"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11B2-AFF5-4015-BEBB-D8686B198D3F}" type="datetime">
              <a:rPr b="0" lang="en-US" sz="2000" spc="-1" strike="noStrike">
                <a:solidFill>
                  <a:srgbClr val="ffffff"/>
                </a:solidFill>
                <a:latin typeface="Tw Cen MT"/>
              </a:rPr>
              <a:t>07/30/26</a:t>
            </a:fld>
            <a:r>
              <a:rPr b="0" lang="en-US" sz="2000" spc="-1" strike="noStrike">
                <a:solidFill>
                  <a:srgbClr val="ffffff"/>
                </a:solidFill>
                <a:latin typeface="Tw Cen MT"/>
              </a:rPr>
              <a:t> </a:t>
            </a:r>
            <a:fld id="{1F3D135F-2841-479A-99D6-0F03CD5649E0}" type="datetime10">
              <a:rPr b="0" lang="en-US" sz="2000" spc="-1" strike="noStrike">
                <a:solidFill>
                  <a:srgbClr val="ffffff"/>
                </a:solidFill>
                <a:latin typeface="Tw Cen MT"/>
              </a:rPr>
              <a:t>16:23</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733C-01F9-49E5-A988-C22DBC451C26}"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5C3D-79BA-453E-82E6-A3600880F73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03D4666-1E0D-4CDB-8A02-F0C281E1116C}"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891E-C7DE-447E-9692-4A06CF32E08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8B82-65F3-4688-A135-62C31D08D848}" type="datetime">
              <a:rPr b="0" lang="en-US" sz="1400" spc="-1" strike="noStrike">
                <a:solidFill>
                  <a:srgbClr val="4f271c"/>
                </a:solidFill>
                <a:latin typeface="Tw Cen MT"/>
              </a:rPr>
              <a:t>07/30/26</a:t>
            </a:fld>
            <a:r>
              <a:rPr b="0" lang="en-US" sz="1400" spc="-1" strike="noStrike">
                <a:solidFill>
                  <a:srgbClr val="4f271c"/>
                </a:solidFill>
                <a:latin typeface="Tw Cen MT"/>
              </a:rPr>
              <a:t> </a:t>
            </a:r>
            <a:fld id="{15AEF306-7657-4155-9DFF-DEF88B88E87B}"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1D32-CF0F-4DA2-9225-D6014DFE9868}"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8578-0D3D-4F2A-B608-84C51791A4FD}" type="datetime">
              <a:rPr b="0" lang="en-US" sz="1400" spc="-1" strike="noStrike">
                <a:solidFill>
                  <a:srgbClr val="4f271c"/>
                </a:solidFill>
                <a:latin typeface="Tw Cen MT"/>
              </a:rPr>
              <a:t>07/30/26</a:t>
            </a:fld>
            <a:r>
              <a:rPr b="0" lang="en-US" sz="1400" spc="-1" strike="noStrike">
                <a:solidFill>
                  <a:srgbClr val="4f271c"/>
                </a:solidFill>
                <a:latin typeface="Tw Cen MT"/>
              </a:rPr>
              <a:t> </a:t>
            </a:r>
            <a:fld id="{F9E50D1C-FB6E-4F82-9A9C-02A79D70467C}"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3277-28A7-4ECC-990C-C12430E7620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33DF-A8BD-499E-8EBC-928B384BB39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96CE63B-7A2E-4D17-B75A-CE1B4367E57E}"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23BB-E17C-47F2-B315-45FD30D0CDC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767F-2070-4FDB-A8B4-8D4880F5ADFD}"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31A0CC5-8EC4-4C32-9FC5-BE78BC446992}"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E1EB-6F82-461D-8BDC-B7BEA879ACE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EC67-E586-475C-B0DE-85BD34F7DCB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52E15C6-67A2-45EC-95D4-BD621F1B6419}"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8572-6AB6-4AA0-88BF-94CD0E7DCAA5}"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8E31-B8B2-4D6D-BB82-D96047ADD5CA}"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AD7467A-7C21-4607-B354-C604EAD41AA7}"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A823-E102-49A1-AABE-7EE0D2CF2C0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72C6-180D-4513-A0BA-2586CBF6DE50}"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997D-699B-423C-A59D-1ADCE1E978D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8914-0091-49EB-A556-F409D957FDB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08CC-AB54-48E9-9A6A-668C3B31F16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0117-7957-4F11-B3A8-C9D2273E0D8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2FF2-8E61-40A8-A64E-2E696D6DF8AD}"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3E28-3DCC-401C-A1C2-A34BDDE3C71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2448-BAF1-4662-89F4-FF0BF532A49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E798-0ED7-4988-9FC5-A45D6D42A53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014E-1137-4861-B002-711F3CCF143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8735-C0E1-40DD-BD1F-5CDE85DA621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5EDA-2ACD-46A9-9A64-0E21DD3BBCE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2BED-7859-41CC-B752-C07F3EC1256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D877-3DCA-447A-97B3-AEA8A81FBC3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