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57E9-89C7-4286-82FC-B51A06C2735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BF2F-6C24-4DC4-A035-E5A565C5A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03B5B-009B-452F-B34C-DB5238D6E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131AF-A760-4792-AB12-980646F6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0AE39E-9331-4802-BB11-20C072D445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C68FAC-E134-4D82-AE05-EEE87729F2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68D31A-9FC7-4248-9634-84960A3DF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BC7F1E-1AE8-4EDF-BD23-1FA634648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10C6F-3EE2-45CF-8E54-5C76107185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83F92-01AF-455B-9B8C-2FB505F99E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1A768-6DFF-463E-ABFC-82C1BE29C4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1FA8F5-26C6-4A29-9576-FCFC8BA5F8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BCBCE1-16CB-4E6C-81C7-072F51F04D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FC22860C-F8A0-47FC-9CD0-1F777F40B4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E9239-3BDA-4C0B-8F83-256B2A5F7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E6A3400-E8B9-4D89-AAFA-488E445A08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3A73DA7-9D48-4499-8DF9-E694E569C7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2F365D0-0548-43C9-8E79-345994362A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2F7F4FE-987B-487C-9D7F-F6E5C27FC6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424D9A4-71C5-4F0E-9C38-DB16231FF8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ADD5889-B9CE-40D2-9CF1-6A1AC3A551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49B9AB5-EEB9-4339-A5D9-8A89CDC9A4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90C4EF1-3C5D-458B-8099-92991C646C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69A7FA3-77C2-47C8-A88C-633671D154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8CBCCD8-F834-4E84-97EF-4AB696882F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5D1D1-937C-4408-9489-CE489707C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97A3ADA-F999-4605-B115-97D092F5FA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F6EDB5-1906-4C44-9718-2FEFCCB97D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72417A-88D9-4B55-BE6A-A63109D921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F33507-6B5F-4286-9116-F8C4F970E0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FA8680-FB32-4F6D-BF47-117BF0B5BD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DA67EF-667C-4D52-8869-ED2A35B78B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385A44-F3DA-4596-B314-3F75B05EA9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90BC07-362B-4DB4-8654-CD249E8558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16AC89-51B3-422D-BBF0-03A77BB715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60B763-A8AA-49C4-99C2-EBC8F6A92F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B84C9-0456-42B1-B15D-BB373077F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9A3DFC-A129-4719-8E9A-1EA3179F5B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398000-4527-44FC-9D7C-5CE7C18088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775D9E-CA1E-4E1F-85F7-99F87AC418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47A50C-50BF-4DE0-8E31-C2B8B20ABFE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1B0A1F-81ED-457B-B998-0F0D30B9BB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DE3747-7287-49C4-A827-D7E6FF695D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242978-B5E9-4DDA-A781-A15C8DBF71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612B8C-0584-4C69-B133-0CC3118CB9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9707B1-8823-4B6A-9931-179CC8D6ED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8E6214-AF38-4FA5-BB91-2438F5C532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D62B0-68CA-4500-AC41-80EDBF334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18C3B9-39EC-4774-9AF7-0650E3D26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4FDEB8-A493-4248-AD2D-BAA54E02FE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65FE35-2ADC-4AE2-80AE-11DCAD016A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75FFC8-CD45-4B69-94BE-B252B2391D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44B440-AA4C-41BF-8704-685DA9CBF5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6F43A-8C85-438E-BF7C-ED4E2F03F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5B0A1-C520-4C03-BE6C-045D662A7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BE51C-5A49-453C-8616-22BE2B461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B2B56-CB4C-4DED-B467-CD0E5ECA8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C0A05-5FB8-42A7-A661-C0386B1E4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BE35E-7DC2-4F8B-8375-9D616C9F3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3EFF6-1FF5-4796-91A4-85CBA317E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C31E4-1E40-471C-8AA2-B430C39BB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6E273-98D2-4D9F-B846-558D187B5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102AE-D060-49CE-9AF3-1D9A2B85A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980FE-D08E-426F-87AD-6306A6735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64405A-959E-427A-88D1-2765ACC7CD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67ED7-7423-4F2E-B52E-ADD54235D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30DF4-D711-47CD-AA1F-19893F5E6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57E62-155E-4E47-8137-404798B40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B41C65-010D-4ECF-9D02-5CCA65F17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12877-878C-4EFA-975A-F811A6524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1DEEA-CACA-41AC-A488-5C4547856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0D62A-B249-4641-A651-896CD04C3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5C1AC-EEA7-442D-98D0-A9E573AF4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08A2B-82E1-40F3-B670-AA17242F3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A6D36-6505-43B3-9202-BDD01679C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F0F1AE-FF2B-4F03-A320-7F8EA74D60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CBA5A8-FA4C-40E9-9788-6BC65E843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C7AFEC2-7352-48B9-BA40-F5099CCB6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6C7078-F0AB-4E0D-B4EB-7378EB891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024CE6-0A5B-4330-8789-C5BC9C389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7F2B-391E-4229-8A00-A9C48435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E1AE89-A118-4D5C-B2F2-DDE883853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4DED48-193E-4B1F-8AAF-190411658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C24DD3-F5F3-4357-9B00-2227A2C63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D9E0AD-3156-4703-BB52-BC79FA088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D91F21D-4B81-466C-949A-69F4AED11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631991-89BC-49F4-BB62-C3D6B31B0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CA9CA8-182A-44E2-9581-7F423C1C3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FAC88DE-DA7A-4453-9735-3BF71F22C3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56DFA27-51B8-4ADF-B409-5B0865AEEF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53D5FE8-502E-47CE-B9FF-03D3EFBEB3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CEA72-7A13-41ED-94C4-F191C630A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39BB0A-5BB8-4946-AD3C-1FAB86D2B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DD5A87-0BFC-4208-A21E-22523EF90B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B6D0E1-A10F-478D-8CB1-2B801F525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FEC77F-0292-4B68-B64B-BE8AACB3E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559825-9573-4A84-B8D0-6D0DC6D78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302DAA-1F38-42E8-A4F9-D12946605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8F59AF-87AA-41AD-94B6-33645E9B2E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736956-44DC-4816-B014-974C353A0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C00BBA-1D73-4972-A4D4-FF2CC1025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CC1A37-3967-4207-A601-9CD313646F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0836-50C6-44A0-9AD9-566165AA4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D91FA67-16F2-4218-B801-6136DE2F53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3545896-FA34-4B7A-A1BC-896D657592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606CE3E-A95B-4E65-8DFA-59A99AD7F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0BF13F-029B-4AE3-96C6-BC8B6870E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05C4F4-110B-4ABC-B438-2AC8EF4634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C527D2E-CCCC-48A4-9332-E7B89EF60F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A8574C7-BD3C-4059-9A7D-DA0D8F019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B750CC-7703-4F74-B542-52E4F529C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7BB19C-15B5-4E12-8B40-34C99C098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90D7E01-257F-4DF4-BD2D-EA5DD752D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CF830-FD1B-4E2C-B212-238A13978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1A74EBE-164B-46C0-A34C-E58D01C592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D78B958-F504-4E15-A99D-114F235736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2CE9254-3677-493E-A5DC-CE67D010E0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923BB-4EE7-49D1-8EAA-699437AB8B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CFBA6-38F9-48F9-BB84-D5AD2F88B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526BAF-F4A1-4DBB-BF31-C7445FB50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F202DD-2F91-4D62-BF71-FB5E4A3B0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1DCD9-CEB3-41F7-A2B9-C672ECB502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270AB-45C7-4539-A8E6-1B5F5A3AFC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178F8-21B7-4439-8170-9BCC42D65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B966-A091-426F-9185-BFA2F876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558133-0B47-4406-BFC5-B71A64DEA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C695C-88A3-41BF-BD52-F936B6D6F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BF55A-07C7-41C4-BA05-F62740D68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0F15D5-1B73-4105-A15B-761DEFBE75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C5DFAA-120D-4367-A66E-CFF7E67DE2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48C58B-33C8-4D7E-BC43-FB9F87BD9E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04EB7-0716-4530-8EB1-77F2E93D3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60AAA-60F4-45D2-AE14-B45559EC5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36BE6-C3EF-4395-AFD5-4BB0F8635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044D9-0856-4CEC-9B90-A28FE9C6C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4BD67-293A-4AD9-B534-F55B3046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C1D30-8970-4D60-9426-0F5C5EC7B2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4965E-4CC7-46CC-A997-3682E7321D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96C4B-72E0-47C7-B208-33A95E66A6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34092-378C-43CF-8807-3CA0CC50B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668E6-F771-434D-80EE-6D4094C04E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311A54-5723-4597-B645-88EAB192F2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92321B-9D65-46C1-A1E4-7F729215A3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A8DA15-45AA-4CC8-8929-6D42BE3D90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FD4D3-0665-47C2-B607-C54B5C686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37446D-1AE8-465E-8120-4112667E8E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6131-4D63-40C7-A105-264F1F3FEA3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A1F0CD6-AC72-4016-A983-FFC905392FE9}"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B85C-3CC3-4A91-BC18-4E9579DC7CF5}"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8A71-A5C0-4998-9691-E3433A201376}" type="datetime">
              <a:rPr b="0" lang="en-US" sz="1400" spc="-1" strike="noStrike">
                <a:solidFill>
                  <a:srgbClr val="4f271c"/>
                </a:solidFill>
                <a:latin typeface="Tw Cen MT"/>
              </a:rPr>
              <a:t>07/29/26</a:t>
            </a:fld>
            <a:r>
              <a:rPr b="0" lang="en-US" sz="1400" spc="-1" strike="noStrike">
                <a:solidFill>
                  <a:srgbClr val="4f271c"/>
                </a:solidFill>
                <a:latin typeface="Tw Cen MT"/>
              </a:rPr>
              <a:t> </a:t>
            </a:r>
            <a:fld id="{42521088-2C28-4BE0-BAD9-AB1B3A7FF2EE}"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39E1-F318-4F2E-BFEA-8B4538034D0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6268-44FD-409F-9941-0CB7FDFE3AE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2790FEC7-FF41-4001-B3CA-F3A0497D6B4D}"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CB17-24DE-4A13-8E36-6FF6803E780B}"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07A0-B88F-45D2-813F-167BBB0CA70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D11A83C-90E7-42D8-B154-016AFCEEE424}"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7156-4017-498C-AF8D-D375BADA5190}"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7AD7-1E5A-4CF0-84A8-A1ABF4B1A3AB}" type="datetime">
              <a:rPr b="0" lang="en-US" sz="2000" spc="-1" strike="noStrike">
                <a:solidFill>
                  <a:srgbClr val="ffffff"/>
                </a:solidFill>
                <a:latin typeface="Tw Cen MT"/>
              </a:rPr>
              <a:t>07/29/26</a:t>
            </a:fld>
            <a:r>
              <a:rPr b="0" lang="en-US" sz="2000" spc="-1" strike="noStrike">
                <a:solidFill>
                  <a:srgbClr val="ffffff"/>
                </a:solidFill>
                <a:latin typeface="Tw Cen MT"/>
              </a:rPr>
              <a:t> </a:t>
            </a:r>
            <a:fld id="{0BAFFCEE-7365-483E-AAFC-065A83147A53}" type="datetime10">
              <a:rPr b="0" lang="en-US" sz="2000" spc="-1" strike="noStrike">
                <a:solidFill>
                  <a:srgbClr val="ffffff"/>
                </a:solidFill>
                <a:latin typeface="Tw Cen MT"/>
              </a:rPr>
              <a:t>04:12</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FA90-C7CC-4FE1-9022-B235D0CF661C}"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2126-93BE-4CC7-B413-C7A8BF15DDF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41430F2B-11F4-4AE8-9466-6F026135356E}"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866C-0862-4C45-BDC9-555CF245AA6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1A06-2957-43DC-91BB-38851CEAD7F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3C9F329-65CD-4EF2-BE09-F4C9BCA6296A}"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4C64-312D-478B-B02A-ADC94F26ACF4}"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2A6C-97B1-4B5B-BE74-634A703CB09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E10AF5C-7055-4AC7-888D-9311D8E89AEB}"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13EC-59C8-4419-AA68-FAA32740A59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445C-D59C-4237-8DB1-E16A6AFD1BB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694D3374-895E-4824-8464-41C6C33A065F}"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675D-3DF9-4730-BD7B-C7B9032D742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1D53-E4FF-4C8A-A90A-9645E18177A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CF774124-2DA2-4E25-A217-2C6A48BFD531}"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D653-A6B2-47A5-B02F-11C343BD5DF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FA6B-43C2-4802-BC38-3B55A0A59EC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CAB98CC1-0C24-4AD3-8420-E5CA4E21933E}"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608F-7E60-44EA-B437-91C5209240A6}"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24DB-B3A8-45FA-9F86-32ACDA2A467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152A181-7F41-4E8B-9387-57895558E1CC}" type="datetime10">
              <a:rPr b="0" lang="en-US" sz="1400" spc="-1" strike="noStrike">
                <a:solidFill>
                  <a:srgbClr val="4f271c"/>
                </a:solidFill>
                <a:latin typeface="Tw Cen MT"/>
              </a:rPr>
              <a:t>04:12</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4BAD-A88D-4BE6-BA54-849B0B1B258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17AA-6902-40A7-B9EE-2A3A3CFBC82B}"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0671-C63B-49BC-918D-404CF6BBBBC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ACD9-807E-45B3-B6D3-0E96F4C3F44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8BFF-8B69-4E73-97EE-909B490DE4E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3EDF-AFC2-44F2-8AA1-176A8CB83F6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DE44-F9FD-4972-8A7B-2F1EAC98FA68}"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69EB-E127-4E5F-92BF-E93DCF9B960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F9E8-6D85-4A0C-956E-F343B55839C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BECB-23E3-4D94-98B1-18BA41645E8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C7EC-A4A3-4DA2-80F0-5D777E500BD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7BBF-E9A2-463F-80D5-24C06310835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B5D1-B159-474E-A05A-85AE37D6554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46C8-A910-4358-B2A8-1AA63AA753D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C388-5D42-4DFF-A7A4-877C811252F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