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1D1C-85DC-46ED-B1AD-3B27886048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495F-D694-4F6B-B9A4-0187F555B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3A669-F2DA-4F90-A0A7-BE153BC16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E22C2-FFF5-47CF-B4EC-E2152FB6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6926F-929A-4263-B79C-53F7A9C8C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A11B4-8AE3-4120-974C-AC9EDFE87C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782FE-AF70-40F7-9A66-45E15F760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B4899-8835-416E-B2B9-E4DF874A2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01E938-41EF-4961-B490-CEA177E42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B0729-440E-4515-BE91-7B00B0010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E2378-7C39-4F8A-BCAE-B5109C1F9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C89740-30A7-4BF8-BA81-B628923C63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38B74-6CC6-4145-833A-DE6C558A4D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4CF1464-7000-4254-A019-AB136E77B1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BDE31-C874-4664-B68A-7C7D27667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8BD37EF-C0A7-4D77-AF73-B946F355EE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94E6E6F-1634-451C-B485-983DA6C86F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64ED635-B0E0-4D64-8E14-C1157E9F27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13753D4-031B-4785-AE54-3D5D08C651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2E6B0DC-6AE6-4C3A-870E-6B649E2A6E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746BA41-82A3-4C74-A589-4F16EE7532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F1AFD3C-2F30-488D-BE31-633C01DDB6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349F7E9-3702-45F5-AD85-8AEC9DAD5B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F919672-7E75-4EF9-A49B-603FCC18F5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AE4D860-3F7D-42D3-86BA-1C718CE7BF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2F28C-B9D0-4819-8D71-859534F3D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861A613-6530-4AE1-B3A8-BBBEC94295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DA9824-037E-4E49-B804-B4C1D2339A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EDE166-2139-403D-99BC-9442855972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D4122A-4786-47A1-ACC4-582E095CAD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9445C2-001F-49D3-AF97-6803CED971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CD15E9-2482-43AD-B68A-E29E09B663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9B38AE-C512-4371-827A-565C9EDF0F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25DBC-32E2-4F0F-8FC2-F7454E9DA3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9E8735-1E12-4FFA-9004-B85DA30C5E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028917-E921-48FA-9893-CAE1C9D544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8A431-C6AA-4295-A7AB-43FDE053B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64C142-9008-4697-99B7-15EFA05A9C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ACEBD5-D059-4EC8-A644-765D899600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22346F-35C2-468A-A0A4-C41B3D335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2A47BC-73EC-49D8-9C6A-BC8F4DA465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040A56-0883-49F3-ABC9-9FFA945D79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1CDACD-0EA1-4B06-8B87-05B5C48978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03AC8D-14D5-430C-98B3-0D334D80DC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AF2381-52CA-4BA9-9B54-09EBCEE84E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1EF55D-2654-4344-9D99-83653669A8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4235D4-79F2-47FD-B6F8-4EE3441B0A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4CFBA-B2C9-4562-AF3C-3B273BFCA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CEE908-DA5A-4C6D-98AF-D9637938E3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B1A77B-CC6C-4B74-A784-6D0D7552C4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D8BB1E-B022-4D02-BD11-4FB0CEE619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57E420-A7BC-4E82-B0AF-B70CA158A1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F92439-65B1-4C9A-9B4F-683F55C0F9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151A0-3174-4918-9C1E-1D802EF3C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6E033-A81A-4DCF-89D0-77D096C43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2F89B-1705-4848-BCE8-92A447B98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45CC5-9E83-4927-B16C-58CAE9C7F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4BF65-6DF7-439E-A37D-27E7FF601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7C14-94A4-46CF-B45D-1172EFC6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9C831-79EB-4180-8BB8-FA39E4E6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434B9-3D0B-4B6B-93DD-42175BAE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A657E-424E-4D92-96C8-58AE7EFF0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A843D-E676-4BC4-825C-9BCECA4FB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3ACDF-F00A-4DCC-9CEF-B6DE1A46B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597B8-B858-4516-AB22-71740088DE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479AB-96AB-440C-98B7-40CEDD2F7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55B36-A697-4F31-B427-2CA11201E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F0D49-C3E1-402A-8A98-776172817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3BEF8-BF27-4ED1-B2CB-95EF51997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F630-2057-457A-AD04-7C36CD33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45515-3B38-4CA3-8715-47633BB0B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AA417-DB8B-41CB-B78E-666A6E2F2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28451-C693-4F67-880C-C8755967A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0539F-B071-4ABD-A9DB-02A2C72E6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2F412-672B-4D16-B29D-34F310F6B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B858F5-014A-4465-AEEB-51EFAB91B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E66192-3DF3-4124-AB09-10449995A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DA9102-B7DE-4A4D-A8DE-6638E3AD4D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193924-44F4-419F-A1A1-EA29FB339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33AE5A-893D-4B89-AC9F-0E4AAB887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84B1-13FB-4B68-8347-F3CCB076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DA024F-4B7E-462E-B85F-3037AA0F8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8875FD-7289-44DF-9766-DD3674F3A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FCBA382-F89B-4599-9A6C-05940F3C2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2565FE-B9CA-45AB-B924-3552D8A79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1AEBE3-AFEA-466C-A15A-B7F6F3213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003592-691D-4A40-913A-5CB9CDDB9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FFA904-A127-4159-A775-4CEE1A37B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67755A1-5AEA-48DB-9E6D-B85EB618E2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B73349-D4CC-4A7D-9153-0326C14EDB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FC1C7D-C96A-423B-9FA8-E562049EEF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5A1F-FD42-4B22-9E4C-B24E535F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8A86E4-F392-4E1B-9A9A-3210193FE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12256C-A617-40EB-A405-6E3941F206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CC6C8D-959F-4972-8DDA-80E477A6C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EDF48F-2E8D-462E-A973-88370186C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8140ED-AB9D-42B9-A01D-F62CBCEE4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D233E0-90BE-4A2A-BF12-399ABEFF2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0A1FEE-ECDB-4850-AA10-34559F95E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83B158-F9D6-4DA8-BEE4-E68A458FD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7BC071-E47D-4916-AADE-774AE8ECF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484EC44-DFE5-47EB-BE2F-76148A1268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0FDF-08CE-474B-A013-2CE6A5DE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EFB61B-DBAC-4736-A221-E022A19B51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2C67C19-707E-4C95-A18C-A085A39295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B99E890-64B7-4B7F-914A-1436EB0F4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53A1563-48C6-4B05-8CF6-27C134C46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99B9FB-E791-42F9-8BEA-29E9408286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571BED-D9DC-4BF2-804E-1CBC44752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163023-7AD6-4D44-A695-9AD1E92B2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FB8447-3F96-4043-8827-EA3066168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CF0255-4415-4F8E-92DC-4A8D88DAA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267C45-6763-4E0A-8E1C-16B094C65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429E-D287-42BF-939A-3470571BE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DDA7CD0-26A8-46BB-9404-807879F8F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75726D9-BD35-4E64-B4D1-9ED22FAC31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C9524F4-C8B1-4204-9E82-62B5C9CE0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599C53-197D-44DF-99EC-AB3D2C9FC2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B43C6-0D4C-4B82-9480-4BC15DAEF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35EC5-977E-46CB-8A25-502BC5CB14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B04540-810D-4289-A452-9C6E8CB662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8E000-2B8C-4E15-848F-112B9CCF0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83882-19BB-4CA5-A8AD-D5B32C980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4E31C-CF30-4602-A99D-90AA78A71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450FE-BBAD-4DE4-AB9E-CEC823C4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638C0-F636-4F02-8720-FE38EC87E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A71FC-97D7-4921-9740-A36D189D0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018D9-9DA3-4AF5-8848-CA413E24A9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98496E-EC4D-45FD-AB51-43F6B0B100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1805BD-C2CC-4A30-B81E-765D681962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6E2468-1089-4D40-BE68-35817E0C85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2D334-032C-49C7-AEB2-44357E5C1C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41203B-153E-4C1A-A4F3-2F672E5C68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7034E-FFD7-4E15-806B-E22C87679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B38EF-F894-47D4-A85F-53417AEAB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F204-73F0-4BB4-BBF8-23128B18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CE00E-6FE3-44FA-8FF0-50B0C06C4A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798B5-F375-462E-ABB8-BF9D608AA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8FC79-5CC5-473E-8BC7-6E56E44C3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CF520-24A9-4FE3-BB59-744BA6484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6F2CD-07A2-4B33-AA87-2FCA87493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6673C-2BE7-49E0-BBA6-2EF9802FDB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E5E7A7-D936-4CFC-AE0A-C291F7A70C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56CAC7-2EA0-4DC3-88D9-51C2A2BA3A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316FE-AF14-4DF1-BB9B-8FAA93467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283B2-4CC0-475E-B627-379F98855D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75C5-9C5B-4888-B1E9-1322C2F9060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9361E3D-2179-42E0-A25E-76C163423222}"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9B91-6CAC-4774-8D26-59AA967521DF}"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DAFC-F823-4C92-900D-C880D73E2CF3}"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D1597FF-C9AD-4CF3-8E27-55D0AB0034FB}"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E894-633E-4CF1-8625-D9AE25E6E702}"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2053-6961-4459-B590-B103CA187628}"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82873AA-9A61-4BCB-A9B8-FD3686D77892}"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9C67-C57B-4C25-AD16-60AB1CCD22C8}"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65AF-DAB9-4DB9-8CB6-FCACD4EA8DB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D5C3DB3-4559-43B3-8D8C-613DF217A723}"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04CE-77FA-4113-9D39-29988DF6C0BC}"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8AF5-C520-4B53-8FC0-584529B6D502}" type="datetime">
              <a:rPr b="0" lang="en-US" sz="2000" spc="-1" strike="noStrike">
                <a:solidFill>
                  <a:srgbClr val="ffffff"/>
                </a:solidFill>
                <a:latin typeface="Tw Cen MT"/>
              </a:rPr>
              <a:t>07/30/26</a:t>
            </a:fld>
            <a:r>
              <a:rPr b="0" lang="en-US" sz="2000" spc="-1" strike="noStrike">
                <a:solidFill>
                  <a:srgbClr val="ffffff"/>
                </a:solidFill>
                <a:latin typeface="Tw Cen MT"/>
              </a:rPr>
              <a:t> </a:t>
            </a:r>
            <a:fld id="{54BC3C4C-2876-4DEB-A341-C71BE520D4A0}" type="datetime10">
              <a:rPr b="0" lang="en-US" sz="2000" spc="-1" strike="noStrike">
                <a:solidFill>
                  <a:srgbClr val="ffffff"/>
                </a:solidFill>
                <a:latin typeface="Tw Cen MT"/>
              </a:rPr>
              <a:t>16:29</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32CE-676B-400C-BF5D-1DB795426EB6}"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DF3C-FC0C-45C5-93C2-35392CC6053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8C898B6-6572-423D-AB46-879B7CE63DF4}"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48EA-C62D-4A40-979E-CC7375D7E2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9A9B-32A8-4C4D-811C-75C1170E9EC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A3B49A6-7736-4246-86E8-06FFCA3A1202}"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16A5-713A-4390-AE26-F214FFFFB85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8CD6-DBDB-4F22-A2FB-B4CBDCAD706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1E15F5B-E9E4-42E1-A98D-FA53BBFA20AC}"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9FD5-3A97-4934-A7FC-EB44E860340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A978-984F-4184-A046-C01733132F78}"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6BE4913-AEC1-48F8-B089-6B34CC949393}"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DC57-E7D6-4197-9B53-252623871E1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D263-92D7-45C5-BC03-FB841C9C78B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1201E4A-0323-4FDC-9648-E0ED0B51567E}"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78DE-C15F-4AB7-863B-23F199D46B9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ACDD-B5D5-4CAD-9475-7E7B926D4D7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7C339A8-2884-433A-BBC1-81920CFE2776}"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CFD6-1993-4688-B44E-2C6A7339888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9A0B-D59D-469C-B8BE-0D3064F612F3}"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177E7C0-A660-488D-9375-C640871ADCFF}" type="datetime10">
              <a:rPr b="0" lang="en-US" sz="1400" spc="-1" strike="noStrike">
                <a:solidFill>
                  <a:srgbClr val="4f271c"/>
                </a:solidFill>
                <a:latin typeface="Tw Cen MT"/>
              </a:rPr>
              <a:t>16:29</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52BB-71CF-4A5F-AF03-822E25CF6FC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B889-0F27-4336-A047-CE7C75388240}"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7125-376D-4D30-9E97-D6F7AE1A767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407D-9767-48CA-BACD-0E18A9658A4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E5BE-7F82-4EEF-A4C1-AFAC79D91E2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9BA7-BF39-4210-ACA8-943AAA6DD5A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8CE0-9F13-46BC-8B3D-3147E7ED8932}"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2FC1-1CB4-4277-97E4-4D4D35DB3A6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510C-06DC-4E1A-AC79-291B4E9E8BA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792E-65FB-4C05-AE4A-64A5BAA3A0F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8D7D-D622-4718-A0B0-F9EF235086E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4E7D-7DAC-4205-BC69-9B8B98A4574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5992-1091-415F-8ACF-1BEEF0A2F1F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D77A-10AE-4BF7-B1EE-D5C91D6DC81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4750-C5D2-4980-8F03-D278EEF922E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