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43A4-9487-4010-A952-5D64DF013A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BF27-A3CF-4AC8-907C-73B3F838A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383FF-1335-41A1-BE15-B2045FB25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73982-A2BA-4E51-8FA5-39203047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A3BF94-FA47-4533-A85F-26DD05CBCD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73BB82-A52A-417F-B6FF-6E678F41A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79C065-2F65-4D65-A341-47EBDD639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244C0-C9C6-4931-9513-F0148CF3B4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79197-58A8-4364-BA56-ABC3EE598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5A2D7C-BFD5-41F1-BDAB-37527CDB4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2C37D5-4890-4D28-81BB-1B88A907D4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677B9E-9C65-4478-8DB1-1B5078AFFB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6B15BB-EC5C-4FD7-AB26-D6003FEBA9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81D81AC-40AE-41C3-8E4E-12337C43FE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275AC-07AC-461A-8E94-DE4998F35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C3BE308-0415-4D01-B0D8-430672279B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4053E95-57F5-4A15-843F-1AA2F967E0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2D970E7D-65B2-491B-9F2F-4FC5499487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7C3CF68-8A00-4164-96CE-A1555CC0A6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E770B74-9712-4CB9-BE1C-BBA0EEF69E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1F89852-892C-4047-AAB0-9FED691E5B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4C164C0-8FB4-4332-800F-DDA3962581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C25C4FF-9866-4854-B3BE-37EB91D102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DA52C4B-CD13-4514-AF11-9F1213F96E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241D91D-EA1F-49E4-9FEA-69B32E744E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52B78-36AA-4955-9F42-8F0572713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4E1CE8AC-A1EB-453E-8CA0-6FC1400D9D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C4CFD4-9EFA-4BD4-A0DF-5C2AD321AF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EAE445-42E2-4245-B8E3-BEC9013F3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DD2CE3-D2B4-472F-8BA3-6B27EA6C1C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1D605B-2706-4343-8997-58504AD34E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104533-BA30-4FBD-8558-75736C696B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EBACAD-AD77-40C3-9D57-3CEA4C329B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1DE564-5A67-4B56-8E3F-9CC38B70C4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51B69-C670-4B55-A3E1-723074BF04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3966F5-5300-4FCC-919B-7093E9CA36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485C1-6B6E-489F-9300-5733F9EE4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284F0C-F9B7-455E-9A04-8FD69ABD0E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CAA095-D163-4FCF-A37D-027FD84C18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290BEA-44EB-4030-BE1F-3354CEC9E4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A616E4-8D63-4143-9C71-08D892C60C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FFCB08-5DC4-4C59-9F5C-63DF854327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017583-8287-43C8-9953-EF8896979F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19300B-5B45-4A4C-8DCF-29C86DDDD8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4A4D4F-25A3-444C-8BB1-3CD9E0A2B9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36723A-B4E3-4F2D-9ACE-40009FD432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9FEA8B-84C8-4CE6-9A2E-8F3B4327DF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CB397-3782-4327-8767-6BB9C7237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10DE8D-7482-489B-8605-86A940E054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2EFB2F-AB7E-4F2D-95CD-561F3EC530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D919A2-6B48-4B49-8D79-C02582D027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7D5AD4-30BA-4A29-8D55-7063E8AFD2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633F8C9-4EAC-4C72-8036-33A8186E1E7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0834E-862B-49B7-B54C-1EA69CF65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A57CA-BD28-4295-80D6-BE9A6BA51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0A7A7-0D34-4EBB-A6C8-F0AF01073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C2835-97BF-426C-A55F-3691A92CA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D9D96-584D-4164-9D57-24EF656D3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EADDF-1D39-490E-B399-2F6E82EB1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5D9F-A9A5-441C-9275-3B39CE923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10399-8A85-4BA4-9B75-E786DFD9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83A6B-5728-4711-95E8-A3B26017B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E0FA8-04B4-4367-9ED4-E526C2EA1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7DA79-A0E7-4942-A509-20753EFC5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B51FF-184E-40BB-99E0-EC96833BC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D1324-D516-47A0-814D-59181ABA7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7482F-F604-43FB-91F6-4F58B627B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5F5FE-A9D0-4554-B69F-0FBA7DCE02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5D94C-0205-445E-A849-DD733E575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63F8-95D6-4044-AACB-FCC774DC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E1C9A7-0FAB-4D6D-9C93-FDFA20724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2C0A9-3D53-4289-BFCE-B1AF56637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DAC72-1AFE-4466-B17C-45849406A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F49BF-FC34-46BE-8C9B-A731675D1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1F2DA-E471-42C8-B760-0C8160324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A878E8-36AC-4657-A388-DA540CC155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A09CF-3497-41AC-8D3C-D9E40CF795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9F36C20-9F9E-4B23-98A9-937472B839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BB1E2F-B8FD-406E-A5C5-FF9EC1F1B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6B1072-BF96-4E98-816E-96771D921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CFC5-F039-419B-B428-7175E4A3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CE8F1F-A653-48CD-8300-D0452EAA4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1AAD324-CBA0-4BF0-814B-E54F5B3E2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D23507-2A8D-4922-A4EF-283E9E5D9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30E1FA-B1A2-489B-BEAF-D5B4F704E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B9F821-DA69-4AC9-B8A0-7AEC9F853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D51F4C-43A4-4938-9822-7EBD8289F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9BACCB-2673-4E88-A8C0-85749BDCC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34F1F5-FC0C-40A1-8987-13EC6909D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68A3A6-9EAE-4772-9D11-5A6C149C5C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5EE065-FE56-474B-8E9B-82901DE33F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947F-F65A-4B15-88D9-9091504BD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62AE7A-4F82-45C3-B597-4058985D9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C6D0F5-44F2-49F4-80A2-21E8D619A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7AC2F2-83C8-4620-BB16-FE5325F01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4B0FFF-EAC5-4EC8-9B1B-0995CB292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2DA31A-2E68-48FA-8C85-8F93E2098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1E32F9-DD0F-40BB-8E7F-0732C9209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D49E5E-2890-426A-BCE6-6FBA43846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349F6F-0E1F-49DB-8684-5F01DB64A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8518E8-748A-4646-9373-649D6632F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D8AADD-A997-4AEB-8DA7-4E2EDCAC8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A22D-A510-4DCF-9BD4-D743FDCCF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B65671-3CC3-45C8-8DC6-3D72D62656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239D529-128F-474D-A479-FC1CF69B07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C29749-A33A-4535-A887-A7912CAD2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7A1FB92-4C15-4CF9-9F95-E3E86AF0D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D16B2E-78F4-4227-B9B3-64BAEB9F9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F29AAA-F0B9-43B5-AFEF-0805F1EA7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9AD8D72-13C1-495B-837A-D7B4F4472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27F6C3-518E-468D-94E1-0173D625A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1FD148-1DF0-4D2E-B545-AC5E4E33A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78246F-DC6A-470F-BA8C-188472D87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C7E92-205C-49CD-BA3C-865C02F7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5DCB98-626A-45AC-8CE0-C7BE5AC70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A27F71-02E0-4E8C-A6D3-DFD1413F8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4395CFF-1239-4700-BBD3-21FC0D2559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B445D6-A602-4EF3-A2F5-687956498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377B5-FD53-4B85-97F1-6CFEEE62D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96CC8-DF27-4E19-9D68-AC6289E78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15CF1-6EBB-446F-B0E7-EEA8B2FA3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14347-1C6B-4BA0-B15F-11660A837D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6A30D4-C97D-4FE3-85D7-D24458C44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13712-E6DF-4C1E-8D4D-835C4402C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C839-F5F7-4CC1-8881-5FDEBAFD3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637FD-1752-49A3-890C-73CF9B1F9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DE3327-B64E-48CA-B86F-FE571D1E6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82C0A-7B1D-48CC-8B5C-D8C47875D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649EFD-8C09-4ABA-B6DF-AA67860E8E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164B43-2813-4F8C-A91B-7853A7DF5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5A756E-3C04-4786-8C44-4515063BC8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E67484-6194-4C1A-B4B5-84E4F1EE8E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DEB8C6-D99E-4B75-99FE-D7E2E5B8B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EC6F1-FACF-4D06-97FD-0D1DFBE820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99AA1-D70D-42BC-A515-2A45A7AFD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350FA-E262-4F88-9C60-AB7D8EE8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E6C32-BB7B-4340-A33B-0A033E099D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7C1AF-2BD0-4BEE-9658-419F691B7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4ECAF-F9DF-4C56-9397-768532400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1375D-0BCC-47B5-8C85-71C091028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31B15-DF71-4A52-9D74-5AB02B19D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D97ACE-33F5-4A14-8374-2BBDBE13D6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4B604E-8EB3-469C-A4D9-A85E433BA6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BC5865-4BDC-4671-805F-CA2C85AC4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88976B-E94E-437C-803D-DC405F302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F13A6-6EE7-4C59-AA6F-5322D769CA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4F30-6109-4B16-AFB7-7ED4844F947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CB07C76-9B4F-49B6-A04A-232BCE53B923}"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F039-AB9E-48CB-A446-4E55DC990B63}"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E7B7-D212-471E-95DE-B260B5BADFB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1C9DF710-B8F9-45B0-814F-BBBE14ED22DF}"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1C88-5C19-46BB-BDD8-082C2F07133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0F3C-82E8-4120-A697-4E03A6A4383E}" type="datetime">
              <a:rPr b="0" lang="en-US" sz="1400" spc="-1" strike="noStrike">
                <a:solidFill>
                  <a:srgbClr val="4f271c"/>
                </a:solidFill>
                <a:latin typeface="Tw Cen MT"/>
              </a:rPr>
              <a:t>07/29/26</a:t>
            </a:fld>
            <a:r>
              <a:rPr b="0" lang="en-US" sz="1400" spc="-1" strike="noStrike">
                <a:solidFill>
                  <a:srgbClr val="4f271c"/>
                </a:solidFill>
                <a:latin typeface="Tw Cen MT"/>
              </a:rPr>
              <a:t> </a:t>
            </a:r>
            <a:fld id="{FDC6D14C-F9B3-4CC4-BEA2-3290995C2BE4}"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2020-5799-4F87-8EA2-58BF73F59579}"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D59E-3976-45D9-814D-107925C4E19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1623041-2455-44E2-AEEC-2960F6D688B8}"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C200-CBE2-44F4-BB10-7E39FBB0A3FA}"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75E0-06F9-4A53-BF04-6A6960CF3A0D}" type="datetime">
              <a:rPr b="0" lang="en-US" sz="2000" spc="-1" strike="noStrike">
                <a:solidFill>
                  <a:srgbClr val="ffffff"/>
                </a:solidFill>
                <a:latin typeface="Tw Cen MT"/>
              </a:rPr>
              <a:t>07/29/26</a:t>
            </a:fld>
            <a:r>
              <a:rPr b="0" lang="en-US" sz="2000" spc="-1" strike="noStrike">
                <a:solidFill>
                  <a:srgbClr val="ffffff"/>
                </a:solidFill>
                <a:latin typeface="Tw Cen MT"/>
              </a:rPr>
              <a:t> </a:t>
            </a:r>
            <a:fld id="{1E6449B9-4A11-414F-BC3F-DDF1F152C41F}" type="datetime10">
              <a:rPr b="0" lang="en-US" sz="2000" spc="-1" strike="noStrike">
                <a:solidFill>
                  <a:srgbClr val="ffffff"/>
                </a:solidFill>
                <a:latin typeface="Tw Cen MT"/>
              </a:rPr>
              <a:t>04:23</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6B6D-8C0B-499F-9814-F3497D818CFE}"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0299-B4BA-4181-9F90-1F9FCCC16A5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5F9AD0F-3C57-459E-93A4-ACF7DEA8B72F}"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629B-B430-4666-B417-9EACA22C4F2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8AC7-074B-4A2D-93A1-A225ADB24AE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76A8B51-7182-419D-98B4-FD4C2D498CC4}"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CB6D-C137-4D43-855F-A93FC1E8B93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A7EF-28C5-4121-9CF3-9E2EB940DD5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D9C68CDB-0A1A-4365-8755-E4C9DB457EE3}"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FE60-20DB-4081-B640-4A148715593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A6C9-4DC7-45F2-9621-B35D82CC670E}"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2FD52CD-EB0A-4A6F-9655-2D92DA4CEA2C}"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24E9-F467-4902-941F-58A8B3A18E6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7786-EBA8-4D14-96A0-32D3656E5C2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D892BCE-7858-4635-882A-7CAA7C69C9BA}"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8F8E-9A13-4C0D-9540-04711F552BB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511F-6AE4-4AF6-A7E9-04F31B77DF3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CD489E2-C35A-4225-ABCB-BAF8BBF2A3BF}"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ABAA-240F-4A76-995B-4BBB9F4BBBFE}"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F8F2-A201-449D-AA35-89C18E1F959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F6CD738-7B3A-454C-BA1C-8CB16D5F3C8D}" type="datetime10">
              <a:rPr b="0" lang="en-US" sz="1400" spc="-1" strike="noStrike">
                <a:solidFill>
                  <a:srgbClr val="4f271c"/>
                </a:solidFill>
                <a:latin typeface="Tw Cen MT"/>
              </a:rPr>
              <a:t>04:23</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C82F-5E5E-463D-B603-4080DAF455E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2F45-D819-4CFA-9822-0D500E8DDD91}"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B0A9-8416-47BC-A688-EFABFFC6320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6294-3DBF-40D9-8847-B301643F0C9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63FC-2C34-4D35-8418-1E902A5FC04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FF79-C126-401D-A73F-A50BBECECE4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CCEC-5F09-45DC-9856-5FA92B0EC6E6}"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FD0-61FD-47FA-9B37-5CC6D24D1A1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5F3F-6444-4AFA-BAB5-CD661DF6D17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E77A-907B-4DDD-9856-1A23D9C3608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C0B8-5E02-4D24-B7C5-EB78A9A8FDB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481C-3D78-4C4D-A796-15B1ACCC3F6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A234-E67F-4E91-9861-D4777B67F5B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6615-4523-46D5-9495-E05C98600A0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2DAD-570A-426A-8F37-31CEE2D2812E}"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