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3D41-FEE4-4CEC-A434-25CF9C801B6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DC42-766B-4716-A90F-869B0AAC9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DBA0F-934A-4510-AED8-FEAEE0773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94A95-0BB2-4A73-87B2-3BD76DCBB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F83F88-4CCF-488F-8191-13F314AC53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9CEB25-9A0F-486E-9E54-9ACE0C037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9AACC2-7E07-44F7-B15A-3A36B3775B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74D223-F590-4204-A1C1-E7F4FEA1D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F4D218-937E-4DD9-9AC0-3706C90D48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7A2BE9-C89B-4A63-A5A7-13B7A8F0D9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7CAA01-47CC-4D71-9621-649B5FE1EA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912D68-2214-4BBD-88B3-0587FEDFA6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4D466D-8AA1-4293-A65A-1EA504D467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B60EAFE-7075-4AC6-A4A7-B722C96C06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51B34-3125-413E-A528-AB75875D8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E2F640B-AC78-42CD-8AB2-84F6E707AB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5AFEFA1-6222-4CA4-A993-AF9A9B513A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388E65D-2245-4A10-B839-3311D32CCB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21C981D-9E28-41E2-968A-09D159DDE8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1044362-375C-4195-8F73-E8AB877C8B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C19FF6E-55C5-44CA-BBF6-7CB4BB55D6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66144B0-7F35-4C02-88F2-A7BBAD03B6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807A86D-FD29-4561-8CF3-4B5760537E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0900402-29D3-48EA-AB5C-8BC610471D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0BB251C-9E8D-4BF2-A67F-38A06973B3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D9455-4B60-4E62-8428-C243A396B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C0F2123C-D308-4110-B24B-9541D8BABB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971B0C-C091-4BA9-8C5E-3488389994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793D67-D40A-4B1E-BDBF-CBAC34D9D0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3D8A7B-0EEF-4ED4-918A-43B07101E6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8BAFE6-2300-418E-B3E7-3B8C8D43E1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0E2513-A095-4B9D-B326-0350B77CC4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519705-592A-40BD-B791-381FADF953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C9285B-9A86-4313-B945-22E2C74331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FE918C-4CF8-4430-A7A1-F721DC17C2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727F00-731B-4E07-AF61-20A19E7CF2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5CC63-CC7B-4310-ABF6-08CF840A3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C9B4AE-4852-4626-8BD5-FE8BE8FE21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DD4A52-8CD7-4CE8-952F-2A8FC34C0D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DE9FE7-FA40-47F1-911A-920F6FFED7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A226C1-D319-4259-ABE1-DA16B3B566D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D23D72-5AE3-405D-B45E-97BC3D588F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088E32-1DDA-49C8-A523-F66D46D718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93EDA2-2CB3-46FD-A6A1-9510D2CD2D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686645-F214-4C07-A515-61EA9E0C53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5E06B4-4BE7-4F66-ACFF-602C168351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892703-DB65-49A1-BB0B-0CD1FE4995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9A94B-0B01-422B-BCE1-3E44762D7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37E379-C4C2-4F5A-9D93-F62666148F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C58E0C-6262-4484-A501-2EB113D36F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36ECDC-A896-47AE-9898-B094A3BE55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4492FD-8A3B-4DC6-A68E-C5B50B08A8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BF1CDB-FBF3-433B-A04D-4B9B1FDA78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3FE69-926C-40CC-A287-598F3BB9C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A1E3A-9524-43BC-9439-BE08B512A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E00E9-ABF4-44CB-811F-6581FFB51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15321-2A63-4D0C-82D1-D322810F4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D8166-61AD-4F8E-94B2-FFFF63BA4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2A854-1B22-404A-923E-AA9F2099A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2E43C-DF3B-4790-B443-7ADD2BD9E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82683-CAE9-4BAD-B732-BFE58BF33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96D82-6404-4A82-802A-ED9B6D700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6817C-0A86-4760-8AA2-CB8C660FE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2B306-1967-48D9-8406-9780582E1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86E6DE-58A7-46AF-BACE-DBE049D019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ED97DA-1752-4213-9BE3-FBE109C43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1C17C-6C23-4049-AFF9-435038DF5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44E05-65D5-498E-BD30-085A22BF2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70A89-DE29-4B80-A938-6D20957FD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DC919-A75F-4A8E-80D7-10F811C81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FFD9A-12C7-4957-8246-11881D375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2C1B7-C7C0-44A6-9068-16D3A9FFD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97E11-9B6E-4AB2-B91F-510896401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D0789-4E8F-4A34-BC81-BC0D3221A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235DA2-6B1D-40EB-8E9D-656722790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6B4AA9-5CAE-4F78-A530-158FC247E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E36A12-3074-4FA4-B794-82B9C1781B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81E6F1B-8044-4263-A01A-167B457FF4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3AB6A8-DF38-4D3C-84B9-695A33474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FF2257-1881-4373-ACF1-0A40BA2D5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B76DB-26E9-4899-8196-4EC41DFCE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34D5F9-11DB-4C5B-8DA7-58AC28E2E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2DD7D6-C50B-4C88-A8B5-CA448DBE8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E242DF7-2881-4AD3-9A46-5F0CDBD3E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B7938C-0931-4C78-B908-A6603EB07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6C6A5B-5643-4E84-B336-71F50B43C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F4FE80-A951-4746-8107-56E4D4642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BEA7F8-EFCC-4A56-9145-2D178219DF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AA7353C-50CB-4F62-990C-E01671FCB5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7BEF511-336C-463D-B11A-630711907C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791E292-2513-453E-B0DD-249B625A43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DD92D-BE38-42F1-A15B-EA462A587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404997-E78F-4EB6-B635-FC9796A82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319735-D97D-4462-82CE-1E2D03D62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6A9D25-5A60-4985-BC45-35CE364818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5E4FFA-EC22-4F19-962F-DAECF77C5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763753-47D9-4057-AF4A-646368876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90DDE2-5F34-4DF5-A742-4FC3B4206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9A6741-36D7-4E0F-86DC-0A41F57FC3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7BBFD5-0693-4F93-9757-3C179DA01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D4F61D-F16B-43AC-8686-9F01D7F8F3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67B9CE-4D1F-463F-A438-8ABBC7BC87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C890E-1FCE-4813-B6C1-151CB5004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DAF271A-F941-4EE8-A850-21CB06FCB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9F4EF6D-2EED-43FF-8E66-9F03FD2350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90867AA-2A19-461B-87F0-D08CE78A6C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0C9AC48-0C1C-48FD-B20C-766AC4209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7FE273-1A9E-4345-BF6A-11B720AB5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096780F-B842-4748-A58C-8C27E091C3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C931A28-CE69-412A-B09B-9DC64EE971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CC48E1-5393-41C7-9E75-DB5D030C2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EE64B0-EC98-421A-98D8-F2B755FC6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4BD2014-BF3A-479A-8025-6217516CF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4400B-D602-424F-ACC6-0AFADEBA1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AD23B51-E3D3-4351-8427-7F2E444A6A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E2A6657-381A-4B7B-A777-FE14C76E33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7858364-D190-4E53-BEAD-A30FCD04D7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9EF22A-E38B-4D7D-B6B8-55E2A15B60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1CE561-C19D-4F1B-BE87-24130604D4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3D4DE-0DE0-4764-AF91-D266C35864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A5472F-777E-422C-9707-E18D6EB2FC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558B87-DF96-4224-B1C7-D70958D1E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B5909D-A4AD-45A5-99BC-437B43100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582EA-FC0A-4614-AC81-6050773CBE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5F228-4DD3-485E-BBA2-EC5DAF8A4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FD7C2-C467-4248-BC34-A79F78B5EF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B87086-D150-41FF-9F34-D52B2C8D9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C80D76-A820-41D3-BFD9-0488C2DA6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2465DB-E241-4B27-8E61-62C6D97256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436052-1C5F-4F9E-9468-58035991FA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E9AA55-BD4B-4DCB-96DF-32E4B21973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D90512-4785-4148-BDED-872635B39F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D0BF7F-7B7E-4416-B384-A6C5839F7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EE203E-0113-4D4C-881B-CA4760A7FB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9A0D35-2443-476F-BA3E-632CAB883E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A640-FAB5-492E-9D1D-D7CD7126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73B065-65B1-47EF-9CC0-6E4C95FFFD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58819-0360-48C7-A02B-359466AB4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CF363-9F42-4C27-AA08-A588F46F2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6A7F6-E847-4EEE-BD83-C59695755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C86192-C253-4950-AE46-0376BBCF15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002BCB-3739-4267-BA8F-7042CB8A1C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47CEB4-ABB4-4AC0-994A-252365871D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808F8D-62E0-4F8C-83DA-315B85CB60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2BE292-C602-4528-BB6C-27A38FC8D4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15CB69-1B22-450C-976B-2C5E25BD33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D566-EDF9-4F54-8EC1-45C2903D7DD3}" type="datetime">
              <a:rPr b="0" lang="en-US" sz="1400" spc="-1" strike="noStrike">
                <a:solidFill>
                  <a:srgbClr val="4f271c"/>
                </a:solidFill>
                <a:latin typeface="Tw Cen MT"/>
              </a:rPr>
              <a:t>07/30/26</a:t>
            </a:fld>
            <a:r>
              <a:rPr b="0" lang="en-US" sz="1400" spc="-1" strike="noStrike">
                <a:solidFill>
                  <a:srgbClr val="4f271c"/>
                </a:solidFill>
                <a:latin typeface="Tw Cen MT"/>
              </a:rPr>
              <a:t> </a:t>
            </a:r>
            <a:fld id="{8EAEC684-524E-4C05-B6C8-1219B0CD0615}" type="datetime10">
              <a:rPr b="0" lang="en-US" sz="1400" spc="-1" strike="noStrike">
                <a:solidFill>
                  <a:srgbClr val="4f271c"/>
                </a:solidFill>
                <a:latin typeface="Tw Cen MT"/>
              </a:rPr>
              <a:t>16:2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07E4-898B-460C-8784-6542DB2E0E46}"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97E2-8F73-40BE-AE18-385AAE74BA4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0D103529-49B8-4546-8944-91D2F5CF4AAF}"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AB04-A328-46FE-8340-4558DD38EE6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507F-9841-444C-AC60-5DCB697540F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657D1F52-D9C0-4105-BA66-66C21E29AFCC}"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2E5F-B7D1-4C2C-B097-7544E96CFD4A}"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347D-E718-4EF6-844F-D55A83F21E9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FA02C8F-7D6E-4303-A84F-42A2998147EC}"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7C9E-5934-4453-B2BF-D3AE44DD0DCC}"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AA66-343F-4AB9-92FF-39A62C92BAA4}" type="datetime">
              <a:rPr b="0" lang="en-US" sz="2000" spc="-1" strike="noStrike">
                <a:solidFill>
                  <a:srgbClr val="ffffff"/>
                </a:solidFill>
                <a:latin typeface="Tw Cen MT"/>
              </a:rPr>
              <a:t>07/30/26</a:t>
            </a:fld>
            <a:r>
              <a:rPr b="0" lang="en-US" sz="2000" spc="-1" strike="noStrike">
                <a:solidFill>
                  <a:srgbClr val="ffffff"/>
                </a:solidFill>
                <a:latin typeface="Tw Cen MT"/>
              </a:rPr>
              <a:t> </a:t>
            </a:r>
            <a:fld id="{2E751DAC-C46E-444D-9A1B-12C029AEF4D7}" type="datetime10">
              <a:rPr b="0" lang="en-US" sz="2000" spc="-1" strike="noStrike">
                <a:solidFill>
                  <a:srgbClr val="ffffff"/>
                </a:solidFill>
                <a:latin typeface="Tw Cen MT"/>
              </a:rPr>
              <a:t>16:21</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9A70-F961-4926-8B80-C0E8F184FF4F}"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6EFC-2BE5-4B65-BC99-0F2EEEF0A86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9AFEDA4E-10EC-4671-B0A7-1DEB267E0410}" type="datetime10">
              <a:rPr b="0" lang="en-US" sz="1400" spc="-1" strike="noStrike">
                <a:solidFill>
                  <a:srgbClr val="4f271c"/>
                </a:solidFill>
                <a:latin typeface="Tw Cen MT"/>
              </a:rPr>
              <a:t>16:2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5130-161E-48BF-84D5-3D1A3F6CF12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DEBE-9400-41FC-9C6C-1D2E7B5289C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9210D2CF-763E-437D-B624-D00FD460CFF9}" type="datetime10">
              <a:rPr b="0" lang="en-US" sz="1400" spc="-1" strike="noStrike">
                <a:solidFill>
                  <a:srgbClr val="4f271c"/>
                </a:solidFill>
                <a:latin typeface="Tw Cen MT"/>
              </a:rPr>
              <a:t>16:21</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5FD8-30A7-4235-9880-28B082D9CEA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6150-39F7-4EF6-8245-73D7487C5BA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B16ECA86-16FF-4225-8585-BBA34CA9867C}" type="datetime10">
              <a:rPr b="0" lang="en-US" sz="1400" spc="-1" strike="noStrike">
                <a:solidFill>
                  <a:srgbClr val="4f271c"/>
                </a:solidFill>
                <a:latin typeface="Tw Cen MT"/>
              </a:rPr>
              <a:t>16:21</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53FB-CCEC-40E1-B0DB-04C8E5EC246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639B-A84A-4C84-B420-8A0CDB466B55}" type="datetime">
              <a:rPr b="0" lang="en-US" sz="1400" spc="-1" strike="noStrike">
                <a:solidFill>
                  <a:srgbClr val="4f271c"/>
                </a:solidFill>
                <a:latin typeface="Tw Cen MT"/>
              </a:rPr>
              <a:t>07/30/26</a:t>
            </a:fld>
            <a:r>
              <a:rPr b="0" lang="en-US" sz="1400" spc="-1" strike="noStrike">
                <a:solidFill>
                  <a:srgbClr val="4f271c"/>
                </a:solidFill>
                <a:latin typeface="Tw Cen MT"/>
              </a:rPr>
              <a:t> </a:t>
            </a:r>
            <a:fld id="{746F5A61-B0E3-453E-BDCB-50135CA04DE8}" type="datetime10">
              <a:rPr b="0" lang="en-US" sz="1400" spc="-1" strike="noStrike">
                <a:solidFill>
                  <a:srgbClr val="4f271c"/>
                </a:solidFill>
                <a:latin typeface="Tw Cen MT"/>
              </a:rPr>
              <a:t>16:21</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97A3-B54C-4071-8A50-0B698E9F7F5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F031-B9C3-4F5D-BE82-D3025BEFC56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947088A4-7FAB-4CA9-8351-8CCC8F4D4245}" type="datetime10">
              <a:rPr b="0" lang="en-US" sz="1400" spc="-1" strike="noStrike">
                <a:solidFill>
                  <a:srgbClr val="4f271c"/>
                </a:solidFill>
                <a:latin typeface="Tw Cen MT"/>
              </a:rPr>
              <a:t>16:2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EF42-DFF6-40AA-B00A-5CB04EDB10F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655C-A550-4296-95EA-7B7F7C0F959C}" type="datetime">
              <a:rPr b="0" lang="en-US" sz="1400" spc="-1" strike="noStrike">
                <a:solidFill>
                  <a:srgbClr val="4f271c"/>
                </a:solidFill>
                <a:latin typeface="Tw Cen MT"/>
              </a:rPr>
              <a:t>07/30/26</a:t>
            </a:fld>
            <a:r>
              <a:rPr b="0" lang="en-US" sz="1400" spc="-1" strike="noStrike">
                <a:solidFill>
                  <a:srgbClr val="4f271c"/>
                </a:solidFill>
                <a:latin typeface="Tw Cen MT"/>
              </a:rPr>
              <a:t> </a:t>
            </a:r>
            <a:fld id="{2C45C17D-1571-410B-B599-B7FD95ACD0B2}" type="datetime10">
              <a:rPr b="0" lang="en-US" sz="1400" spc="-1" strike="noStrike">
                <a:solidFill>
                  <a:srgbClr val="4f271c"/>
                </a:solidFill>
                <a:latin typeface="Tw Cen MT"/>
              </a:rPr>
              <a:t>16:21</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75EF-66F0-40A0-9F08-75FE71C90C6F}"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F07A-7130-43C9-A7F2-5460EA3A857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CC245E8-8D39-4148-B50F-B57001519945}" type="datetime10">
              <a:rPr b="0" lang="en-US" sz="1400" spc="-1" strike="noStrike">
                <a:solidFill>
                  <a:srgbClr val="4f271c"/>
                </a:solidFill>
                <a:latin typeface="Tw Cen MT"/>
              </a:rPr>
              <a:t>16:22</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065B-1373-4DD3-A093-75AEF375E59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A7AF-E0D9-417D-823F-DCEEB1F4C18E}"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DCE8-5663-4485-8955-AC601D8B819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A4CF-07BD-44C6-8618-1FDBCA973BD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9DFC-8AB7-47FB-B97D-52A658DB0E6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C381-7174-423A-BB8F-A149E897145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2EAE-F069-4F9E-BDB8-BFC77FC1EC8E}"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7FA1-9609-47CD-9981-CA98CB675FE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C0E6-D256-496C-92C0-EA0DA17516A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B202-C09A-4582-BB8E-E6A43DE3D9E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EBDF-7190-42C3-9CE3-0E1E209F023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F887-0FF5-4245-9BD6-03C2EA352F6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E049-4B9D-44CC-A64E-6B598F82784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1275-8DE8-41A2-9E61-4A4E307B0C4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E385-B53E-4184-A89B-E157686CA38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