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A12E-F143-463C-B214-8B12E4EA46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6969-D421-4548-9549-D600F13C3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B7933-0D7E-4A3D-AC6C-DE120EDB8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7180-6B00-45F8-A167-0AFB7545E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EA8B4-EEE6-49A4-B090-D0D31A4A2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79EB2E-F6E1-41B8-802B-0555DE697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177DF2-EFD5-44A8-9C30-C369A413B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62330-0EE2-4B14-BD30-5493FEE08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648AE-5945-462D-9997-E1C4AAE8E1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27E05-2CAC-48D6-B205-B79D8AD28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A5403A-2375-4AEF-9F5F-E063B98F47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AE261-2064-4424-A8C3-1CF1F114FE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B3B045-2F36-4817-8EF8-5CC29D6F53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8BA567C-3935-4969-AC57-74A3CB3B4A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1727A-DDE7-4479-951E-388BA73A2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4A5D49A-752B-4432-BB2D-36134A85BE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6C351E0-3F1D-459A-8DEF-6B025A2D83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71D0F2B-7DA4-45D3-8E6B-DE26B4B293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2818775-1815-45EB-8C12-429CA33E59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99ED375-5B46-41A4-AD15-351815F209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CB5084A-BB19-479F-A3AA-260CB9BAA8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085D060-90A0-4D30-98C9-97CFD9BE32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1A07653-8DCF-47C4-8DB8-0C5DB93D2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4A3208A-85F2-4F07-BB03-11D48E90B9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C09BEBE-6BAF-440B-B67E-52E0E5D6D7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0053E-906C-4F34-B5FD-64E4073E2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54212AE-2D61-4105-8029-E6D4D0AEE6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6DBE64-209C-4585-8A1C-B1A8C6A777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60B44A-33E3-4F06-BED6-43290C118A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2BB744-5432-451C-85DE-337C101603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996FF4-C18C-4CF3-B99B-4ACAF127B3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6AB000-799C-492B-98C7-AB0E6584AB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53211C-4610-46B9-B9D2-B099BC1F02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CF78BF-76B7-4767-812C-D24B2A5545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C143CD-B420-447A-9259-07D85DD508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33A243-DC41-4621-B87F-1BBC2AB63E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0BFDC-7CEC-4588-A9F3-DC58BE342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8623A2-6C5E-405E-B31C-F391B31BEB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326CAE-B98D-4474-8771-89D42D48F8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4164AD-984C-4B78-8422-55514A515A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496CE6-01DE-4CAA-9FC4-A91A3ED4B6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3441A2-6BBA-4EC9-BFC5-E3B8B351E9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225268-D79B-4C1F-9954-8ED0DCE601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D139B7-C6BE-400F-9F47-C5E293B8AA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4BC064-517D-4AE3-8A0B-24DBB3DC74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87C4E9-42EC-4CF5-8EA2-EFACF6AE0F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014321-A597-485B-BCC0-231F580507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223C5-5168-4E94-B945-0F67F308C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808853-1272-41EE-B6F1-19C322A1D3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8FB916-E920-4885-AA5B-1F7383B905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1BF12D-787B-4784-A3F9-7A5E504B7C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EE8DCE-C1E3-454A-AD7F-5C77432979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4B7F8F-3BFA-4C4B-A459-CDC25CA078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A5A94-4416-4447-A8D1-39423C8A3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8583D-C3B1-4996-BB38-2EF412CA0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F7D8D-7A44-43C3-861C-24103BA62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087C4-3E16-4D20-AA7A-C1B8F8431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8A223-5B6E-447D-A529-A3942512D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2FC7B-1BCB-4337-B319-30ADDAB5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EE15D-6AD5-4F6E-95FE-73FFFC4A2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C758E-7BF5-4D4D-8BF2-280694F03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12E71-FFC8-4443-B1E5-FD26B65EA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53793-E3A6-4F2C-A9F9-A6DD13502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48984-00C5-45E5-8685-CFED4E9AC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40A559-371E-4337-95E3-8A333C7AD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F6003-35D7-4158-8773-93748D78F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0AC8A-05C4-4B36-9ED5-68A32BA0A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EC02E-4FE0-447E-B413-478CB4843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7E81F8-8FBA-4DA8-9C9F-A512890EA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F74D-48D0-45A2-B0AF-2B44BCA29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8D0FE-5571-473F-94CC-F7351B5E2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5827C-1D6E-4DB5-B62A-44BA47625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2123F-BC7B-4A04-9287-C37B1E63D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8FD72-0C23-4168-8625-3E5263CC3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2E479-E87B-4D0D-BF2D-73035D371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F8FCD-9F22-4514-8BA7-96C054A02F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10BA2-141A-4A66-A0CA-EC08C25BD0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879749-B143-4D01-9D33-2990DD4FEC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261A39-85EB-49EE-9A2B-40259A70E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37DEBD-DDA8-449B-B01D-8C685EF87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DEC94-BB89-440D-83E8-9C88CD39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DC0DFB-8362-4B13-8B16-8EE2C7CDBC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9655B2-35A2-41F7-A3D7-7BCA3D620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2A7A5A-179C-4673-8026-58C209E6E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FD39F3-C7A1-47FD-BAED-DA746DA8E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A27AAF-6BA6-4D03-8A62-6900C6B13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1F0B69-BC82-49D9-9753-7D2DEB81E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4746B7-1305-4E15-8EEE-C2FA8770C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80455F5-5B29-4472-B292-4DD0EB57CC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5A9FF8-03AD-4FA6-95E4-B0AABF5664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A3F4694-9E5D-4347-BE84-31ECE5069D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D9C9B-22F5-4FAC-B891-BE0B7791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E641AB-6008-4940-AA9F-F0B0072EB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434596-2028-47AD-9755-904DB7CAE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4CD63D-1EF1-4047-8209-16EA2D5DA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EC1932-C8C6-428B-8316-A3AB0C483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0B873F-846E-46EC-99B2-D2210A426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85A164-DABD-423C-BE9A-00E8C0C28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C5D01B-F900-4A18-B18A-0D9C1755D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60AD6E-86CE-4349-92D8-8147FCB52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E69834-6AB7-48EC-BAE5-6529E717E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783E94-5BF6-43FE-A321-453FA0D66D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35F9D-1125-4E61-A389-17AFCEB62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616509E-23EF-47B3-80F0-E9899E67B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E633976-EE6A-46DA-999A-BF2896EDA2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E20DE8-0963-47E2-8490-9DB78A112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67C1658-5DBE-483F-8787-224990B9A6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63B1A0E-8B3B-4571-A2DF-D05218079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4ADA6C7-D255-4FD0-94B0-4F7865D397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941DA09-58D3-4B10-8DBC-841136A13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A78BF98-FC2E-4270-B9DF-8D3339286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409D59-AE9E-45E9-8CCD-807C5F6FA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396E6C-B8F7-4546-8958-AA76BD659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1FED8-1DAD-4E95-A065-542F0E76C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ADCAE8-5F00-4FE4-A5F0-0B04C9167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2AFCD5D-941D-4B79-A4A2-75EE9357EF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34564A1-D9B7-4786-BE87-7221BC7011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080167-32F1-41B9-97B1-EF0A33218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294D0B-A0F9-4B26-9986-341F5A765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A0E01-7C93-4C4D-A40F-255A0D148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613267-DF6C-4271-910F-4B914F12C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B2F1B-C753-4F42-8B80-C54910634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BF4710-92C5-468F-AA0A-2BF2CC9CD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FA0F8-3628-4A94-BC5F-D177682A7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97D31-0607-4F3E-A796-34FFA4BDD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EA067-B310-4394-A16A-52A6A15D4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70E95-AD7C-46D7-BC00-3773F883F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76255-4D94-4211-AD5B-A1D029316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589D35-DE25-4EB3-AE53-931E3ED188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C3167-B3C5-4D24-97ED-8822E86B45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F8963A-9CE9-47DA-9C0C-BE0263B083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5D7B0-17BF-4D38-8865-608446E0F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82665-1A74-4472-A70A-36296057E7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83ED7-732F-4CC1-9B23-B64195EF2F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465F7-3D02-4C43-8F42-AFA5DD9A7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5C6B-C9C0-45D3-9B6E-E234FEEF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D80F7-37E2-4D53-8637-92F33452C6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7D1E6-F804-49A9-9904-FDEBC0F5A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7D48C-A7A2-4AE9-A7B6-6389338D7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855DC7-ADD1-4881-A733-22AB0491F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E10B2-9774-4216-9CF7-EAAEFCD75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1C0368-4438-4BCF-8AA3-71D332F423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B6A9C8-703D-49B8-889F-23C3C733B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B24AF-B207-4798-88BA-56BE811AC9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C81A74-1D50-475B-B1E0-50FC1541A9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905BB-E8A5-4575-B57F-2DDDD9AD4A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3D27-4523-4C25-969C-EE4B3BCF1BB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5C0ABB0-46D1-4700-97AA-F76D56E56078}"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61C4-52DE-4F1E-9060-F05728CBC4B6}"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0795-F60A-4926-B001-86C7EA7DD9D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512B844-F313-480F-98D8-5491AEF64A12}"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00C7-39DD-4F31-B379-0855EA70115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95FB-D539-45CA-AFEC-D8B974C96D8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AE6B320-C3A1-4053-B90E-2604EBA3CA58}"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080B-FFC8-433E-9F62-DE74AEC28310}"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D577-FB5B-4261-818A-C0D9D36D030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73F6066-A411-4A04-B4AE-662165B84CFF}"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4A5C-E950-44EB-BCD6-743FA1F7BEF5}"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5757-FD55-448C-A3F2-8C240A7EE22E}" type="datetime">
              <a:rPr b="0" lang="en-US" sz="2000" spc="-1" strike="noStrike">
                <a:solidFill>
                  <a:srgbClr val="ffffff"/>
                </a:solidFill>
                <a:latin typeface="Tw Cen MT"/>
              </a:rPr>
              <a:t>07/30/26</a:t>
            </a:fld>
            <a:r>
              <a:rPr b="0" lang="en-US" sz="2000" spc="-1" strike="noStrike">
                <a:solidFill>
                  <a:srgbClr val="ffffff"/>
                </a:solidFill>
                <a:latin typeface="Tw Cen MT"/>
              </a:rPr>
              <a:t> </a:t>
            </a:r>
            <a:fld id="{65BE67A2-AA9E-4008-8866-2D75BABDDEBD}" type="datetime10">
              <a:rPr b="0" lang="en-US" sz="2000" spc="-1" strike="noStrike">
                <a:solidFill>
                  <a:srgbClr val="ffffff"/>
                </a:solidFill>
                <a:latin typeface="Tw Cen MT"/>
              </a:rPr>
              <a:t>16:2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4B4E-B40F-4CFF-AEEE-82D9D130AE6A}"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594B-30B2-46BF-B051-76AF99AD734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16B54706-50F5-4E26-A4ED-6B39F6021751}"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DF5F-2381-4870-9DD1-F2B20C593C1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C6DB-D794-4CE5-8C43-8C9B9A9C73B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57759AF-7088-4926-BD6B-C86D20472F27}"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B83F-DE4C-4999-AA54-05B56C97F3FB}"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C14D-5BBD-4CD7-B3AB-6D120D94326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8BD89EB-C447-401A-B8BB-E32260713CA0}"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405F-E51C-4973-B01D-A9E6F4E55D9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DA87-9DC4-480D-8B1C-6F578F39AFF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7767808-F27F-40E9-9A0A-144A5CE59579}"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8EF7-1FA9-430B-A0F4-837283673E2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0C10-E0B1-4502-A701-5CEE422C8220}"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78387EA-1D10-4E98-838F-B3EA0A0154A1}"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E5B0-911A-4428-B60F-FCD3094E62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2AC1-06F2-43AE-8E97-061D568989A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9B30256-CF99-42DB-9FCE-C9AAE37C6926}"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65E3-0C16-4D10-976B-9CF715FF2491}"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BA24-FCDB-42D8-AF31-F0BFF42A980E}"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C6914C0-B990-4D8F-9A40-A184978FAC4F}" type="datetime10">
              <a:rPr b="0" lang="en-US" sz="1400" spc="-1" strike="noStrike">
                <a:solidFill>
                  <a:srgbClr val="4f271c"/>
                </a:solidFill>
                <a:latin typeface="Tw Cen MT"/>
              </a:rPr>
              <a:t>16:23</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2D7A-A40F-49C0-95A3-6D2922E3B21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74A5-FE57-4A2A-A0FE-D2773C33C5C5}"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6F63-9C5B-49B4-83DA-CD549F7BF7F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D688-9453-4E03-9A9F-D75BFB263FC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B2A3-7BA1-4DF3-AB0A-15405CA4877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25ED-E5E2-47C4-8238-160C32B55A6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B39C-C579-4823-96E2-D4F3222AC669}"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384B-2239-492E-BBDC-7A27C1E1A0E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326E-3BFA-444A-9685-3634598D876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A3A4-D81B-4E64-8D50-F2D78CC5DBA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EE7E-CB8B-4877-8527-30B942D52D0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3EDD-9F92-4769-BE7A-81ADA27BD03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9761-19C6-46DB-B181-A79D6CCC97B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7CAE-5D5F-462F-B4FF-747C9434424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124E-F3C1-4BE3-804B-BC098D4B4D9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