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4629-AE54-4599-8E1D-1080935452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ADCE-711C-4C95-899F-F622D4BB2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2868C-8C49-463B-9EB3-45C9963F4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C308-B09F-420E-96BF-B206D23C1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737C8E-129A-4423-9770-815D47B29E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27FB2A-0147-41E8-A6FF-7F0FC657D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4AC59-62C1-4517-9BC0-34CB6B986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2B86C-111C-4F7C-BFF6-5E1B99908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437BC-C355-41B9-B217-2C8345640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80C674-6EB8-45C3-BA43-714BCD763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46EC92-EB8E-4EDE-9BF6-1CEF1405C3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427018-F63D-46FB-8C0A-D9157EB2E0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9053B6-0ABF-4D8A-B226-681FB6BEEE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A19D9F7-564F-4059-83BD-006DA87427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A26E6-5E02-43F2-9EF9-C89192E7E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3DC00D1-0674-4E3F-8D44-DE079174BC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6072961-A4FE-48CF-87A6-3388663F96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90A3F43-3EB3-4EA3-9A30-BDB7582E2F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0FAC2208-6BC0-46B2-BBFB-5C30F4716A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B26F0F5-1054-4EF9-89BA-50956EF86A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06C5497-813E-4C4D-BF28-3BE4A6CFCC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76233F0-CD9E-4F7F-9637-E04B8D92F7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0D85943-D8CA-4E45-92E6-2F0B936A7E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5E37DB3-CFB1-43BF-B6B7-B7A5A771E5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113A45EF-37AA-4A50-A76C-95B8E6CC5BE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97003-A52F-44DB-B435-128403D7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D110A5D-F4F4-492D-990F-B7988BCB77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8ECA56-DF2B-4BD3-B2D3-B2FD5EE1AD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213D13-3D5A-4917-A88A-2D5FB3C988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92B246-F2E2-47E6-86F7-C1840ED138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7CE1AB-FD96-4E51-921A-FC10A760CD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A57F46-866F-4ACE-BA55-81BF7D1317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3FB886-CCC4-494C-96B4-835A0F5097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82A21F-3D9A-4596-AF63-9EEEB2A18A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C7C019-4480-446E-A507-9B2F5D5401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86B592-D8F0-445D-842B-FECFE360A6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83AB2-BD8A-4E4D-9F0B-AF39BCD2C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0D5262-823C-4990-83ED-3AEE81B7D3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1A28B9-45C5-4E28-A8AA-3CEBD4409C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3BCC05-FA38-4D63-BFDD-CDEFFA96BB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46B55A-3FA2-4045-9370-7255663B48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CAA378-FED6-4D5A-8F5F-4A17C7907C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D67BFC-20D9-4ADB-BF04-8DE305EC1D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13E7A8-5D88-4B4C-8BA6-CF9E20EC1B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0ADB4D2-8332-4D78-BF4C-6EAFF9C904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A42DD2-A2AE-4224-A35F-4C5DC4F2B9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DA1D5A-3CD7-4E3B-9D96-C4DBCF71AA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9EE8B-423B-4A82-A636-0C8D5628F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661826-A11D-43ED-87AA-90333255BE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FE7017-DF07-466E-9B65-98DE657D40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551A0F-9096-4A97-92E2-4BBFA7C0A7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803358-EA6E-4446-9942-29EE6F4CB1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559F5F-2A69-4A90-8D50-E065CCF4AB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88E65-4D5C-4E9A-8885-0249C18FF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EA3AF-C954-4208-9E87-47B4B89A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C36E1-1C0B-4898-ABFD-40636382B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5BD60-7F9F-40AA-832B-018BBD9A4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A6B08-B939-4273-B1BE-B8EA723E5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3A67C-A764-4D16-ACB6-D222B58E3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D0B29-EE5D-4D85-A20A-BC70E1704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7D60F-67F6-4D4F-8F47-3824409FE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117CD-44CF-491E-9FDD-C4C0BFEA1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0B272-FF14-4EA9-8588-0F296C740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5D016-2737-46A3-AB61-C1F5659B0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E5CD7-642C-4978-8467-7996B2C70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7F40E-CEA5-4AFD-8B5B-5D905378F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09555-39BD-4D77-8A70-D37DFAC8A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45B5A-02EB-4CAC-BE5E-436FB55ED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60AEB-EAD0-4BBC-815C-3D02DB7E5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5DB7-E897-46BC-8824-37BA0D63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4367C-7313-4974-A4C2-BDCBCE632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19520-7AC8-41CF-AEE9-EB836C795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125AA-DB85-4308-A7EC-BFEA6F131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323B2-4C92-4D86-A24C-681CF24CD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DF4FF-70E8-46D0-973C-25D00CC0A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C22B0A-A041-4BE5-9CF0-41D5D4757D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8566C-95F0-4EFB-9B28-5B3709252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D61AD1F-FB01-42A3-90AB-87CFAC6ADF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0CAC7B-F373-43F4-989F-2CDC5D908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B2FCAC-63CB-45FC-85ED-C494373DD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DA73C-07C9-4D0B-B2A8-B5E81F85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8F8808-B412-420D-9A7C-FB45531E5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0A086F-95B4-44AA-8CD8-7D301CAB2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5157F4-172A-4C90-B2ED-8D8D01B88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9D3D82-7EAC-4C98-9AD5-3CFFC3B29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56BE23-9687-4F62-9B9E-4F671BB06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2A4DA5-8265-48FE-86AB-92A18CA96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F71B1E-22D8-458F-B9B9-421B6F3BD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AD4AA6-B1FE-41BC-AEAC-B480C9A00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5E2127-619D-4534-8E46-6D84F19CB3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3331364-2282-4C66-B9FF-47FB58DC7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0CCD6-2E61-47D1-BB2A-0262FDC9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223213-D763-458A-B9E1-875708812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779298-EC63-4611-BF61-F84CF394B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C51B83-6A20-455C-B801-518333EAA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9BCF51-A2F0-440C-9548-C591518D2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6B0EE1-AD74-418A-9A04-A09D8485D6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6AD671-CC77-4D88-A9D1-4647FCBCE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FD20E2-2E77-4453-BDDB-6B1F63D38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4A543F6-45BB-4DC2-8D8D-B0BD7B10E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D7B32EE-90D9-4A3A-80DA-59F06AFF4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321EF0E-C9D9-44AA-B396-A91869DF8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8256-47E6-4A69-BF9F-DD21932E5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868F319-EBF3-43D0-B388-44E31F533A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9EF9E31-B3FA-4434-91D5-CB178C3930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A6E5FF-F313-4F01-9545-F0ED5AC3D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2E264E-4A97-4188-8F12-4083CFFEE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A4FE12-6EB3-4812-A8A8-B1224EB25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90E1E7B-DF28-4130-B709-EEFC79CE9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93CFB0-38A9-4975-9D9E-B7ECEC4C9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B9444C-19A0-447D-9C3F-E2962D2B5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DE1AE6-AAA4-472C-9467-521E59809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780198-92B4-400B-8E16-D08E5840B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C293-1039-403D-BBDF-3D611E6C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D365DD-76BF-4D21-AF4F-D2B0C9AFC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D2CB423-AD4F-4A1B-A388-08A3FCA072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6DDB7F4-0356-4238-A361-4CF005202D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205FC1-1A97-464D-997D-25E8ADF726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BFF5CC-C8B5-4CDC-B5D6-E69E5315B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035F3-C19B-42EF-8EB9-974C378F9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6F389-0628-415F-8217-E6EBF8459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893B83-CB9E-4E48-A4F7-ED5DFACCF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5AD88-A550-41F1-BDDF-906D12149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D05D7-9BCA-45FE-B821-73363620C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F3B2-F531-4712-B101-60CC4D40B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0133E-565B-44D5-AED5-E319BF164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F2458-1B96-4380-9415-2BA74F0D5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1A5A98-FFDF-4CFA-A0BE-92361FE338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137A03-F702-475B-9E93-FA82567DA5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22E422-1359-471D-8F15-3CE3E32A54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6C467E-91C7-447D-B91C-33AE4205CF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A87DE-4B3C-404F-BE6F-D6D82F297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453BCC-5679-4668-90EF-A54D16A6F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22FCF3-CEF4-41D2-AA5E-490EE5E4D9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558289-B39C-4FF1-A460-AF950700BD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C52E-8537-4251-B0B6-8EB26FDE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4BBFE-4796-4061-85F6-DB5CA0EC6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8D258-D779-4114-9E90-7F3C8E41B2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C4CCF-77F2-4488-AC67-64C744954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6472C-59AB-4D18-8CB3-D732379D7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4CE7F-5070-42EC-8BCE-A4021020D5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B7C51C-4219-4DED-9194-37EDDC70D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44DB6-567A-42DE-A07B-15D996356F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BBCC92-6F40-4624-A5CE-6FC134FA28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E567FC-5DF8-4516-BE98-635FE486D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EE29C-C510-4AB7-A025-AF06293767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D3C0-CCDF-47A7-A06D-F24B9A71643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D430C0A-19CA-465D-B752-5166933278A8}"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1EF5-B144-4DAB-9426-E2F44E126346}"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FF3D-3903-4D60-B65F-E8AA03DBC2B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E697ABE-41C3-4555-B21F-A9C2C73C92BD}"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98E6-AFF4-4F24-960B-B672784ED495}"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4B77-7C32-45AE-9EA2-7FE33DE2B9B5}"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5AF60D0-DFDB-419B-98F2-CB3037D9740C}"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EC31-CDCC-4F4F-B83D-281E25770BAF}"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A465-64E2-4A5A-AD20-7F69AA30251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44C6ACFE-CB7B-4FBB-823D-D196A184ADA5}"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B2AC-5704-49EC-9E62-FCDC3B888240}"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54FD-6B60-43AD-9EB5-8B8A3503B272}" type="datetime">
              <a:rPr b="0" lang="en-US" sz="2000" spc="-1" strike="noStrike">
                <a:solidFill>
                  <a:srgbClr val="ffffff"/>
                </a:solidFill>
                <a:latin typeface="Tw Cen MT"/>
              </a:rPr>
              <a:t>07/29/26</a:t>
            </a:fld>
            <a:r>
              <a:rPr b="0" lang="en-US" sz="2000" spc="-1" strike="noStrike">
                <a:solidFill>
                  <a:srgbClr val="ffffff"/>
                </a:solidFill>
                <a:latin typeface="Tw Cen MT"/>
              </a:rPr>
              <a:t> </a:t>
            </a:r>
            <a:fld id="{DF54EF4C-CEB5-4921-B128-1EADDE3B84F5}" type="datetime10">
              <a:rPr b="0" lang="en-US" sz="2000" spc="-1" strike="noStrike">
                <a:solidFill>
                  <a:srgbClr val="ffffff"/>
                </a:solidFill>
                <a:latin typeface="Tw Cen MT"/>
              </a:rPr>
              <a:t>04:17</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1247-FDA7-427A-A7F0-F920748885F5}"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4C17-F9A3-4F10-93AE-111041F37E6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51AECED-D66F-4906-9264-1656529DC488}"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EEB1-6AE1-49E6-816D-10BE6E8610D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466E-60E2-483E-8C71-07046592683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4469133-E7C9-4F88-88EE-CA7A1ABB2050}"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8081-FFB6-414F-B61C-E34CB606A506}"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7EC0-8043-40F9-8AAC-7D3DF60B4FF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CFDE6EE-0A62-469F-8B19-BF74F18E36D7}"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1DD7-31EE-444D-8CE5-570B86AE1CA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8EC0-7F18-4102-9D99-EB210A7584F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7273759F-6BF6-4ADE-B718-EA905A374EE0}"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1BFF-E0F4-437C-88A9-A546D18463D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7627-D6FE-4D79-A8BD-89DED0A48EF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4259AA3-EF9B-4117-BD76-275139D7F893}"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5A94-89D8-4C10-A5D6-75D2A920055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9DA5-B08E-4066-A0E5-63C1607589C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55FBA82-B428-40CE-BA2C-9DCF0D0B0AB2}"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3926-5808-4900-81CC-4B785DC0D420}"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C8FA-8573-4D5E-92DE-E97B459E6F3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4BE59B55-C039-4940-840F-67C58EEB857F}"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6F24-AA22-4176-A2AE-CBF9ED986BC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CA65-3674-48BC-B32D-69B931CAEBDF}"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74E8-D437-459B-86F8-6A91B7451DE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C7C8-2FBD-40D2-A1A0-83753D0909F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BC9D-0996-4903-BA1B-D9085FEB3F6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294A-6DF7-408A-A446-D89DE3B76186}"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5AFE-1EC6-4191-BF79-06AEC782CC2B}"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A16-63D6-499A-BA3C-E1C8532989A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63F2-3F89-4999-8E0B-60CC1671F62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CFE2-DABF-469B-965D-2C971E858E3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4F7D-346A-41DA-B0A1-9C2575020BB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F118-63C7-4745-AFA5-B5CB183DFD5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6596-D6A5-465D-8676-C6EA862EC36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9F12-0FB7-4A52-8651-0AD10EBD30D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EB35-978D-42F0-A080-F28D6E054B30}"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