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5590-4507-4B39-A41B-8744C7CC61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DA7A-C619-4C28-81DF-5BC040528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F5B1-78A8-4695-8DA4-8CB160259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194E-36D6-498B-9BC4-4862CC81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9BBE0-5FA7-457A-BE83-6E6BC997F5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DA944-3B8B-433D-AFB1-03198D8C2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15B55-8440-4D1B-982E-D2DDB0A21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FA95D8-CFA7-4719-9AB1-F75701827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F10D3-AA39-415F-96EB-872681F02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93FAF-E0E9-4977-90D0-E17179DBF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88AA0-A6D5-48AF-9B52-1C622B9279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FDC143-FE66-4CF7-AD0B-FA7CC113EF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A275F1-D3CC-4006-80D8-EF8A4E77A6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51F8DFF-7FFF-429A-AE8C-7F3A2FFEAA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E9A31-C6DD-423E-BD88-640F9BAF5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6B26308-C94A-4674-9672-1AFA83BDCC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46D6D22-A01F-4394-A529-88E0803E0B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B30DB59-1B47-40C3-9023-B2082218D2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59B4F54-13F6-47C9-A7A7-97A85CF8E4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87457EF-73CC-42BC-B39C-1DC11AE688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7131591-8E99-4256-AE3E-3FDDD7D318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46F1FCE-2A47-47E5-8D78-7C07C17631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758B8D6-754B-40D8-A88D-06B20C7158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B7B8A3B-E949-4FCC-A76F-75BC0B1C0C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D16798E-A32F-42A4-A268-50F53A15AA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9FDD-7464-4B8B-A90F-AEF233AE9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C58AAA3-DAA9-4FD0-B1E6-1CA385CFAB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6495AE-B780-4458-B960-185E11BBCA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6A0E12-CC78-44F1-AA19-0CD104165D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423C75-2D26-4316-A8AB-C17AAFDB1A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39134E-F6E5-41A0-81B7-53EAF8AEBD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F700C1-B8AE-4B4F-BAA2-954A3DBDC2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691D95-BE63-4441-8139-44D1A554E1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3AA596-2546-4BAA-B933-293FFB51C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636F34-F6C3-44FD-AF2C-C474C597D0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4B125F-598E-43DA-81CA-CD9F9DD095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3C585-CD11-4B62-A2D3-7BAABE1BD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5A85B1-1980-4F5D-BAEB-797E69AF54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A7086F-4EA9-42C2-97AA-E60E411BEF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CD3DD4-76E2-4BBB-82CB-56D2983487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334D49-DD2E-4A43-B919-8A7B0B83F3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B7BFC0-4338-478E-A1D1-9D8E05C853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28E95A-2A7F-4EE6-874E-DD8D6E20AB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E4EC22-0333-42A2-A144-F8A58924D5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1FFB44-24E7-4CE7-8167-9395AF0D91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014B0C-CF48-4E0D-B983-464C709E60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8FB9CC-07CF-4D0C-9C1E-62AA2026D4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384D8-1D21-4369-A269-E5389B2C3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A733B9-AB02-415A-8461-685F066F16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1C17C8-6800-4266-82E8-B977E1F395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A5BBC9-96F4-4C4F-9AE6-B8E164FEC5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2E76EB-A971-40B3-B33D-416EC4B94F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4C18DC-7213-4365-B733-4D8406989F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7F291-7F45-4AB1-A4C6-0F2991122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4EA0F-85B2-40B3-9E50-281589727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AC0D4-3E92-4CA7-B309-1D619C94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306A7-78E9-4DCC-B010-F933FA275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27020-B574-43EE-8C15-EE45FB801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8E3BE-EE09-42C7-A28D-5805019A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C6EBC-6620-4A94-A016-EE755DF02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B7445-8A7F-4F81-B87C-BF4225B0C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B250C-4ADA-4516-9048-77D959B30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72E3D-0281-4F8B-8FBD-86A3526B2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E88D2-EBB1-4208-A687-36F985EBF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98726-CF95-4DE5-9FBE-5C49808D1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A1103-EA1E-4142-8067-576B1978C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59144-B11E-4782-AA0B-A0DBC4743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A2409-37D3-4EA8-BE8B-7A68CFF9B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4F702-CB6A-48B7-AAB8-2211E0DD3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CA22-CF19-4194-80B7-D119FAC4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D5390-0A2A-4629-9433-1D37CF9AF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D951C-DC29-48C7-8DDE-B06C989CD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6359C-6957-461B-93C6-05D05DCE3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1FEAF-71C8-4947-8156-E94B3502D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A3DA3-2DE4-46F1-B736-9385775F3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DC155B-624B-48D5-BC9C-37649FC0B6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67DD8-BE34-49BD-9F79-515E052D1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4ECFD7-23A8-445F-B11D-DD61EED8A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F30D86-5D15-405E-A340-926AF8448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D3E216-9924-41C2-A3B8-02E5CC7A7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2E582-F41A-4268-98B5-DEA77517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8074CF-8A1E-452E-A878-5700A05E9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2FD3BE-9966-4280-B7D9-B746BCD8C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DF70CE-9014-466D-8A9E-6B9B972E0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A5C564-98FA-404D-BC8C-51A3B5228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1C8E43-E78C-46E5-845F-AC3BDA86A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0F1472-5C0E-4114-BF37-6FC43B522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ACE48B-00FC-486A-A9CF-2F015BC39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9F6B830-2EF0-4F14-B2C1-B3BB35E94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EFDD0B-D0E4-4562-9360-B272557754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5B63BF-8A8C-4746-A8F7-25AA3237FC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E58A-9C39-4D11-94AD-69F07F190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1718F5-77EA-4536-9B7C-0AB85F889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C2F7F0-C1C7-49BA-A48C-06B5AF213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9E347F-7E52-488D-A640-00F10E6BE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D2DEC4-9898-44F6-845B-A3FC5CDCE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6D67E6-A92D-4680-BE4E-742936F43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AAEC34-0BDA-4F16-80EC-50624B3DD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FD1AA8-5E66-4CC9-AD93-91FF057B9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CF7965-52C7-4B88-8BC8-02293C82A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704D08-DD31-4451-88AB-958846E22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1D0551C-2CD2-4AA4-A8C5-C84DA8FF06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4E3A-1848-493C-8F88-87540435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603DEC-E4DC-42AE-831A-DB519A281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E82283-7D9D-4095-948F-7E08A39C57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9F2E1F-D3DB-4FF1-B2D8-76388D352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CEC7E30-7D1F-483D-952D-3E7AF5709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A59D9B3-8FA5-46C5-9E64-1E74B6B1F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3078B0-F294-4BED-A141-D0E9A5615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6B79F7-21C4-4613-80B0-64ABB42C64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600B99-8406-494F-B20C-56504CC4B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4B180E-2A69-48FD-B368-6C94A61E6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A4DCE0-1CC2-47FB-A23A-6E2C68A8D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4D21-9DBC-4127-9475-4C64968B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D42CBD9-A521-4FAD-92D4-97FBDFDC4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12DB613-5C67-4F3F-BA3A-949608F413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0FD853B-DFFB-4C56-A056-82DC57C7F1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6862AA-DCA8-4F82-AE6D-852EF07AF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A2A92-9E7C-4B4E-BF99-46A4969ED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E1DBC1-2D36-4F82-8ED6-81A2ED0CA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EDEA2-68C8-4E12-8750-1998F417D4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9C993-A14C-424B-BC6F-9470C8A02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EB25C5-902B-42F4-AB72-79F07C4F1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D4A72-2D29-41D9-BD37-F7016834C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4A65-6C70-4699-9214-BD5DFCE12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0D982-1269-4CB2-A0AB-7C708C675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4EA87-9752-497A-8EA8-84A489FF7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4A7990-9669-42CA-BC1D-F41A51EC8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0B9F9-DBDF-4479-BFA7-1D796C415D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9C1F2-0816-417B-8427-9DE4E4E6B1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01FDF5-219E-40B7-A5C4-479D30D31C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E110B6-199C-4181-AC16-F0642849A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89A60-3E28-47C5-AEA5-3CA0F39B5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AD80C7-EB4C-4D0B-8CE1-BCC411858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7094B-A354-4CD1-9126-B47EBE3AF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14A1-E70A-47BC-A407-19ED3A43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F26E2-7E7C-4574-A9CE-4A9FC28F9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81DD7-DF23-4671-84F3-A2AB94060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D8B81-8A09-4C07-8CAE-88B226753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370DB-CED6-43CC-9622-2C11A416F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E30ED-79CD-4278-A1AC-36A9A8BEF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2B249E-BBF4-40CE-A006-A48E293184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3B2761-602F-4EEA-A409-F513F2CDAB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0C54EC-5AC0-48CC-985D-87F8C7BBCF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0D103-6477-426B-8B00-99F25CE561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7BF9E9-A058-4203-BF03-BC76FA77E2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A1E8-05B0-4743-A15F-A8789034FC53}"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8CC9115-22FB-43A1-BEB0-440C0CFEF11C}"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CF4B-2B44-4B7C-BB3E-AA8B62601748}"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2CBD-3F63-4B3A-B9B4-D4EF9643A07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74500B49-ECD3-4B16-842D-748DDE1B7C70}"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F9E5-358D-47D4-9F23-F73C907F540D}"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1E3A-89DA-4501-9498-FD8893BC38C0}" type="datetime">
              <a:rPr b="0" lang="en-US" sz="1400" spc="-1" strike="noStrike">
                <a:solidFill>
                  <a:srgbClr val="4f271c"/>
                </a:solidFill>
                <a:latin typeface="Tw Cen MT"/>
              </a:rPr>
              <a:t>07/30/26</a:t>
            </a:fld>
            <a:r>
              <a:rPr b="0" lang="en-US" sz="1400" spc="-1" strike="noStrike">
                <a:solidFill>
                  <a:srgbClr val="4f271c"/>
                </a:solidFill>
                <a:latin typeface="Tw Cen MT"/>
              </a:rPr>
              <a:t> </a:t>
            </a:r>
            <a:fld id="{E27C962C-7B30-43A5-BB39-8640DA6A30D4}"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B821-2959-4AE6-BE33-547F1DDDAA4C}"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0AA3-3E0A-438F-BFE0-7373B249905F}" type="datetime">
              <a:rPr b="0" lang="en-US" sz="1400" spc="-1" strike="noStrike">
                <a:solidFill>
                  <a:srgbClr val="4f271c"/>
                </a:solidFill>
                <a:latin typeface="Tw Cen MT"/>
              </a:rPr>
              <a:t>07/30/26</a:t>
            </a:fld>
            <a:r>
              <a:rPr b="0" lang="en-US" sz="1400" spc="-1" strike="noStrike">
                <a:solidFill>
                  <a:srgbClr val="4f271c"/>
                </a:solidFill>
                <a:latin typeface="Tw Cen MT"/>
              </a:rPr>
              <a:t> </a:t>
            </a:r>
            <a:fld id="{9C50B929-2AA3-42CF-9E3A-8F93249E3B81}"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A248-FC8D-4376-96C9-F47AC96104BF}"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DD17-42EC-4FC2-97FC-1D0C95CD7180}" type="datetime">
              <a:rPr b="0" lang="en-US" sz="2000" spc="-1" strike="noStrike">
                <a:solidFill>
                  <a:srgbClr val="ffffff"/>
                </a:solidFill>
                <a:latin typeface="Tw Cen MT"/>
              </a:rPr>
              <a:t>07/30/26</a:t>
            </a:fld>
            <a:r>
              <a:rPr b="0" lang="en-US" sz="2000" spc="-1" strike="noStrike">
                <a:solidFill>
                  <a:srgbClr val="ffffff"/>
                </a:solidFill>
                <a:latin typeface="Tw Cen MT"/>
              </a:rPr>
              <a:t> </a:t>
            </a:r>
            <a:fld id="{148FA3FE-F94D-4F9A-AEFE-D75D5AFB5B4C}" type="datetime10">
              <a:rPr b="0" lang="en-US" sz="2000" spc="-1" strike="noStrike">
                <a:solidFill>
                  <a:srgbClr val="ffffff"/>
                </a:solidFill>
                <a:latin typeface="Tw Cen MT"/>
              </a:rPr>
              <a:t>16:20</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9CA4-4A01-45AC-BF47-F11A516B5432}"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FBE7-70D4-410E-8968-5288BABA52C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C6DF62B5-B595-4A1A-93BB-D5250509E3EE}"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8A20-B1C4-494B-9E78-0A8638E79C7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DD5D-89FF-4682-88CF-122F96BDDDC9}" type="datetime">
              <a:rPr b="0" lang="en-US" sz="1400" spc="-1" strike="noStrike">
                <a:solidFill>
                  <a:srgbClr val="4f271c"/>
                </a:solidFill>
                <a:latin typeface="Tw Cen MT"/>
              </a:rPr>
              <a:t>07/30/26</a:t>
            </a:fld>
            <a:r>
              <a:rPr b="0" lang="en-US" sz="1400" spc="-1" strike="noStrike">
                <a:solidFill>
                  <a:srgbClr val="4f271c"/>
                </a:solidFill>
                <a:latin typeface="Tw Cen MT"/>
              </a:rPr>
              <a:t> </a:t>
            </a:r>
            <a:fld id="{50167E0E-D84C-4C12-A5DA-D46033C758A2}"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3F38-B4F1-42C3-85D2-C8635BAD308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DF6E-E0F0-4633-BF39-61F67D42780B}"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B637D96-FA28-4C34-A67F-9F6CB8843DD3}"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ACA6-5694-41E6-9BD1-4953EA656CC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3E09-A56D-4F36-A5CF-B3E639692B88}" type="datetime">
              <a:rPr b="0" lang="en-US" sz="1400" spc="-1" strike="noStrike">
                <a:solidFill>
                  <a:srgbClr val="4f271c"/>
                </a:solidFill>
                <a:latin typeface="Tw Cen MT"/>
              </a:rPr>
              <a:t>07/30/26</a:t>
            </a:fld>
            <a:r>
              <a:rPr b="0" lang="en-US" sz="1400" spc="-1" strike="noStrike">
                <a:solidFill>
                  <a:srgbClr val="4f271c"/>
                </a:solidFill>
                <a:latin typeface="Tw Cen MT"/>
              </a:rPr>
              <a:t> </a:t>
            </a:r>
            <a:fld id="{6E36836A-D035-404F-B26B-CA3713B1E831}"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124F-B557-4CE4-9372-98F648626DF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F3BF-264B-4C74-BD01-0CF27389576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4DDFE692-A039-4E00-8B45-7846B12B8468}"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A0CD-8653-416B-8247-674FD54798F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A4CF-9B32-4F71-A7E3-0FE1B718B7B2}" type="datetime">
              <a:rPr b="0" lang="en-US" sz="1400" spc="-1" strike="noStrike">
                <a:solidFill>
                  <a:srgbClr val="4f271c"/>
                </a:solidFill>
                <a:latin typeface="Tw Cen MT"/>
              </a:rPr>
              <a:t>07/30/26</a:t>
            </a:fld>
            <a:r>
              <a:rPr b="0" lang="en-US" sz="1400" spc="-1" strike="noStrike">
                <a:solidFill>
                  <a:srgbClr val="4f271c"/>
                </a:solidFill>
                <a:latin typeface="Tw Cen MT"/>
              </a:rPr>
              <a:t> </a:t>
            </a:r>
            <a:fld id="{284396F8-9558-45D1-B04B-44AD8664F843}"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BC69-FBFF-4A40-8EEA-C6791C33F2B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5109-B421-47C1-B0EF-FA360A1544F6}" type="datetime">
              <a:rPr b="0" lang="en-US" sz="1400" spc="-1" strike="noStrike">
                <a:solidFill>
                  <a:srgbClr val="4f271c"/>
                </a:solidFill>
                <a:latin typeface="Tw Cen MT"/>
              </a:rPr>
              <a:t>07/30/26</a:t>
            </a:fld>
            <a:r>
              <a:rPr b="0" lang="en-US" sz="1400" spc="-1" strike="noStrike">
                <a:solidFill>
                  <a:srgbClr val="4f271c"/>
                </a:solidFill>
                <a:latin typeface="Tw Cen MT"/>
              </a:rPr>
              <a:t> </a:t>
            </a:r>
            <a:fld id="{A21B5D6E-2D2A-4AE9-8A11-8D2C29A97785}" type="datetime10">
              <a:rPr b="0" lang="en-US" sz="1400" spc="-1" strike="noStrike">
                <a:solidFill>
                  <a:srgbClr val="4f271c"/>
                </a:solidFill>
                <a:latin typeface="Tw Cen MT"/>
              </a:rPr>
              <a:t>16:20</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DD11-FC06-4117-B082-3C765173449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7923-8FDC-4A70-9F1F-2BF652D07023}"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D33F-1F90-461C-ABDA-9197883976D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BCC3-2338-4466-8251-853577B09FF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2D90-38CA-4AE0-ACBC-2C4C7101C97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111F-4220-4C33-80EE-27C2924C677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2ABC-DB4A-4C89-BD9F-BE841D492AF7}"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B947-550A-4F93-92D6-DCBE631D249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2F65-9933-45E4-8B6A-33E584A7848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035F-BCA3-49C8-9BD4-C3EC8B6F31B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0F1D-2495-45C7-B523-31D9197D8F2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348C-74D6-4241-A280-D70C12B3C16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C701-973D-489A-8DBC-E822E203B39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42CF-7E93-46E2-8C35-7AA2490B6AF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4928-5A51-48E0-BF35-8A5A305591C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