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F05B-3128-4AAF-BACE-3838AFC4772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13B9-ABDE-4A09-BB0D-72DC554C5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7D3C0-BF88-48EC-990E-4051D5BA2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9EB75-7426-4CA8-A3DF-13DADCB09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D352F6-6F86-4527-AB27-567E4B3F04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8A544A-457E-4742-AB4A-40507D53E4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01D3C1-86EF-4D0B-922B-37BA6E7660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7F3D78-1EFF-4370-A3A3-52E2B9BCD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42258F-3CC7-4D8A-9614-9EA09ADE3D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79E5F9-9FE6-4D4C-B542-537433AA1A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376EEE-2A74-4674-8D34-675582699C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F36242-EDDB-4752-853A-7418C2A7B9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9CAD6D-1D9F-4F62-8AB3-B61967EB1B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D15E0D7-5306-4378-BFCC-40E54EB63A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FF949-FCA3-4F54-A899-4C0E33864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DED731E-9BAA-44A5-AB25-1075EC1D5B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1892E31-36FA-4D0C-836C-677E543B5A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D557173-B583-4E1B-B692-FA333E5619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48C62C0-E1C5-4C4D-B165-F7FA59313F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71D7EAA-105D-42FC-95F2-869A4C0EC6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3D95754-B357-4F37-B7C8-AD4247B92C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A177586-019C-4461-BCCD-AE987083C4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6A7C9D0-05DD-4E08-A175-30136EDA54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5A06684-B035-4BDD-B757-4EDC000B9E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2DC6025-00AA-454D-89F0-51DFD939D0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77678-A7B7-4C51-BC68-F729A17BC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F9986AD-3E0D-41D5-B8E6-5EBD59FF0B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56F207-9BB9-417B-ACC8-973FD8AF9C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698E65-2FCA-4407-A5E3-682FA558A4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257568-B150-4930-BA9A-8AF3F6484D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6A6ECF-0415-4D5E-B642-6592DC992D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F21377-32EC-4E51-BD39-D78A7A922D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648195-6F8F-4016-B567-633A6B6DCF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888672-7F78-40C7-BBF3-6CA400EECF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ADDCA6-ADFC-4A99-8493-FE4B06D12C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0DD456-98CC-4340-BB4C-72F8516E7A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94E7D-E39D-4AC1-8AD1-AC5FBF8F3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E48F8B-ECEA-4D3A-BDE3-E2AA65E18A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17197F-1932-46B6-9279-AFCE0E5693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9FFEB1-6110-4A29-AA40-900E1E342D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0B2191-4DBE-44EC-AB31-E249F91E60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16DD58-0D9C-42C4-988A-35AA778B8D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5ABE94-260D-4A5F-9B0D-90F964326E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696CA3-8672-4822-BF28-34ED8F232F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E9C7D8-2CFE-4390-BC65-32BFF07D0C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F88CBA-F49E-411C-99A8-CA61F364C8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471222-3765-4A25-BC2F-835BA0A2C6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5E33C-266B-42C8-9242-FBBEB8D1F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453072-95FD-416B-BDE7-67785EAEEB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F1B8B2-0BD1-4615-9A10-5D483D687A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335689-FCAD-4A14-BA22-7F38968496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531EDA-7362-4CB7-9399-E2469C2BB9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1B9BF10-EE10-41EF-9C8C-8F8E7B6803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79790-7C7A-47B6-9186-139FB0375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A77F9-8135-4990-B917-EE89984DB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4FE63-BC30-4528-91F1-BCFF9354A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8062B-24E0-43FD-BBF0-90D0FA93F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5B023-95D7-4CB5-BF8B-F5B8750AB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147C3-B05E-4A21-B0D2-C0B115D8E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5D8DC-68B5-44B5-82EA-DBA620FB1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20AC5-F3BB-48B2-99E8-CF06E5A6F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A2014-3B0C-4136-B981-C92260AB2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3C8D8-9813-420C-9893-9DFF9AFDE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0A5FF-2956-4367-86F8-4BFF21BE7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3FB66C-E652-4D10-948D-A228EEC3C1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60FC1D-E9A1-41A6-AFCD-9536D27E0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15F36-3147-493C-A455-8D5E81965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315AC-775C-4BE3-BCFC-7CBE1BFB0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589310-4C00-446E-A4DA-186AA360B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6A981-12E3-4DEC-8608-052B1FB3A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52C423-5F2C-4BEA-8E74-B4E9D3391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4BB90-E585-45FB-912E-C207FF7A6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C22986-CA12-47FA-88FA-221F4ACFE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B57FA-0B36-4DA3-BEB0-7622BF463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2B3CAB-A910-4D1B-A8FF-BA7A32360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51ECEE-DB5D-4AB7-85F6-B255341209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6AA1D4-9470-4E84-9650-B8274120F9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E183DF0-ED60-47CA-ACD3-27FC25D770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E45F5E-4921-43C3-BCBB-70CA1B89CC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137066C-2687-4CFC-82AF-EC7D5A63B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3A8F5-84AC-48AD-8718-CBB3557C7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FF47CE4-EE6F-4D8F-B170-D43C65056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5ACFA5-89DA-4BF3-AA4C-E40B2A5484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D79665D-49E7-45D1-8878-C264D4C77B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CE6489-B15D-45B4-99EC-BBCA361A3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DF5203-CB09-4ADF-8DF8-D103B1319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8EB1C2-491F-47C8-A710-D52A202AE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3070F20-78F1-434A-8E85-72043C8E27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A23CE6B-38EA-4C7E-99A7-E08D356611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7956898-FEE0-44B5-B64E-EAC8B16864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D091D1C-F7AA-41F0-8AE3-11059E6942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50114-CC52-48F0-B590-CCA366437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B8425D-6B69-42EC-B525-F0F0CADD2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BDC8698-0BD7-4761-96A6-D055B2C425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1DA6BA-CD91-4C35-8ADD-0ADDE07F1F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15235B-352C-465E-A910-B9805E205A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DEA394-8FB1-46C8-8FD4-5950168F0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61A213-8F70-4163-9E34-38E39AE1D3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AE546C-02CD-472B-A75A-AFD25A193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8934CD-EA1B-4510-B870-3280F09FB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748AC9-8DF7-423D-90D3-7BCC2F5639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355D8FA-0BD3-462D-9BE7-D25618A8B4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3DF69-51B3-4A4B-A470-DD3E9AB2E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2CC40E8-2BB7-4556-8BED-C3CD876CAA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BCB8EC5-BBDF-4613-B7FA-714ADD327B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C182FA-0127-4564-B9EF-4D4C96A6FA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3191A2C-78B0-41A4-BB23-FA317AB4A0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225AC12-D1CD-437D-8141-581DDDA9CE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0528A49-85A9-4A0A-88E5-576BAAABAE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C77522E-7D72-41EC-B21C-F69E26D80B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EDBD6ED-9617-49CC-B0B1-7054B0DCEE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5631817-2867-4A8C-A4AC-B788F12EC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DBA847E-2C79-462C-9922-DE44AE9DC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CCFEE-E07D-4D91-BDF0-E7D5D9EA9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B84B985-9219-428C-9AB6-7A94E503EF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22BE91C-EAA7-43B4-B523-B1BE65FD8C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EDB091D-69BE-46DC-AB04-1D4DF71884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239C03-2054-4204-AE8B-215B8802F8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0CF912-601B-4025-8765-84356F5794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C7D060-775C-4AC9-A7FD-F66575792E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8353A7-594F-4BEB-8DA9-49856FA86D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9A4658-B992-45CF-8938-207329E794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AED826-CC01-4666-90B6-E2A9175077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2BDDB0-F6AC-4C0D-A6E5-748618D0A4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ECEE-5D56-49FF-810E-97A4D1B1D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0BE958-3D9A-49DE-9B5E-A3319F8B51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0329C-D5D4-4E31-AB72-0C83FF49A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F9D60-03CD-4A27-85D6-B2F8E7B8EE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AE2AB4-FB37-4623-980C-4CD2BCBB11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701939-E1C7-43E5-9635-18AECC08D5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BC7EEC-6769-41F6-ABF6-A0E962C3A7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A529D1-BE06-434F-9882-C7CA910BC1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8272C4-B8A1-4174-94C0-80698BD5A0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96BBEE-2275-4235-9EA9-E418B1727A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76638C-9CCC-4286-B2A4-5679E5859F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64CFF-AFC2-4E7E-9A27-251076025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AEBA4B-3151-417E-AE8C-0866787A98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34236-32C3-4648-A69F-17704B6798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AFAFA-ED7E-4D79-B124-C4FE2CA9A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759BD-FA0A-46BE-B370-073CE8092D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298E9C-A2FA-4233-9E2C-7FDFCB76CA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180961-BE7C-47A4-AAAB-1F3DBD6EB9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1708E9-2522-458D-8B51-16852250C0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5533CA-B011-4CF3-B3BC-895F90B772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89E21A-62EB-48CF-96AA-072D262A3F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7FE4EF-E5EC-48BF-B9B2-2522ADFB4C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39A0-E19F-4DF0-9DA9-CFAB230604E2}" type="datetime">
              <a:rPr b="0" lang="en-US" sz="1400" spc="-1" strike="noStrike">
                <a:solidFill>
                  <a:srgbClr val="4f271c"/>
                </a:solidFill>
                <a:latin typeface="Tw Cen MT"/>
              </a:rPr>
              <a:t>07/30/26</a:t>
            </a:fld>
            <a:r>
              <a:rPr b="0" lang="en-US" sz="1400" spc="-1" strike="noStrike">
                <a:solidFill>
                  <a:srgbClr val="4f271c"/>
                </a:solidFill>
                <a:latin typeface="Tw Cen MT"/>
              </a:rPr>
              <a:t> </a:t>
            </a:r>
            <a:fld id="{3FD2A247-FFBB-473B-A1FB-B1BD50987674}" type="datetime10">
              <a:rPr b="0" lang="en-US" sz="1400" spc="-1" strike="noStrike">
                <a:solidFill>
                  <a:srgbClr val="4f271c"/>
                </a:solidFill>
                <a:latin typeface="Tw Cen MT"/>
              </a:rPr>
              <a:t>16:2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9AEE-0E29-46E2-B342-FEB19DC69F8B}"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FA1A-3100-43FC-B715-EF0A6E498FC0}" type="datetime">
              <a:rPr b="0" lang="en-US" sz="1400" spc="-1" strike="noStrike">
                <a:solidFill>
                  <a:srgbClr val="4f271c"/>
                </a:solidFill>
                <a:latin typeface="Tw Cen MT"/>
              </a:rPr>
              <a:t>07/30/26</a:t>
            </a:fld>
            <a:r>
              <a:rPr b="0" lang="en-US" sz="1400" spc="-1" strike="noStrike">
                <a:solidFill>
                  <a:srgbClr val="4f271c"/>
                </a:solidFill>
                <a:latin typeface="Tw Cen MT"/>
              </a:rPr>
              <a:t> </a:t>
            </a:r>
            <a:fld id="{58156BF1-EC36-43BA-A733-76FCF9B1D13B}" type="datetime10">
              <a:rPr b="0" lang="en-US" sz="1400" spc="-1" strike="noStrike">
                <a:solidFill>
                  <a:srgbClr val="4f271c"/>
                </a:solidFill>
                <a:latin typeface="Tw Cen MT"/>
              </a:rPr>
              <a:t>16:24</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C57D-D260-470F-ACFB-2237EC0D10AE}"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B648-7600-4C49-8E2A-0B9588ED618E}" type="datetime">
              <a:rPr b="0" lang="en-US" sz="1400" spc="-1" strike="noStrike">
                <a:solidFill>
                  <a:srgbClr val="4f271c"/>
                </a:solidFill>
                <a:latin typeface="Tw Cen MT"/>
              </a:rPr>
              <a:t>07/30/26</a:t>
            </a:fld>
            <a:r>
              <a:rPr b="0" lang="en-US" sz="1400" spc="-1" strike="noStrike">
                <a:solidFill>
                  <a:srgbClr val="4f271c"/>
                </a:solidFill>
                <a:latin typeface="Tw Cen MT"/>
              </a:rPr>
              <a:t> </a:t>
            </a:r>
            <a:fld id="{95DFE34A-3FC9-48D8-B409-1CF6364438E7}" type="datetime10">
              <a:rPr b="0" lang="en-US" sz="1400" spc="-1" strike="noStrike">
                <a:solidFill>
                  <a:srgbClr val="4f271c"/>
                </a:solidFill>
                <a:latin typeface="Tw Cen MT"/>
              </a:rPr>
              <a:t>16:24</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7F15-FB25-4DFB-B80C-38F0D8292C91}"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38CE-FFED-41CD-90DC-FE5F5E92DA3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093AA7A5-5DCB-4254-8673-F4A5E13DA21C}" type="datetime10">
              <a:rPr b="0" lang="en-US" sz="1400" spc="-1" strike="noStrike">
                <a:solidFill>
                  <a:srgbClr val="4f271c"/>
                </a:solidFill>
                <a:latin typeface="Tw Cen MT"/>
              </a:rPr>
              <a:t>16:24</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00B9-5D93-48A8-8E49-20A8F38B7E22}"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8086-2AB6-4111-80B7-1586EDC5F08E}" type="datetime">
              <a:rPr b="0" lang="en-US" sz="2000" spc="-1" strike="noStrike">
                <a:solidFill>
                  <a:srgbClr val="ffffff"/>
                </a:solidFill>
                <a:latin typeface="Tw Cen MT"/>
              </a:rPr>
              <a:t>07/30/26</a:t>
            </a:fld>
            <a:r>
              <a:rPr b="0" lang="en-US" sz="2000" spc="-1" strike="noStrike">
                <a:solidFill>
                  <a:srgbClr val="ffffff"/>
                </a:solidFill>
                <a:latin typeface="Tw Cen MT"/>
              </a:rPr>
              <a:t> </a:t>
            </a:r>
            <a:fld id="{C18FD8CF-5619-4B68-943F-9605EF15F27B}" type="datetime10">
              <a:rPr b="0" lang="en-US" sz="2000" spc="-1" strike="noStrike">
                <a:solidFill>
                  <a:srgbClr val="ffffff"/>
                </a:solidFill>
                <a:latin typeface="Tw Cen MT"/>
              </a:rPr>
              <a:t>16:24</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079E-2159-47CC-91E6-0B9FD43A2B1E}"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8053-58F7-46ED-806A-6C4D4700C229}" type="datetime">
              <a:rPr b="0" lang="en-US" sz="1400" spc="-1" strike="noStrike">
                <a:solidFill>
                  <a:srgbClr val="4f271c"/>
                </a:solidFill>
                <a:latin typeface="Tw Cen MT"/>
              </a:rPr>
              <a:t>07/30/26</a:t>
            </a:fld>
            <a:r>
              <a:rPr b="0" lang="en-US" sz="1400" spc="-1" strike="noStrike">
                <a:solidFill>
                  <a:srgbClr val="4f271c"/>
                </a:solidFill>
                <a:latin typeface="Tw Cen MT"/>
              </a:rPr>
              <a:t> </a:t>
            </a:r>
            <a:fld id="{AB776EB8-780B-4E83-A9CC-31959217C6DF}" type="datetime10">
              <a:rPr b="0" lang="en-US" sz="1400" spc="-1" strike="noStrike">
                <a:solidFill>
                  <a:srgbClr val="4f271c"/>
                </a:solidFill>
                <a:latin typeface="Tw Cen MT"/>
              </a:rPr>
              <a:t>16:24</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D53C-C29C-4ADC-931A-8FF641DE206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C8E1-CA9F-4024-8B4F-D674F50197DD}"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E9DB431-6F3C-40E9-9B5B-EEA6FA67DC62}" type="datetime10">
              <a:rPr b="0" lang="en-US" sz="1400" spc="-1" strike="noStrike">
                <a:solidFill>
                  <a:srgbClr val="4f271c"/>
                </a:solidFill>
                <a:latin typeface="Tw Cen MT"/>
              </a:rPr>
              <a:t>16:24</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5CDF-E1EE-480E-B5A4-3590DEADA229}"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53CA-EF28-4A56-BE8E-2BE407888A0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D6385FC3-5466-48C5-B4FB-191087A4E542}" type="datetime10">
              <a:rPr b="0" lang="en-US" sz="1400" spc="-1" strike="noStrike">
                <a:solidFill>
                  <a:srgbClr val="4f271c"/>
                </a:solidFill>
                <a:latin typeface="Tw Cen MT"/>
              </a:rPr>
              <a:t>16:24</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FFEC-E825-4AF1-B600-338BA1DEDF6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9277-198D-48EE-9A92-3EA21172DAA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4B910FC3-0A45-46A5-A1A8-9862B9C57609}" type="datetime10">
              <a:rPr b="0" lang="en-US" sz="1400" spc="-1" strike="noStrike">
                <a:solidFill>
                  <a:srgbClr val="4f271c"/>
                </a:solidFill>
                <a:latin typeface="Tw Cen MT"/>
              </a:rPr>
              <a:t>16:24</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AF33-2826-484A-8C84-E11A5718710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3980-3E34-45BB-82BE-22C493549EB6}" type="datetime">
              <a:rPr b="0" lang="en-US" sz="1400" spc="-1" strike="noStrike">
                <a:solidFill>
                  <a:srgbClr val="4f271c"/>
                </a:solidFill>
                <a:latin typeface="Tw Cen MT"/>
              </a:rPr>
              <a:t>07/30/26</a:t>
            </a:fld>
            <a:r>
              <a:rPr b="0" lang="en-US" sz="1400" spc="-1" strike="noStrike">
                <a:solidFill>
                  <a:srgbClr val="4f271c"/>
                </a:solidFill>
                <a:latin typeface="Tw Cen MT"/>
              </a:rPr>
              <a:t> </a:t>
            </a:r>
            <a:fld id="{DA796022-65FD-44AE-9B7D-0C6E0E35A42E}" type="datetime10">
              <a:rPr b="0" lang="en-US" sz="1400" spc="-1" strike="noStrike">
                <a:solidFill>
                  <a:srgbClr val="4f271c"/>
                </a:solidFill>
                <a:latin typeface="Tw Cen MT"/>
              </a:rPr>
              <a:t>16:24</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4B1D-41AE-4807-8B77-2957D71B4D1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8B7B-3095-4269-BF32-D4FE332BF0D4}" type="datetime">
              <a:rPr b="0" lang="en-US" sz="1400" spc="-1" strike="noStrike">
                <a:solidFill>
                  <a:srgbClr val="4f271c"/>
                </a:solidFill>
                <a:latin typeface="Tw Cen MT"/>
              </a:rPr>
              <a:t>07/30/26</a:t>
            </a:fld>
            <a:r>
              <a:rPr b="0" lang="en-US" sz="1400" spc="-1" strike="noStrike">
                <a:solidFill>
                  <a:srgbClr val="4f271c"/>
                </a:solidFill>
                <a:latin typeface="Tw Cen MT"/>
              </a:rPr>
              <a:t> </a:t>
            </a:r>
            <a:fld id="{6FA4BCE7-1A1B-43E3-8929-0A3C90CF19C7}" type="datetime10">
              <a:rPr b="0" lang="en-US" sz="1400" spc="-1" strike="noStrike">
                <a:solidFill>
                  <a:srgbClr val="4f271c"/>
                </a:solidFill>
                <a:latin typeface="Tw Cen MT"/>
              </a:rPr>
              <a:t>16:24</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2A9E-6469-4CF1-9423-8558B2E4087A}"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29BE-9372-42D9-8E2E-3D07EF234F7A}" type="datetime">
              <a:rPr b="0" lang="en-US" sz="1400" spc="-1" strike="noStrike">
                <a:solidFill>
                  <a:srgbClr val="4f271c"/>
                </a:solidFill>
                <a:latin typeface="Tw Cen MT"/>
              </a:rPr>
              <a:t>07/30/26</a:t>
            </a:fld>
            <a:r>
              <a:rPr b="0" lang="en-US" sz="1400" spc="-1" strike="noStrike">
                <a:solidFill>
                  <a:srgbClr val="4f271c"/>
                </a:solidFill>
                <a:latin typeface="Tw Cen MT"/>
              </a:rPr>
              <a:t> </a:t>
            </a:r>
            <a:fld id="{C8522AD1-4E62-4629-A7B7-C8541A83E470}" type="datetime10">
              <a:rPr b="0" lang="en-US" sz="1400" spc="-1" strike="noStrike">
                <a:solidFill>
                  <a:srgbClr val="4f271c"/>
                </a:solidFill>
                <a:latin typeface="Tw Cen MT"/>
              </a:rPr>
              <a:t>16:24</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B63C-14BB-4BB7-AEB7-12948815A74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D433-423D-410D-93B2-CE56BBC090AF}"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1F42-1235-436C-8170-BD95CF936AF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CF99-E0DA-4966-94C3-39A611554F9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F52C-3D88-45FE-AD0D-F92567C7853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1BEE-F18F-4A52-A650-CF5DC53F175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CCEF-A0FF-4292-9639-569EB505BE69}"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74D1-4F03-45DB-851F-5971D3D6EAF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1396-51FD-446A-BFA5-40858B863D0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61D2-DFF4-4C3F-A9C7-7EC111632A9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5308-05C4-423F-9E65-5C96C49A696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719E-90CE-47AA-A1F2-DB51BAB0723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B9B7-B589-445C-BA47-D83BEED1CAC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9AA6-6F78-4134-BDBB-7AECAA286B1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C843-95A8-45D3-9191-69706A6076C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