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47B4-7A9C-404F-8CEB-B10499A421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EBE0-998A-4A37-B475-2A588BF40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4A183-7E65-4FA7-8A05-42EEC99A2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9E5CA-B9B6-475D-BF60-C79409FAE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6B055-AACD-440E-BCAC-9960E3FD9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2397BF-E840-4FB1-BD19-E62AF85BE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B9F08E-EE42-4DA0-9E9D-08849C2B4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9A8CE-B3E4-448F-988F-AB00F87C3A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425AEB-60BB-4DCF-B1B3-5D2DD924C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43F4BB-A486-4425-AD09-EF5CA6201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A64B27-367A-4995-BF02-318047328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DBB8F4-3538-49BE-8058-B3C79702D5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2F8A8-3131-4C8B-ACFA-C645369998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C7F9127-EC5B-417F-84F2-4BD264169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E0C92-5EFA-44C8-8277-00925D3D2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ACFC7D4-7517-4E21-833D-FD9AB673B9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0BE5FA9-B6D9-41D3-B376-5AB3F5F1AB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4E8FEC9-9A0C-449D-A52C-1B4C698C4F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F38BA1A-A9D0-46E4-98D3-875F6470D5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43A6FBE-DAAB-4382-A9FA-E6753166C6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3A1838B-2367-4F40-A915-FCFA48BB43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84AF364-EA7E-4956-91DC-0E640F36EC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BCED4D3-D436-4F91-A9BB-7C5D73D134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CEA2DAD-4F41-4316-9CCA-DB8D2B90C7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BCBF352-EBA3-479B-AC8B-7DEEFD09AB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656A6-168D-493D-9945-ADB4CD810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C073C0C-CD68-45D9-97AD-E8A2AEA03A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C3BA1F-4E42-4E1B-9564-9264205036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C91623-37A5-43B1-90F8-078BAE6C11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930EE4-AB84-47A8-98B5-F902508BFD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29EE3E-3E70-4128-AEBF-D4A4BFDBF9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4D08AF-DBE3-454C-8A29-F08E8B7270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1FFED0-2783-4C78-906E-E9F8DCFC2E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E2BAC-8A8B-4050-8E64-4F468AA2C3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D9F5EB-F602-4A58-9150-FC4EBC51B5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13024D-9EE7-4C34-8B78-8C807A0987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90CDD-7C59-49EF-AA83-0939590A6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947B00-5CD8-4AA2-8A94-B7159DB38C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9D85F5-A2A1-48E5-BAFF-CB1B4B5A11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EC7FAA-C127-4098-8F58-455D639485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B7CBAB-AB34-4B9D-9A77-115167B468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8B5CB0-C5E5-4E9A-A5D5-33B4CA2817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BFF1EF-6310-495E-AE71-BE2AB6BD3C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49CADE-684A-436E-B167-51D32F9F5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C62178-6672-4322-8701-5C2B4E5564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A2D713-87D2-40D4-9205-38B346482E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1DCD21-70F7-4B36-B7B3-6B2068F89D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89981-FBBE-419E-9A60-4CA36318A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B3D7F7-79EF-439B-8042-7E0B792CEA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B7BE23-9E84-43E9-A10C-DF3A02398B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4B9B88-B3C4-4F6E-AB64-FCACFD9806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345134-C661-4BD4-BF84-A96D87560E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AD992D-C6F8-4C6D-9DC4-9A743F86A9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8EEE6-85A3-4A40-8CDA-519D095FB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C181B-DB1F-4665-B88A-160DEFA71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C0EE1-F64E-4B59-A587-E4000DAAA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31E92-AC5E-4FC3-AE53-64EA7ACE9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EA17-F4BE-4437-ACF7-091FCA0D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4FD8-8C8D-4C7E-B09A-A6F19A5D6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9B3BE-7790-4046-94A8-040D0E400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AF4BF-9AEC-466A-85E3-3CE1465C1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EBCB5-DD6E-455A-A7F3-EE08FF73D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B51A7-AA5D-40EC-AEAC-B9D8959C0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E47DF-C72B-44FA-820D-043F44437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BC443-409E-47BD-9EF7-B80CD641F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C7A20-C44A-44CE-BC24-A8D80D123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9B302-35C2-4E73-B603-6A1DD6871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93C5D-E729-4553-A5CD-D7967422C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19A1D-0A8C-40B6-8CFD-02040839D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F385-BE0B-41F6-AA7C-F012DA4CB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BB364-DA0D-40CC-B40B-451B72FA1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C7EB3-F29A-4CF6-AD12-D7828A638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83CA0-3965-43E5-8798-30BACAD69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2EAB8-0EFF-47EB-AACC-FE29A09E4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21281-77AD-4C34-A886-2E8752BEE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1CF7F-E582-483D-8005-C52826A8A2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B7555D-CE9B-464F-B117-9346CD3322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FAF8D61-9F06-4ED4-A790-2A8EEB08E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6C9A05-3B50-469A-9161-3421911BC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E43F56-0232-453B-9C5B-4F3D564A8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79BB-4288-48E2-9DD4-0A782B517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FD766D-4DC9-44BF-ACF1-2D67428CC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FE5CA0-022F-4545-8236-B0534BA48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644281-377A-48BC-B768-D90979C38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024010-3411-4BA1-B7CD-642D7247B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938377-BD51-42A5-900A-BF3CFCA72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926B17-AADF-4117-BB4E-C785A9B05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B1FBA7C-8D76-473C-B32C-7C4A03137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F3FE2E3-D92C-4646-B873-7A0D90B03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34FECA-CFE1-49F8-A580-85C937E10A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68FFFD-DEFD-4E4B-A948-92772FCD02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4A73-341F-4842-A380-EC276E357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16A234-E1CC-4F56-B6A4-D5B7B6A57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B99762-621F-4204-8B33-BD37962F5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726089-BDA3-4759-BF45-1376F422D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8D02F5-396C-413A-89F1-8AFE0558F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EC10F0-306B-4A16-90BC-518D0A797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9B61D5-0B1D-4454-B3A1-D2DEA3F60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41946F-A150-43A1-BFCF-2E6347CA3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6FF58B-1CC6-42AB-962A-283479015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0126CC-4A67-48D8-B503-7ACB6A647F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86F6222-0339-4382-94B9-E80DA2D8EB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E6B03-4F17-4E17-BE36-70EFDD78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CB9B38-37C4-42C1-AA98-1C4D982313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F71607D-1D2E-43E7-9804-616FB31AF0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96441E-9C18-4F63-9904-157992121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66B279-3054-407A-955D-0497D929C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5B029D5-B0D0-4A4B-A90A-EADCBB158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AE09558-B869-4232-B2A6-407D3E38B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0646DA-D609-4476-84DD-7A0C3C71D6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D689602-E973-42BF-ABA4-745BC08C9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BD65DE-F2CC-45D0-B0FF-37EC07D67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5D96DAE-721D-49A9-A1EA-5A17E8448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4DD1-2DD6-4F7A-B975-204235D75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9A7B3D1-7CA8-40AD-8CA3-BD7794E28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B377589-3F30-4F63-A2F7-07692D300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255F97A-FC58-4B60-BA21-C935CB22E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6A9DE8-8297-494E-89F0-AFDA8DCB53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5E648-8B55-4AAC-B556-FDFDF3272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87A32-7472-40BE-8E7C-957463D84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FE878E-3573-4C16-8916-FCF96F7532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DBE56-8498-42FC-BCBC-1D0E68815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6148E-503B-4656-A16F-CD0CB7DBAF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4A7B5-8180-4D32-A858-2A80E379F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C1D7-AB1E-4287-B855-E81ABB69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6982A-C876-41BC-B3FB-E599508E0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9B2FC-5841-4616-A4AD-1D1100B19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254FA-10EA-4D65-B2FB-42F973837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12FE83-F569-496F-A88C-CEC64107FE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F475F9-3B81-41C7-A780-9CB7D27E9F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8529A0-FB0B-44C0-BC93-449A57A251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222AA8-3DD3-4DAF-A26E-054F3789B2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E352B-2D07-4BEA-BE36-91C6F7DB7E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8843B8-51EF-4C1F-AD87-C0619A501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09DE3-8D9B-4A1B-A29E-002BB80CA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8B25-C035-4A5F-981A-E372CD3B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E14C2-BA78-4AE9-A505-FC3BFDD5FF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C00F31-354B-472F-8BB9-0027367A3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184003-18A7-45DE-A516-915DBC8DC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8472B-D5E8-40A0-8D9A-918CFF96B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63537-1E9D-44D5-888B-9456D70B6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AFCAAB-9A62-4C6E-8231-E90BD0E28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2DC181-70B8-40DF-BB76-A3E338C4C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81A178-6FFF-4154-BAD9-4416EC905B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590F3-6EE0-4DB4-972D-3DA4E7FDC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3FAEF8-3E2C-4C5F-9784-2C571B9063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B584-9427-4BBD-A68F-5A1E8FD01C06}"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61CD46A-0DAC-48CA-8B54-F435072F8AEB}"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6241-004F-422F-A848-8782FC255781}"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0957-04A3-4351-8CA8-C4C69E5870D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EC28ED0-0779-4FC9-95BA-3E1C0875976E}"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8851-090F-4F11-9F1D-A2AEF688D6B9}"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75BB-7C03-4C95-A23D-C1C278A77C1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D013EC2-8F7A-4F5F-B438-0DE77ED2381D}"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37DF-2E4F-4D66-B792-E7D0468A8687}"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9FCB-4BD8-461D-B2A6-CEC20A4C042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7E5D691-8EEC-4F8F-89B3-B8D84A34D8E4}"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7EDC-DE4B-4BC2-9DD9-48A916F8486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A6E3-5105-48E7-A2F6-467C105DDE38}" type="datetime">
              <a:rPr b="0" lang="en-US" sz="2000" spc="-1" strike="noStrike">
                <a:solidFill>
                  <a:srgbClr val="ffffff"/>
                </a:solidFill>
                <a:latin typeface="Tw Cen MT"/>
              </a:rPr>
              <a:t>07/29/26</a:t>
            </a:fld>
            <a:r>
              <a:rPr b="0" lang="en-US" sz="2000" spc="-1" strike="noStrike">
                <a:solidFill>
                  <a:srgbClr val="ffffff"/>
                </a:solidFill>
                <a:latin typeface="Tw Cen MT"/>
              </a:rPr>
              <a:t> </a:t>
            </a:r>
            <a:fld id="{129BAD7B-7DF0-4761-AF80-CF725FE25D8F}" type="datetime10">
              <a:rPr b="0" lang="en-US" sz="2000" spc="-1" strike="noStrike">
                <a:solidFill>
                  <a:srgbClr val="ffffff"/>
                </a:solidFill>
                <a:latin typeface="Tw Cen MT"/>
              </a:rPr>
              <a:t>04:1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8F49-9F21-49C7-86BC-C54DD1FCDD7A}"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4052-A114-4B86-AF59-AE367278111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2785C42-C191-4AA1-98D3-37A7F2C7EC3C}"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9203-C83C-490A-A05D-E1D4E7DDFD7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A0DC-D4AC-45C3-A128-D2B00D9986C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EDCCFD2-9BBE-4D73-8607-0A1C3680895C}"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4C61-4351-4073-AF30-9F2F622EE9C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2ED7-BDA3-452C-BA0F-E483E21FDC6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EE84583-088A-4FA7-B748-07F28A8B762B}"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B6FD-A40D-4FDF-AB29-3B0C46FFB47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1A16-DEF6-4E43-B46A-3FC82FF3461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AF32131-90D0-49A1-BF57-48B24253862A}"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38D9-9E29-49BE-8515-E9AEB154CF0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6129-07D6-4AC6-9A9C-9B7D594D264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A421EF5-9C3A-4595-8B12-AC5F9DCD9EBA}"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735E-36FA-4B13-99A3-AF72C5EB1CD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629A-59D6-4BC3-862D-17DDC50E9BA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953F91B-1EA6-40BF-A838-E660F136A0B5}"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2B38-6EED-46F6-ABD6-5844D404E858}"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C194-B651-4F3B-84C1-E15545326E6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B8144A1-F790-4BDF-9707-1DD435E226C3}" type="datetime10">
              <a:rPr b="0" lang="en-US" sz="1400" spc="-1" strike="noStrike">
                <a:solidFill>
                  <a:srgbClr val="4f271c"/>
                </a:solidFill>
                <a:latin typeface="Tw Cen MT"/>
              </a:rPr>
              <a:t>04:13</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D3EA-BD5F-45FE-B228-B2874B6C781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45FD-A083-4572-ACE3-ECBECFB4E5CE}"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6DBD-457D-4F65-A1AD-608C750A955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4155-99DA-4DD3-8126-1A17FF15030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5327-1802-4D5A-B1D8-3BD0A8AFCCB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BFB2-2DC8-4E79-A0DA-1179816264D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6284-8B30-4A8B-A945-6C6986ABF37F}"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6B85-285D-4D70-B102-5749C956597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61A5-62A6-4B2F-AB97-A26A338AEAA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509B-732C-47D0-8D32-D29FF089D11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C497-8050-471F-A444-8456EEEAE15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5AAF-6234-474B-A422-AAE4983D740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EDD6-268C-4B52-9A1F-3AD0DA97A13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F640-218E-46D2-AF8B-FA5F21A7C59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6284-2F4C-454D-9FB0-B5DB0BB4EC2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