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5556-F60D-4DDE-8DAC-4D560AD15D9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F947-D098-439A-82CD-9EC4C3E35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DD203-1A1D-41BA-BF29-3147CD79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8753E-5884-45AD-B6C4-01E0383B6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227573-FB1B-40B7-80EA-42793B39CB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63DD83-D400-49B0-80DE-6877C394D1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447A4E-2410-4DB6-A338-97865E8E7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A172B-8B37-4F22-A811-562E2CD6B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250B89-497A-4E4F-9F1A-894A7B2FE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D918FA-E8F7-4FEA-BEC2-3198480F0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CC1387-2362-4FBF-B6B7-76B2BE37B0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E2A6D-0759-4AD8-8BB9-0851BB50C1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122EA0-B70C-4644-965C-8D3D6EC70D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7EB508B-44BB-40BD-BC3F-64E5896361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DD7D2-976F-454B-B2E8-A4A381741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BEF5897-9701-4DEE-858D-4566214845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43B844F0-6158-47ED-8084-2A1355A197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24C6D1F-E606-4F90-BD02-A7A560D9B1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0F7BB48-F0EA-4651-939D-12E940C3D7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3CF6F97-8F4B-4018-8943-B563A9681C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366A14B-D606-4A9E-95EC-B9662D815E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C9778FD-69D1-44A8-B108-790B01675E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0737135-B05F-484A-B11F-E066E6DC2F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BD97F0D-B6DD-46F6-B1BF-F24A2DFB70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A4A729B0-5DCC-42BB-AC5C-B2100F70C2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BCF47-A83D-4A1D-A7D3-967E8273B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F5F7460-5D61-4C54-904C-F86EDC2E80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D8EA61-4736-49CE-AD72-69654603DE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6F7EA9-2798-48FB-9B07-B98A6CE217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377CC9-DE69-4F2E-AC8A-A46515603A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5EBF83-F729-47EB-904A-6CC2C16399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145628-8FFC-451B-A2EA-43B3129228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BF640B-2F10-4ED9-9455-5B851BDBE5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A46129-BBB2-4BCA-BB80-1222D92E01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5BF01B-4734-4C70-8461-0654113676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AA5CC7-75A6-4873-8F8D-95A7774D09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F61C1-9632-4E8B-8092-D6FD1779E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141209-5BA7-4C9E-B556-8564CB7BA8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FB7BCD-B4EB-4549-B32A-DED6CFEC03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332BC9-A578-4E8E-9696-FCB3456932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A07D445-8F16-4032-B830-BAEAD8E23C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187FD3-9075-4750-9797-E50CB77479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A04EA6-03BA-4113-8DD8-E9A64ED70D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4EFD36-1205-40FC-8B81-9A4273064D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61305D-FE7C-4821-978F-03B0329EF2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187BF3-4093-444A-9852-D486281378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D22E3-BBFE-4812-861A-AAD6D85A17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014D0-A6F2-46C6-8DAB-4BFA0ECF5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4D79B3-3957-4C01-8EB7-44F2C320DE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EFABFB-84EA-47AE-8B85-15DC57456A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80E2E7-3614-47D9-8865-2BAD063D09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AA798A-4ADD-4191-BC51-522D042B37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2D63240-1856-4121-8A4E-396E425E76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AC4CA-979B-40B5-A423-E09F0AADA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BC49A-9148-4569-83DF-635B9B335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E9C04-9B16-49C7-A70B-2B39C11CE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F1BE6-2029-421F-8B46-D61243783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BD637-3850-4304-9052-DE9F51F43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EA7D-FF10-412C-A304-B72A0B5F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CD7ED-E92B-4493-A20D-08A59264A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D8EE1-E554-4798-AD87-1B8271E68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1C3A5-6C85-40B5-8F65-FE054F054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7C54B-E5DE-40C6-9BA5-2D3DD5622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23F08-42CD-456A-8E53-2632D3341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3B88B-0ECA-46A4-9E4C-84C83491A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E2632-6A2D-434D-A4F1-42C313756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2CA9E-D127-4E2A-8265-0CA5E641E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3B39E-77C0-4B58-9B2B-4CC3FABC6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2E270-E6A3-4C24-8628-4C40A4D1A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D22AF-1712-4ED4-94B5-A3D9AEDD8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A9CC6-EC7A-4B38-A374-93B38F104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A32D1-BDF1-469F-9419-9725B61AB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F67BF-25B0-47C6-9661-34A3BAEAF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B57A2-C069-4EE8-B12A-87F07BE6C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7DD325-2033-4045-979C-7945D9D0A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C886F-C329-4FB9-8ACB-9FCB24D11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27F206-08E0-4DA6-8024-EDA8DE6673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44B10E-C778-4350-B6A0-5B02994947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F9B7B6-5B03-43CA-B895-E2DD61FD50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DDAFC2-80F7-406E-BD97-D27E66BC3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5D1D1-DD66-4FB1-99EC-368132D8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C13068-95C4-48A0-B296-93DAEE768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C7B437-52E1-4647-B1D0-CC8CF436CE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D88DFE-36B6-4018-9DD9-139C9FF9E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E69EB1-1498-4048-8E2E-5E549AAFD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8B3861-ACE1-41E1-B1E4-B58A2A594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EBEFA1-F970-457E-BAF7-B91F8A9D78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AAD142-5263-404D-A434-CC907AB32A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928D12-E5B1-4D3C-B354-E82D4B6CB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33E05C-752B-4022-B29D-EF883A6F28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9FE885-5206-4D42-A265-97153289A0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0266-8298-42BE-9998-45C8AFB7D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281F96-15E9-4B00-885E-0CFF8BDAF2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CE02CF-C2F8-44B2-8304-F50145215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36CB23-3EB3-421D-8239-CE84F5797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87B66C-13D8-4F25-91ED-23C737EBB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D5055A-06DD-4D70-8343-F5B535C69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BBEC98-C5B6-4D1D-97D7-5B4832B52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6429D4-F26F-4EAB-BCBE-B4CACE1B7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BCEAB6-D444-4259-B03C-6F6CD7724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C9C535-3E6B-45BF-B21C-D7C889DD2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AB83EB-063A-41C2-87F3-AE9AAAD56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95EC-E18C-437F-870F-51DFCAFF4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306C97F-BDEC-4A1E-AB03-6688E07730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E20E4FD-4704-4A5E-9B8A-C7AE4EEDE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180D511-FFAA-4334-AA19-6CEE16F6F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019CE8B-C77D-4ABC-B1C2-B4BB45A0F6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392554-4D92-4069-AF18-13342620A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7FE774E-0B8E-4547-B2A6-36D661F6D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03FDB6-81CA-4BF3-B578-230A667B2E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FA4FDC-6E2A-4F34-B59D-79AB534CE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960EA7-D4DC-4C48-BFDE-73FC1B507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789E40-6848-495E-B68C-701D22B1D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D117-3631-421E-8A4E-92E5979ED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2E6F34-20C1-419B-A471-B65445B33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FD271C8-D300-4DA2-8DCD-932417181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F0F06EC-914F-4B41-8ED2-C13946C073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BAF2FB-4ECF-4941-9C04-44E4D6E9F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EC37C-CEB6-483E-8717-E5A64B38B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B2CC1-0AFA-4B50-A865-C98C6F6EE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7A2C1C-8CC3-40D7-90AA-18C9493F65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2F42F3-2FEC-43FA-99D8-944B7A255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EACBA-AF78-4E72-A156-40FDF9B76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25B84-D4C3-44A7-8934-8433C6141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FF87-2D1A-46DA-8D56-82FC286E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E868E-5E7F-4747-B356-D6BA75C03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0A1E8-6B2B-4E2B-B8B4-EB963937B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0B21D-B92B-4B11-AFD5-2DC19AA94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3FF00B-E93E-46A9-AB42-2975F4534F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7BCC1F-C56F-4C5A-91AB-3E1F2EF01C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866340-B166-4097-B29B-359DDDFA4F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015FE8-2875-4D1E-9154-3E1376C3BE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829B5-6260-4BAE-BFCE-52E3AE9EB5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23A3D-D1A3-459A-B77D-78631EB8C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7D720-F819-4C35-8343-A51EE43D58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DA9A-93A2-4DFB-8CA4-8650B7E64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5AACB-08BF-4956-9F82-F380CBE3BA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CDD61-5C3B-4750-90B3-023A3C42C9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90A8B-0E77-459E-93A9-7B50A3E140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222CC-4773-49DB-81F6-101033E2F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DD6F6-79E2-4127-837E-4DB6440FDC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733CCB-6D12-4FDA-A1A3-BF9B48FE81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C48C18-62ED-4F68-992A-9D2E6B7093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582CED-383F-4224-A314-A7FF9C695E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E4262B-8ACD-496C-BD29-96025B6E95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7C1210-E01D-4723-8644-F12B35929D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B845-1E73-4764-A895-6978575BF6F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41680937-6024-4825-99BD-A8C8C6BFACD8}"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C0A9-B642-4B37-BB3F-2A2A48768CC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A7B1-D026-4294-88B6-09CE32D8F66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F0181EFE-C990-426E-9001-50B37F7E7320}"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80AF-BC62-49E9-895C-B8DD6F20F991}"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91C7-773B-42DF-8B42-918A9A7859F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1806E85-9328-4B1F-9F84-B8DE0A300037}"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34DB-264C-4A14-9EFD-D6E624FCF153}"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A47C-61B1-4898-96F4-94A20E8ECAB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FBB9889A-0C5C-445B-A5DB-F2A1EF4ABA0E}"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26CD-499A-4D67-9A78-C7D4B96A6CD7}"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0DF2-202C-4623-9C12-CDF891090D71}" type="datetime">
              <a:rPr b="0" lang="en-US" sz="2000" spc="-1" strike="noStrike">
                <a:solidFill>
                  <a:srgbClr val="ffffff"/>
                </a:solidFill>
                <a:latin typeface="Tw Cen MT"/>
              </a:rPr>
              <a:t>07/29/26</a:t>
            </a:fld>
            <a:r>
              <a:rPr b="0" lang="en-US" sz="2000" spc="-1" strike="noStrike">
                <a:solidFill>
                  <a:srgbClr val="ffffff"/>
                </a:solidFill>
                <a:latin typeface="Tw Cen MT"/>
              </a:rPr>
              <a:t> </a:t>
            </a:r>
            <a:fld id="{4DDE583E-1FEF-4294-9AC9-F487729BBA14}" type="datetime10">
              <a:rPr b="0" lang="en-US" sz="2000" spc="-1" strike="noStrike">
                <a:solidFill>
                  <a:srgbClr val="ffffff"/>
                </a:solidFill>
                <a:latin typeface="Tw Cen MT"/>
              </a:rPr>
              <a:t>04:11</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60BD-4626-4691-B884-DFB9FC79922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027B-31F7-4DB3-8B07-DBEBF3E4E52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CD96CC3-B042-4EF3-84B8-A7C09497CD2F}"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1C00-4069-4214-B3A2-1C151161860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DB44-3F26-4BFA-A90E-A7F1795DAC0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140C436-692B-4F2C-86D0-CEA024A1BF26}"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F696-96E7-4F07-8EB9-FA48DFC159FC}"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F486-3717-413A-8467-A8C74C62BE1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BAC66017-6113-49B4-9A4B-67D6668FD370}"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34B5-F090-4FCD-B8CB-E96403D5FA7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8A7A-E6F8-499F-A2FE-78BA1F06AFC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3D2A98A-BA44-43AC-AB43-DE1B9F4A5879}"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FE4E-638F-4929-AEFA-5B4F268AFA3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D1CC-C996-4926-B06F-DB08911DAF4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E07C065-2DB2-43FA-ABA3-92F684CA32E7}"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9CBC-6F50-43AE-9B82-7A53B0586A0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0024-E20E-4DF4-B32B-6641B22C291B}" type="datetime">
              <a:rPr b="0" lang="en-US" sz="1400" spc="-1" strike="noStrike">
                <a:solidFill>
                  <a:srgbClr val="4f271c"/>
                </a:solidFill>
                <a:latin typeface="Tw Cen MT"/>
              </a:rPr>
              <a:t>07/29/26</a:t>
            </a:fld>
            <a:r>
              <a:rPr b="0" lang="en-US" sz="1400" spc="-1" strike="noStrike">
                <a:solidFill>
                  <a:srgbClr val="4f271c"/>
                </a:solidFill>
                <a:latin typeface="Tw Cen MT"/>
              </a:rPr>
              <a:t> </a:t>
            </a:r>
            <a:fld id="{FA1D66E7-8541-42DD-AB4C-97E9F9938FEF}"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A99A-BD89-4C7D-8BB1-053A124C4383}"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9E9F-80B7-4EC5-9F8C-9685F6C85A4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CE72E35-18DC-466F-BC54-1AF43ECF5227}" type="datetime10">
              <a:rPr b="0" lang="en-US" sz="1400" spc="-1" strike="noStrike">
                <a:solidFill>
                  <a:srgbClr val="4f271c"/>
                </a:solidFill>
                <a:latin typeface="Tw Cen MT"/>
              </a:rPr>
              <a:t>04:11</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4E26-B967-4EAA-8B4E-F573DA28196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90D4-F5AA-4AA2-9988-C8041C363DBC}"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3DA7-420A-487E-8B91-4E611DCA8E0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ACFA-1611-43A1-B377-66C99D08805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743B-B54A-42C2-AA18-0700457D268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B484-64B6-4068-89D4-88C5DF7EECE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7E74-5BF7-4856-AFF5-2E3BBE613951}"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828F-8003-4031-BD5B-58F0ACF001C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C24C-4499-4036-9FDF-690342BBC43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6E8C-0357-456E-9815-232FB652CE1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1EF3-576C-4FDA-8A15-E0A7E2F978E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169A-0069-4B58-B35E-B20BB3F885E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53A8-A1E4-48E1-960B-1B8FFAB0F1F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B557-680F-4C4A-81C7-2F8F3199272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4B0A-5A8F-401A-A574-856DADFC830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