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284C-2785-47CC-B0B7-E77A7A82BD0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4125-CC0A-42A3-BEC6-6E31EDC59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0DB71-85E3-42A9-A8AB-34F771CD7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C6395-ACD9-4884-BEDA-62A336507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080DBD-736C-4339-B1C5-CE84673F87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4A6F76-9DEA-42B5-A8CE-D37572BF84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1EABC4-2A07-4407-A66B-A8D1A32F71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455A5E-D384-47C9-A228-9B3BAE0DA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B90D47-1ECE-4757-8394-A593334EC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859407-1EAA-49A2-960F-5EF4FF6807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5542A5-7649-46DC-A500-1B23609F07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96E43C-71DF-4EB9-920B-67CB125D53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C17199-6A91-428D-A30D-17A6A19F1E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81A35C8C-74B2-4494-AA9B-9DCAB6395C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79381-E087-4CCC-870A-06D689E2E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46AC811-D180-4661-B6A0-462E7609B5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C3EC68C-B7FE-4A54-9079-D090416491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3A36BB0-881B-4D58-B662-D2B849EB31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84131B2-7EC2-4E5B-A045-B647867F53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DF7720B-F96A-44D2-BDB0-D39731CEAE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A4E1615-3405-47B6-B04B-A3E78B0121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519C3EB-DFE6-40F0-931B-45A400D3D9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7B78672-7183-4B40-A93F-020B87CC6E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0C6E3DD-143B-4C1A-B785-571C3FC1CD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6E2AF411-A3B0-41F9-9F11-F99814425C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B2FD9-A04E-4253-955F-9CBC2E993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DA06307-5B2C-49C0-B1D6-C94A822DBE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BA7805-9EE9-4FE2-9E35-10E1490EDA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443F4D-7C70-4312-9923-B225EF51E1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64153D-AE77-4C42-8568-ECF83C2EFB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FDFDE5-0B43-4BC2-9680-F4744CF9E9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9C639F-E3FA-4590-B234-64AA099552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3DA2A8-3964-45E0-9D1C-8B7C3FDA53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455D1A-33F1-4217-B3A9-C044E8F280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FA2426-7EF8-4C32-A595-A820388CFC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34418D-81AF-41AE-B97E-393BEB5D6F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FF65F-9253-4959-942C-215CE2A14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579B0A-2B78-4E60-A91A-474D149E42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CFA9EF-7C35-44C2-8EDF-FCAE0CAEA2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78E220E-42DE-4264-BBB5-AFF00FC58C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99C2E7-B26F-43B7-82EC-F834B3B7B4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326B67-5DC5-4083-9917-9DD320DC04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17EFBB-0FA5-42C5-A3C0-A0BB039749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675916-1070-46E5-B091-22735E44C5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F77703-46EE-42E7-A289-0C0C199927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A3115C-76F0-440D-9CAB-DD8C24EBC7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7EA0C0-EEBA-4E3F-A4F3-5A8A1D7D6D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D3983-ED8E-4B63-9198-EE82536ED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2A09C4-3757-4147-9DCD-6406F023EE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EF6A67-ED7E-42F9-9CDE-C2F9A9C3E2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C77B73-A792-4B25-AF12-3FA8F6AF77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C8FF6CD-5EE2-4A31-A241-2D75AE4A240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530C76E-4E43-4D31-BF23-3D54AA3B1DE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34840-C98F-41E3-A2BD-128A2CEDB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CBADF-C705-46E7-AEB1-A8B636410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D666D-D14F-4917-864D-A2716D2F5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20358-5A98-46CC-B3ED-D114AAEA4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5ADB0-8677-4C0A-83E9-A9D4A51B8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2CFE-AB0A-4F25-81B7-05304EE87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9AA19-6CD5-44E6-940B-675CB7FD8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60A81-503B-49DB-A3B2-A80906A9F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46D78-0F96-48D8-BF61-3DAF8822B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C7CA5-793E-47F8-A016-93D3E31B8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1993A-B76D-4AC8-8C25-BB7CABA17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62908F-0367-4B06-95F3-3189D457B0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BC6F5-FD49-4070-9F35-B11560A78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369B8-2141-4E79-9E38-C6FE2FB863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7DEB0-786C-4C27-A069-4B4298998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135425-2EFD-4662-A7D4-9250956B68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46615-0D0B-4C34-A27B-1CBCCA098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5B6FF1-9A8E-428B-B409-C6E5E5A1B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23A00-6892-49EF-827A-1CC8062174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E7B70-5D0A-4F4C-90DD-3C235DB86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FB69A-6413-4387-AE40-8BCE306B0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4A3A2-BFC0-4FE1-A353-B311A239F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F0998A-1176-42F7-BE18-5898F39C80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0D875A-6FE7-4F82-846D-01DD9B9670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D566B22-2738-4F9E-B87C-3AA55FFC69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3B2D406-878E-473D-9D95-121FD15BA9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63CA57C-622D-4DCF-BF7D-CECD7DAC7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AB871-4016-4454-99B3-F498283BA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177D8BE-263E-42D4-8B38-CF99AA74EC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6E8ACEC-84C6-4118-9F64-24EB588F1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82838B6-88E9-4D08-932A-4352B333A1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8A4E31-7E72-4091-BC76-59B23896A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8DDCC6-724D-4FA7-92C0-B91EB250C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5CB7BF-9557-49E7-BBBA-B619DE76D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BAA539-E331-4F2C-85FA-73E8DE6BA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6BE2B47-DE05-4BF0-95DA-268A2AEC17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16EF9DE-F3CD-47E1-AE68-2C43D80449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D449C89-BCFB-491A-9632-229D4CCD93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0403D-9D9A-43A2-9198-FF41A1149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84655C-4572-4699-9A8F-C10453BC60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FF7050-11FC-4F84-B003-DFE1BAD3B1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6686F7-5CA8-47A4-BABC-F78184E73E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2FA442-E514-42D2-BB26-542E11D39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0386769-9ABF-418E-B729-7B16C00E0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CC9C31-36C3-4757-8C3D-A9089D9F0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DC2E82-7FD9-4C33-806A-8F8E5DF92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0B52BF-F82F-41A8-9D42-9DE3CEF34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DAD278-7E2C-4053-BBC4-5C90F48B4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2DBEB71-2C38-430E-8BBD-B6EC71A3E4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79479-E24E-42A9-98DE-146A0B54B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42AFC2A-41EF-4724-9A26-3AF07B9221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9060860-D7C4-45A4-800A-575C89330C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361CC97-5DF6-43F3-98BD-3469261BD5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1D4B65C-99B3-41D6-8262-4C91C75689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74EBA62-5641-442C-87B2-D92B505FDF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BCC4061-87AD-4014-9D12-CADECE4F1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33B7470-61E0-4435-8ABE-A39BE80826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BEEE942-DCDE-4DF3-A36E-1664FA1C85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280E60C-28E2-4C72-AAEE-DADA264CE8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6D56FDD-1CC7-487B-B76A-D8782C5505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C64B-79CF-4EEA-8AD8-AA00E4DF0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32E4285-4B25-49BB-9737-1EB0E36DE6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BCE5B41-500B-4268-BA60-EED5C3DE68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C26E9A9-03A3-4F18-84D0-C1E177AE1C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B74B2E-9BC4-4A33-92C9-96E79A05E5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FF3FEE-C85F-4AE4-88C7-0DA80FC6F9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FBA6D5-6D61-4A29-8849-697EE5989C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F0D4D1-2C34-4949-BFC2-BB918FA81A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B39A8C-E5A7-43BE-AEB5-FECC7D094E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E67EE9-F66D-49C1-8EED-A582DF1B6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AAB018-6D89-40DD-8158-7EF4502A5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262F6-D158-4428-B9FC-F99CD96FC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BF35E-E7B5-4F29-ACF6-90C077507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66261B-A4EB-4646-B7FB-E8D6408357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6D847B-1C75-4FA1-8012-951964DC44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AAF4D7-5C16-462C-9A21-C0C0F33D03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D19273-3654-49F0-A5E0-2797BAD9F3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7F4AB5-0138-4BC7-83A1-81B5D7552E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80757F-A94B-42CC-844E-F7E21C6C5E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4DCC67-EBC4-4E72-8348-078D42DDA8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7C7E36-6059-4799-A5B6-2AE684717C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D6E109-214D-416C-BF76-AC35937F91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9445D-815D-4888-96EE-3471A7966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0458B7-FE0D-454C-A540-FE682DA7FC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7BD9F-DF59-4A47-8C04-1748E62396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385F06-5FD9-48C7-88AC-61E98936BD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C3A16-B30B-44F3-AFF2-BD1825656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6902BD-E098-4598-86B0-52C6A6D55B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49FBFE-2961-4481-B3BC-896F3CE7E2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EEDFAF-192A-4C9E-961F-2B2CF2003E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A59AA2-C4A4-4804-8E97-B4E45EAE1B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A311C3-7A86-4167-A586-AB0DD354D9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ACC8D1-6FAB-47F4-8008-FD720392CA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845C-69B7-4184-A589-5388B52E6E9D}"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CEDCAB4-D437-4776-B518-40D8F72E8527}"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3723-BFA7-456E-A1E0-23EBA9A5F0EC}"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C11F-42C4-41EC-9D78-26FC3EFC8E1C}"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B9BD02C-FFF8-491C-A687-AED24DF1129E}"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DF3F-3309-418F-AD4A-F19CDE7EDBDC}"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3CB5-7463-44D8-A968-D6B308939690}" type="datetime">
              <a:rPr b="0" lang="en-US" sz="1400" spc="-1" strike="noStrike">
                <a:solidFill>
                  <a:srgbClr val="4f271c"/>
                </a:solidFill>
                <a:latin typeface="Tw Cen MT"/>
              </a:rPr>
              <a:t>07/29/26</a:t>
            </a:fld>
            <a:r>
              <a:rPr b="0" lang="en-US" sz="1400" spc="-1" strike="noStrike">
                <a:solidFill>
                  <a:srgbClr val="4f271c"/>
                </a:solidFill>
                <a:latin typeface="Tw Cen MT"/>
              </a:rPr>
              <a:t> </a:t>
            </a:r>
            <a:fld id="{CA25F516-8E2D-462F-9652-6FABEC256EAD}"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EAAE-4F19-4FD6-81D4-C3C840DBCAC1}"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D187-123E-451B-801B-F3D8C7A9FE56}"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6A9085A-B86A-4E68-93C5-E72B0403D428}"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4A28-1575-4734-B90E-F9AE12CBA139}"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1D17-FFF5-42DD-95C0-F4ACA714E3BF}" type="datetime">
              <a:rPr b="0" lang="en-US" sz="2000" spc="-1" strike="noStrike">
                <a:solidFill>
                  <a:srgbClr val="ffffff"/>
                </a:solidFill>
                <a:latin typeface="Tw Cen MT"/>
              </a:rPr>
              <a:t>07/29/26</a:t>
            </a:fld>
            <a:r>
              <a:rPr b="0" lang="en-US" sz="2000" spc="-1" strike="noStrike">
                <a:solidFill>
                  <a:srgbClr val="ffffff"/>
                </a:solidFill>
                <a:latin typeface="Tw Cen MT"/>
              </a:rPr>
              <a:t> </a:t>
            </a:r>
            <a:fld id="{0F302616-87B1-41BD-89B4-AF25EEB96866}" type="datetime10">
              <a:rPr b="0" lang="en-US" sz="2000" spc="-1" strike="noStrike">
                <a:solidFill>
                  <a:srgbClr val="ffffff"/>
                </a:solidFill>
                <a:latin typeface="Tw Cen MT"/>
              </a:rPr>
              <a:t>04:24</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1AAA-7AB4-4269-BEA2-09D0E7AD1BA7}"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2730-F4F7-4655-B86C-F33C3730E34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FA836DB-75F8-4B95-BA02-A8DEC9EED679}"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8421-670D-43A7-882E-47ECB9D8324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D100-F750-478B-B04D-98326C5D9CBC}"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8D9AF05-797F-4AFC-BEEE-82EA49E80E5B}"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D9EA-6CDF-49BC-8791-E2520F5625FD}"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F928-B7EC-47EF-9040-29464E45ADFC}"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82352E0-3D6C-4962-A051-43D2851B1CBB}"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733C-4E61-4D2E-97F7-378F47C8806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18B4-F2BA-4DD6-A00D-0961FAA6A1D9}" type="datetime">
              <a:rPr b="0" lang="en-US" sz="1400" spc="-1" strike="noStrike">
                <a:solidFill>
                  <a:srgbClr val="4f271c"/>
                </a:solidFill>
                <a:latin typeface="Tw Cen MT"/>
              </a:rPr>
              <a:t>07/29/26</a:t>
            </a:fld>
            <a:r>
              <a:rPr b="0" lang="en-US" sz="1400" spc="-1" strike="noStrike">
                <a:solidFill>
                  <a:srgbClr val="4f271c"/>
                </a:solidFill>
                <a:latin typeface="Tw Cen MT"/>
              </a:rPr>
              <a:t> </a:t>
            </a:r>
            <a:fld id="{D0374BAE-7525-4ABB-A0F3-263AEA9D523B}"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33AE-BF42-40E5-A31B-5FF9B44EE10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18E6-95C4-4C8E-9352-689C340B823C}" type="datetime">
              <a:rPr b="0" lang="en-US" sz="1400" spc="-1" strike="noStrike">
                <a:solidFill>
                  <a:srgbClr val="4f271c"/>
                </a:solidFill>
                <a:latin typeface="Tw Cen MT"/>
              </a:rPr>
              <a:t>07/29/26</a:t>
            </a:fld>
            <a:r>
              <a:rPr b="0" lang="en-US" sz="1400" spc="-1" strike="noStrike">
                <a:solidFill>
                  <a:srgbClr val="4f271c"/>
                </a:solidFill>
                <a:latin typeface="Tw Cen MT"/>
              </a:rPr>
              <a:t> </a:t>
            </a:r>
            <a:fld id="{D07A9C06-4603-48BE-A97C-7C4E876F5A3B}"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1FE5-5120-4862-924C-70973E96FD00}"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3F20-5F20-41A5-8C54-1741EB27893A}" type="datetime">
              <a:rPr b="0" lang="en-US" sz="1400" spc="-1" strike="noStrike">
                <a:solidFill>
                  <a:srgbClr val="4f271c"/>
                </a:solidFill>
                <a:latin typeface="Tw Cen MT"/>
              </a:rPr>
              <a:t>07/29/26</a:t>
            </a:fld>
            <a:r>
              <a:rPr b="0" lang="en-US" sz="1400" spc="-1" strike="noStrike">
                <a:solidFill>
                  <a:srgbClr val="4f271c"/>
                </a:solidFill>
                <a:latin typeface="Tw Cen MT"/>
              </a:rPr>
              <a:t> </a:t>
            </a:r>
            <a:fld id="{026FF55D-9E0E-4078-86CB-F3628FDEE5E1}"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DF45-E3DE-4969-8C73-162A30CAACCB}"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523D-8F92-44D3-8E00-A146E3D523AD}" type="datetime">
              <a:rPr b="0" lang="en-US" sz="1400" spc="-1" strike="noStrike">
                <a:solidFill>
                  <a:srgbClr val="4f271c"/>
                </a:solidFill>
                <a:latin typeface="Tw Cen MT"/>
              </a:rPr>
              <a:t>07/29/26</a:t>
            </a:fld>
            <a:r>
              <a:rPr b="0" lang="en-US" sz="1400" spc="-1" strike="noStrike">
                <a:solidFill>
                  <a:srgbClr val="4f271c"/>
                </a:solidFill>
                <a:latin typeface="Tw Cen MT"/>
              </a:rPr>
              <a:t> </a:t>
            </a:r>
            <a:fld id="{A139711B-E87D-4F36-B671-8B7A034C6BBB}" type="datetime10">
              <a:rPr b="0" lang="en-US" sz="1400" spc="-1" strike="noStrike">
                <a:solidFill>
                  <a:srgbClr val="4f271c"/>
                </a:solidFill>
                <a:latin typeface="Tw Cen MT"/>
              </a:rPr>
              <a:t>04:24</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B398-C0DC-401D-8CD3-E0774120AA5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73B4-2EF0-4A7B-865B-A0CD64AFAF46}"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FA44-D3B3-48B3-9E75-E5DBC990658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D7B9-2CA4-4A92-88AB-D203B446063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F83F-A8D3-428D-8DE3-D1AC13C0B5D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2668-84DC-4BAC-AB16-897FF852F76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D883-8789-416B-8563-830C8E8C0956}"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548E-F5AC-4C22-9A2B-C44A61F30C5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8726-CD6C-441C-A9B0-476D1E747B7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059E-0C30-4699-9A44-85F25FF06F0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5EFE-B625-4E0B-83CD-E6B1A8BF18A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21A4-E7C4-4DB9-BC55-917E30C8FF7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D93D-2D99-43A0-BE76-BC6C58508E0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3A81-1747-4982-B38B-6F31BFE6510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F1AC-DF56-4854-B749-A1DB6132B2E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