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E683-B8F0-486B-808E-605C098C81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E0DF-2CA1-41FB-971C-46C21424B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EA677-0094-454A-AA43-0B42A5C1F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83E3-868E-413B-AA3D-65CC3055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E9D13-880D-48A5-9E02-B141A19E4F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B37FFA-35CF-4634-82B7-1C7838B1D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C113E-E4DA-44DF-94D8-984C03130F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57D2CE-2A0D-4BD5-8D78-AE731CD66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699903-7E42-463C-895D-9D50E483E3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6F3233-45A3-421D-964D-D1DC97EB7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7DDE7-D223-4C97-A43A-9A4D9559D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F0A86A-7F9C-4EB7-8627-972F51AF02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42E635-8969-4118-9C72-9A975B4A34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8ED28A3-A4FA-4287-903F-FB9F7A1332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AF7E4-4CC7-4B41-82C3-519A17D56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E3ADC4E-B83E-4E6B-B934-168E677914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AFA1137-4AC7-43BD-BF86-F1FE6396F1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7839772-0B08-42D2-81B3-66032EB269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7BC01B1-7A97-4948-BB50-7D3964BB39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233C855-6819-4623-B211-DBB9839A1A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D01FD86-934C-442B-9A4B-3F4282857A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70A551D-FB52-4ABE-B17F-E6C807392F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1B88FAB-7B2C-4F81-9AA1-58FD8E0C59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ED4D596-AFBF-4872-8589-9ACCBF8A28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F26E352-A468-4953-A1B2-66015580C3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598BE-E164-4142-9A3D-E4F2EE595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1E0EFF0-2211-4E60-82E0-1E5A374669A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BBB137-2B4E-4A53-8238-071EFB4433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5FE371-5CD3-4BCA-A613-8CFDF63791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4AA87E-CC6D-4C07-A9BB-478AB3D42F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2C2182-61BF-417B-AC98-E32385DD38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8B2C19-E7F0-45C4-90EC-60B97EF003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73A172-15D7-4E8F-92F1-D12D45C991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88137E-AEF5-4C08-BB37-E6AB3D6ADD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C30262-BFB1-42E3-804C-4CDBFBC0B2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EC8E1B-5F82-4AE4-B65A-D8C3460A34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704C6-BD53-42B0-A28C-C3644248C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456264-2CA8-4533-9CA9-1509226FE7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567F90-44F2-4BD3-8E59-6E0092BAEE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48A594-2701-4A19-A444-EAD7ACD975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74E877-31CB-485E-9B62-21B52FC083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FB59D0-03CB-4609-AC8D-AD87155B01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F01043-894B-4192-8970-F9C07FAF53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E9EE33-A324-453F-8DC7-E083E43398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AB3FFF-28D8-4B7E-990E-C0A8F46A16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1EFA99-0D1C-4072-A67C-2821920A5E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8EE081-EDE9-4A02-8C8C-291127EA51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FDFFA-4FD7-413E-B875-E3800770B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B39E06-C154-425F-A1B2-09CD580A86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51971A-C6F8-4C43-AFC5-937EE892A2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426776-125D-4646-8DC1-DA57774D9B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756735-A359-40F7-856E-DDB6527E83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2BA725-F586-4D61-BC45-976B934319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9969-768A-4F8B-B46C-5DA11EB09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6015B-A2C1-42DC-8976-BBEE372A5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4585A-65AF-43DA-A4BA-D93FA09DB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DF573-59B7-4854-B963-F59FEE80F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C44AE-F9F3-48C8-8821-387747BF3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FB0F5-1BA1-4A6D-9CE2-0E7FAE70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5CE35-261D-4873-B91D-ADCC4E98E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35865-0DF5-435D-B468-5B4FC4525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F2411-D206-4EC7-BEF6-FF8CB9164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F9F02-70AD-4D33-A2CC-C9D2BDFBA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3C196-4FE9-4FF5-9F2A-1687410A9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C2E23-54B8-4F2B-AA3D-8BE2BF874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CC7286-101F-44D3-A2DB-CAB933FC2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404AD-6252-4AF0-A54A-1B716912E9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84A24-7AE3-4A9C-8A85-0E0C0C2F5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57694-DB3F-4EA8-A8DE-A669E9978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79D5E-58C6-49B6-B2EB-C8731DF5E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51796-84BB-43FA-BF56-A817F42F1B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0B16C-C342-4D89-8806-29BD4C987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9A20C-211F-4315-B908-14A6678C4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13A16-8BA9-479B-9687-C03E392DF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262BB-1E12-4826-99CE-E3B714DB4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943A5A-1A68-4FE8-B8FA-2FECB605D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8682F-8477-483B-ACB9-010F9A8660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44BCFA2-ED26-4AC6-902B-3A3F091D6B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B716F1-97A0-40E7-A4CD-99A5408F6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CFB86F-BFFF-499E-8488-39AE8BFBE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1B087-A230-4A7E-A7DC-3610ABC6C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1C5EC4-BB63-49F0-92D6-3E0AE6247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847712-6056-47E9-A18D-565940AFDD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FD6787-C452-4D2B-AB8B-2BFE47FC4C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71C1E3-5FFE-4DC8-8AAB-F1D1201EC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107C19-E0FF-4180-ABA8-5DCCC9B1D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E640895-05EB-48AF-B2FB-B5E6BC58E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4C9FF0-F84D-4DFF-811E-DB2957A28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CF52AE5-E96B-4F7B-8AF8-11078D84EB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64C466-EFCA-4524-8636-BDF914483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BCA134-0CAE-4DE6-A9D1-ED50B3B61C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FA9DB-4264-4809-9B98-8C0760E4E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2CD693-6387-4EB7-940E-77E4F1461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23C976-AB2D-42D9-A628-FF71F579E4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06AF77-6EC2-43A1-9953-16853B70F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1BF0E8-3710-4BF3-905F-6920E0CAB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59A7FB-9777-4EF9-9FFE-C0AF388F1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AE3229-F0C3-4D42-B3D8-BD4084758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912077-BE20-4D77-9AD1-A5567A468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C9E52A-568F-4688-8BCF-BF51AEB2F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7FBD31C-EADF-4982-A7D5-8B0B446036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7510BD-4425-441C-87B9-BF1D4FEC7A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C6B03-7A05-4E52-B819-69E59D1C2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AE451E-9800-4BF7-BB1A-354503F56D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2E2F2B9-5F25-4A24-A394-1EF94E2FC0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F8671F7-3955-4709-AD37-3B817C539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1847E2-80DF-46E9-BCED-982FFDC375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25924A5-6F22-4D15-AF7B-77A61E222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47B34EC-E195-4B0D-BB66-C47B6231A5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81EB843-A254-4DE6-80C8-2F1B362BE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68B236-1AB8-412E-92B8-D071A8613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31BA49A-5EB6-4B4C-92F6-61F27F47B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2E11F6-A8DD-4A46-8A63-B5548033C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CEB9E-BC1E-4B72-88F0-BDA1B2C3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A837DDA-EBE6-4C98-A66B-271E8D2A6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B2AC58B-FA22-4F86-9DE2-C3AFC50E1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8ACF47A-3E28-4E6C-8590-526497EB94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9594F7-3B32-43B4-BA14-14935FCA2E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84C574-B1AF-437F-8DB9-E86CC28D0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4BEE1D-4D2F-4BBC-A04B-737EC21E5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62D98C-04C5-425D-837D-DEEE8D922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F48B69-9670-4DCA-A79C-CDBD69BC9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C43743-A203-4962-B18D-6944EC4ABE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A0450-3898-4D30-AD0B-C2F20A71C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AEC9-0368-43FC-B557-9B2E3BB2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9AFE2-D389-4645-A48B-1F1DD7DB7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AE7AE-066F-4C83-9095-0C7248A9C6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8071F-889F-490F-BC14-4F3D54D97B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907C51-E5E1-4FB4-8104-4A92C8C89A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7B7DC6-3AC6-4F4B-8D84-F5D9B9E133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4069C8-5967-46C3-94A3-11BB3222A0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ACA03-F614-4D81-B9FC-AD8209D69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1E219-0560-4037-B476-2AA041771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8D56E9-EF7A-45DF-BF71-967CBA7C83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F7403-7BA3-49E8-988D-A331CC92C0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256A-806B-47E7-B937-2ED7E67D7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E4A623-AD34-4B36-8071-854303F54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DEE74A-AE0C-4C36-8167-D8F165CCE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6EF6A-B584-429F-98C9-1679B135D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43C2D4-DDF5-429F-8618-45E110A3EB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BBBC2-16B1-4E37-91BF-5D64DC12EA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4E1A93-D715-4D82-A1EF-6D12FEFFC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BF455-E0ED-464A-8F6B-C826099D96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4A2A3F-BC62-4CB8-AB0E-F242C1881F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0FBBD6-CC0B-4ADB-9292-AE79BFAE6F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BC5A9B-A27D-41D2-9AD3-CB2E4A8D46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243A-FCF2-4471-8376-23EB408994A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1933A72-3EC8-48CC-821E-1FD1E07C4056}"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CC85-34C4-4565-9549-288855566D9F}"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5F1F-AE38-420B-8E10-70385366B98E}"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9D405C4-ABB3-41DA-A759-C6DCE97DB14A}"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EFD9-1857-4F3E-857A-5A6DA5D5F7D4}"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56EA-93DB-48DC-A9EE-F787B0C49F4A}"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145A13F-ADB7-44EF-BB51-29DA4DE28299}"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D551-3108-42D5-AE2F-D7FA0A9B4EAD}"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AFAD-E4DB-4753-9921-A9C179AFD9B1}" type="datetime">
              <a:rPr b="0" lang="en-US" sz="1400" spc="-1" strike="noStrike">
                <a:solidFill>
                  <a:srgbClr val="4f271c"/>
                </a:solidFill>
                <a:latin typeface="Tw Cen MT"/>
              </a:rPr>
              <a:t>07/30/26</a:t>
            </a:fld>
            <a:r>
              <a:rPr b="0" lang="en-US" sz="1400" spc="-1" strike="noStrike">
                <a:solidFill>
                  <a:srgbClr val="4f271c"/>
                </a:solidFill>
                <a:latin typeface="Tw Cen MT"/>
              </a:rPr>
              <a:t> </a:t>
            </a:r>
            <a:fld id="{F8BE67ED-E059-4EB5-93D6-88A26B72A05B}"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AFF8-CE1F-475D-806A-547BB5A1A599}"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FFB4-3B13-4022-A2E8-E4004E3D306C}" type="datetime">
              <a:rPr b="0" lang="en-US" sz="2000" spc="-1" strike="noStrike">
                <a:solidFill>
                  <a:srgbClr val="ffffff"/>
                </a:solidFill>
                <a:latin typeface="Tw Cen MT"/>
              </a:rPr>
              <a:t>07/30/26</a:t>
            </a:fld>
            <a:r>
              <a:rPr b="0" lang="en-US" sz="2000" spc="-1" strike="noStrike">
                <a:solidFill>
                  <a:srgbClr val="ffffff"/>
                </a:solidFill>
                <a:latin typeface="Tw Cen MT"/>
              </a:rPr>
              <a:t> </a:t>
            </a:r>
            <a:fld id="{15736D17-1356-4306-A8B0-5D91208BA615}" type="datetime10">
              <a:rPr b="0" lang="en-US" sz="2000" spc="-1" strike="noStrike">
                <a:solidFill>
                  <a:srgbClr val="ffffff"/>
                </a:solidFill>
                <a:latin typeface="Tw Cen MT"/>
              </a:rPr>
              <a:t>16:30</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0BFB-A9E6-4AF4-BDDC-578AB7755217}"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DDA7-F326-4543-911C-C373DC35AD29}" type="datetime">
              <a:rPr b="0" lang="en-US" sz="1400" spc="-1" strike="noStrike">
                <a:solidFill>
                  <a:srgbClr val="4f271c"/>
                </a:solidFill>
                <a:latin typeface="Tw Cen MT"/>
              </a:rPr>
              <a:t>07/30/26</a:t>
            </a:fld>
            <a:r>
              <a:rPr b="0" lang="en-US" sz="1400" spc="-1" strike="noStrike">
                <a:solidFill>
                  <a:srgbClr val="4f271c"/>
                </a:solidFill>
                <a:latin typeface="Tw Cen MT"/>
              </a:rPr>
              <a:t> </a:t>
            </a:r>
            <a:fld id="{5E3BA859-C794-4D8C-9EBD-84077D9E5E88}"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009C-A1CC-4F2D-BCA7-B4C30D5DE00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2989-7913-451A-94A1-7F9C8F9C124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0F9B79AE-0B48-4FA5-9F97-E40AA87EA53D}"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5CCE-63B7-465B-8864-7AD470CFF33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8E04-9E6A-497C-AC09-2C845D9E464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42189C2-7BBE-4611-8F69-9D64E02B3531}"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B463-B9A8-4673-A797-2F88D6C3BA3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583F-AD0C-486A-95C6-6D08323942E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60CCECD-2DE9-477C-8E26-83DF2BF6BD9E}"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DA58-E44D-4998-8F9E-1B22636A0B3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0EF9-7F71-48F8-97E0-EBB1020DC00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ACDAE3E-7B95-46C4-8B92-05F501C2A15D}"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A815-9DD3-40DE-8B58-19D57ED22B0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8923-7CB9-4C4D-AD50-5E08993BF28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45882CC-5B13-477A-9D52-B0B123FC1019}"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D436-475A-4EB9-84BF-E41B3929D31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C6ED-A781-4B19-8C6B-98C7397EB15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AFB26D0-10AD-40E5-A5D6-C4DE21907C89}" type="datetime10">
              <a:rPr b="0" lang="en-US" sz="1400" spc="-1" strike="noStrike">
                <a:solidFill>
                  <a:srgbClr val="4f271c"/>
                </a:solidFill>
                <a:latin typeface="Tw Cen MT"/>
              </a:rPr>
              <a:t>16:30</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55ED-8135-4197-8CD5-A649972C32F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C68D-1715-4C51-AE2B-8274F91974F1}"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91C3-7633-4A43-94F1-E096A62942D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5EF4-C57D-492F-A640-BB5DD7D3FBC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BE40-AC2B-4B5D-A018-16011803430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682E-8BF2-4C99-A5B8-69A7AACD5A9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458F-9A61-45A6-9B6F-B8BC09EB6A87}"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FFCC-1FBE-4DCA-A47E-B4DF3C69D8D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08F2-F55E-4FD4-97F3-789B7FE9517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A115-AA6B-4766-8F39-F1264CC9EA3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2358-647C-4A01-8B11-324CAF7F2E9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C952-8164-49BB-9A4A-FA577BD80D1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555F-1C1C-48E0-8596-EAE331F4941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530F-FB4E-4C1A-A063-90D698D2D71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ED90-7E0C-4172-B4CD-99FDE9F9CC0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