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CD5-A094-424D-8615-B70ACA6C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DBC-3DD8-4018-B161-B008A2FE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8F7-FA64-4C4B-A022-0BB41B0B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7DB-4726-4458-A10C-199CED01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CE6-7E86-4A3E-B3A3-A4925ADF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B1C-A987-4A2A-BC5B-8E572070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13C-A79D-4C00-80EC-AFFE35A7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4EB-3B96-486E-AEC6-85083F34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B51-104A-4E23-98E4-2C12F2D7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996-C993-4B43-B68E-3103643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19A-A250-455E-A16A-808C9B8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781-1AE2-4BF0-AEA4-285E0F9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CAE9-5966-4AB5-8D2E-50F369957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Monotype Koufi"/>
              </a:rPr>
              <a:t>الأصل الخامس : الإيمان باليوم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أصل الخامس: الإيمان باليوم الآخ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يوم الآخر هو يوم القيامة، حيث يبعث الله العباد من قبورهم للحساب والجزاء، ويقضي بينهم، ففريق في الجنة وفريق في السع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سمّي باليوم الآخر لتأخره عن الدني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والحساب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عريف الله عز وجل الخلائق</a:t>
            </a: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بأعمالهم خيراً أو شراً، وتذكيرهم ما قد </a:t>
            </a: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نسوه منها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يزا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ميزان ينصب يوم القيامة لوزن أعمال العباد وتمييزها وإظهار مقاديرها، والوزن يكون بعد الحساب، لأنَّ المحاسبة هي لتقرير الأعمال، والوزن لإظهار مقادير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يكون الجزاء بحس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صحائف الأعم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عد الانتهاء من الحساب والميزان، يأخذ كل كتاب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َأَمَّا مَنْ أُوتِيَ كِتَابَهُ بِيَمِينِهِ فَيَقُولُ هَاؤُمُ اقْرَءُوا كِتَابِيَهْ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أَمَّا مَنْ أُوتِيَ كِتَابَهُ بِشِمَالِهِ فَيَقُولُ يَا لَيْتَنِي لَمْ أُوتَ كِتَابِيَهْ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صرا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جسر على متن جهنم يمر عليه الأولون والآخرون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إِنْ مِنْكُمْ إِلَّا وَارِدُهَا كَانَ عَلَى رَبِّكَ حَتْمًا مَقْضِيًّ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قنطر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بعد عبور المؤمنين على الصراط ، وقبل دخولهم الجنة يوقفون على قنطرة بين الجنة و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حو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و حوض النبي صلى الله عليه وسلم. ((حوضي مسيرة شهر، وزواياه سواء، ماؤه أبيض من اللبن، وريحه أطيب من المسك، وكيزانه كنجوم السماء، من شرب منه فلا يظمأ بعده أبداً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جنة والنا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م الداران اللتان يستقر فيهما الخلائق، أعدهما الله سبحانه وتعالى جزاءً للعباد على أعمال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جنة دار النعي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/ا النار فهي دار العذاب والإهانة أعدها الله لأعدائه الكاف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شفاعة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شفاعة: مشتقة من الشفع الذي هو ضد الوت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هي أنواع: الأولى: وهي العظمى وهي خاصة بنبينا محمد صلى الله عليه و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ثانية: شفاعته ص في أن يدخل أهل الجنة، الج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ثالثة: شفاعته ص في عمه أبي طالب أن يخفف عنه العذاب فهذه ثلاث خاصة بنبيّنا محمد صلى الله عليه وس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الشفاعة فيمن استحق النار من عصاة الموحدين أن لا يدخ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الشفاعة فيمن دخل النار من هؤلاء العصاة أن يخرج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الشفاعة في رفع درجات بعض أهل الج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هذه الشفاعات لا تتحقق إلاَّ بشرطي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إذن الله للشافع، قال تعالى: [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َنْ ذَا الَّذِي يَشْفَعُ عِنْدَهُ إِلَّا بِإِذْنِه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رضا الله عن المشفوع له، قال تعال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[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َلَا يَشْفَعُونَ إِلَّا لِمَنِ ارْتَضَ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8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</a:rPr>
              <a:t>واستدل على إمكانه بأدلة حسية وعق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الحسي فقد أخبر سبحانه عمن أماتهم ثم أحياهم في هذه الدن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العقل فدلالته على البعث من وجو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أول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على النشأة الثانية بالنشأة الأو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ثاني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بخروج الشيء من ضده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ثالث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بخلق الأكبر على إيجاد الأصغ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َوَلَيْسَ الَّذِي خَلَقَ السَّمَاوَاتِ وَالأَرْضَ بِقَادِرٍ عَلَى أَنْ يَخْلُقَ مِثْلَهُمْ بَلَى وَهُوَ الخَلَّاقُ العَلِيمُ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رابع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بإحياء الأرض بعد موتها على إحياء الأمو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خامس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دلال على البعث بحصول اليقظة بعد النو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سادس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دلال بأنَّ حكمة الله وعدله يقتضيان البعث والجزاء، قال تعالى: 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َفَحَسِبْتُمْ أَنَّمَا خَلَقْنَاكُمْ عَبَثًا وَأَنَّكُمْ إِلَيْنَا لَا تُرْجَعُو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وقت الساع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هو مما استأثر الله بعلمه، وهي إنَّما تقع بغتة،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َسْأَلُونَكَ عَنِ السَّاعَةِ أَيَّانَ مُرْسَاهَا قُلْ إِنَّمَا عِلْمُهَا عِنْدَ رَبِّي لَا يُجَلِّيهَا لِوَقْتِهَا إِلَّا هُو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ذي في القبر شيئ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 ـ فتنة القب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إنَّ الميت يمتحن إذا وضع في قب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 نعيم القبر وعذاب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عد فتنة القبر يبقى الميت إما في نعيم أو عذاب إلى أن تقوم القيامة وهذا يحصل لروحه وبدنه جميعاً، ويحصل للروح منفردة عن البدن. فمن الأدلة على ذل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ُثَبِّتُ اللهُ الَّذِينَ آَمَنُوا بِالقَوْلِ الثَّابِتِ فِي الحَيَاةِ الدُّنْيَا وَفِي الآَخِرَةِ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حَاقَ بِآَلِ فِرْعَوْنَ سُوءُ العَذَابِ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نَّارُ يُعْرَضُونَ عَلَيْهَا غُدُوًّا وَعَشِيًّ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ذا أقعد المؤمن في قبره أُتي ثم شهد أن لا إله إلاَّ الله وأنَّ محمداً رسول الله، فذلك قوله: (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ثبت الله الذين أمنوا بالقول الثابت في الحياة الدنيا وفي الآخرة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ذاب القبر نوع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منه ما هو دائم، كما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نَّارُ يُعْرَضُونَ عَلَيْهَا غُدُوًّا وَعَشِيًّ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منه ما هو منقطع، وهو عذاب بعض عصاة المسلمين، فيعذب بحسب جرمه، ثم يخفف عنه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قد أنكر قوم من الضلال نعيم القبر وعذاب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جواب من وجو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هذه الأمور ثبتت بالخبر الصادق، وواجب المسلم التصديق بها وإثبات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للآخرة أحكاماً تختص بها لا تقاس على أحوال الدني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الإنسان لا يدرك كل شي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الله سبحانه أرانا في هذه الدنيا نماذج تقرب هذه المعان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ا البعث من القبور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كون عند النفخ في الصور، والنافخ فيه هو إسرافيل عليه السل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 ـ نفخة الفزع: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َيَوْمَ يُنْفَخُ فِي الصُّورِ فَفَزِعَ مَنْ فِي السَّمَاوَاتِ وَمَنْ فِي الأَرْضِ إِلَّا مَنْ شَاءَ اللهُ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 ـ نفخة الصعق: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فيها هلاك كل شيء في هذا العالم، قال تعال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: ( ونفخ في الصور فصعق من في السموات ومن في الأرض غلا من شاء الله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 ـ نفخة البعث والنشو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يث يقوم الناس من قبورهم،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ُمَّ نُفِخَ فِيهِ أُخْرَى فَإِذَا هُمْ قِيَامٌ يَنْظُرُو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حش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قوم الناس من قبورهم على صفة بينها الرسول صلى الله عليه وسلم يقول يحشر الناس يوم القيامة حفاة عراة غرلا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9999"/>
                </a:solidFill>
                <a:uFillTx/>
                <a:latin typeface="Arial"/>
              </a:rPr>
              <a:t>العرض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رض الخلائق على الله عز وجل،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وَعُرِضُوا عَلَى رَبِّكَ صَفًّا لَقَدْ جِئْتُمُونَا كَمَا خَلَقْنَاكُمْ أَوَّلَ مَرَّةٍ بَلْ زَعَمْتُمْ أَلَّنْ نَجْعَلَ لَكُمْ مَوْعِدًا</a:t>
            </a:r>
            <a:r>
              <a:rPr b="0" lang="ar-SA" sz="3200" spc="-1" strike="noStrike">
                <a:solidFill>
                  <a:srgbClr val="009999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8:23:42Z</dcterms:created>
  <dc:creator>user</dc:creator>
  <dc:description/>
  <dc:language>en-US</dc:language>
  <cp:lastModifiedBy>user</cp:lastModifiedBy>
  <dcterms:modified xsi:type="dcterms:W3CDTF">2005-06-17T08:27:23Z</dcterms:modified>
  <cp:revision>15</cp:revision>
  <dc:subject/>
  <dc:title>الشريحة 1</dc:title>
</cp:coreProperties>
</file>