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99F-0F67-43A3-A19F-E66803C4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A49-11CB-4261-B24B-3AEEAD7C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9DE-860F-4B96-AF11-18DECCB3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6C5-3375-4836-A9AE-CB211BD6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C0E-F42E-43F7-AE41-3B6EBB6D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EBB-D0DC-41FE-BDEE-16C09F3C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28B-FB32-4923-9C30-46CFE04A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7DC-5FC4-4686-A0ED-0CC4EADE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F22-D8F7-42CA-9D5D-F535443D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5F1-AF3B-49C5-86E6-525EFF68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E65-A5D2-4ED0-B04E-9F5035F9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A72-15B6-4076-95CD-3E24E258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DB72-3DA4-4B79-8319-B73F70898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Arial"/>
                <a:cs typeface="Monotype Koufi"/>
              </a:rPr>
              <a:t>الأصل الخامس : الإيمان باليوم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أصل الخامس: الإيمان باليوم الآخ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يوم الآخر هو يوم القيامة، حيث يبعث الله العباد من قبورهم للحساب والجزاء، ويقضي بينهم، ففريق في الجنة وفريق في السع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سمّي باليوم الآخر لتأخره عن الدني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والحساب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تعريف الله عز وجل الخلائق</a:t>
            </a: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بأعمالهم خيراً أو شراً، وتذكيرهم ما قد </a:t>
            </a: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نسوه منها،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يزا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و ميزان ينصب يوم القيامة لوزن أعمال العباد وتمييزها وإظهار مقاديرها، والوزن يكون بعد الحساب، لأنَّ المحاسبة هي لتقرير الأعمال، والوزن لإظهار مقادير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ليكون الجزاء بحس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صحائف الأعم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عد الانتهاء من الحساب والميزان، يأخذ كل كتاب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فَأَمَّا مَنْ أُوتِيَ كِتَابَهُ بِيَمِينِهِ فَيَقُولُ هَاؤُمُ اقْرَءُوا كِتَابِيَهْ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َأَمَّا مَنْ أُوتِيَ كِتَابَهُ بِشِمَالِهِ فَيَقُولُ يَا لَيْتَنِي لَمْ أُوتَ كِتَابِيَهْ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الصراط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و جسر على متن جهنم يمر عليه الأولون والآخرون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َإِنْ مِنْكُمْ إِلَّا وَارِدُهَا كَانَ عَلَى رَبِّكَ حَتْمًا مَقْضِيًّ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القنطر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بعد عبور المؤمنين على الصراط ، وقبل دخولهم الجنة يوقفون على قنطرة بين الجنة والنا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الحو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هو حوض النبي صلى الله عليه وسلم. ((حوضي مسيرة شهر، وزواياه سواء، ماؤه أبيض من اللبن، وريحه أطيب من المسك، وكيزانه كنجوم السماء، من شرب منه فلا يظمأ بعده أبداً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الجنة والنار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م الداران اللتان يستقر فيهما الخلائق، أعدهما الله سبحانه وتعالى جزاءً للعباد على أعمال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الجنة دار النعي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أ/ا النار فهي دار العذاب والإهانة أعدها الله لأعدائه الكاف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شفاعة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شفاعة: مشتقة من الشفع الذي هو ضد الوت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8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8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هي أنواع: الأولى: وهي العظمى وهي خاصة بنبينا محمد صلى الله عليه وسل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ثانية: شفاعته ص في أن يدخل أهل الجنة، الجن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ثالثة: شفاعته ص في عمه أبي طالب أن يخفف عنه العذاب فهذه ثلاث خاصة بنبيّنا محمد صلى الله عليه وسل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ـ الشفاعة فيمن استحق النار من عصاة الموحدين أن لا يدخل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ـ الشفاعة فيمن دخل النار من هؤلاء العصاة أن يخرج من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ـ الشفاعة في رفع درجات بعض أهل الجن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هذه الشفاعات لا تتحقق إلاَّ بشرطي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ـ إذن الله للشافع، قال تعالى: [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َنْ ذَا الَّذِي يَشْفَعُ عِنْدَهُ إِلَّا بِإِذْنِهِ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ـ رضا الله عن المشفوع له، قال تعال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[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َلَا يَشْفَعُونَ إِلَّا لِمَنِ ارْتَضَى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8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8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3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Arial"/>
              </a:rPr>
              <a:t>واستدل على إمكانه بأدلة حسية وعق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ا الحسي فقد أخبر سبحانه عمن أماتهم ثم أحياهم في هذه الدني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ا العقل فدلالته على البعث من وجو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أول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استدلال على النشأة الثانية بالنشأة الأول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ثاني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استدلال بخروج الشيء من ضده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ثالث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استدلال بخلق الأكبر على إيجاد الأصغ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َوَلَيْسَ الَّذِي خَلَقَ السَّمَاوَاتِ وَالأَرْضَ بِقَادِرٍ عَلَى أَنْ يَخْلُقَ مِثْلَهُمْ بَلَى وَهُوَ الخَلَّاقُ العَلِيمُ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رابع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استدلال بإحياء الأرض بعد موتها على إحياء الأموا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خامس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ستدلال على البعث بحصول اليقظة بعد النو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سادس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ستدلال بأنَّ حكمة الله وعدله يقتضيان البعث والجزاء، قال تعالى: 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َفَحَسِبْتُمْ أَنَّمَا خَلَقْنَاكُمْ عَبَثًا وَأَنَّكُمْ إِلَيْنَا لَا تُرْجَعُونَ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ا وقت الساع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هو مما استأثر الله بعلمه، وهي إنَّما تقع بغتة، قال تعال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: 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َسْأَلُونَكَ عَنِ السَّاعَةِ أَيَّانَ مُرْسَاهَا قُلْ إِنَّمَا عِلْمُهَا عِنْدَ رَبِّي لَا يُجَلِّيهَا لِوَقْتِهَا إِلَّا هُوَ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الذي في القبر شيئان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 ـ فتنة القبر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إنَّ الميت يمتحن إذا وضع في قبر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ـ نعيم القبر وعذابه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عد فتنة القبر يبقى الميت إما في نعيم أو عذاب إلى أن تقوم القيامة وهذا يحصل لروحه وبدنه جميعاً، ويحصل للروح منفردة عن البدن. فمن الأدلة على ذل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ُثَبِّتُ اللهُ الَّذِينَ آَمَنُوا بِالقَوْلِ الثَّابِتِ فِي الحَيَاةِ الدُّنْيَا وَفِي الآَخِرَةِ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َحَاقَ بِآَلِ فِرْعَوْنَ سُوءُ العَذَابِ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نَّارُ يُعْرَضُونَ عَلَيْهَا غُدُوًّا وَعَشِيًّ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إذا أقعد المؤمن في قبره أُتي ثم شهد أن لا إله إلاَّ الله وأنَّ محمداً رسول الله، فذلك قوله: (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ثبت الله الذين أمنوا بالقول الثابت في الحياة الدنيا وفي الآخرة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عذاب القبر نوعا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فمنه ما هو دائم، كما قال تعال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: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نَّارُ يُعْرَضُونَ عَلَيْهَا غُدُوًّا وَعَشِيًّ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منه ما هو منقطع، وهو عذاب بعض عصاة المسلمين، فيعذب بحسب جرمه، ثم يخفف عنه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قد أنكر قوم من الضلال نعيم القبر وعذاب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الجواب من وجوه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 أنَّ هذه الأمور ثبتت بالخبر الصادق، وواجب المسلم التصديق بها وإثبات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 أنَّ للآخرة أحكاماً تختص بها لا تقاس على أحوال الدني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 أنَّ الإنسان لا يدرك كل شي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ـ أنَّ الله سبحانه أرانا في هذه الدنيا نماذج تقرب هذه المعان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ا البعث من القبور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كون عند النفخ في الصور، والنافخ فيه هو إسرافيل عليه السل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 ـ نفخة الفزع: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َيَوْمَ يُنْفَخُ فِي الصُّورِ فَفَزِعَ مَنْ فِي السَّمَاوَاتِ وَمَنْ فِي الأَرْضِ إِلَّا مَنْ شَاءَ اللهُ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 ـ نفخة الصعق: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فيها هلاك كل شيء في هذا العالم، قال تعال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: ( ونفخ في الصور فصعق من في السموات ومن في الأرض غلا من شاء الله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 ـ نفخة البعث والنشور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حيث يقوم الناس من قبورهم، قال تعال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: [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ثُمَّ نُفِخَ فِيهِ أُخْرَى فَإِذَا هُمْ قِيَامٌ يَنْظُرُونَ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حش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قوم الناس من قبورهم على صفة بينها الرسول صلى الله عليه وسلم يقول يحشر الناس يوم القيامة حفاة عراة غرلا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9999"/>
                </a:solidFill>
                <a:uFillTx/>
                <a:latin typeface="Arial"/>
              </a:rPr>
              <a:t>العرض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عرض الخلائق على الله عز وجل، قال تعال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ar-SA" sz="3200" spc="-1" strike="noStrike">
                <a:solidFill>
                  <a:srgbClr val="009999"/>
                </a:solidFill>
                <a:latin typeface="Arial"/>
              </a:rPr>
              <a:t>وَعُرِضُوا عَلَى رَبِّكَ صَفًّا لَقَدْ جِئْتُمُونَا كَمَا خَلَقْنَاكُمْ أَوَّلَ مَرَّةٍ بَلْ زَعَمْتُمْ أَلَّنْ نَجْعَلَ لَكُمْ مَوْعِدًا</a:t>
            </a:r>
            <a:r>
              <a:rPr b="0" lang="ar-SA" sz="3200" spc="-1" strike="noStrike">
                <a:solidFill>
                  <a:srgbClr val="009999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8:23:42Z</dcterms:created>
  <dc:creator>user</dc:creator>
  <dc:description/>
  <dc:language>en-US</dc:language>
  <cp:lastModifiedBy>user</cp:lastModifiedBy>
  <dcterms:modified xsi:type="dcterms:W3CDTF">2005-06-17T08:27:23Z</dcterms:modified>
  <cp:revision>15</cp:revision>
  <dc:subject/>
  <dc:title>الشريحة 1</dc:title>
</cp:coreProperties>
</file>