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02B0B-66BB-4C69-B200-DF3443206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2BB50-0D4B-4B31-8E8D-1286014FB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FC98E-A7A5-4133-B017-840856396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E1939-ABEC-4A3C-B60C-AD8381D03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D9C18-8C3F-411D-AA15-6DF58C013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0A4BB-EC52-42DB-B2C7-1415168F8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30FFF-23A6-4253-B0E7-96FD86701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0178B-72B5-4460-B240-DFAE33F0A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61196-D531-4142-8ACC-39B07C56B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0CEFD-96EA-4F81-AE56-E0B13B3EB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63A2C-09AB-4C4F-88BF-F8EAFEF4D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6BCF6-152F-47F8-815F-3A29EEF7F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E8445-F7F4-490D-BE8C-36FF065AE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83B38-5755-4268-AF6B-4B3B3D03F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638F7-15A3-4909-AD15-02F119A13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F3A26C-88BA-4F69-BA61-096AF5E72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FE50C-F4BE-4786-91AA-9BACA3520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F9804-A9D8-4E27-B06A-2E1357E51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E2282-ACC7-4E03-8819-848799BC9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1D336-C13A-48FF-BA14-3D215801A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F918B-FC94-439E-89E8-C03AB0719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82C7F-570B-4751-BE30-20B57AC43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B0B24-2293-4882-B43A-2F0AB9C37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D7CBE-0B09-4421-B633-5B59D662C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BD4F-9B5F-4E82-8507-46F88338D4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8C75-62F5-4A04-9C4A-F414E15E98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rtl="1">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rtl="1">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rPr>
              <a:t>مفهوم العلاج الأسري</a:t>
            </a:r>
            <a:endParaRPr b="0" lang="en-US" sz="5400" spc="-1" strike="noStrike">
              <a:solidFill>
                <a:srgbClr val="000000"/>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THERAPY</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5000"/>
          </a:bodyPr>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005c"/>
                </a:solidFill>
                <a:latin typeface="Arial"/>
              </a:rPr>
              <a:t>النزاعات الزواجية :</a:t>
            </a:r>
            <a:endParaRPr b="0" lang="en-US" sz="3200" spc="-1" strike="noStrike">
              <a:solidFill>
                <a:srgbClr val="000000"/>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تسوء العلاقات السيئة جو الأسرة بسبب النقص في التكامل فيشح كل من الزوجين بود الآخر.</a:t>
            </a:r>
            <a:endParaRPr b="0" lang="en-US" sz="3200" spc="-1" strike="noStrike">
              <a:solidFill>
                <a:srgbClr val="000000"/>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كما أنها قد تكون حالة من عدم الاتفاق أوالصراع التي تنشأ بين الزوجين تؤدي لحدوث اضطرابات في العلاقات الزوجية مما يتسبب في تصدع الأسرة وانهايارها.</a:t>
            </a:r>
            <a:endParaRPr b="0" lang="en-US" sz="3200" spc="-1" strike="noStrike">
              <a:solidFill>
                <a:srgbClr val="000000"/>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نزاعات الأسر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hi-IN" sz="3200" spc="-1" strike="noStrike">
                <a:solidFill>
                  <a:srgbClr val="000000"/>
                </a:solidFill>
                <a:latin typeface="Arial"/>
              </a:rPr>
              <a:t>أشمل وأعم من النزاعات الزوجية, لأنها تتعدى الزوجين لتشمل أطراف أخرى من النزاع كالأبناء والأقارب وغيرهم, وتؤدي إلى تمزق الروابط الأسرية مع بقاء الأسرة بكامل أطرافها معها.</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9" name="PlaceHolder 2"/>
          <p:cNvSpPr>
            <a:spLocks noGrp="1"/>
          </p:cNvSpPr>
          <p:nvPr>
            <p:ph/>
          </p:nvPr>
        </p:nvSpPr>
        <p:spPr>
          <a:xfrm>
            <a:off x="2437920" y="1125360"/>
            <a:ext cx="6705720" cy="5399280"/>
          </a:xfrm>
          <a:prstGeom prst="rect">
            <a:avLst/>
          </a:prstGeom>
          <a:noFill/>
          <a:ln w="0">
            <a:noFill/>
          </a:ln>
        </p:spPr>
        <p:txBody>
          <a:bodyPr lIns="90000" rIns="90000" tIns="46800" bIns="46800" anchor="t">
            <a:normAutofit fontScale="93000"/>
          </a:bodyPr>
          <a:p>
            <a:pPr marL="318960" indent="-31896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005c"/>
                </a:solidFill>
                <a:latin typeface="Arial"/>
              </a:rPr>
              <a:t>التفكك الأسري :</a:t>
            </a:r>
            <a:endParaRPr b="0" lang="en-US" sz="3200" spc="-1" strike="noStrike">
              <a:solidFill>
                <a:srgbClr val="000000"/>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حالة من حالات القصور في أداء الوظائف الأسرية, وهي </a:t>
            </a:r>
            <a:endParaRPr b="0" lang="en-US" sz="3200" spc="-1" strike="noStrike">
              <a:solidFill>
                <a:srgbClr val="000000"/>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حالة من المشكلات والتوترات التي تقوض أركان الأسرة“ ويعتقد الباحثون في شئون الأسرة أن التفكك ما هو إلا انحلال يصيب الروابط التي تربط الجماعة الأسرية كلاً مع الآخر, ولا يقتصر ذلك على ما يصيب العلاقة بين الرجل والمرأة بل قد يشمل علاقات الوالدين بأبنائهما ويترتب علية هجرة الرجل للأسرة أة الانفصال بالطلاق أو هروب الأبناء</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 name="PlaceHolder 2"/>
          <p:cNvSpPr>
            <a:spLocks noGrp="1"/>
          </p:cNvSpPr>
          <p:nvPr>
            <p:ph/>
          </p:nvPr>
        </p:nvSpPr>
        <p:spPr>
          <a:xfrm>
            <a:off x="2438280" y="836280"/>
            <a:ext cx="6400800" cy="525924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005c"/>
                </a:solidFill>
                <a:latin typeface="Arial"/>
              </a:rPr>
              <a:t>المشكلة الأسري :</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عجز في الأداء الاجتماعي أو أحد أشكال الأداء المرضي, الذي تعتبر نتائجه ذات أثر سئ على الفرد كعضو في أسرة وفي الأسرة كل.</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005c"/>
                </a:solidFill>
                <a:latin typeface="Arial"/>
              </a:rPr>
              <a:t>سوء التوافق الأسري :</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005c"/>
                </a:solidFill>
                <a:latin typeface="Arial"/>
              </a:rPr>
              <a:t>	</a:t>
            </a:r>
            <a:r>
              <a:rPr b="1" lang="ar-SA" sz="3200" spc="-1" strike="noStrike">
                <a:solidFill>
                  <a:srgbClr val="e4005c"/>
                </a:solidFill>
                <a:latin typeface="Arial"/>
              </a:rPr>
              <a:t>حينما تعجز الأسرة عن مواجهة تلك العوائق والتغيرات والمشكلات التي تطرأ عليها, أي أنها لا تستطيع أن تتوافق وتنسجم بشكل عادي مع البيئة الاجتماعية والطبيعية التي تعيش فيها. </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 name="PlaceHolder 2"/>
          <p:cNvSpPr>
            <a:spLocks noGrp="1"/>
          </p:cNvSpPr>
          <p:nvPr>
            <p:ph/>
          </p:nvPr>
        </p:nvSpPr>
        <p:spPr>
          <a:xfrm>
            <a:off x="2438280" y="1599840"/>
            <a:ext cx="6400800" cy="4853160"/>
          </a:xfrm>
          <a:prstGeom prst="rect">
            <a:avLst/>
          </a:prstGeom>
          <a:noFill/>
          <a:ln w="0">
            <a:noFill/>
          </a:ln>
        </p:spPr>
        <p:txBody>
          <a:bodyPr lIns="90000" rIns="90000" tIns="46800" bIns="46800" anchor="t">
            <a:normAutofit fontScale="91000"/>
          </a:bodyPr>
          <a:p>
            <a:pPr marL="312120" indent="-31212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وازن الأسري:</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hi-IN" sz="2800" spc="-1" strike="noStrike">
                <a:solidFill>
                  <a:srgbClr val="000000"/>
                </a:solidFill>
                <a:latin typeface="Arial"/>
              </a:rPr>
              <a:t>تحاول الأسرة دوماً أن تحتفظ بتوازنها وتكون دائماً في حالة استقرار وتقاوم كل شي يهز هذا التوازن</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تصال الأسري:</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علاقات الأسرية تتحدد بوجود عمليات اتصال</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شكلان للاتصال:</a:t>
            </a:r>
            <a:endParaRPr b="0" lang="en-US" sz="2800" spc="-1" strike="noStrike">
              <a:solidFill>
                <a:srgbClr val="000000"/>
              </a:solidFill>
              <a:latin typeface="Arial"/>
            </a:endParaRPr>
          </a:p>
          <a:p>
            <a:pPr marL="312120" indent="-312120" algn="r" rtl="1">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تصال الشفهي: استخدام الكلمات والمفاهيم لنقل المعلومات</a:t>
            </a:r>
            <a:endParaRPr b="0" lang="en-US" sz="2800" spc="-1" strike="noStrike">
              <a:solidFill>
                <a:srgbClr val="000000"/>
              </a:solidFill>
              <a:latin typeface="Arial"/>
            </a:endParaRPr>
          </a:p>
          <a:p>
            <a:pPr marL="312120" indent="-312120" algn="r" rtl="1">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تصال الحركي: التواصل جسدياً كالتصافح والعناق  </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مراكز التوجية والاستشارات الأسرية </a:t>
            </a:r>
            <a:endParaRPr b="0" lang="en-US" sz="3600" spc="-1" strike="noStrike">
              <a:solidFill>
                <a:srgbClr val="8c0039"/>
              </a:solidFill>
              <a:latin typeface="Arial"/>
            </a:endParaRPr>
          </a:p>
        </p:txBody>
      </p:sp>
      <p:sp>
        <p:nvSpPr>
          <p:cNvPr id="115" name="PlaceHolder 2"/>
          <p:cNvSpPr>
            <a:spLocks noGrp="1"/>
          </p:cNvSpPr>
          <p:nvPr>
            <p:ph/>
          </p:nvPr>
        </p:nvSpPr>
        <p:spPr>
          <a:xfrm>
            <a:off x="2438280" y="1413000"/>
            <a:ext cx="6400800" cy="4682880"/>
          </a:xfrm>
          <a:prstGeom prst="rect">
            <a:avLst/>
          </a:prstGeom>
          <a:noFill/>
          <a:ln w="0">
            <a:noFill/>
          </a:ln>
        </p:spPr>
        <p:txBody>
          <a:bodyPr lIns="90000" rIns="90000" tIns="46800" bIns="46800" anchor="t">
            <a:normAutofit fontScale="93000"/>
          </a:bodyPr>
          <a:p>
            <a:pPr marL="318960" indent="-31896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عد تنامي المشكلات الأسرية في المجتمع وأدى لتفكك الأسر مع وجود مشكلات يمكن حلها وتذليلها قبل أن تتأزم وذلك عن طريق التوجية وتقديم الاستشارات الأسرية لذا ظهرت الحاجة لمراكز الارشاد والتوجية التي تضم في عضويتها مجموعة من المتخصصين لمساعدة الأسرة بطريقة علمية على ودراسة مشكلاتهم الاجتماعية والنفسية والاقتصادية وإعادة استقرار الأسرة بهدف حماية الأسرة من التصدع.  </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8c0039"/>
                </a:solidFill>
                <a:latin typeface="Arial"/>
              </a:rPr>
              <a:t>أهداف مراكز التوجيه والاستشارات الأسرية </a:t>
            </a:r>
            <a:endParaRPr b="0" lang="en-US" sz="3600" spc="-1" strike="noStrike">
              <a:solidFill>
                <a:srgbClr val="8c0039"/>
              </a:solidFill>
              <a:latin typeface="Arial"/>
            </a:endParaRPr>
          </a:p>
        </p:txBody>
      </p:sp>
      <p:sp>
        <p:nvSpPr>
          <p:cNvPr id="117" name="PlaceHolder 2"/>
          <p:cNvSpPr>
            <a:spLocks noGrp="1"/>
          </p:cNvSpPr>
          <p:nvPr>
            <p:ph/>
          </p:nvPr>
        </p:nvSpPr>
        <p:spPr>
          <a:xfrm>
            <a:off x="2123640" y="1412640"/>
            <a:ext cx="6715080" cy="5445000"/>
          </a:xfrm>
          <a:prstGeom prst="rect">
            <a:avLst/>
          </a:prstGeom>
          <a:noFill/>
          <a:ln w="0">
            <a:noFill/>
          </a:ln>
        </p:spPr>
        <p:txBody>
          <a:bodyPr lIns="90000" rIns="90000" tIns="46800" bIns="46800" anchor="t">
            <a:normAutofit fontScale="88000"/>
          </a:bodyPr>
          <a:p>
            <a:pPr marL="301680" indent="-3016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دراسة العلمية المنظمة للمشكلات التي تواجه الأسرة للتوصل إلى أسبابها وعلاجها.</a:t>
            </a:r>
            <a:endParaRPr b="0" lang="en-US" sz="3200" spc="-1" strike="noStrike">
              <a:solidFill>
                <a:srgbClr val="000000"/>
              </a:solidFill>
              <a:latin typeface="Arial"/>
            </a:endParaRPr>
          </a:p>
          <a:p>
            <a:pPr marL="301680" indent="-3016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جيه الأسرة لمصادر الخدمات المختلفه في المجتمع للانتفاع بها والاستفادة منها في حل مشكلاتها (الأسر المنتجه, الضمان)</a:t>
            </a:r>
            <a:endParaRPr b="0" lang="en-US" sz="3200" spc="-1" strike="noStrike">
              <a:solidFill>
                <a:srgbClr val="000000"/>
              </a:solidFill>
              <a:latin typeface="Arial"/>
            </a:endParaRPr>
          </a:p>
          <a:p>
            <a:pPr marL="301680" indent="-3016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شر وتنمية الوعي الأسري بالمجتمع لتفادي المنازعات والمشكلات قبل وقوعها, </a:t>
            </a:r>
            <a:endParaRPr b="0" lang="en-US" sz="3200" spc="-1" strike="noStrike">
              <a:solidFill>
                <a:srgbClr val="000000"/>
              </a:solidFill>
              <a:latin typeface="Arial"/>
            </a:endParaRPr>
          </a:p>
          <a:p>
            <a:pPr marL="301680" indent="-3016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ديم العون للمحاكم الشرعية من خلال دراسة بعض القضايا, وإعداد البحث الاجتماعي للأسرة وإلقاء الضوء على أسباب المنازعات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رسم خطط وأساليب التعاون مع المنظمات والهيئات الأخرى التي تعمل في ميادين الخدمة الاجتماعية من أجل حماية الأسرة وعلاج مشكلاتها حتى يتحقق التكامل بين الخدمات التي تؤدى للأسرة.</a:t>
            </a:r>
            <a:endParaRPr b="0" lang="en-US" sz="3200" spc="-1" strike="noStrike">
              <a:solidFill>
                <a:srgbClr val="000000"/>
              </a:solidFill>
              <a:latin typeface="Arial"/>
            </a:endParaRPr>
          </a:p>
          <a:p>
            <a:pPr marL="332640" indent="-33264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قيام بالدراسات والأبحاث المرتبطة بالحياة الأسرية وجوانب استقرارها ونشر النتائج والتوصيات, وعقد الندوات والمحاضرات لتوعية الأسرة</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6400800" cy="4997520"/>
          </a:xfrm>
          <a:prstGeom prst="rect">
            <a:avLst/>
          </a:prstGeom>
          <a:noFill/>
          <a:ln w="0">
            <a:noFill/>
          </a:ln>
        </p:spPr>
        <p:txBody>
          <a:bodyPr lIns="90000" rIns="90000" tIns="46800" bIns="46800" anchor="t">
            <a:normAutofit fontScale="87000"/>
          </a:bodyPr>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ديم المشورة إلى الراغبين في الزواج فيما يتصل بإختيار شريك الحياة والتخطيط لحياة أسرية معاصره</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إسهام في تهيئة الجو الأسري المناسب الذي يحقق للأطفال تنشئة اجتماعية سليمه من خلال فض المنازعات بين الأزواج وأفراد الأسرة.</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راسة أحدث الأساليب والوسائل التي تتبعها الدول المتقدمة في حل مشكلات الأسرة وتجربة تطبيق ما يتناسب مع مجتمعنا</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دريب طلاب وطالبات الكليات والمعاهد التي تعد الأخصائيين الاجتماعيين والأخصائيات للعمل في ميدان رعاية الأسر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 name="PlaceHolder 2"/>
          <p:cNvSpPr>
            <a:spLocks noGrp="1"/>
          </p:cNvSpPr>
          <p:nvPr>
            <p:ph/>
          </p:nvPr>
        </p:nvSpPr>
        <p:spPr>
          <a:xfrm>
            <a:off x="2438280" y="1197000"/>
            <a:ext cx="6400800" cy="4898880"/>
          </a:xfrm>
          <a:prstGeom prst="rect">
            <a:avLst/>
          </a:prstGeom>
          <a:noFill/>
          <a:ln w="0">
            <a:noFill/>
          </a:ln>
        </p:spPr>
        <p:txBody>
          <a:bodyPr lIns="90000" rIns="90000" tIns="46800" bIns="46800" anchor="t">
            <a:normAutofit fontScale="94000"/>
          </a:bodyPr>
          <a:p>
            <a:pPr marL="322200" indent="-3222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هو العلاج الذي تكون فيه الأسرة وحدة المعالجة الأساسية, والذي يمكن أن يرى فيها أكثر من فرد من أعضاء الأسرة خلال فترى العلاج بشكل فردي أو مشترك.</a:t>
            </a:r>
            <a:endParaRPr b="0" lang="en-US" sz="3200" spc="-1" strike="noStrike">
              <a:solidFill>
                <a:srgbClr val="000000"/>
              </a:solidFill>
              <a:latin typeface="Arial"/>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حينما يعمل المعالج مع الأم أو الطفل أو الوالدين أو مجموعة من أفراد الأسرة فإن المعالجة ينظر إليها على أساس أنها علاج أسري.</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8c0039"/>
                </a:solidFill>
                <a:latin typeface="Arial"/>
              </a:rPr>
              <a:t>ميادين العمل بمراكز التوجيه والاستشارات الأسرية </a:t>
            </a:r>
            <a:endParaRPr b="0" lang="en-US" sz="3600" spc="-1" strike="noStrike">
              <a:solidFill>
                <a:srgbClr val="8c0039"/>
              </a:solidFill>
              <a:latin typeface="Arial"/>
            </a:endParaRPr>
          </a:p>
        </p:txBody>
      </p:sp>
      <p:sp>
        <p:nvSpPr>
          <p:cNvPr id="12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8000"/>
          </a:bodyPr>
          <a:p>
            <a:pPr marL="335880" indent="-3358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دور وقائي:</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 يتم من خلال التوعية الاجتماعية والأسرية عن طريق عقد الندوات واللقاءات وإلقاء المحاضرات, واستخدام وسائل الإعلام بهدف زيادة الوعي بحقائق الحياة الأسرية السليمه وأساليب التنشئة لتجنب حدوث المشكلات وكيفية مواجهتها عند وقوعها.</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ور علاجي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العمل مع الأسرة التي تواجه بالفعل بعض المشكلات والتدخل معها  سواء كانت المشكلة ناتجه عن سوء اختيار أو عدم صلاحية أحد الزوجين أو إصابة الأسرة بالكوارث والنكبات أو إنحراف بعض الأفراد في الأسرة .</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ور تنموي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يتمثل في العمل مع الأسر التي تحتاج للإرتقاء بمستوى الأداء الاجتماعي لمساعدتها على تحسين مستويات المعيشة.</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8c0039"/>
                </a:solidFill>
                <a:latin typeface="Arial"/>
              </a:rPr>
              <a:t>العلاج الأسري يجرى وفق الطريقة التاليه: </a:t>
            </a:r>
            <a:endParaRPr b="0" lang="en-US" sz="3600" spc="-1" strike="noStrike">
              <a:solidFill>
                <a:srgbClr val="8c0039"/>
              </a:solidFill>
              <a:latin typeface="Arial"/>
            </a:endParaRPr>
          </a:p>
        </p:txBody>
      </p:sp>
      <p:sp>
        <p:nvSpPr>
          <p:cNvPr id="91" name="PlaceHolder 2"/>
          <p:cNvSpPr>
            <a:spLocks noGrp="1"/>
          </p:cNvSpPr>
          <p:nvPr>
            <p:ph/>
          </p:nvPr>
        </p:nvSpPr>
        <p:spPr>
          <a:xfrm>
            <a:off x="2050920" y="1600200"/>
            <a:ext cx="6788160" cy="4495680"/>
          </a:xfrm>
          <a:prstGeom prst="rect">
            <a:avLst/>
          </a:prstGeom>
          <a:noFill/>
          <a:ln w="0">
            <a:noFill/>
          </a:ln>
        </p:spPr>
        <p:txBody>
          <a:bodyPr lIns="90000" rIns="90000" tIns="46800" bIns="46800" anchor="t">
            <a:normAutofit fontScale="86000"/>
          </a:bodyPr>
          <a:p>
            <a:pPr marL="294840" indent="-2948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لا ينظر إلى أي فرد في الأسرة على أساس أنه عميل بل الأسرة هي وحدة المعالجة بل على العكس العضو الفرد الذي تحدده الأسرة كعميل يعكس اضطرابات الأسرة نفسها.</a:t>
            </a:r>
            <a:endParaRPr b="0" lang="en-US" sz="3200" spc="-1" strike="noStrike">
              <a:solidFill>
                <a:srgbClr val="000000"/>
              </a:solidFill>
              <a:latin typeface="Arial"/>
            </a:endParaRPr>
          </a:p>
          <a:p>
            <a:pPr marL="294840" indent="-2948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عادة ما ينظر لأعضاء الأسرة على نحو مشترك وليس على أساس فردي.</a:t>
            </a:r>
            <a:endParaRPr b="0" lang="en-US" sz="3200" spc="-1" strike="noStrike">
              <a:solidFill>
                <a:srgbClr val="000000"/>
              </a:solidFill>
              <a:latin typeface="Arial"/>
            </a:endParaRPr>
          </a:p>
          <a:p>
            <a:pPr marL="294840" indent="-2948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أن تشخيص الخلل العاطفي أو السلوكي يتم تقديره على أساس ملاحظات الأسرة كوحدة.</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fontScale="96000"/>
          </a:bodyPr>
          <a:p>
            <a:pPr marL="329040" indent="-3290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ستخدم مفاهيم تشخيصية جديدة فالمفاهيم التقليدية والنظريات التي تصف وظيفة الشخصية لشرح سلوك فرد غير كافيه لعلاج الأسرة.</a:t>
            </a:r>
            <a:endParaRPr b="0" lang="en-US" sz="3200" spc="-1" strike="noStrike">
              <a:solidFill>
                <a:srgbClr val="000000"/>
              </a:solidFill>
              <a:latin typeface="Arial"/>
            </a:endParaRPr>
          </a:p>
          <a:p>
            <a:pPr marL="329040" indent="-3290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رتبط المعالج الأسري بالأسرة أكثر من ارتباطه بأعضائها كأفراد فينبغي أن يرى الأسرة كوحدة واحده عاطفياً وجسمياً</a:t>
            </a:r>
            <a:endParaRPr b="0" lang="en-US" sz="3200" spc="-1" strike="noStrike">
              <a:solidFill>
                <a:srgbClr val="000000"/>
              </a:solidFill>
              <a:latin typeface="Arial"/>
            </a:endParaRPr>
          </a:p>
          <a:p>
            <a:pPr marL="329040" indent="-3290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علاج الأسري هو محاولة تعديل المظاهر البيئية البارزه أو الملحوظة والأكثر أهميه.</a:t>
            </a:r>
            <a:endParaRPr b="0" lang="en-US" sz="32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8c0039"/>
                </a:solidFill>
                <a:latin typeface="Arial"/>
              </a:rPr>
              <a:t>تعريف العلاج الأسري</a:t>
            </a:r>
            <a:endParaRPr b="0" lang="en-US" sz="3600" spc="-1" strike="noStrike">
              <a:solidFill>
                <a:srgbClr val="8c0039"/>
              </a:solidFill>
              <a:latin typeface="Arial"/>
            </a:endParaRPr>
          </a:p>
        </p:txBody>
      </p:sp>
      <p:sp>
        <p:nvSpPr>
          <p:cNvPr id="9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شكل من أشكال العلاج النفسي والاجتماعي يعمل على كشف المشكلات الناجمة عن عمليات التفاعل والاتصال بين أعضاء الأسرة كنسق ومساعدة أعضاء الأسرة كمجموعة على تغيير أنماط التفاعل غير السوي.</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8c0039"/>
                </a:solidFill>
                <a:latin typeface="Arial"/>
              </a:rPr>
              <a:t>أوقات استخدام العلاج الأسري</a:t>
            </a:r>
            <a:endParaRPr b="0" lang="en-US" sz="3600" spc="-1" strike="noStrike">
              <a:solidFill>
                <a:srgbClr val="8c0039"/>
              </a:solidFill>
              <a:latin typeface="Arial"/>
            </a:endParaRPr>
          </a:p>
        </p:txBody>
      </p:sp>
      <p:sp>
        <p:nvSpPr>
          <p:cNvPr id="9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حينما تكون هناك رغبه في تغيير الطريقة التي تؤدي بها الأسرة وظيفتها, لكن الأسرة نادراً ما تأتي لتشتكي من طريقة الوظيفة, فعادة ما يأتي بعض الأشخاص لديه أعراض محدده لمشكلات سلوكيه وهنا فإن على المعالج أن يقرر أي خيار علاجي مناسب للحالة.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8c0039"/>
                </a:solidFill>
                <a:latin typeface="Arial"/>
              </a:rPr>
              <a:t>المعايير الأساسية لتوظيف العلاج الأسري</a:t>
            </a:r>
            <a:endParaRPr b="0" lang="en-US" sz="3600" spc="-1" strike="noStrike">
              <a:solidFill>
                <a:srgbClr val="8c0039"/>
              </a:solidFill>
              <a:latin typeface="Arial"/>
            </a:endParaRPr>
          </a:p>
        </p:txBody>
      </p:sp>
      <p:sp>
        <p:nvSpPr>
          <p:cNvPr id="99" name="PlaceHolder 2"/>
          <p:cNvSpPr>
            <a:spLocks noGrp="1"/>
          </p:cNvSpPr>
          <p:nvPr>
            <p:ph/>
          </p:nvPr>
        </p:nvSpPr>
        <p:spPr>
          <a:xfrm>
            <a:off x="2438280" y="1600200"/>
            <a:ext cx="6400800" cy="499752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ليل واضح على وجود الخلل الوظيفي في جماعة الأسرة.</a:t>
            </a:r>
            <a:endParaRPr b="0" lang="en-US" sz="3200" spc="-1" strike="noStrike">
              <a:solidFill>
                <a:srgbClr val="000000"/>
              </a:solidFill>
              <a:latin typeface="Arial"/>
            </a:endParaRPr>
          </a:p>
          <a:p>
            <a:pPr marL="343080" indent="-34308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ليل واضح على ارتباط الخلل الوظيفي للأسرة بالمشكلات التي دفعت العميل إلى طلب المساعدة في العلاج التي يبحث لها عن حل.</a:t>
            </a:r>
            <a:endParaRPr b="0" lang="en-US" sz="3200" spc="-1" strike="noStrike">
              <a:solidFill>
                <a:srgbClr val="000000"/>
              </a:solidFill>
              <a:latin typeface="Arial"/>
            </a:endParaRPr>
          </a:p>
          <a:p>
            <a:pPr marL="343080" indent="-34308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4005c"/>
                </a:solidFill>
                <a:latin typeface="Arial"/>
              </a:rPr>
              <a:t>الضعف الوظيفي:</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005c"/>
                </a:solidFill>
                <a:latin typeface="Arial"/>
              </a:rPr>
              <a:t>	</a:t>
            </a:r>
            <a:r>
              <a:rPr b="0" lang="hi-IN" sz="3200" spc="-1" strike="noStrike">
                <a:solidFill>
                  <a:srgbClr val="8c0039"/>
                </a:solidFill>
                <a:latin typeface="Arial"/>
              </a:rPr>
              <a:t>حالة يتواجد فيها أحد أفراد الأسرة غير قادر على أداء بعض أدواره الاجتماعية على المستوى المتوقع</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4005c"/>
                </a:solidFill>
                <a:latin typeface="Arial"/>
              </a:rPr>
              <a:t>الخلل الوظيف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hi-IN" sz="3200" spc="-1" strike="noStrike">
                <a:solidFill>
                  <a:srgbClr val="000000"/>
                </a:solidFill>
                <a:latin typeface="Arial"/>
              </a:rPr>
              <a:t>حالة يتواجد فيها أحد طرفي الأسرة فاقداً لقدرته على أداء بعض أدواره ويستمر في الاعتماد على الطرف الآخر.</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8c0039"/>
                </a:solidFill>
                <a:latin typeface="Arial"/>
              </a:rPr>
              <a:t>المفاهيم المرتبطة بالعلاج الأسري</a:t>
            </a:r>
            <a:endParaRPr b="0" lang="en-US" sz="3600" spc="-1" strike="noStrike">
              <a:solidFill>
                <a:srgbClr val="8c0039"/>
              </a:solidFill>
              <a:latin typeface="Arial"/>
            </a:endParaRPr>
          </a:p>
        </p:txBody>
      </p:sp>
      <p:sp>
        <p:nvSpPr>
          <p:cNvPr id="103" name="PlaceHolder 2"/>
          <p:cNvSpPr>
            <a:spLocks noGrp="1"/>
          </p:cNvSpPr>
          <p:nvPr>
            <p:ph/>
          </p:nvPr>
        </p:nvSpPr>
        <p:spPr>
          <a:xfrm>
            <a:off x="2438280" y="1599840"/>
            <a:ext cx="6400800" cy="4853160"/>
          </a:xfrm>
          <a:prstGeom prst="rect">
            <a:avLst/>
          </a:prstGeom>
          <a:noFill/>
          <a:ln w="0">
            <a:noFill/>
          </a:ln>
        </p:spPr>
        <p:txBody>
          <a:bodyPr lIns="90000" rIns="90000" tIns="46800" bIns="46800" anchor="t">
            <a:normAutofit fontScale="95000"/>
          </a:bodyPr>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علاج الأسري البيئي</a:t>
            </a:r>
            <a:endParaRPr b="0" lang="en-US" sz="3200" spc="-1" strike="noStrike">
              <a:solidFill>
                <a:srgbClr val="000000"/>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00"/>
                </a:solidFill>
                <a:latin typeface="Arial"/>
              </a:rPr>
              <a:t>FAMILY ECOLOGY THERAPY</a:t>
            </a:r>
            <a:endParaRPr b="0" lang="en-US" sz="3200" spc="-1" strike="noStrike">
              <a:solidFill>
                <a:srgbClr val="000000"/>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هج علاجي مصمم لوضع التدخلات المهنية التصحيحية المطلوبة لمساعدة العميل في التعامل مع الأزمة </a:t>
            </a:r>
            <a:endParaRPr b="0" lang="en-US" sz="3200" spc="-1" strike="noStrike">
              <a:solidFill>
                <a:srgbClr val="000000"/>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هذا المنهج يتعامل مع الضغوط التي تجمعت لتؤثر على سوء التنظيم داخل ظروف الأسرة كأزمة, وذلك من خلال جلسات العلاج الأسري</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30T21:35:03Z</dcterms:created>
  <dc:creator>hp</dc:creator>
  <dc:description/>
  <dc:language>en-US</dc:language>
  <cp:lastModifiedBy>hp</cp:lastModifiedBy>
  <dcterms:modified xsi:type="dcterms:W3CDTF">2006-05-01T07:38:28Z</dcterms:modified>
  <cp:revision>8</cp:revision>
  <dc:subject/>
  <dc:title>مفهوم العلاج الأسري</dc:title>
</cp:coreProperties>
</file>