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A5B-6A9F-45CE-A4C5-A644D1A037E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5EF0-BE8F-4755-975F-81867255C2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47B-BB25-42FB-B766-8789F1D1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AEA-E0E4-4905-8FD2-88D4234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561-6B62-4178-81D1-1C079DB5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CE8-CC96-4CF0-A8B2-0507164B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E94-4ED9-419D-BE75-68E68EC5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916B-9E34-447C-9FD5-3514E29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7CF2-EDF1-41D5-8C1A-A847AD1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7B86-0C55-4666-B6D6-09E8D0F3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9FD8-480E-4B4B-B23F-ADC8F3B3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177-8908-4298-86D5-3B3984E8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8519-3953-4A0D-B5BD-E0463503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C76-9711-4CC6-8D3E-449F0B44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3089-9AA1-4507-BE22-8D81C4A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93C5-2668-428D-8D89-974424B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8CA1-1503-4B10-A732-52684B2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9605-7E4F-47CE-9034-277D2E0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250-ABD0-4BFC-A1C3-EACBCD9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78944-08A0-46CD-90B0-4B2A7139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82E7-A8DA-402C-8A29-1B4C090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1B38-14F2-4578-ABFE-4B7AF3F2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B692-8B74-4542-BB5C-251A41D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A0CD-66A7-4014-B206-7289545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B59-1B07-43AE-9A58-20B88302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8F14-BC91-4FDC-9B33-C6D4EAE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F77A-F7F6-4ACF-A428-EFF3435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F062-7FCB-4B95-BF64-04F3953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33AE-14B6-4717-9806-44AF0B4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5F24-7B94-4D0D-A73F-84AF73D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A0EE-4731-4BA1-8C9D-C3BF4162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3DF0-4487-4DC1-B0DA-955D447E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BFF2-F6EC-4905-836D-CBC51C67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5B00-6ACF-4DE1-ABCC-CD3461E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9495-CB7F-4352-854A-4FA9B00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1F8-B041-4659-8A62-D568A1C4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BA056-1FD0-4238-A89C-7AA781A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C99E-8DA8-486B-87F9-0D201C9E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DE89-C79E-46D8-8B77-E3EB187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AF68-E686-448A-9420-3D2D5FA8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A5C2-ADA2-4BB4-B317-36D1ACC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3DBA-C576-40DB-9590-036022A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FB94-FD3B-4E1F-B300-2B687CDD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5DE0-3D64-4B49-B7E5-2A8B69B3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C9AA-A915-4FDE-AF2A-65584558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5A04-00DD-48B0-B416-97BA81E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C49-4E51-4CE3-907C-09DA2E4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67A9-B17A-4025-B9E7-EB5EED4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9EC7-8FBB-4B30-8E26-0C52829E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E58B-783C-487F-B608-13145E6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640F-FBFE-4C67-AE70-31F6710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583E-41B7-40ED-9742-F9F7A4B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4518-0856-4EFA-AEAE-6363894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9F022-3BB7-4C31-AF01-A29C61A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CBEB-282D-4121-B097-F5BE168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5FB9-8199-4789-8F7A-1C392D0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DBF7-0D44-4309-8561-4413FD44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07D-2E4E-4900-B20B-8F827EC7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9373-344D-45CD-81BE-DE653416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4C9-FD57-4BC9-9040-6FA6BDD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34F-5995-4446-9166-B7B6A44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D90-141B-46BE-9567-161C473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FA8-5B91-4D8B-B785-4CBD1E0FB535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4C4-2C50-48B7-A3E8-30CFEEA4F4F5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6B84-877B-4EEF-AF1C-62A3E7135CF9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9F83-DECE-4F3A-A04B-C6AF68EE98E3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110-745B-4A0F-BC8C-CA8F9E68FDE0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DD1F-B3D4-40E1-B24D-967AF6EE0650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6CD-D475-4606-B87B-B27758EAD65A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66D1-4756-46B7-BF26-624FF502BC60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86A-D52D-40B3-B913-2255A07192D2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F7FE-68DC-47E9-9EDE-09D361ED1687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 rot="416400">
            <a:off x="3185640" y="799920"/>
            <a:ext cx="5208840" cy="4071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4928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برنامج </a:t>
            </a:r>
            <a:r>
              <a:rPr b="1" lang="ar-EG" sz="4300" spc="-1" strike="noStrike">
                <a:solidFill>
                  <a:srgbClr val="002060"/>
                </a:solidFill>
                <a:latin typeface="Tw Cen MT"/>
              </a:rPr>
              <a:t>الجداول الإلكترونية</a:t>
            </a: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4300" spc="-1" strike="noStrike">
                <a:solidFill>
                  <a:srgbClr val="002060"/>
                </a:solidFill>
                <a:latin typeface="Tw Cen MT"/>
              </a:rPr>
              <a:t>Microsoft Excel</a:t>
            </a:r>
            <a:endParaRPr b="0" lang="en-US" sz="43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8A91-9697-4E7B-94EF-B9D259CF2B38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1357200" y="6286680"/>
            <a:ext cx="721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شكل بيضاوي 7"/>
          <p:cNvSpPr/>
          <p:nvPr/>
        </p:nvSpPr>
        <p:spPr>
          <a:xfrm>
            <a:off x="571680" y="1000080"/>
            <a:ext cx="2071440" cy="1714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مستطيل 10" descr=""/>
          <p:cNvPicPr/>
          <p:nvPr/>
        </p:nvPicPr>
        <p:blipFill>
          <a:blip r:embed="rId2"/>
          <a:stretch/>
        </p:blipFill>
        <p:spPr>
          <a:xfrm>
            <a:off x="426960" y="1474920"/>
            <a:ext cx="229248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EDD-AACC-411B-9D00-D1247929BDEC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0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1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itle 1"/>
          <p:cNvSpPr/>
          <p:nvPr/>
        </p:nvSpPr>
        <p:spPr>
          <a:xfrm>
            <a:off x="1214280" y="1643040"/>
            <a:ext cx="6715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ما هي برامج الجداول الإلكترون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1"/>
          <p:cNvGrpSpPr/>
          <p:nvPr/>
        </p:nvGrpSpPr>
        <p:grpSpPr>
          <a:xfrm>
            <a:off x="1071720" y="500040"/>
            <a:ext cx="7543800" cy="581400"/>
            <a:chOff x="1071720" y="500040"/>
            <a:chExt cx="7543800" cy="581400"/>
          </a:xfrm>
        </p:grpSpPr>
        <p:sp>
          <p:nvSpPr>
            <p:cNvPr id="251" name="Text Box 2"/>
            <p:cNvSpPr/>
            <p:nvPr/>
          </p:nvSpPr>
          <p:spPr>
            <a:xfrm>
              <a:off x="4424400" y="5000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071720" y="5000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5" descr=""/>
            <p:cNvPicPr/>
            <p:nvPr/>
          </p:nvPicPr>
          <p:blipFill>
            <a:blip r:embed="rId2"/>
            <a:srcRect l="40366" t="977" r="56710" b="95338"/>
            <a:stretch/>
          </p:blipFill>
          <p:spPr>
            <a:xfrm>
              <a:off x="4424400" y="500040"/>
              <a:ext cx="609480" cy="5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Text Box 10"/>
          <p:cNvSpPr/>
          <p:nvPr/>
        </p:nvSpPr>
        <p:spPr>
          <a:xfrm>
            <a:off x="785880" y="2357280"/>
            <a:ext cx="77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برامج حسابية خاصة لمعالجة الأرقام, تقوم بالعمليات الحسابية بصورة إلكترونية مع إمكانية عرض رسوم بيانية والقدرة على طباعة تقارير خاصة مع رسومها البي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14240" y="447372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تستخدم في المحاسبة والتحليل الإحصائي و غيره من المجالات المختلفة التي تعتمد على معالجة الأرق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2"/>
          <p:cNvSpPr/>
          <p:nvPr/>
        </p:nvSpPr>
        <p:spPr>
          <a:xfrm>
            <a:off x="914400" y="6172200"/>
            <a:ext cx="737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32A-1DA6-45B3-A421-61F75E7C3978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2259000"/>
            <a:ext cx="7086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توفير الوقت والجهد في أعمال المحاس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تصحيح النتائج الحسابية دون الحاجة لإعادة العمل كامل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إمكانية تمثيل النتائج بيانيا مما يسهل فهمها ويوضح أبعاد نتائج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1214280" y="1643040"/>
            <a:ext cx="6715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Tw Cen MT"/>
              </a:rPr>
              <a:t>فوائد برنامج الجداول الإلكترون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0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62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337-C17C-4EE4-9C2E-782BCCCA79F6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57200" y="30002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	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أرقام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: 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ثل الأرقام الصحيحة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) والعشرية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.38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itle 1"/>
          <p:cNvSpPr/>
          <p:nvPr/>
        </p:nvSpPr>
        <p:spPr>
          <a:xfrm>
            <a:off x="571680" y="1143000"/>
            <a:ext cx="78580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70c0"/>
                </a:solidFill>
                <a:uFillTx/>
                <a:latin typeface="Andalus"/>
                <a:cs typeface="Andalus"/>
              </a:rPr>
              <a:t>أنوع البيانات التي تتعامل معها برامج الجداول الإلكترونية</a:t>
            </a:r>
            <a:r>
              <a:rPr b="1" lang="ar-SA" sz="3200" spc="-1" strike="noStrike" u="sng">
                <a:solidFill>
                  <a:srgbClr val="0070c0"/>
                </a:solidFill>
                <a:uFillTx/>
                <a:latin typeface="Andalus"/>
                <a:ea typeface="Andalus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Segoe UI"/>
                <a:cs typeface="Segoe UI"/>
              </a:rPr>
              <a:t>لا ينحصر عمل برامج الجداول الإلكترونية مع البيانات الرقمية فقط بل يمتد ليشمل مختلف البيانات, وتتألف البيانات المدخلة على ورقة العمل م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57200" y="3500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نصوص: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(اسم الموظف، أسماء الطلاب، العناوين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57200" y="3895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معادلات الرياضية و المنطقية: 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ثل : (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÷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57200" y="4324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Tahoma"/>
              </a:rPr>
              <a:t>)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Tahoma"/>
                <a:cs typeface="Tahoma"/>
              </a:rPr>
              <a:t>الوقت والتاريخ: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y,1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74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2"/>
          <p:cNvSpPr/>
          <p:nvPr/>
        </p:nvSpPr>
        <p:spPr>
          <a:xfrm>
            <a:off x="914400" y="6172200"/>
            <a:ext cx="765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CAF-9E7B-4A25-857A-D3337834B0FD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26920" y="1773360"/>
            <a:ext cx="7500960" cy="51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egoe UI"/>
                <a:cs typeface="Segoe UI"/>
              </a:rPr>
              <a:t>تتكون كل وثيقة في برامج الجداول الإلكترونية م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749"/>
              </a:spcBef>
              <a:buClr>
                <a:srgbClr val="d34817"/>
              </a:buClr>
              <a:buSzPct val="150000"/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Segoe UI"/>
                <a:cs typeface="Segoe UI"/>
              </a:rPr>
              <a:t>ورقة عمل (</a:t>
            </a: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Work Sheets</a:t>
            </a:r>
            <a:r>
              <a:rPr b="0" lang="ar-SA" sz="2800" spc="-1" strike="noStrike">
                <a:solidFill>
                  <a:srgbClr val="000000"/>
                </a:solidFill>
                <a:latin typeface="Segoe UI"/>
                <a:ea typeface="Segoe UI"/>
              </a:rPr>
              <a:t>), مقسمة الى مجموعة من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أعمدة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olumns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يرمز لكل منها بحرف باللغة الانجليزية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,B,C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,……..)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صفوف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Rows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      يرمز لكل منها برقم (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-..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لخلية 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Cell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)      تنتج من تقاطع الأعمدة والصفوف ويكون عنوانها حرف العمود + رقم الصف 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A5, C13</a:t>
            </a:r>
            <a:r>
              <a:rPr b="0" lang="en-US" sz="2400" spc="-1" strike="noStrike">
                <a:solidFill>
                  <a:srgbClr val="000000"/>
                </a:solidFill>
                <a:latin typeface="Segoe UI"/>
                <a:ea typeface="Segoe UI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Segoe UI"/>
                <a:ea typeface="Segoe U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Segoe UI"/>
                <a:cs typeface="Segoe UI"/>
              </a:rPr>
              <a:t>ادخال البيانات في الخلايا و التنقل بين الخلا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1258920" y="1268280"/>
            <a:ext cx="6715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w Cen MT"/>
              </a:rPr>
              <a:t>بعد فتح برنامج الاكسل سنجد الملف مكون من عدد من الوثائ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21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"/>
          <p:cNvGrpSpPr/>
          <p:nvPr/>
        </p:nvGrpSpPr>
        <p:grpSpPr>
          <a:xfrm>
            <a:off x="1071720" y="500040"/>
            <a:ext cx="7543800" cy="581400"/>
            <a:chOff x="1071720" y="500040"/>
            <a:chExt cx="7543800" cy="581400"/>
          </a:xfrm>
        </p:grpSpPr>
        <p:sp>
          <p:nvSpPr>
            <p:cNvPr id="283" name="Text Box 2"/>
            <p:cNvSpPr/>
            <p:nvPr/>
          </p:nvSpPr>
          <p:spPr>
            <a:xfrm>
              <a:off x="4424400" y="5000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1071720" y="5000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424400" y="500040"/>
              <a:ext cx="609480" cy="5767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86" name="Straight Arrow Connector 20"/>
          <p:cNvCxnSpPr/>
          <p:nvPr/>
        </p:nvCxnSpPr>
        <p:spPr>
          <a:xfrm flipH="1" flipV="1">
            <a:off x="4787280" y="335700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287" name="Straight Arrow Connector 25"/>
          <p:cNvCxnSpPr/>
          <p:nvPr/>
        </p:nvCxnSpPr>
        <p:spPr>
          <a:xfrm flipH="1" flipV="1">
            <a:off x="5434920" y="429192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288" name="Straight Arrow Connector 26"/>
          <p:cNvCxnSpPr/>
          <p:nvPr/>
        </p:nvCxnSpPr>
        <p:spPr>
          <a:xfrm flipH="1" flipV="1">
            <a:off x="5866560" y="4796640"/>
            <a:ext cx="469080" cy="108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9AC7-A0D5-46FF-9E4E-E967A051847A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أ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143000" y="1643040"/>
            <a:ext cx="7500960" cy="43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Segoe UI"/>
                <a:ea typeface="Segoe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نسيق البيانات : </a:t>
            </a:r>
            <a:r>
              <a:rPr b="1" lang="ar-EG" sz="2000" spc="-1" strike="noStrike">
                <a:solidFill>
                  <a:srgbClr val="c00000"/>
                </a:solidFill>
                <a:latin typeface="Segoe UI"/>
                <a:cs typeface="Segoe UI"/>
              </a:rPr>
              <a:t>نفس التنسيقات التي تتم داخل الوورد مث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(تغيير نوع الخط, حجم الخط, تنسيق النص ليصبح (مائل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-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غامق – مسطر), تغيير لون النص, محاذاة النص (لليمين , لليسار , توسيط , ضبط محاذا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تنسيق الجدول ( حدود الجدول و لون التعبيئ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دراج عمود, ادراج صف للجدو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غيير عرض العمود , ارتفاع الصف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قص ونسخ ولصق محتوى الخلاي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عبيئة التلقائ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5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95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B568-66E1-4C2B-84E5-3A3D55382B7A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أ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50920" y="1643040"/>
            <a:ext cx="839304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حديد خليه, خلايا متجاوره, خلايا متفرقه, الجدول بأكمل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استخدام الدوال الرياضية ( المجموع-المتوسط – أعلى قيمة – أقل قيم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فرز البيانات تصاعديا وتنازلي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نسيق الارقام ( عدد المنازل العشرية , فاصلة الالاف, النسبة المئوية, رموز العملا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صحيح التلقائ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ادراج ورقة عمل , حذف ورقة عمل , إعادة تسمية ورقه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إعداد الورقة ( عمودي – افقي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ea typeface="Segoe UI"/>
              </a:rPr>
              <a:t>  تغيير اتجاه ورقة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5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304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OR</cp:lastModifiedBy>
  <dcterms:modified xsi:type="dcterms:W3CDTF">2012-11-19T18:10:27Z</dcterms:modified>
  <cp:revision>357</cp:revision>
  <dc:subject/>
  <dc:title>أهمية الحاسب الآلي وأنواعه</dc:title>
</cp:coreProperties>
</file>