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C095-3755-4A21-BF73-75352CF41AD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ADB9-A7B3-46C3-9B6A-903E36583BE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FAB-D807-4701-B051-F72D2972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5B1-591B-4800-8EC7-A6C83404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E4F-431C-4C6B-AC7E-A0A93A65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DC1-82A8-4B0B-8844-063D5282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59B9-BFB3-40E0-806E-99DE80BF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195A-AEF2-493C-8821-EA4A87A5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7C50-C305-4C39-8F96-3ED10D1C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8149-CD03-451B-A877-B176E8B7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2EB1-0D4E-412D-8CBC-A561E98E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873F-4970-4285-8A20-F0F84EBB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ACDD-77D6-498A-9C2B-BB4B06FD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B36-0024-43F7-B70B-95E6B537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17BF-ACE0-4A1F-9889-5DDDADB3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8615-F8A9-41E5-895B-2CE34B2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B12E-4CB2-4C01-A7F4-5BC55CF5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9C4D-0A7F-4A17-A701-A5E728E8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A710-F7AD-4428-822D-F6243222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C4C8-44B1-4E57-B46A-2505AE49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C910-0FFC-4D0C-80D9-9541F5C6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EE76-D780-4154-8264-F54A7BB4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4416-DB6C-48F9-98C3-F59B0B24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5747-78C3-402D-A705-D074C5D6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192-F002-47BC-A111-FCFE31AD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8678-DDE5-44BA-8530-F6C91B2D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F08C-36D5-402D-B0DB-C0AF14D6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6376-9965-41A4-9DC1-976B1DF6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7A0B-4B0C-4855-9875-3245CA8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AB2C-CD44-4007-A51D-40B09127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4950-A63C-4F64-9C28-DB2977CF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6D70-AD0F-4C8C-BCCF-B2BCDAD3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51D4-826F-43C1-8DA6-D122A4C3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883F-995D-4FF0-8393-386AC62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5D74-1502-498D-9CF2-81D5A3BA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C85-8DBD-42AE-A310-87D3ED1E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6472-31A9-4F31-95CD-E66565E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F766D-375B-4645-A0F3-308B70C8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25D0-39E1-43B7-BFE3-72BF758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78AF-2F4A-448C-829E-CB19924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28F0-E06B-468D-9E3C-1CF2F02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3F749-BE84-4E6C-8832-1E5134A9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1F77-5612-4E89-9CE3-5DFCA4C6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225C9-7365-46E0-95A8-05EC6033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9039-499D-4220-A44A-0371F58B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D783B-D387-48F9-B76E-1380C878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CDE-388E-49EE-809A-8FF79E11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63619-8DAB-4630-8426-E38D6607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92017-E4D3-4AA6-BBEB-4B0A3E2D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8F93F-019B-4039-BE18-17586405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C8EEA-2D15-45A0-9811-1FC52112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0075-5A58-411E-BF8C-920E380D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D980B-8D86-4E2F-B487-7F38E5FE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0EFC7-A9A3-42C4-A3F0-8FD6F37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11854-8253-4697-AABA-7E950478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6C921-BAE6-4C1C-B5DA-4B5BD80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A454-0867-451F-B06D-56E49724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62D-1728-4C8F-89DA-1CEED4B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2FA8-2136-4C95-93D1-9673BFF5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AAC-BE38-43CE-AF0E-31BDCA18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930-830D-411E-BF0C-C233F96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B90-AB6D-4B05-9008-CE92BD1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B664-BA7D-44BE-9CCA-1036C3832EE1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7E29-7538-45B4-973F-186927BEB69F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E01E-A1D6-40B1-838D-C8384C718D79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7022-8CDB-4B11-AE36-3F02FE9B6717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5719-03BC-49A4-B023-8B8293373998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7A4D-C680-428C-A5B4-D4E089D1057C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EEED-927C-43D3-923A-B1D0FE9C9EC0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EA73-1C35-4B3D-89A2-BD5E91EBF74B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BE96-9E3F-42A2-967E-91A7CD3EF6DA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FFDF-19EA-41BC-98DB-83D3122A80CE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Program Files\Microsoft Office\MEDIA\CAGCAT10\j0285750.wmf"/>
          <p:cNvPicPr/>
          <p:nvPr/>
        </p:nvPicPr>
        <p:blipFill>
          <a:blip r:embed="rId1"/>
          <a:stretch/>
        </p:blipFill>
        <p:spPr>
          <a:xfrm rot="416400">
            <a:off x="3185640" y="799920"/>
            <a:ext cx="5208840" cy="40716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480" y="492876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2060"/>
                </a:solidFill>
                <a:latin typeface="Tw Cen MT"/>
              </a:rPr>
              <a:t>برنامج </a:t>
            </a:r>
            <a:r>
              <a:rPr b="1" lang="ar-EG" sz="4300" spc="-1" strike="noStrike">
                <a:solidFill>
                  <a:srgbClr val="002060"/>
                </a:solidFill>
                <a:latin typeface="Tw Cen MT"/>
              </a:rPr>
              <a:t>الجداول الإلكترونية</a:t>
            </a:r>
            <a:r>
              <a:rPr b="1" lang="ar-SA" sz="43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4300" spc="-1" strike="noStrike">
                <a:solidFill>
                  <a:srgbClr val="002060"/>
                </a:solidFill>
                <a:latin typeface="Tw Cen MT"/>
              </a:rPr>
              <a:t>Microsoft Excel</a:t>
            </a:r>
            <a:endParaRPr b="0" lang="en-US" sz="43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0DFD-A182-4FBB-B549-AA1324D8721E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6"/>
          <p:cNvSpPr/>
          <p:nvPr/>
        </p:nvSpPr>
        <p:spPr>
          <a:xfrm>
            <a:off x="1357200" y="6286680"/>
            <a:ext cx="721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شكل بيضاوي 7"/>
          <p:cNvSpPr/>
          <p:nvPr/>
        </p:nvSpPr>
        <p:spPr>
          <a:xfrm>
            <a:off x="571680" y="1000080"/>
            <a:ext cx="2071440" cy="17146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مستطيل 10" descr=""/>
          <p:cNvPicPr/>
          <p:nvPr/>
        </p:nvPicPr>
        <p:blipFill>
          <a:blip r:embed="rId2"/>
          <a:stretch/>
        </p:blipFill>
        <p:spPr>
          <a:xfrm>
            <a:off x="426960" y="1474920"/>
            <a:ext cx="229248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C096-21DC-441A-9BE8-72A8D5D965C8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10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1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1214280" y="1643040"/>
            <a:ext cx="6715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Tw Cen MT"/>
              </a:rPr>
              <a:t>ما هي برامج الجداول الإلكترون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1"/>
          <p:cNvGrpSpPr/>
          <p:nvPr/>
        </p:nvGrpSpPr>
        <p:grpSpPr>
          <a:xfrm>
            <a:off x="1071720" y="500040"/>
            <a:ext cx="7543800" cy="581400"/>
            <a:chOff x="1071720" y="500040"/>
            <a:chExt cx="7543800" cy="581400"/>
          </a:xfrm>
        </p:grpSpPr>
        <p:sp>
          <p:nvSpPr>
            <p:cNvPr id="251" name="Text Box 2"/>
            <p:cNvSpPr/>
            <p:nvPr/>
          </p:nvSpPr>
          <p:spPr>
            <a:xfrm>
              <a:off x="4424400" y="5000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"/>
            <p:cNvSpPr/>
            <p:nvPr/>
          </p:nvSpPr>
          <p:spPr>
            <a:xfrm>
              <a:off x="1071720" y="5000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5" descr=""/>
            <p:cNvPicPr/>
            <p:nvPr/>
          </p:nvPicPr>
          <p:blipFill>
            <a:blip r:embed="rId2"/>
            <a:srcRect l="40366" t="977" r="56710" b="95338"/>
            <a:stretch/>
          </p:blipFill>
          <p:spPr>
            <a:xfrm>
              <a:off x="4424400" y="500040"/>
              <a:ext cx="609480" cy="5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 Box 10"/>
          <p:cNvSpPr/>
          <p:nvPr/>
        </p:nvSpPr>
        <p:spPr>
          <a:xfrm>
            <a:off x="785880" y="2357280"/>
            <a:ext cx="772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 rtl="1">
              <a:lnSpc>
                <a:spcPct val="100000"/>
              </a:lnSpc>
              <a:spcBef>
                <a:spcPts val="1749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برامج حسابية خاصة لمعالجة الأرقام, تقوم بالعمليات الحسابية بصورة إلكترونية مع إمكانية عرض رسوم بيانية والقدرة على طباعة تقارير خاصة مع رسومها البيا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14240" y="4473720"/>
            <a:ext cx="77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 rtl="1">
              <a:lnSpc>
                <a:spcPct val="100000"/>
              </a:lnSpc>
              <a:spcBef>
                <a:spcPts val="1749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تستخدم في المحاسبة والتحليل الإحصائي و غيره من المجالات المختلفة التي تعتمد على معالجة الأرقا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2"/>
          <p:cNvSpPr/>
          <p:nvPr/>
        </p:nvSpPr>
        <p:spPr>
          <a:xfrm>
            <a:off x="914400" y="6172200"/>
            <a:ext cx="737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2C5A-9434-41F0-AE29-34791C895B6F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2259000"/>
            <a:ext cx="7086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توفير الوقت والجهد في أعمال المحاس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تصحيح النتائج الحسابية دون الحاجة لإعادة العمل كامل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إمكانية تمثيل النتائج بيانيا مما يسهل فهمها ويوضح أبعاد نتائج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1214280" y="1643040"/>
            <a:ext cx="6715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Tw Cen MT"/>
              </a:rPr>
              <a:t>فوائد برنامج الجداول الإلكترون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0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62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E2AC-E6B9-47E0-9C60-52701B0D99D4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5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57200" y="30002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)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	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Tahoma"/>
                <a:cs typeface="Tahoma"/>
              </a:rPr>
              <a:t>الأرقام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مثل الأرقام الصحيحة (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) والعشرية (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5.38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itle 1"/>
          <p:cNvSpPr/>
          <p:nvPr/>
        </p:nvSpPr>
        <p:spPr>
          <a:xfrm>
            <a:off x="571680" y="1143000"/>
            <a:ext cx="78580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70c0"/>
                </a:solidFill>
                <a:uFillTx/>
                <a:latin typeface="Andalus"/>
                <a:cs typeface="Andalus"/>
              </a:rPr>
              <a:t>أنوع البيانات التي تتعامل معها برامج الجداول الإلكترونية</a:t>
            </a:r>
            <a:r>
              <a:rPr b="1" lang="ar-SA" sz="3200" spc="-1" strike="noStrike" u="sng">
                <a:solidFill>
                  <a:srgbClr val="0070c0"/>
                </a:solidFill>
                <a:uFillTx/>
                <a:latin typeface="Andalus"/>
                <a:ea typeface="Andalus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Segoe UI"/>
                <a:cs typeface="Segoe UI"/>
              </a:rPr>
              <a:t>لا ينحصر عمل برامج الجداول الإلكترونية مع البيانات الرقمية فقط بل يمتد ليشمل مختلف البيانات, وتتألف البيانات المدخلة على ورقة العمل 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57200" y="3500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)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Tahoma"/>
                <a:cs typeface="Tahoma"/>
              </a:rPr>
              <a:t>النصوص: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(اسم الموظف، أسماء الطلاب، العناوين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57200" y="38955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)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Tahoma"/>
                <a:cs typeface="Tahoma"/>
              </a:rPr>
              <a:t>المعادلات الرياضية و المنطقية: 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مثل : (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÷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57200" y="4324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)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Tahoma"/>
                <a:cs typeface="Tahoma"/>
              </a:rPr>
              <a:t>الوقت والتاريخ: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y,1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74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2"/>
          <p:cNvSpPr/>
          <p:nvPr/>
        </p:nvSpPr>
        <p:spPr>
          <a:xfrm>
            <a:off x="914400" y="6172200"/>
            <a:ext cx="765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294C-959A-4475-B2B7-E222AED000A0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826920" y="1773360"/>
            <a:ext cx="750096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egoe UI"/>
                <a:cs typeface="Segoe UI"/>
              </a:rPr>
              <a:t>تتكون كل وثيقة في برامج الجداول الإلكترونية م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749"/>
              </a:spcBef>
              <a:buClr>
                <a:srgbClr val="d34817"/>
              </a:buClr>
              <a:buSzPct val="150000"/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egoe UI"/>
                <a:cs typeface="Segoe UI"/>
              </a:rPr>
              <a:t>ورقة عمل (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Work Sheets</a:t>
            </a:r>
            <a:r>
              <a:rPr b="0" lang="ar-SA" sz="2800" spc="-1" strike="noStrike">
                <a:solidFill>
                  <a:srgbClr val="000000"/>
                </a:solidFill>
                <a:latin typeface="Segoe UI"/>
                <a:ea typeface="Segoe UI"/>
              </a:rPr>
              <a:t>), مقسمة الى مجموعة من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egoe UI"/>
                <a:cs typeface="Segoe UI"/>
              </a:rPr>
              <a:t>الأعمدة 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Columns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)  يرمز لكل منها بحرف باللغة الانجليزية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,B,C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,……..)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egoe UI"/>
                <a:cs typeface="Segoe UI"/>
              </a:rPr>
              <a:t>الصفوف 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Rows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)        يرمز لكل منها برقم (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-..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egoe UI"/>
                <a:cs typeface="Segoe UI"/>
              </a:rPr>
              <a:t>الخلية 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Cell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)      تنتج من تقاطع الأعمدة والصفوف ويكون عنوانها حرف العمود + رقم الصف 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5, C13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egoe UI"/>
                <a:cs typeface="Segoe UI"/>
              </a:rPr>
              <a:t>ادخال البيانات في الخلايا و التنقل بين الخلاي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le 1"/>
          <p:cNvSpPr/>
          <p:nvPr/>
        </p:nvSpPr>
        <p:spPr>
          <a:xfrm>
            <a:off x="1258920" y="1268280"/>
            <a:ext cx="6715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w Cen MT"/>
              </a:rPr>
              <a:t>بعد فتح برنامج الاكسل سنجد الملف مكون من عدد من الوثائ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21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0"/>
          <p:cNvGrpSpPr/>
          <p:nvPr/>
        </p:nvGrpSpPr>
        <p:grpSpPr>
          <a:xfrm>
            <a:off x="1071720" y="500040"/>
            <a:ext cx="7543800" cy="581400"/>
            <a:chOff x="1071720" y="500040"/>
            <a:chExt cx="7543800" cy="581400"/>
          </a:xfrm>
        </p:grpSpPr>
        <p:sp>
          <p:nvSpPr>
            <p:cNvPr id="283" name="Text Box 2"/>
            <p:cNvSpPr/>
            <p:nvPr/>
          </p:nvSpPr>
          <p:spPr>
            <a:xfrm>
              <a:off x="4424400" y="5000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7"/>
            <p:cNvSpPr/>
            <p:nvPr/>
          </p:nvSpPr>
          <p:spPr>
            <a:xfrm>
              <a:off x="1071720" y="5000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424400" y="500040"/>
              <a:ext cx="609480" cy="5767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86" name="Straight Arrow Connector 20"/>
          <p:cNvCxnSpPr/>
          <p:nvPr/>
        </p:nvCxnSpPr>
        <p:spPr>
          <a:xfrm flipH="1" flipV="1">
            <a:off x="4787280" y="3357000"/>
            <a:ext cx="469080" cy="108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arrow" w="med"/>
          </a:ln>
        </p:spPr>
      </p:cxnSp>
      <p:cxnSp>
        <p:nvCxnSpPr>
          <p:cNvPr id="287" name="Straight Arrow Connector 25"/>
          <p:cNvCxnSpPr/>
          <p:nvPr/>
        </p:nvCxnSpPr>
        <p:spPr>
          <a:xfrm flipH="1" flipV="1">
            <a:off x="5434920" y="4291920"/>
            <a:ext cx="469080" cy="108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arrow" w="med"/>
          </a:ln>
        </p:spPr>
      </p:cxnSp>
      <p:cxnSp>
        <p:nvCxnSpPr>
          <p:cNvPr id="288" name="Straight Arrow Connector 26"/>
          <p:cNvCxnSpPr/>
          <p:nvPr/>
        </p:nvCxnSpPr>
        <p:spPr>
          <a:xfrm flipH="1" flipV="1">
            <a:off x="5866560" y="4796640"/>
            <a:ext cx="469080" cy="108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720C-237B-4168-B64E-6437523345DD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7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1428840" y="1143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Tahoma"/>
                <a:cs typeface="Tahoma"/>
              </a:rPr>
              <a:t>أوامر الإكس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143000" y="1643040"/>
            <a:ext cx="7500960" cy="43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002060"/>
                </a:solidFill>
                <a:uFillTx/>
                <a:latin typeface="Bodoni MT Poster Compressed"/>
              </a:rPr>
              <a:t>أنواع التنسيقات التي تجرى داخل ورقة عمل الإكس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Segoe UI"/>
                <a:ea typeface="Segoe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نسيق البيانات : </a:t>
            </a:r>
            <a:r>
              <a:rPr b="1" lang="ar-EG" sz="2000" spc="-1" strike="noStrike">
                <a:solidFill>
                  <a:srgbClr val="c00000"/>
                </a:solidFill>
                <a:latin typeface="Segoe UI"/>
                <a:cs typeface="Segoe UI"/>
              </a:rPr>
              <a:t>نفس التنسيقات التي تتم داخل الوورد مث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(تغيير نوع الخط, حجم الخط, تنسيق النص ليصبح (مائل</a:t>
            </a:r>
            <a:r>
              <a:rPr b="1" lang="en-US" sz="2000" spc="-1" strike="noStrike">
                <a:solidFill>
                  <a:srgbClr val="c00000"/>
                </a:solidFill>
                <a:latin typeface="Segoe UI"/>
                <a:ea typeface="Segoe UI"/>
              </a:rPr>
              <a:t> - </a:t>
            </a: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غامق – مسطر), تغيير لون النص, محاذاة النص (لليمين , لليسار , توسيط , ضبط محاذا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تنسيق الجدول ( حدود الجدول و لون التعبيئ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دراج عمود, ادراج صف للجدو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غيير عرض العمود , ارتفاع الصف</a:t>
            </a:r>
            <a:r>
              <a:rPr b="1" lang="en-US" sz="2000" spc="-1" strike="noStrike">
                <a:solidFill>
                  <a:srgbClr val="c00000"/>
                </a:solidFill>
                <a:latin typeface="Segoe UI"/>
                <a:ea typeface="Segoe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قص ونسخ ولصق محتوى الخلاي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لتعبيئة التلقائ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5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95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B2CE-F236-4435-A681-677B8DCB4865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7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27"/>
          <p:cNvSpPr/>
          <p:nvPr/>
        </p:nvSpPr>
        <p:spPr>
          <a:xfrm>
            <a:off x="1428840" y="1143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Tahoma"/>
                <a:cs typeface="Tahoma"/>
              </a:rPr>
              <a:t>أوامر الإكس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50920" y="1643040"/>
            <a:ext cx="8393040" cy="51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002060"/>
                </a:solidFill>
                <a:uFillTx/>
                <a:latin typeface="Bodoni MT Poster Compressed"/>
              </a:rPr>
              <a:t>أنواع التنسيقات التي تجرى داخل ورقة عمل الإكس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حديد خليه, خلايا متجاوره, خلايا متفرقه, الجدول بأكمل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استخدام الدوال الرياضية ( المجموع-المتوسط – أعلى قيمة – أقل قيم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فرز البيانات تصاعديا وتنازلي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نسيق الارقام ( عدد المنازل العشرية , فاصلة الالاف, النسبة المئوية, رموز العملا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لتصحيح التلقائ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 ادراج ورقة عمل , حذف ورقة عمل , إعادة تسمية ورقه العم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 إعداد الورقة ( عمودي – افقي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 تغيير اتجاه ورقة العم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5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304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39:38Z</dcterms:created>
  <dc:creator>ايميل</dc:creator>
  <dc:description/>
  <dc:language>en-US</dc:language>
  <cp:lastModifiedBy>NOOR</cp:lastModifiedBy>
  <dcterms:modified xsi:type="dcterms:W3CDTF">2012-11-19T18:10:27Z</dcterms:modified>
  <cp:revision>357</cp:revision>
  <dc:subject/>
  <dc:title>أهمية الحاسب الآلي وأنواعه</dc:title>
</cp:coreProperties>
</file>