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3185-106F-4950-A59B-C9740B268A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52F0-EF46-45BE-B687-CE47AD6B6F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6B0-E08D-4DC4-96A3-C2CA5C72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14F-7C7D-4F3C-B248-9583D51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23E-8A17-41C2-9816-B9D11DE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E02D-1625-4405-8772-57E56C84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C54-63FD-4044-93D7-3DE3F91C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65F6-0610-44EF-AAA1-D7E1CFC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22D-472D-4AA1-9AD6-6CD9180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9AB-8DE3-4475-A5F7-C5D5B99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9CE-7271-471F-B392-9A047D9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D41D-E4D3-4AE5-BEB2-F0962EA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EA0-977D-46BA-95E4-BFB7FDB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85E-7EE7-45E8-8E74-9D22C12C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7B62-D39B-4710-8A1E-E1E0F8B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A13-D1DF-4F84-8C0A-2CEF1C6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CF93-F6A1-46FE-9295-5FC3E70E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3E53-0AE4-4CFB-AFEC-D1F0A81F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847-AD9B-4A28-BE6C-B307A038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A9B3-B49F-4738-9677-E21FFEDD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2416-5458-4C44-B46E-71DD755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FE96-8E3E-46F5-9030-C6C751D9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A5DA-981E-4BF4-86D5-34679C82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2AEB-F47B-417C-A62E-3A614E2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D35-4DAA-4C78-8075-59624CC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7A82-9BD3-4C54-B241-235EE97A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F5CE-39FE-4396-85B6-B126E05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4E2C-7840-4125-9A24-17C07A7D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4B8C-88A3-485D-AEA9-09A5465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BD24-4658-4324-BC73-25D8D24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C060-88BE-4042-9EDD-67134913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D3AA-93A4-4E8F-95BD-8903260B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5836-EA51-4ACC-9BB5-71BCDCA7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D930-1617-41B2-B10E-32255B0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0B74-116A-4BB5-A8BC-99110ACD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8AE-9DA0-4AB2-B20F-AE50173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3291-2963-4E82-9751-55F59605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DA57-09ED-40E8-9C04-A7078003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DE44-3688-41EA-9C47-5462339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65D8A-876C-49F1-A597-C94181A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CB49-E5ED-4AC7-88FD-BB01229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3938-C2EC-4080-AD31-DF3D2EE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779D-CB8B-48CF-B870-C83E854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0F42-D268-4CDE-B5E3-ABECA4B1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222A-B3B2-4CE8-8007-205A039E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2A9C-902C-4D1D-BB5F-4D1F5036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162-92DE-484F-8A56-6A9EAB9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997CD-8BAC-4B94-AC63-57640AC0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F1C0-B03F-4900-B11F-9F4E764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1E84D-58F9-4846-B222-BBB8537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C89F-FA5D-455D-A82B-71AEE440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D8218-10E1-4F1D-9AC2-E0A17BC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F687-A9C3-4983-A2C7-E4A2184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634C-A632-4ECD-B4B7-81735ACC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ADE7-2D2C-4524-9007-D1483D3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B4BD-3D10-40B0-8F2E-52F923F0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B7E9-70F3-4885-ACCF-882C8571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262-D964-46F3-95D4-7AD70AF2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5135-DD0E-444C-9B83-2EE949ED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AE2-4950-4795-B7BA-6972E40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B7D-A46F-4FCD-87F3-C79B69A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3B2-0F6C-4633-827C-28B8C40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D1C-44F6-4D48-9F01-8DD32C341AF9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D27-6516-43B1-BEA5-802892186C91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754-B44F-46D7-A89B-A93633ACF25B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CF2-93B4-4A82-B72E-3514C12BF7A6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F2A1-106A-4520-A295-7E0567349E98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4676-8CA6-4E9B-9836-D5B9EC4CB5F4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524-4D5A-4BCE-A390-06AB2B6CE06F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848-C541-49D9-B25C-41382CA30192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Tw Cen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0AF-AB5F-43BB-96AE-691B917646D2}" type="datetime">
              <a:rPr b="0" lang="ar-SA" sz="1400" spc="-1" strike="noStrike">
                <a:solidFill>
                  <a:srgbClr val="696464"/>
                </a:solidFill>
                <a:latin typeface="Tw Cen MT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w Cen MT"/>
              </a:rPr>
              <a:t>أ. سمية أبو داوود    تعديل: نور الحريق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D082-B660-4207-8577-886BB0DC2E81}" type="slidenum">
              <a:rPr b="0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Program Files\Microsoft Office\MEDIA\CAGCAT10\j0285750.wmf"/>
          <p:cNvPicPr/>
          <p:nvPr/>
        </p:nvPicPr>
        <p:blipFill>
          <a:blip r:embed="rId1"/>
          <a:stretch/>
        </p:blipFill>
        <p:spPr>
          <a:xfrm rot="416400">
            <a:off x="3185640" y="799920"/>
            <a:ext cx="5208840" cy="4071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480" y="4928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برنامج </a:t>
            </a:r>
            <a:r>
              <a:rPr b="1" lang="ar-EG" sz="4300" spc="-1" strike="noStrike">
                <a:solidFill>
                  <a:srgbClr val="002060"/>
                </a:solidFill>
                <a:latin typeface="Tw Cen MT"/>
              </a:rPr>
              <a:t>الجداول الإلكترونية</a:t>
            </a:r>
            <a:r>
              <a:rPr b="1" lang="ar-SA" sz="43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4300" spc="-1" strike="noStrike">
                <a:solidFill>
                  <a:srgbClr val="002060"/>
                </a:solidFill>
                <a:latin typeface="Tw Cen MT"/>
              </a:rPr>
              <a:t>Microsoft Excel</a:t>
            </a:r>
            <a:endParaRPr b="0" lang="en-US" sz="43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8E0F-4CBA-472D-985E-77862A246EF7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6"/>
          <p:cNvSpPr/>
          <p:nvPr/>
        </p:nvSpPr>
        <p:spPr>
          <a:xfrm>
            <a:off x="1357200" y="6286680"/>
            <a:ext cx="721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شكل بيضاوي 7"/>
          <p:cNvSpPr/>
          <p:nvPr/>
        </p:nvSpPr>
        <p:spPr>
          <a:xfrm>
            <a:off x="571680" y="1000080"/>
            <a:ext cx="2071440" cy="17146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مستطيل 10" descr=""/>
          <p:cNvPicPr/>
          <p:nvPr/>
        </p:nvPicPr>
        <p:blipFill>
          <a:blip r:embed="rId2"/>
          <a:stretch/>
        </p:blipFill>
        <p:spPr>
          <a:xfrm>
            <a:off x="426960" y="1474920"/>
            <a:ext cx="229248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408-D9DA-4C34-BEE9-211CF8BA7A1F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7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9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7"/>
          <p:cNvSpPr/>
          <p:nvPr/>
        </p:nvSpPr>
        <p:spPr>
          <a:xfrm>
            <a:off x="1428840" y="1143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Tahoma"/>
                <a:cs typeface="Tahoma"/>
              </a:rPr>
              <a:t>اوامر الإكس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71720" y="1741320"/>
            <a:ext cx="750096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أنواع التنسيقات التي تجرى داخل ورقة عمل الإكس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عمليات الحسابية على الخلايا ( جمع الخلايا – طرح الخلايا – ضرب الخلايا – قسمة الخلايا والمعادلات الرياض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عبئة سلسلة أرقام / تواري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إظهار</a:t>
            </a:r>
            <a:r>
              <a:rPr b="1" lang="en-US" sz="2000" spc="-1" strike="noStrike">
                <a:solidFill>
                  <a:srgbClr val="c00000"/>
                </a:solidFill>
                <a:latin typeface="Segoe UI"/>
                <a:ea typeface="Segoe UI"/>
              </a:rPr>
              <a:t> / </a:t>
            </a: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إخفاء خطوط الشبك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لتنسيق الشرط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رأس وتذييل الصفح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معاينة فواصل الصفح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تجميد الصفوف والاعم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Segoe UI"/>
                <a:cs typeface="Segoe UI"/>
              </a:rPr>
              <a:t>ادراج التخطيط (الرسوم البيانية بأنواعها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52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C987-F4A5-4226-9347-7FD79511CF55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9"/>
          <p:cNvSpPr/>
          <p:nvPr/>
        </p:nvSpPr>
        <p:spPr>
          <a:xfrm>
            <a:off x="1357200" y="6172200"/>
            <a:ext cx="721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0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Rectangle 1033"/>
          <p:cNvGrpSpPr/>
          <p:nvPr/>
        </p:nvGrpSpPr>
        <p:grpSpPr>
          <a:xfrm>
            <a:off x="639720" y="1852560"/>
            <a:ext cx="8223120" cy="4372200"/>
            <a:chOff x="639720" y="1852560"/>
            <a:chExt cx="8223120" cy="4372200"/>
          </a:xfrm>
        </p:grpSpPr>
        <p:pic>
          <p:nvPicPr>
            <p:cNvPr id="259" name="Rectangle 1033" descr=""/>
            <p:cNvPicPr/>
            <p:nvPr/>
          </p:nvPicPr>
          <p:blipFill>
            <a:blip r:embed="rId1"/>
            <a:stretch/>
          </p:blipFill>
          <p:spPr>
            <a:xfrm>
              <a:off x="639720" y="1852560"/>
              <a:ext cx="8223120" cy="43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14240" y="1928880"/>
              <a:ext cx="7929720" cy="40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1027"/>
          <p:cNvSpPr/>
          <p:nvPr/>
        </p:nvSpPr>
        <p:spPr>
          <a:xfrm>
            <a:off x="1676520" y="121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buClr>
                <a:srgbClr val="d34817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من مزايا الجداول الإلكترون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85880" y="2214720"/>
            <a:ext cx="75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قدرة على التصحيح والتعديل، فعند تعديل رقم ما تلقائيا ستتغير نتيجة المعادلة التي تستخدم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290680" y="3409920"/>
            <a:ext cx="60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تصنيف للبيان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785880" y="407196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القص واللصق للمعادلا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558880" y="4957920"/>
            <a:ext cx="58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. طباعة الرسوم والتقار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4"/>
          <p:cNvGrpSpPr/>
          <p:nvPr/>
        </p:nvGrpSpPr>
        <p:grpSpPr>
          <a:xfrm>
            <a:off x="1000080" y="420840"/>
            <a:ext cx="7543800" cy="581400"/>
            <a:chOff x="1000080" y="420840"/>
            <a:chExt cx="7543800" cy="581400"/>
          </a:xfrm>
        </p:grpSpPr>
        <p:sp>
          <p:nvSpPr>
            <p:cNvPr id="267" name="Text Box 2"/>
            <p:cNvSpPr/>
            <p:nvPr/>
          </p:nvSpPr>
          <p:spPr>
            <a:xfrm>
              <a:off x="4352760" y="42084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1000080" y="42084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5" descr=""/>
            <p:cNvPicPr/>
            <p:nvPr/>
          </p:nvPicPr>
          <p:blipFill>
            <a:blip r:embed="rId2"/>
            <a:srcRect l="40366" t="977" r="56710" b="95338"/>
            <a:stretch/>
          </p:blipFill>
          <p:spPr>
            <a:xfrm>
              <a:off x="4352760" y="42084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Tw Cen MT"/>
              </a:rPr>
              <a:t>   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785880"/>
            <a:ext cx="82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2060"/>
                </a:solidFill>
                <a:uFillTx/>
                <a:latin typeface="Bodoni MT Poster Compressed"/>
              </a:rPr>
              <a:t>مهارات استخدام لوحة المفاتيح وأهم الاختصارات الشائعة للأوامر المستخدمة في برامج الجداول الالكترونية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914400" y="6172200"/>
            <a:ext cx="73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3227-0EB1-4579-A273-9D4BCE872A43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8760" y="1500120"/>
          <a:ext cx="8429400" cy="4576680"/>
        </p:xfrm>
        <a:graphic>
          <a:graphicData uri="http://schemas.openxmlformats.org/drawingml/2006/table">
            <a:tbl>
              <a:tblPr/>
              <a:tblGrid>
                <a:gridCol w="2106360"/>
                <a:gridCol w="2108160"/>
                <a:gridCol w="2108520"/>
                <a:gridCol w="2106360"/>
              </a:tblGrid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 Unicode MS"/>
                          <a:cs typeface="Arial Unicode MS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 Unicode MS"/>
                          <a:cs typeface="Arial Unicode MS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بداية الص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س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هاية الص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ق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H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بداية 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ص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هاية 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حديد الك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على الصفو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كتابة بالعرب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سفل الصف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كتابة بالإنجلي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F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غلاق البرنام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تجاه المؤشر 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+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غلاق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hif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تجاه المؤشر انجلي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حفظ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العم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لانتقال لخلية أسف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grpSp>
        <p:nvGrpSpPr>
          <p:cNvPr id="276" name="Group 13"/>
          <p:cNvGrpSpPr/>
          <p:nvPr/>
        </p:nvGrpSpPr>
        <p:grpSpPr>
          <a:xfrm>
            <a:off x="1000080" y="214200"/>
            <a:ext cx="7543800" cy="581400"/>
            <a:chOff x="1000080" y="214200"/>
            <a:chExt cx="7543800" cy="581400"/>
          </a:xfrm>
        </p:grpSpPr>
        <p:sp>
          <p:nvSpPr>
            <p:cNvPr id="277" name="Text Box 2"/>
            <p:cNvSpPr/>
            <p:nvPr/>
          </p:nvSpPr>
          <p:spPr>
            <a:xfrm>
              <a:off x="4352760" y="21420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1000080" y="21420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214200"/>
              <a:ext cx="60948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Tw Cen MT"/>
              </a:rPr>
              <a:t>   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400" y="785520"/>
            <a:ext cx="8429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5696"/>
                </a:solidFill>
                <a:uFillTx/>
                <a:latin typeface="Bodoni MT Poster Compressed"/>
              </a:rPr>
              <a:t>تابع,,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914400" y="6172200"/>
            <a:ext cx="73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w Cen MT"/>
              </a:rPr>
              <a:t>أ. سمية أبو داوود    تعديل: نور الحر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718-9E52-4AE3-88B5-44BFB82A7B59}" type="slidenum">
              <a:rPr b="1" lang="ar-SA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5"/>
          <p:cNvSpPr/>
          <p:nvPr/>
        </p:nvSpPr>
        <p:spPr>
          <a:xfrm flipH="1">
            <a:off x="713880" y="6143760"/>
            <a:ext cx="785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85840" y="1285920"/>
          <a:ext cx="8524800" cy="4684680"/>
        </p:xfrm>
        <a:graphic>
          <a:graphicData uri="http://schemas.openxmlformats.org/drawingml/2006/table">
            <a:tbl>
              <a:tblPr/>
              <a:tblGrid>
                <a:gridCol w="2232000"/>
                <a:gridCol w="2317680"/>
                <a:gridCol w="2146320"/>
                <a:gridCol w="1828800"/>
              </a:tblGrid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مفتاح الاختص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الأ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فتح </a:t>
                      </a: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ورقة عمل مخز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ص (عريض أو غام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فتح ورقة عمل جدي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نص مائ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مر التراج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سطير الن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أمر الإعادة(تراجع عن التراج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كبير حجم الخ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F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أ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H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أ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بحث والاستبدا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[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تصغير حجم الخ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انتقال الى خلية معين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ضبط محاذاة الن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طباعة المستن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وس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الانتقال الى الخلية التا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c1c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لحذف محتوى الخل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l +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Arial Unicode MS"/>
                          <a:cs typeface="Arial Unicode MS"/>
                        </a:rPr>
                        <a:t>محاذاة النص يس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grpSp>
        <p:nvGrpSpPr>
          <p:cNvPr id="286" name="Group 11"/>
          <p:cNvGrpSpPr/>
          <p:nvPr/>
        </p:nvGrpSpPr>
        <p:grpSpPr>
          <a:xfrm>
            <a:off x="1000080" y="277920"/>
            <a:ext cx="7543800" cy="581400"/>
            <a:chOff x="1000080" y="277920"/>
            <a:chExt cx="7543800" cy="581400"/>
          </a:xfrm>
        </p:grpSpPr>
        <p:sp>
          <p:nvSpPr>
            <p:cNvPr id="287" name="Text Box 2"/>
            <p:cNvSpPr/>
            <p:nvPr/>
          </p:nvSpPr>
          <p:spPr>
            <a:xfrm>
              <a:off x="4352760" y="277920"/>
              <a:ext cx="4191120" cy="581400"/>
            </a:xfrm>
            <a:prstGeom prst="rect">
              <a:avLst/>
            </a:prstGeom>
            <a:solidFill>
              <a:srgbClr val="e9e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4f2c09"/>
                  </a:solidFill>
                  <a:latin typeface="Tahoma"/>
                  <a:ea typeface="Tahoma"/>
                </a:rPr>
                <a:t> الجداول الالكتروني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>
              <a:off x="1000080" y="277920"/>
              <a:ext cx="3352680" cy="581400"/>
            </a:xfrm>
            <a:prstGeom prst="rect">
              <a:avLst/>
            </a:prstGeom>
            <a:solidFill>
              <a:srgbClr val="d34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pread She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15" descr=""/>
            <p:cNvPicPr/>
            <p:nvPr/>
          </p:nvPicPr>
          <p:blipFill>
            <a:blip r:embed="rId1"/>
            <a:srcRect l="40366" t="977" r="56710" b="95338"/>
            <a:stretch/>
          </p:blipFill>
          <p:spPr>
            <a:xfrm>
              <a:off x="4352760" y="277920"/>
              <a:ext cx="609480" cy="50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OR</cp:lastModifiedBy>
  <dcterms:modified xsi:type="dcterms:W3CDTF">2012-11-26T20:14:59Z</dcterms:modified>
  <cp:revision>361</cp:revision>
  <dc:subject/>
  <dc:title>أهمية الحاسب الآلي وأنواعه</dc:title>
</cp:coreProperties>
</file>