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E3FC-4A33-4277-A144-D197321B50F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33CE-B43B-4F1C-84E7-EF5F60CAE4E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B4A-3FCD-42E7-BF92-B7153C0E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E98-CED3-4806-BB23-4F4D59F0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DE97-E7F0-4799-83CE-99E6106B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336E-C9B5-429B-9B48-66E29625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B254-6EFB-4E0A-A828-112B8301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537B-499F-4B20-8585-900773F1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9F8F-BD71-4FD1-91E2-1DF15412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3148-EA9E-49EF-9D73-23807C1D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46D2-B33F-4E56-9913-7AE45EAB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959A-474A-4F9F-8824-74D3DAFB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38B6-ACE7-43F5-A06D-C9C0F86B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0645-28A0-4172-A664-4355A6F1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9015-A09B-47BE-87D3-BE246C06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14F2-5205-4343-A5E8-C3FE7145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6621-6DB1-4001-9759-96FCD3BC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0220-1928-45FF-A4B2-00D00FF5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3D05-C341-4C01-9267-94C5E460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CC8A5-DC23-4A06-9CC1-8A0BE190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BD821-B86F-4B06-A3D5-95C263A2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C6102-14D5-40A4-A996-5909933D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6F260-54B9-452C-8FBC-DE3F74A9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CEDE6-CDBE-447B-A596-C939DAE3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F151-FD34-4D3A-8A1E-90852BE1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C70F8-4B8E-4800-95D0-4DFAE36E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3A5C2-989B-4974-BAA4-CBCF970E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79832-EF73-4368-8634-EADD9F89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DBB6E-92E9-4F74-B1CC-F3CA8082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83A01-648A-42BE-9944-888AF4AD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FDB9F-77B5-40D4-B3BB-2A4E244F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1F440-2ED6-4C71-915C-E0A9323A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5738A-640B-47E1-9C9F-F71117AD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98FFE-62F0-47F5-A530-9964BEFE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A9350-9751-4097-9544-3B1C5367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9BAE-C776-445B-BC00-4F898A5A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338B2-3C43-4FD3-B27C-A788D0B9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CB8FA-E5D7-4D24-9225-18FD513D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8FF57-8E4F-42D3-8B8D-429530A3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87FEC-3E28-42CA-A7EE-9E986D8B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F82B0-855E-487B-89A0-48DE4989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2641B-194F-46E8-8DD3-CBCFF288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4D611-18FB-481B-AA00-EC93157A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E0078-104F-4635-B820-B15506D5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03804-891D-4645-AC60-8045A59E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D5B85-95AE-4AD8-8377-EAE7244B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529-90E8-485E-BCE4-3673259C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068FB-853A-4B82-A79A-9673E39C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BC89D-E1F2-46D3-A156-51130E83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45420-32A7-4BDB-A9C6-FA221C01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CAD38-D5CC-4375-BC10-1258C1F7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EFBA7-2E53-4E4C-A6DF-CD4E887C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C200B-7BB0-4455-855B-A7FC023E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50025-5B8A-4A5A-B6F5-2996303D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AE2E2-F621-4AB6-B06A-A061355A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63AA9-F70B-41F6-9459-AF23847C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FD627-0E95-4016-A2A4-23547C35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50B6-5EDC-4E89-82AF-76A8CF9E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07C28-5439-43F3-BE9B-10FCFAA0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74AC-2C4F-4AA2-BCBC-28344368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3FF-109E-4B7C-90A5-D76553E1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9ED0-839D-4EA9-BB05-778CAC2A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2749-C032-408B-85B9-EBF436089CBC}" type="datetime">
              <a:rPr b="0" lang="ar-SA" sz="1400" spc="-1" strike="noStrike">
                <a:solidFill>
                  <a:srgbClr val="696464"/>
                </a:solidFill>
                <a:latin typeface="Tw Cen MT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w Cen MT"/>
              </a:rPr>
              <a:t>أ. سمية أبو داوود    تعديل: نور الحريق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0908-C65C-43BE-8B36-D8801241E31E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56C5-E69E-41CD-9AB0-86319F4FCCC0}" type="datetime">
              <a:rPr b="0" lang="ar-SA" sz="1400" spc="-1" strike="noStrike">
                <a:solidFill>
                  <a:srgbClr val="696464"/>
                </a:solidFill>
                <a:latin typeface="Tw Cen MT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w Cen MT"/>
              </a:rPr>
              <a:t>أ. سمية أبو داوود    تعديل: نور الحريق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9292-5EF1-49AD-BB14-15FF991742E9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7B46-3E4D-4F1A-838C-841967FD1352}" type="datetime">
              <a:rPr b="0" lang="ar-SA" sz="1400" spc="-1" strike="noStrike">
                <a:solidFill>
                  <a:srgbClr val="696464"/>
                </a:solidFill>
                <a:latin typeface="Tw Cen MT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w Cen MT"/>
              </a:rPr>
              <a:t>أ. سمية أبو داوود    تعديل: نور الحريق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C440-19A3-485C-AF0C-9AFC90E11A16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D2F4-CAE9-4260-840A-BF7FD55B791F}" type="datetime">
              <a:rPr b="0" lang="ar-SA" sz="1400" spc="-1" strike="noStrike">
                <a:solidFill>
                  <a:srgbClr val="696464"/>
                </a:solidFill>
                <a:latin typeface="Tw Cen MT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w Cen MT"/>
              </a:rPr>
              <a:t>أ. سمية أبو داوود    تعديل: نور الحريق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8592-DBD4-48BC-887E-6381F7B96005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C720-0C0E-417C-9254-5CBCA4BA88C5}" type="datetime">
              <a:rPr b="0" lang="ar-SA" sz="1400" spc="-1" strike="noStrike">
                <a:solidFill>
                  <a:srgbClr val="696464"/>
                </a:solidFill>
                <a:latin typeface="Tw Cen MT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w Cen MT"/>
              </a:rPr>
              <a:t>أ. سمية أبو داوود    تعديل: نور الحريق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2614-95BB-4A73-99F3-9B7A1EB5641B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Program Files\Microsoft Office\MEDIA\CAGCAT10\j0285750.wmf"/>
          <p:cNvPicPr/>
          <p:nvPr/>
        </p:nvPicPr>
        <p:blipFill>
          <a:blip r:embed="rId1"/>
          <a:stretch/>
        </p:blipFill>
        <p:spPr>
          <a:xfrm rot="416400">
            <a:off x="3185640" y="799920"/>
            <a:ext cx="5208840" cy="40716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5480" y="4928760"/>
            <a:ext cx="8643960" cy="10717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002060"/>
                </a:solidFill>
                <a:latin typeface="Tw Cen MT"/>
              </a:rPr>
              <a:t>برنامج </a:t>
            </a:r>
            <a:r>
              <a:rPr b="1" lang="ar-EG" sz="4300" spc="-1" strike="noStrike">
                <a:solidFill>
                  <a:srgbClr val="002060"/>
                </a:solidFill>
                <a:latin typeface="Tw Cen MT"/>
              </a:rPr>
              <a:t>الجداول الإلكترونية</a:t>
            </a:r>
            <a:r>
              <a:rPr b="1" lang="ar-SA" sz="4300" spc="-1" strike="noStrike">
                <a:solidFill>
                  <a:srgbClr val="002060"/>
                </a:solidFill>
                <a:latin typeface="Tw Cen MT"/>
              </a:rPr>
              <a:t> </a:t>
            </a:r>
            <a:r>
              <a:rPr b="1" lang="en-US" sz="4300" spc="-1" strike="noStrike">
                <a:solidFill>
                  <a:srgbClr val="002060"/>
                </a:solidFill>
                <a:latin typeface="Tw Cen MT"/>
              </a:rPr>
              <a:t>Microsoft Excel</a:t>
            </a:r>
            <a:endParaRPr b="0" lang="en-US" sz="43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146160" y="62085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2C69-2993-4C71-94E7-FB1005FAD5F9}" type="slidenum">
              <a:rPr b="1" lang="ar-SA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6"/>
          <p:cNvSpPr/>
          <p:nvPr/>
        </p:nvSpPr>
        <p:spPr>
          <a:xfrm>
            <a:off x="1357200" y="6286680"/>
            <a:ext cx="721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9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شكل بيضاوي 7"/>
          <p:cNvSpPr/>
          <p:nvPr/>
        </p:nvSpPr>
        <p:spPr>
          <a:xfrm>
            <a:off x="571680" y="1000080"/>
            <a:ext cx="2071440" cy="17146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مستطيل 10" descr=""/>
          <p:cNvPicPr/>
          <p:nvPr/>
        </p:nvPicPr>
        <p:blipFill>
          <a:blip r:embed="rId2"/>
          <a:stretch/>
        </p:blipFill>
        <p:spPr>
          <a:xfrm>
            <a:off x="426960" y="1474920"/>
            <a:ext cx="2292480" cy="6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4B48-A582-4895-B87D-C2FC622E056C}" type="slidenum">
              <a:rPr b="1" lang="ar-SA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7"/>
          <p:cNvSpPr/>
          <p:nvPr/>
        </p:nvSpPr>
        <p:spPr>
          <a:xfrm>
            <a:off x="1357200" y="6172200"/>
            <a:ext cx="721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9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27"/>
          <p:cNvSpPr/>
          <p:nvPr/>
        </p:nvSpPr>
        <p:spPr>
          <a:xfrm>
            <a:off x="1428840" y="11430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buClr>
                <a:srgbClr val="d34817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0070c0"/>
                </a:solidFill>
                <a:uFillTx/>
                <a:latin typeface="Tahoma"/>
                <a:cs typeface="Tahoma"/>
              </a:rPr>
              <a:t>اوامر الإكس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071720" y="1741320"/>
            <a:ext cx="750096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002060"/>
                </a:solidFill>
                <a:uFillTx/>
                <a:latin typeface="Bodoni MT Poster Compressed"/>
              </a:rPr>
              <a:t>أنواع التنسيقات التي تجرى داخل ورقة عمل الإكس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العمليات الحسابية على الخلايا ( جمع الخلايا – طرح الخلايا – ضرب الخلايا – قسمة الخلايا والمعادلات الرياضي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تعبئة سلسلة أرقام / تواريخ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إظهار</a:t>
            </a:r>
            <a:r>
              <a:rPr b="1" lang="en-US" sz="2000" spc="-1" strike="noStrike">
                <a:solidFill>
                  <a:srgbClr val="c00000"/>
                </a:solidFill>
                <a:latin typeface="Segoe UI"/>
                <a:ea typeface="Segoe UI"/>
              </a:rPr>
              <a:t> / </a:t>
            </a: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إخفاء خطوط الشبك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التنسيق الشرط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رأس وتذييل الصفح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معاينة فواصل الصفحا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تجميد الصفوف والاعمد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ادراج التخطيط (الرسوم البيانية بأنواعها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17"/>
          <p:cNvGrpSpPr/>
          <p:nvPr/>
        </p:nvGrpSpPr>
        <p:grpSpPr>
          <a:xfrm>
            <a:off x="1000080" y="420840"/>
            <a:ext cx="7543800" cy="581400"/>
            <a:chOff x="1000080" y="420840"/>
            <a:chExt cx="7543800" cy="581400"/>
          </a:xfrm>
        </p:grpSpPr>
        <p:sp>
          <p:nvSpPr>
            <p:cNvPr id="252" name="Text Box 2"/>
            <p:cNvSpPr/>
            <p:nvPr/>
          </p:nvSpPr>
          <p:spPr>
            <a:xfrm>
              <a:off x="4352760" y="420840"/>
              <a:ext cx="4191120" cy="581400"/>
            </a:xfrm>
            <a:prstGeom prst="rect">
              <a:avLst/>
            </a:prstGeom>
            <a:solidFill>
              <a:srgbClr val="e9e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4f2c09"/>
                  </a:solidFill>
                  <a:latin typeface="Tahoma"/>
                  <a:ea typeface="Tahoma"/>
                </a:rPr>
                <a:t> الجداول الالكترون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7"/>
            <p:cNvSpPr/>
            <p:nvPr/>
          </p:nvSpPr>
          <p:spPr>
            <a:xfrm>
              <a:off x="1000080" y="420840"/>
              <a:ext cx="3352680" cy="581400"/>
            </a:xfrm>
            <a:prstGeom prst="rect">
              <a:avLst/>
            </a:prstGeom>
            <a:solidFill>
              <a:srgbClr val="d34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pread She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Picture 15" descr=""/>
            <p:cNvPicPr/>
            <p:nvPr/>
          </p:nvPicPr>
          <p:blipFill>
            <a:blip r:embed="rId1"/>
            <a:srcRect l="40366" t="977" r="56710" b="95338"/>
            <a:stretch/>
          </p:blipFill>
          <p:spPr>
            <a:xfrm>
              <a:off x="4352760" y="420840"/>
              <a:ext cx="6094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53F3-1012-4CFB-9708-4B77BAD1F496}" type="slidenum">
              <a:rPr b="1" lang="ar-SA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9"/>
          <p:cNvSpPr/>
          <p:nvPr/>
        </p:nvSpPr>
        <p:spPr>
          <a:xfrm>
            <a:off x="1357200" y="6172200"/>
            <a:ext cx="721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0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Rectangle 1033"/>
          <p:cNvGrpSpPr/>
          <p:nvPr/>
        </p:nvGrpSpPr>
        <p:grpSpPr>
          <a:xfrm>
            <a:off x="639720" y="1852560"/>
            <a:ext cx="8223120" cy="4372200"/>
            <a:chOff x="639720" y="1852560"/>
            <a:chExt cx="8223120" cy="4372200"/>
          </a:xfrm>
        </p:grpSpPr>
        <p:pic>
          <p:nvPicPr>
            <p:cNvPr id="259" name="Rectangle 1033" descr=""/>
            <p:cNvPicPr/>
            <p:nvPr/>
          </p:nvPicPr>
          <p:blipFill>
            <a:blip r:embed="rId1"/>
            <a:stretch/>
          </p:blipFill>
          <p:spPr>
            <a:xfrm>
              <a:off x="639720" y="1852560"/>
              <a:ext cx="8223120" cy="43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714240" y="1928880"/>
              <a:ext cx="7929720" cy="40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 Box 1027"/>
          <p:cNvSpPr/>
          <p:nvPr/>
        </p:nvSpPr>
        <p:spPr>
          <a:xfrm>
            <a:off x="1676520" y="1214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buClr>
                <a:srgbClr val="d34817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ahoma"/>
              </a:rPr>
              <a:t> من مزايا الجداول الإلكترون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785880" y="2214720"/>
            <a:ext cx="75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. القدرة على التصحيح والتعديل، فعند تعديل رقم ما تلقائيا ستتغير نتيجة المعادلة التي تستخدم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2290680" y="3409920"/>
            <a:ext cx="60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. التصنيف للبيان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785880" y="4071960"/>
            <a:ext cx="76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. القص واللصق للمعادلات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558880" y="4957920"/>
            <a:ext cx="58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. طباعة الرسوم والتقار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4"/>
          <p:cNvGrpSpPr/>
          <p:nvPr/>
        </p:nvGrpSpPr>
        <p:grpSpPr>
          <a:xfrm>
            <a:off x="1000080" y="420840"/>
            <a:ext cx="7543800" cy="581400"/>
            <a:chOff x="1000080" y="420840"/>
            <a:chExt cx="7543800" cy="581400"/>
          </a:xfrm>
        </p:grpSpPr>
        <p:sp>
          <p:nvSpPr>
            <p:cNvPr id="267" name="Text Box 2"/>
            <p:cNvSpPr/>
            <p:nvPr/>
          </p:nvSpPr>
          <p:spPr>
            <a:xfrm>
              <a:off x="4352760" y="420840"/>
              <a:ext cx="4191120" cy="581400"/>
            </a:xfrm>
            <a:prstGeom prst="rect">
              <a:avLst/>
            </a:prstGeom>
            <a:solidFill>
              <a:srgbClr val="e9e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4f2c09"/>
                  </a:solidFill>
                  <a:latin typeface="Tahoma"/>
                  <a:ea typeface="Tahoma"/>
                </a:rPr>
                <a:t> الجداول الالكترون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7"/>
            <p:cNvSpPr/>
            <p:nvPr/>
          </p:nvSpPr>
          <p:spPr>
            <a:xfrm>
              <a:off x="1000080" y="420840"/>
              <a:ext cx="3352680" cy="581400"/>
            </a:xfrm>
            <a:prstGeom prst="rect">
              <a:avLst/>
            </a:prstGeom>
            <a:solidFill>
              <a:srgbClr val="d34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pread She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5" descr=""/>
            <p:cNvPicPr/>
            <p:nvPr/>
          </p:nvPicPr>
          <p:blipFill>
            <a:blip r:embed="rId2"/>
            <a:srcRect l="40366" t="977" r="56710" b="95338"/>
            <a:stretch/>
          </p:blipFill>
          <p:spPr>
            <a:xfrm>
              <a:off x="4352760" y="420840"/>
              <a:ext cx="6094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96464"/>
                </a:solidFill>
                <a:latin typeface="Tw Cen MT"/>
              </a:rPr>
              <a:t>   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71680" y="785880"/>
            <a:ext cx="8286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2060"/>
                </a:solidFill>
                <a:uFillTx/>
                <a:latin typeface="Bodoni MT Poster Compressed"/>
              </a:rPr>
              <a:t>مهارات استخدام لوحة المفاتيح وأهم الاختصارات الشائعة للأوامر المستخدمة في برامج الجداول الالكترونية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914400" y="6172200"/>
            <a:ext cx="73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ED96-8DCC-4219-849A-139890FB4A39}" type="slidenum">
              <a:rPr b="1" lang="ar-SA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5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28760" y="1500120"/>
          <a:ext cx="8429400" cy="4576680"/>
        </p:xfrm>
        <a:graphic>
          <a:graphicData uri="http://schemas.openxmlformats.org/drawingml/2006/table">
            <a:tbl>
              <a:tblPr/>
              <a:tblGrid>
                <a:gridCol w="2106360"/>
                <a:gridCol w="2108160"/>
                <a:gridCol w="2108520"/>
                <a:gridCol w="2106360"/>
              </a:tblGrid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مفتاح الاختص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 Unicode MS"/>
                          <a:cs typeface="Arial Unicode MS"/>
                        </a:rPr>
                        <a:t>الأم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مفتاح الاختص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 Unicode MS"/>
                          <a:cs typeface="Arial Unicode MS"/>
                        </a:rPr>
                        <a:t>الأم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بداية الص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نس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نهاية الص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ق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بداية ورقة العم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لص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نهاية ورقة العم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تحديد الك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أعلى الصفو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 + Shif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مي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الكتابة بالعرب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D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أسفل الصفو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 + Shif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سا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الكتابة بالإنجليز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 + F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اغلاق البرنام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Shif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مي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اتجاه المؤشر عرب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 + 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اغلاق </a:t>
                      </a:r>
                      <a:r>
                        <a:rPr b="0" lang="ar-EG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ورقة العم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Shif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سا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اتجاه المؤشر انجليز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حفظ </a:t>
                      </a:r>
                      <a:r>
                        <a:rPr b="0" lang="ar-EG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ورقة العم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للانتقال لخلية أسف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grpSp>
        <p:nvGrpSpPr>
          <p:cNvPr id="276" name="Group 13"/>
          <p:cNvGrpSpPr/>
          <p:nvPr/>
        </p:nvGrpSpPr>
        <p:grpSpPr>
          <a:xfrm>
            <a:off x="1000080" y="214200"/>
            <a:ext cx="7543800" cy="581400"/>
            <a:chOff x="1000080" y="214200"/>
            <a:chExt cx="7543800" cy="581400"/>
          </a:xfrm>
        </p:grpSpPr>
        <p:sp>
          <p:nvSpPr>
            <p:cNvPr id="277" name="Text Box 2"/>
            <p:cNvSpPr/>
            <p:nvPr/>
          </p:nvSpPr>
          <p:spPr>
            <a:xfrm>
              <a:off x="4352760" y="214200"/>
              <a:ext cx="4191120" cy="581400"/>
            </a:xfrm>
            <a:prstGeom prst="rect">
              <a:avLst/>
            </a:prstGeom>
            <a:solidFill>
              <a:srgbClr val="e9e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4f2c09"/>
                  </a:solidFill>
                  <a:latin typeface="Tahoma"/>
                  <a:ea typeface="Tahoma"/>
                </a:rPr>
                <a:t> الجداول الالكترون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7"/>
            <p:cNvSpPr/>
            <p:nvPr/>
          </p:nvSpPr>
          <p:spPr>
            <a:xfrm>
              <a:off x="1000080" y="214200"/>
              <a:ext cx="3352680" cy="581400"/>
            </a:xfrm>
            <a:prstGeom prst="rect">
              <a:avLst/>
            </a:prstGeom>
            <a:solidFill>
              <a:srgbClr val="d34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pread She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Picture 15" descr=""/>
            <p:cNvPicPr/>
            <p:nvPr/>
          </p:nvPicPr>
          <p:blipFill>
            <a:blip r:embed="rId1"/>
            <a:srcRect l="40366" t="977" r="56710" b="95338"/>
            <a:stretch/>
          </p:blipFill>
          <p:spPr>
            <a:xfrm>
              <a:off x="4352760" y="214200"/>
              <a:ext cx="609480" cy="571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96464"/>
                </a:solidFill>
                <a:latin typeface="Tw Cen MT"/>
              </a:rPr>
              <a:t>   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28400" y="785520"/>
            <a:ext cx="8429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5696"/>
                </a:solidFill>
                <a:uFillTx/>
                <a:latin typeface="Bodoni MT Poster Compressed"/>
              </a:rPr>
              <a:t>تابع,,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914400" y="6172200"/>
            <a:ext cx="73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CDFD-CCAB-4A48-94B1-CDF1E09C3155}" type="slidenum">
              <a:rPr b="1" lang="ar-SA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5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85840" y="1285920"/>
          <a:ext cx="8524800" cy="4684680"/>
        </p:xfrm>
        <a:graphic>
          <a:graphicData uri="http://schemas.openxmlformats.org/drawingml/2006/table">
            <a:tbl>
              <a:tblPr/>
              <a:tblGrid>
                <a:gridCol w="2232000"/>
                <a:gridCol w="2317680"/>
                <a:gridCol w="2146320"/>
                <a:gridCol w="1828800"/>
              </a:tblGrid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مفتاح الاختص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الأم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مفتاح الاختص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الأم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فتح </a:t>
                      </a:r>
                      <a:r>
                        <a:rPr b="0" lang="ar-EG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ورقة عمل مخزن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نص (عريض أو غام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فتح ورقة عمل جديد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نص مائ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أمر التراج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تسطير الن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أمر الإعادة(تراجع عن التراج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تكبير حجم الخ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F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أ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H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أ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البحث والاستبدا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تصغير حجم الخ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الانتقال الى خلية معين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ضبط محاذاة الن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طباعة المستن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محاذاة النص وس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الانتقال الى الخلية التال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محاذاة النص يمي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لحذف محتوى الخل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محاذاة النص يسا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grpSp>
        <p:nvGrpSpPr>
          <p:cNvPr id="286" name="Group 11"/>
          <p:cNvGrpSpPr/>
          <p:nvPr/>
        </p:nvGrpSpPr>
        <p:grpSpPr>
          <a:xfrm>
            <a:off x="1000080" y="277920"/>
            <a:ext cx="7543800" cy="581400"/>
            <a:chOff x="1000080" y="277920"/>
            <a:chExt cx="7543800" cy="581400"/>
          </a:xfrm>
        </p:grpSpPr>
        <p:sp>
          <p:nvSpPr>
            <p:cNvPr id="287" name="Text Box 2"/>
            <p:cNvSpPr/>
            <p:nvPr/>
          </p:nvSpPr>
          <p:spPr>
            <a:xfrm>
              <a:off x="4352760" y="277920"/>
              <a:ext cx="4191120" cy="581400"/>
            </a:xfrm>
            <a:prstGeom prst="rect">
              <a:avLst/>
            </a:prstGeom>
            <a:solidFill>
              <a:srgbClr val="e9e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4f2c09"/>
                  </a:solidFill>
                  <a:latin typeface="Tahoma"/>
                  <a:ea typeface="Tahoma"/>
                </a:rPr>
                <a:t> الجداول الالكترون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7"/>
            <p:cNvSpPr/>
            <p:nvPr/>
          </p:nvSpPr>
          <p:spPr>
            <a:xfrm>
              <a:off x="1000080" y="277920"/>
              <a:ext cx="3352680" cy="581400"/>
            </a:xfrm>
            <a:prstGeom prst="rect">
              <a:avLst/>
            </a:prstGeom>
            <a:solidFill>
              <a:srgbClr val="d34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pread She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Picture 15" descr=""/>
            <p:cNvPicPr/>
            <p:nvPr/>
          </p:nvPicPr>
          <p:blipFill>
            <a:blip r:embed="rId1"/>
            <a:srcRect l="40366" t="977" r="56710" b="95338"/>
            <a:stretch/>
          </p:blipFill>
          <p:spPr>
            <a:xfrm>
              <a:off x="4352760" y="277920"/>
              <a:ext cx="609480" cy="50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39:38Z</dcterms:created>
  <dc:creator>ايميل</dc:creator>
  <dc:description/>
  <dc:language>en-US</dc:language>
  <cp:lastModifiedBy>NOOR</cp:lastModifiedBy>
  <dcterms:modified xsi:type="dcterms:W3CDTF">2012-11-26T20:14:59Z</dcterms:modified>
  <cp:revision>361</cp:revision>
  <dc:subject/>
  <dc:title>أهمية الحاسب الآلي وأنواعه</dc:title>
</cp:coreProperties>
</file>