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E97-6204-4E07-82C3-8F3C292B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DA1-DBAC-409B-83F2-3FE4479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6F7-08AA-45C2-9104-239BB2F2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24C-3BB4-41D0-8DD9-D166D85A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E5F-5493-4E01-BAB2-5DE4DC31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0FD-667F-4374-B0B4-BDFEE74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C2F-2D27-49A2-AC3A-FD2A412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265-24C6-4DD8-B167-A474C3B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F36-94AB-4979-AAE9-DC8257E5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6D9-D5E4-41A2-84DF-B2D2634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D4A-61F8-4D04-9793-5882E1EA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5FE-6AAB-4B34-88E7-9B09634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656-E51A-49DB-B682-DB57C76A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280"/>
            <a:ext cx="6477120" cy="1447920"/>
          </a:xfrm>
          <a:custGeom>
            <a:avLst/>
            <a:gdLst>
              <a:gd name="textAreaLeft" fmla="*/ 1561320 w 6477120"/>
              <a:gd name="textAreaRight" fmla="*/ 4915800 w 6477120"/>
              <a:gd name="textAreaTop" fmla="*/ 22788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232" y="0"/>
                </a:lnTo>
                <a:arcTo wR="675" hR="850" stAng="16200000" swAng="5400000"/>
                <a:lnTo>
                  <a:pt x="7907" y="3400"/>
                </a:lnTo>
                <a:lnTo>
                  <a:pt x="13693" y="3400"/>
                </a:lnTo>
                <a:lnTo>
                  <a:pt x="13693" y="850"/>
                </a:lnTo>
                <a:arcTo wR="675" hR="850" stAng="10800000" swAng="5400000"/>
                <a:lnTo>
                  <a:pt x="21600" y="0"/>
                </a:lnTo>
                <a:lnTo>
                  <a:pt x="18900" y="9100"/>
                </a:lnTo>
                <a:lnTo>
                  <a:pt x="21600" y="18200"/>
                </a:lnTo>
                <a:lnTo>
                  <a:pt x="16393" y="18200"/>
                </a:lnTo>
                <a:lnTo>
                  <a:pt x="16393" y="20750"/>
                </a:lnTo>
                <a:arcTo wR="675" hR="850" stAng="0" swAng="5400000"/>
                <a:lnTo>
                  <a:pt x="5882" y="21600"/>
                </a:lnTo>
                <a:arcTo wR="675" hR="850" stAng="5400000" swAng="5400000"/>
                <a:lnTo>
                  <a:pt x="5207" y="18200"/>
                </a:lnTo>
                <a:lnTo>
                  <a:pt x="0" y="18200"/>
                </a:lnTo>
                <a:lnTo>
                  <a:pt x="2700" y="9100"/>
                </a:lnTo>
                <a:close/>
              </a:path>
              <a:path fill="none" w="21600" h="21600">
                <a:moveTo>
                  <a:pt x="7907" y="850"/>
                </a:moveTo>
                <a:arcTo wR="675" hR="850" stAng="0" swAng="5400000"/>
                <a:lnTo>
                  <a:pt x="5882" y="1700"/>
                </a:lnTo>
                <a:arcTo wR="675" hR="850" stAng="16200000" swAng="-5400000"/>
                <a:arcTo wR="675" hR="850" stAng="10800000" swAng="-5400000"/>
                <a:lnTo>
                  <a:pt x="7907" y="3400"/>
                </a:lnTo>
              </a:path>
              <a:path fill="none" w="21600" h="21600">
                <a:moveTo>
                  <a:pt x="13693" y="850"/>
                </a:moveTo>
                <a:arcTo wR="675" hR="850" stAng="10800000" swAng="-5400000"/>
                <a:lnTo>
                  <a:pt x="15718" y="1700"/>
                </a:lnTo>
                <a:arcTo wR="675" hR="850" stAng="16200000" swAng="5400000"/>
                <a:arcTo wR="675" hR="850" stAng="0" swAng="5400000"/>
                <a:lnTo>
                  <a:pt x="13693" y="3400"/>
                </a:lnTo>
              </a:path>
              <a:path fill="none" w="21600" h="21600">
                <a:moveTo>
                  <a:pt x="5207" y="2550"/>
                </a:moveTo>
                <a:lnTo>
                  <a:pt x="5207" y="18200"/>
                </a:lnTo>
              </a:path>
              <a:path fill="none" w="21600" h="21600">
                <a:moveTo>
                  <a:pt x="16393" y="2550"/>
                </a:moveTo>
                <a:lnTo>
                  <a:pt x="16393" y="18200"/>
                </a:lnTo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المقاصد التي من أج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شُرِعَ النكا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تتلخص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1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) المحافظة على النسل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2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) تحقيق الفطرة الإنسانية وإشباع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3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) تحقيق السكن النفسي والروحي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4</a:t>
            </a: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) المحافظة على الأنس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5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) صيانة لأفراد المجتمع من الانحراف 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6</a:t>
            </a: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) صيانة لأفراد المجتمع من الأمراض الفتاك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7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) غضّّ البصر وحفظ الفر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8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) العناية بتربية النش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9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) تحقيق الستر للمرأة والرج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76520" y="228600"/>
            <a:ext cx="570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ظاهر الغيرة المحمودة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990720"/>
            <a:ext cx="7543800" cy="4419360"/>
          </a:xfrm>
          <a:prstGeom prst="flowChartMultidocument">
            <a:avLst/>
          </a:prstGeom>
          <a:gradFill rotWithShape="0">
            <a:gsLst>
              <a:gs pos="0">
                <a:srgbClr val="ffccff"/>
              </a:gs>
              <a:gs pos="50000">
                <a:srgbClr val="ccffcc"/>
              </a:gs>
              <a:gs pos="100000">
                <a:srgbClr val="ffccff"/>
              </a:gs>
            </a:gsLst>
            <a:lin ang="81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1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أمرها بالحجاب عند الخرو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2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أمرها بغضّ بصرها عن الرجال الأجان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3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لا يسمح لها بإبداء زينتها الخاصة إلا ل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4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منعها من مخالطة الرجال الأجان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لا يعرّضها للفتنة ,كأن يطيل غيابه عن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6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لبي طلباتها بنفسه حتى لا تحتاج لأحدٍ غير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066680"/>
            <a:ext cx="7543800" cy="426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Mudir MT"/>
              </a:rPr>
              <a:t>      ( أ ) حقوق الأبناء على الآباء قبل الولا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سن اختيار الأبوين لبعض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ق الحياة للجن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Mudir MT"/>
              </a:rPr>
              <a:t>     ( ب ) حقوق الأبناء على الآباء بعد الولا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ختيار الاسم الحسن .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خت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عقيقة .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نس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رضاعة .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حضا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نفقة .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سن التربي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إرث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28600"/>
            <a:ext cx="3429000" cy="838080"/>
          </a:xfrm>
          <a:prstGeom prst="plus">
            <a:avLst>
              <a:gd name="adj" fmla="val 22537"/>
            </a:avLst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333399"/>
                </a:solidFill>
                <a:latin typeface="Arial"/>
                <a:cs typeface="PT Bold Heading"/>
              </a:rPr>
              <a:t>حقوق الأبناء على الآب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62520" y="228600"/>
            <a:ext cx="4647960" cy="1066680"/>
          </a:xfrm>
          <a:prstGeom prst="hexagon">
            <a:avLst>
              <a:gd name="adj" fmla="val 83779"/>
              <a:gd name="vf" fmla="val 11547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cc0000"/>
                </a:solidFill>
                <a:latin typeface="Arial"/>
                <a:cs typeface="PT Bold Mirror"/>
              </a:rPr>
              <a:t>حقوق الآباء على الأب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47920"/>
            <a:ext cx="5943600" cy="3962160"/>
          </a:xfrm>
          <a:prstGeom prst="bevel">
            <a:avLst>
              <a:gd name="adj" fmla="val 7731"/>
            </a:avLst>
          </a:prstGeom>
          <a:gradFill rotWithShape="0">
            <a:gsLst>
              <a:gs pos="0">
                <a:srgbClr val="ffccff"/>
              </a:gs>
              <a:gs pos="100000">
                <a:srgbClr val="99cc00"/>
              </a:gs>
            </a:gsLst>
            <a:lin ang="81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أمر بالإحسان إلي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نهي عن نهر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تواضع ل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وجوب شكر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5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تقديم برهما على الجهاد في سبيل ال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6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برهما ولو كانا كافر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7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تجنب سبهما وشتم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8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برهما بعد وفات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7664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وقف النسل الإنساني عن النمو والزيادة , فيعاشر الزوج زوجته , لكن مع الحيلولة دون وقوع الحم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لــتــحــريـــــ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ختصار إنجاب الذرية , بحيث لا يأتي النسل إلا وفق نظام مرتب ومنسق بين كل مولود وآخ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لــجــوا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38088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93524" dir="12193595" blurRad="0" rotWithShape="0">
                    <a:srgbClr val="99ccff">
                      <a:alpha val="50000"/>
                    </a:srgbClr>
                  </a:outerShdw>
                </a:effectLst>
                <a:latin typeface="Arial Black"/>
              </a:rPr>
              <a:t>المقصود بتحديد النسل وتنظيم النسل وبيان حكمهما</a:t>
            </a:r>
            <a:endParaRPr b="0" lang="en-US" sz="20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93524" dir="12193595" blurRad="0" rotWithShape="0">
                  <a:srgbClr val="99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9920" y="205740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تحديد النسل يُقصد به 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8520" y="281952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حـكـمــه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9920" y="327672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تنظيم النسل يُقصد به 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403848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حـكـمــه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6"/>
          <a:stretch/>
        </p:blipFill>
        <p:spPr>
          <a:xfrm>
            <a:off x="2133720" y="42670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1752120"/>
            <a:ext cx="5715000" cy="2971800"/>
          </a:xfrm>
          <a:prstGeom prst="rect">
            <a:avLst/>
          </a:prstGeom>
          <a:blipFill rotWithShape="0">
            <a:blip r:embed="rId2"/>
            <a:stretch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Wingdings 2"/>
                <a:ea typeface="Wingdings 2"/>
              </a:rPr>
              <a:t></a:t>
            </a:r>
            <a:r>
              <a:rPr b="0" lang="ar-SA" sz="3200" spc="-1" strike="noStrike">
                <a:solidFill>
                  <a:srgbClr val="336600"/>
                </a:solidFill>
                <a:latin typeface="Arial"/>
                <a:cs typeface="Mudir MT"/>
              </a:rPr>
              <a:t>محاولة لتقليل أعداد المسل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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  <a:cs typeface="Mudir MT"/>
              </a:rPr>
              <a:t>هذه الدعوة تهدف إلى إضعاف المسلمين نتيجة لقلة عد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6880" y="533520"/>
            <a:ext cx="548640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99ccff"/>
                  </a:outerShdw>
                </a:effectLst>
                <a:latin typeface="Impact"/>
              </a:rPr>
              <a:t>أهداف الدعوة إلى تحديد النسل في العالم الإسلامي 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99cc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أثبتت تجارب ووقائع التاريخ أن الفقر في المناطق المكتظة بالسكان يعود إلى عدم استغلال الخبرات والموارد لا إلى كثرة الأولاد وتزايد السك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هذه الدعوة قصرت الحاجات الإنسانية على الخيرات والمنافع الثابتة في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الأرض , بغض النظر عن أي تفاعل بينها وبين الإنسان وليس الأم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كذلك , فإن مقومات العيش تتمثل في هذا التفاعل فكثرة النسل تزي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من تفاعل  الإنسان مع خيرات الأرض فتكثر الموارد ويتسع الرز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                            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أن رقي الأمم يحتاج للعباقرة والمبدعين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                                   فكلما كثر العدد كثرت نسبته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52280"/>
            <a:ext cx="6553080" cy="1295640"/>
          </a:xfrm>
          <a:prstGeom prst="flowChartMultidocumen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81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rial"/>
                <a:cs typeface="Andalus"/>
              </a:rPr>
              <a:t>الرد على دعوة تحديد النسل وبيان بطلا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0"/>
            <a:ext cx="6705360" cy="1523880"/>
          </a:xfrm>
          <a:prstGeom prst="downArrowCallout">
            <a:avLst>
              <a:gd name="adj1" fmla="val 78151"/>
              <a:gd name="adj2" fmla="val 57182"/>
              <a:gd name="adj3" fmla="val 22569"/>
              <a:gd name="adj4" fmla="val 66667"/>
            </a:avLst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8100000"/>
          </a:gra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50"/>
                </a:solidFill>
                <a:latin typeface="Arabic Typesetting"/>
                <a:cs typeface="PT Bold Mirror"/>
              </a:rPr>
              <a:t>التعريف بالإجهاض وبيان أنواعه وحكم كل نو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219320"/>
            <a:ext cx="2666880" cy="533160"/>
          </a:xfrm>
          <a:prstGeom prst="wedgeEllipseCallout">
            <a:avLst>
              <a:gd name="adj1" fmla="val -25652"/>
              <a:gd name="adj2" fmla="val 76189"/>
            </a:avLst>
          </a:prstGeom>
          <a:gradFill rotWithShape="0">
            <a:gsLst>
              <a:gs pos="0">
                <a:srgbClr val="ff9966"/>
              </a:gs>
              <a:gs pos="50000">
                <a:srgbClr val="66ccff"/>
              </a:gs>
              <a:gs pos="100000">
                <a:srgbClr val="ff9966"/>
              </a:gs>
            </a:gsLst>
            <a:lin ang="8100000"/>
          </a:gradFill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Mudir MT"/>
              </a:rPr>
              <a:t>الإجهاض اصطلاحا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828800"/>
            <a:ext cx="5486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يُعرّف بأنه : إسقاط الجنين من بطن أمه قبل تمام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1371600" cy="533160"/>
          </a:xfrm>
          <a:prstGeom prst="wedgeEllipseCallout">
            <a:avLst>
              <a:gd name="adj1" fmla="val -58449"/>
              <a:gd name="adj2" fmla="val 81250"/>
            </a:avLst>
          </a:prstGeom>
          <a:gradFill rotWithShape="0">
            <a:gsLst>
              <a:gs pos="0">
                <a:srgbClr val="ff9966"/>
              </a:gs>
              <a:gs pos="50000">
                <a:srgbClr val="66ccff"/>
              </a:gs>
              <a:gs pos="100000">
                <a:srgbClr val="ff9966"/>
              </a:gs>
            </a:gsLst>
            <a:lin ang="8100000"/>
          </a:gradFill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Mudir MT"/>
              </a:rPr>
              <a:t>أنواع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895480"/>
            <a:ext cx="6019920" cy="289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هو إخراج الحمل من الرحم في غير موعده الطبيع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عمداً وبلا ضرورة بأي وسيلة من الوسائ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    حكمه :</a:t>
            </a:r>
            <a:r>
              <a:rPr b="0" lang="en-US" sz="2000" spc="-1" strike="noStrike">
                <a:solidFill>
                  <a:srgbClr val="000050"/>
                </a:solidFill>
                <a:latin typeface="Arial"/>
                <a:ea typeface="PT Bold Heading"/>
              </a:rPr>
              <a:t> مــحــر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خراج الجنين من رحم أمه في غير موعده الطبيعي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إنقاذاً لحياة الأم , حيث يهددها خطر استمرار الحمل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</a:t>
            </a:r>
            <a:r>
              <a:rPr b="0" lang="hi-IN" sz="2000" spc="-1" strike="noStrike">
                <a:solidFill>
                  <a:srgbClr val="ce1102"/>
                </a:solidFill>
                <a:latin typeface="Arial"/>
                <a:cs typeface="PT Bold Heading"/>
              </a:rPr>
              <a:t>حكمه</a:t>
            </a:r>
            <a:r>
              <a:rPr b="0" lang="en-US" sz="2400" spc="-1" strike="noStrike">
                <a:solidFill>
                  <a:srgbClr val="ce1102"/>
                </a:solidFill>
                <a:latin typeface="Arial"/>
                <a:ea typeface="PT Bold Heading"/>
              </a:rPr>
              <a:t> :</a:t>
            </a:r>
            <a:r>
              <a:rPr b="0" lang="en-US" sz="2400" spc="-1" strike="noStrike">
                <a:solidFill>
                  <a:srgbClr val="000050"/>
                </a:solidFill>
                <a:latin typeface="Arial"/>
                <a:ea typeface="PT Bold Heading"/>
              </a:rPr>
              <a:t> جائ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ذي لا دخل للإنسان فيه , وإنما أسبابه خارج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عن إرادة المر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    حكمه :</a:t>
            </a:r>
            <a:r>
              <a:rPr b="0" lang="en-US" sz="2000" spc="-1" strike="noStrike">
                <a:solidFill>
                  <a:srgbClr val="000050"/>
                </a:solidFill>
                <a:latin typeface="Arial"/>
                <a:ea typeface="PT Bold Heading"/>
              </a:rPr>
              <a:t> لا حكم له لأنه خارج عن إرادة الإنسان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5680" y="2971800"/>
            <a:ext cx="1505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اختيار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3657600"/>
            <a:ext cx="150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ضرور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457200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عفو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781680" cy="2971800"/>
          </a:xfrm>
          <a:prstGeom prst="rect">
            <a:avLst/>
          </a:prstGeom>
          <a:gradFill rotWithShape="0">
            <a:gsLst>
              <a:gs pos="0">
                <a:srgbClr val="fffa3b"/>
              </a:gs>
              <a:gs pos="50000">
                <a:srgbClr val="afffc8"/>
              </a:gs>
              <a:gs pos="100000">
                <a:srgbClr val="fffa3b"/>
              </a:gs>
            </a:gsLst>
            <a:lin ang="8100000"/>
          </a:gra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الــفــقــ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حفظ لجمال المرأ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دخول المرأة في ميدان الع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     </a:t>
            </a:r>
            <a:r>
              <a:rPr b="0" lang="hi-IN" sz="3200" spc="-1" strike="noStrike">
                <a:solidFill>
                  <a:srgbClr val="000066"/>
                </a:solidFill>
                <a:latin typeface="Arial"/>
                <a:cs typeface="Mudir MT"/>
              </a:rPr>
              <a:t>وهذه الدوافع وغيرها لا تبيح للمرأة إسقا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Mudir MT"/>
              </a:rPr>
              <a:t>     الجنين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457200"/>
            <a:ext cx="6248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هــم دوافــع الإجــهاض الاختياري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0880" y="380880"/>
            <a:ext cx="803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36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حقوق المشتركة بين الزوجين باعتبارها أثراً من آثار عقد الزواج الصحيح</a:t>
            </a:r>
            <a:r>
              <a:rPr b="0" lang="en-US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361960" y="1600200"/>
            <a:ext cx="4724280" cy="3124080"/>
          </a:xfrm>
          <a:prstGeom prst="rect">
            <a:avLst/>
          </a:prstGeom>
          <a:gradFill rotWithShape="0">
            <a:gsLst>
              <a:gs pos="0">
                <a:srgbClr val="ebe600"/>
              </a:gs>
              <a:gs pos="50000">
                <a:srgbClr val="bbe0e3"/>
              </a:gs>
              <a:gs pos="100000">
                <a:srgbClr val="ebe600"/>
              </a:gs>
            </a:gsLst>
            <a:lin ang="8100000"/>
          </a:gradFill>
          <a:ln w="25560">
            <a:solidFill>
              <a:srgbClr val="8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1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حسن العش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2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جِل الاستمتا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التعاون على طاعة الل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حرمة المصاه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ثبوت النسب لأولادهم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6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ثبوت التوارث بين الزوج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8600" y="213372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457200"/>
            <a:ext cx="6629400" cy="1066680"/>
          </a:xfrm>
          <a:custGeom>
            <a:avLst/>
            <a:gdLst>
              <a:gd name="textAreaLeft" fmla="*/ 1160280 w 6629400"/>
              <a:gd name="textAreaRight" fmla="*/ 5469120 w 6629400"/>
              <a:gd name="textAreaTop" fmla="*/ 20628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06" y="0"/>
                </a:lnTo>
                <a:arcTo wR="675" hR="1045" stAng="16200000" swAng="5400000"/>
                <a:lnTo>
                  <a:pt x="6481" y="4179"/>
                </a:lnTo>
                <a:lnTo>
                  <a:pt x="15119" y="4179"/>
                </a:lnTo>
                <a:lnTo>
                  <a:pt x="15119" y="1045"/>
                </a:lnTo>
                <a:arcTo wR="675" hR="1045" stAng="10800000" swAng="5400000"/>
                <a:lnTo>
                  <a:pt x="21600" y="0"/>
                </a:lnTo>
                <a:lnTo>
                  <a:pt x="18900" y="8711"/>
                </a:lnTo>
                <a:lnTo>
                  <a:pt x="21600" y="17421"/>
                </a:lnTo>
                <a:lnTo>
                  <a:pt x="17819" y="17421"/>
                </a:lnTo>
                <a:lnTo>
                  <a:pt x="17819" y="20555"/>
                </a:lnTo>
                <a:arcTo wR="675" hR="1045" stAng="0" swAng="5400000"/>
                <a:lnTo>
                  <a:pt x="4456" y="21600"/>
                </a:lnTo>
                <a:arcTo wR="675" hR="1045" stAng="5400000" swAng="5400000"/>
                <a:lnTo>
                  <a:pt x="3781" y="17421"/>
                </a:lnTo>
                <a:lnTo>
                  <a:pt x="0" y="17421"/>
                </a:lnTo>
                <a:lnTo>
                  <a:pt x="2700" y="8711"/>
                </a:lnTo>
                <a:close/>
              </a:path>
              <a:path fill="none" w="21600" h="21600">
                <a:moveTo>
                  <a:pt x="6481" y="1045"/>
                </a:moveTo>
                <a:arcTo wR="675" hR="1045" stAng="0" swAng="5400000"/>
                <a:lnTo>
                  <a:pt x="4456" y="2090"/>
                </a:lnTo>
                <a:arcTo wR="675" hR="1045" stAng="16200000" swAng="-5400000"/>
                <a:arcTo wR="675" hR="1045" stAng="10800000" swAng="-5400000"/>
                <a:lnTo>
                  <a:pt x="6481" y="4179"/>
                </a:lnTo>
              </a:path>
              <a:path fill="none" w="21600" h="21600">
                <a:moveTo>
                  <a:pt x="15119" y="1045"/>
                </a:moveTo>
                <a:arcTo wR="675" hR="1045" stAng="10800000" swAng="-5400000"/>
                <a:lnTo>
                  <a:pt x="17144" y="2090"/>
                </a:lnTo>
                <a:arcTo wR="675" hR="1045" stAng="16200000" swAng="5400000"/>
                <a:arcTo wR="675" hR="1045" stAng="0" swAng="5400000"/>
                <a:lnTo>
                  <a:pt x="15119" y="4179"/>
                </a:lnTo>
              </a:path>
              <a:path fill="none" w="21600" h="21600">
                <a:moveTo>
                  <a:pt x="3781" y="3134"/>
                </a:moveTo>
                <a:lnTo>
                  <a:pt x="3781" y="17421"/>
                </a:lnTo>
              </a:path>
              <a:path fill="none" w="21600" h="21600">
                <a:moveTo>
                  <a:pt x="17819" y="3134"/>
                </a:moveTo>
                <a:lnTo>
                  <a:pt x="17819" y="17421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66"/>
                </a:solidFill>
                <a:latin typeface="Arial"/>
                <a:cs typeface="PT Bold Heading"/>
              </a:rPr>
              <a:t>حقوق الزوج على زوجت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905120"/>
            <a:ext cx="6629400" cy="3200400"/>
          </a:xfrm>
          <a:prstGeom prst="ellipse">
            <a:avLst/>
          </a:prstGeom>
          <a:gradFill rotWithShape="0">
            <a:gsLst>
              <a:gs pos="0">
                <a:srgbClr val="f8b049"/>
              </a:gs>
              <a:gs pos="50000">
                <a:srgbClr val="fc9fcb">
                  <a:alpha val="40000"/>
                </a:srgbClr>
              </a:gs>
              <a:gs pos="100000">
                <a:srgbClr val="f8b049"/>
              </a:gs>
            </a:gsLst>
            <a:lin ang="54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الطاعة بالمعرو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قرار الزوجة في بيت الزوج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عدم الإذن بدخول بيته لمن يكر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القيام على أمر البي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600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52280"/>
            <a:ext cx="6629400" cy="1067040"/>
          </a:xfrm>
          <a:custGeom>
            <a:avLst/>
            <a:gdLst>
              <a:gd name="textAreaLeft" fmla="*/ 1160280 w 6629400"/>
              <a:gd name="textAreaRight" fmla="*/ 5469120 w 6629400"/>
              <a:gd name="textAreaTop" fmla="*/ 20628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06" y="0"/>
                </a:lnTo>
                <a:arcTo wR="675" hR="1045" stAng="16200000" swAng="5400000"/>
                <a:lnTo>
                  <a:pt x="6481" y="4179"/>
                </a:lnTo>
                <a:lnTo>
                  <a:pt x="15119" y="4179"/>
                </a:lnTo>
                <a:lnTo>
                  <a:pt x="15119" y="1045"/>
                </a:lnTo>
                <a:arcTo wR="675" hR="1045" stAng="10800000" swAng="5400000"/>
                <a:lnTo>
                  <a:pt x="21600" y="0"/>
                </a:lnTo>
                <a:lnTo>
                  <a:pt x="18900" y="8711"/>
                </a:lnTo>
                <a:lnTo>
                  <a:pt x="21600" y="17421"/>
                </a:lnTo>
                <a:lnTo>
                  <a:pt x="17819" y="17421"/>
                </a:lnTo>
                <a:lnTo>
                  <a:pt x="17819" y="20555"/>
                </a:lnTo>
                <a:arcTo wR="675" hR="1045" stAng="0" swAng="5400000"/>
                <a:lnTo>
                  <a:pt x="4456" y="21600"/>
                </a:lnTo>
                <a:arcTo wR="675" hR="1045" stAng="5400000" swAng="5400000"/>
                <a:lnTo>
                  <a:pt x="3781" y="17421"/>
                </a:lnTo>
                <a:lnTo>
                  <a:pt x="0" y="17421"/>
                </a:lnTo>
                <a:lnTo>
                  <a:pt x="2700" y="8711"/>
                </a:lnTo>
                <a:close/>
              </a:path>
              <a:path fill="none" w="21600" h="21600">
                <a:moveTo>
                  <a:pt x="6481" y="1045"/>
                </a:moveTo>
                <a:arcTo wR="675" hR="1045" stAng="0" swAng="5400000"/>
                <a:lnTo>
                  <a:pt x="4456" y="2090"/>
                </a:lnTo>
                <a:arcTo wR="675" hR="1045" stAng="16200000" swAng="-5400000"/>
                <a:arcTo wR="675" hR="1045" stAng="10800000" swAng="-5400000"/>
                <a:lnTo>
                  <a:pt x="6481" y="4179"/>
                </a:lnTo>
              </a:path>
              <a:path fill="none" w="21600" h="21600">
                <a:moveTo>
                  <a:pt x="15119" y="1045"/>
                </a:moveTo>
                <a:arcTo wR="675" hR="1045" stAng="10800000" swAng="-5400000"/>
                <a:lnTo>
                  <a:pt x="17144" y="2090"/>
                </a:lnTo>
                <a:arcTo wR="675" hR="1045" stAng="16200000" swAng="5400000"/>
                <a:arcTo wR="675" hR="1045" stAng="0" swAng="5400000"/>
                <a:lnTo>
                  <a:pt x="15119" y="4179"/>
                </a:lnTo>
              </a:path>
              <a:path fill="none" w="21600" h="21600">
                <a:moveTo>
                  <a:pt x="3781" y="3134"/>
                </a:moveTo>
                <a:lnTo>
                  <a:pt x="3781" y="17421"/>
                </a:lnTo>
              </a:path>
              <a:path fill="none" w="21600" h="21600">
                <a:moveTo>
                  <a:pt x="17819" y="3134"/>
                </a:moveTo>
                <a:lnTo>
                  <a:pt x="17819" y="17421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66"/>
                </a:solidFill>
                <a:latin typeface="Arial"/>
                <a:cs typeface="PT Bold Heading"/>
              </a:rPr>
              <a:t>حقوق الزوجة على زوج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5867280" cy="4343400"/>
          </a:xfrm>
          <a:prstGeom prst="ellipse">
            <a:avLst/>
          </a:prstGeom>
          <a:gradFill rotWithShape="0">
            <a:gsLst>
              <a:gs pos="0">
                <a:srgbClr val="f8b049"/>
              </a:gs>
              <a:gs pos="50000">
                <a:srgbClr val="fc9fcb">
                  <a:alpha val="40000"/>
                </a:srgbClr>
              </a:gs>
              <a:gs pos="100000">
                <a:srgbClr val="f8b049"/>
              </a:gs>
            </a:gsLst>
            <a:lin ang="54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( أ ) حقوق مادية و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مهر .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نفق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( ب ) حقوق أدبية و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غيرة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تعليمها أمور دين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مبيت عندها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90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9T20:32:4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