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48F-8031-441C-B3C0-65F768CA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406-0CE7-4EAE-8015-B7241698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E94-348E-4682-B4BE-1814671D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687-1328-4DB6-9593-31D8DD65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FB4-4866-4DBF-8DD4-0491A24A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984-7268-4544-9541-B277DDE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E9B-BF1D-482D-B516-8E538D1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8B0-1420-4244-A345-7507BB75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5E3-6E92-4B1A-9D2F-C3678F52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11C-DE36-41C9-B849-DB3C395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E12-A324-48D8-9192-1F388C5B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0EE-2FDC-437B-A829-3B847C17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5183-9C87-4BBD-83E9-C667C157B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52280"/>
            <a:ext cx="6477120" cy="1447920"/>
          </a:xfrm>
          <a:custGeom>
            <a:avLst/>
            <a:gdLst>
              <a:gd name="textAreaLeft" fmla="*/ 1561320 w 6477120"/>
              <a:gd name="textAreaRight" fmla="*/ 4915800 w 6477120"/>
              <a:gd name="textAreaTop" fmla="*/ 22788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232" y="0"/>
                </a:lnTo>
                <a:arcTo wR="675" hR="850" stAng="16200000" swAng="5400000"/>
                <a:lnTo>
                  <a:pt x="7907" y="3400"/>
                </a:lnTo>
                <a:lnTo>
                  <a:pt x="13693" y="3400"/>
                </a:lnTo>
                <a:lnTo>
                  <a:pt x="13693" y="850"/>
                </a:lnTo>
                <a:arcTo wR="675" hR="850" stAng="10800000" swAng="5400000"/>
                <a:lnTo>
                  <a:pt x="21600" y="0"/>
                </a:lnTo>
                <a:lnTo>
                  <a:pt x="18900" y="9100"/>
                </a:lnTo>
                <a:lnTo>
                  <a:pt x="21600" y="18200"/>
                </a:lnTo>
                <a:lnTo>
                  <a:pt x="16393" y="18200"/>
                </a:lnTo>
                <a:lnTo>
                  <a:pt x="16393" y="20750"/>
                </a:lnTo>
                <a:arcTo wR="675" hR="850" stAng="0" swAng="5400000"/>
                <a:lnTo>
                  <a:pt x="5882" y="21600"/>
                </a:lnTo>
                <a:arcTo wR="675" hR="850" stAng="5400000" swAng="5400000"/>
                <a:lnTo>
                  <a:pt x="5207" y="18200"/>
                </a:lnTo>
                <a:lnTo>
                  <a:pt x="0" y="18200"/>
                </a:lnTo>
                <a:lnTo>
                  <a:pt x="2700" y="9100"/>
                </a:lnTo>
                <a:close/>
              </a:path>
              <a:path fill="none" w="21600" h="21600">
                <a:moveTo>
                  <a:pt x="7907" y="850"/>
                </a:moveTo>
                <a:arcTo wR="675" hR="850" stAng="0" swAng="5400000"/>
                <a:lnTo>
                  <a:pt x="5882" y="1700"/>
                </a:lnTo>
                <a:arcTo wR="675" hR="850" stAng="16200000" swAng="-5400000"/>
                <a:arcTo wR="675" hR="850" stAng="10800000" swAng="-5400000"/>
                <a:lnTo>
                  <a:pt x="7907" y="3400"/>
                </a:lnTo>
              </a:path>
              <a:path fill="none" w="21600" h="21600">
                <a:moveTo>
                  <a:pt x="13693" y="850"/>
                </a:moveTo>
                <a:arcTo wR="675" hR="850" stAng="10800000" swAng="-5400000"/>
                <a:lnTo>
                  <a:pt x="15718" y="1700"/>
                </a:lnTo>
                <a:arcTo wR="675" hR="850" stAng="16200000" swAng="5400000"/>
                <a:arcTo wR="675" hR="850" stAng="0" swAng="5400000"/>
                <a:lnTo>
                  <a:pt x="13693" y="3400"/>
                </a:lnTo>
              </a:path>
              <a:path fill="none" w="21600" h="21600">
                <a:moveTo>
                  <a:pt x="5207" y="2550"/>
                </a:moveTo>
                <a:lnTo>
                  <a:pt x="5207" y="18200"/>
                </a:lnTo>
              </a:path>
              <a:path fill="none" w="21600" h="21600">
                <a:moveTo>
                  <a:pt x="16393" y="2550"/>
                </a:moveTo>
                <a:lnTo>
                  <a:pt x="16393" y="18200"/>
                </a:lnTo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Arial"/>
                <a:cs typeface="Monotype Koufi"/>
              </a:rPr>
              <a:t>المقاصد التي من أجل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Arial"/>
                <a:cs typeface="Monotype Koufi"/>
              </a:rPr>
              <a:t>شُرِعَ النكا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Arial"/>
                <a:cs typeface="Monotype Koufi"/>
              </a:rPr>
              <a:t>تتلخص فيما ي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1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) المحافظة على النسل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66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  <a:ea typeface="Mudir MT"/>
              </a:rPr>
              <a:t>2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  <a:ea typeface="Mudir MT"/>
              </a:rPr>
              <a:t>) تحقيق الفطرة الإنسانية وإشباع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Mudir MT"/>
              </a:rPr>
              <a:t>3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  <a:ea typeface="Mudir MT"/>
              </a:rPr>
              <a:t>) تحقيق السكن النفسي والروحي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cc0000"/>
                </a:solidFill>
                <a:latin typeface="Arial"/>
                <a:ea typeface="Mudir MT"/>
              </a:rPr>
              <a:t>4</a:t>
            </a:r>
            <a:r>
              <a:rPr b="0" lang="ar-SA" sz="2400" spc="-1" strike="noStrike">
                <a:solidFill>
                  <a:srgbClr val="cc0000"/>
                </a:solidFill>
                <a:latin typeface="Arial"/>
                <a:ea typeface="Mudir MT"/>
              </a:rPr>
              <a:t>) المحافظة على الأنس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Mudir MT"/>
              </a:rPr>
              <a:t>5</a:t>
            </a:r>
            <a:r>
              <a:rPr b="0" lang="ar-SA" sz="2400" spc="-1" strike="noStrike">
                <a:solidFill>
                  <a:srgbClr val="663300"/>
                </a:solidFill>
                <a:latin typeface="Arial"/>
                <a:ea typeface="Mudir MT"/>
              </a:rPr>
              <a:t>) صيانة لأفراد المجتمع من الانحراف 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660066"/>
                </a:solidFill>
                <a:latin typeface="Arial"/>
                <a:ea typeface="Mudir MT"/>
              </a:rPr>
              <a:t>6</a:t>
            </a:r>
            <a:r>
              <a:rPr b="0" lang="ar-SA" sz="2400" spc="-1" strike="noStrike">
                <a:solidFill>
                  <a:srgbClr val="660066"/>
                </a:solidFill>
                <a:latin typeface="Arial"/>
                <a:ea typeface="Mudir MT"/>
              </a:rPr>
              <a:t>) صيانة لأفراد المجتمع من الأمراض الفتاك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Mudir MT"/>
              </a:rPr>
              <a:t>7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Mudir MT"/>
              </a:rPr>
              <a:t>) غضّّ البصر وحفظ الفرج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Mudir MT"/>
              </a:rPr>
              <a:t>8</a:t>
            </a:r>
            <a:r>
              <a:rPr b="0" lang="ar-SA" sz="2400" spc="-1" strike="noStrike">
                <a:solidFill>
                  <a:srgbClr val="006666"/>
                </a:solidFill>
                <a:latin typeface="Arial"/>
                <a:ea typeface="Mudir MT"/>
              </a:rPr>
              <a:t>) العناية بتربية النشء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(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9</a:t>
            </a:r>
            <a:r>
              <a:rPr b="0" lang="ar-SA" sz="2400" spc="-1" strike="noStrike">
                <a:solidFill>
                  <a:srgbClr val="cc0066"/>
                </a:solidFill>
                <a:latin typeface="Arial"/>
                <a:ea typeface="Mudir MT"/>
              </a:rPr>
              <a:t>) تحقيق الستر للمرأة والرج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2181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676520" y="228600"/>
            <a:ext cx="570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ظاهر الغيرة المحمودة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990720"/>
            <a:ext cx="7543800" cy="4419360"/>
          </a:xfrm>
          <a:prstGeom prst="flowChartMultidocument">
            <a:avLst/>
          </a:prstGeom>
          <a:gradFill rotWithShape="0">
            <a:gsLst>
              <a:gs pos="0">
                <a:srgbClr val="ffccff"/>
              </a:gs>
              <a:gs pos="50000">
                <a:srgbClr val="ccffcc"/>
              </a:gs>
              <a:gs pos="100000">
                <a:srgbClr val="ffccff"/>
              </a:gs>
            </a:gsLst>
            <a:lin ang="8100000"/>
          </a:gra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1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أمرها بالحجاب عند الخرو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2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أمرها بغضّ بصرها عن الرجال الأجان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3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لا يسمح لها بإبداء زينتها الخاصة إلا ل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4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منعها من مخالطة الرجال الأجان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5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لا يعرّضها للفتنة ,كأن يطيل غيابه عن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6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Mudir MT"/>
              </a:rPr>
              <a:t>- أن يلبي طلباتها بنفسه حتى لا تحتاج لأحدٍ غير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066680"/>
            <a:ext cx="7543800" cy="426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Mudir MT"/>
              </a:rPr>
              <a:t>      ( أ ) حقوق الأبناء على الآباء قبل الولا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حسن اختيار الأبوين لبعض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حق الحياة للجن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  <a:ea typeface="Mudir MT"/>
              </a:rPr>
              <a:t>     ( ب ) حقوق الأبناء على الآباء بعد الولا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ختيار الاسم الحسن .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ختا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عقيقة .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نس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رضاعة .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حضان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نفقة .    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حسن التربي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لإرث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228600"/>
            <a:ext cx="3429000" cy="838080"/>
          </a:xfrm>
          <a:prstGeom prst="plus">
            <a:avLst>
              <a:gd name="adj" fmla="val 22537"/>
            </a:avLst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81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333399"/>
                </a:solidFill>
                <a:latin typeface="Arial"/>
                <a:cs typeface="PT Bold Heading"/>
              </a:rPr>
              <a:t>حقوق الأبناء على الآب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62520" y="228600"/>
            <a:ext cx="4647960" cy="1066680"/>
          </a:xfrm>
          <a:prstGeom prst="hexagon">
            <a:avLst>
              <a:gd name="adj" fmla="val 83779"/>
              <a:gd name="vf" fmla="val 11547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>
                <a:solidFill>
                  <a:srgbClr val="cc0000"/>
                </a:solidFill>
                <a:latin typeface="Arial"/>
                <a:cs typeface="PT Bold Mirror"/>
              </a:rPr>
              <a:t>حقوق الآباء على الأبن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447920"/>
            <a:ext cx="5943600" cy="3962160"/>
          </a:xfrm>
          <a:prstGeom prst="bevel">
            <a:avLst>
              <a:gd name="adj" fmla="val 7731"/>
            </a:avLst>
          </a:prstGeom>
          <a:gradFill rotWithShape="0">
            <a:gsLst>
              <a:gs pos="0">
                <a:srgbClr val="ffccff"/>
              </a:gs>
              <a:gs pos="100000">
                <a:srgbClr val="99cc00"/>
              </a:gs>
            </a:gsLst>
            <a:lin ang="81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الأمر بالإحسان إلي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النهي عن نهر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التواضع ل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وجوب شكر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5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تقديم برهما على الجهاد في سبيل ال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6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برهما ولو كانا كافر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7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تجنب سبهما وشتم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8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Mudir MT"/>
              </a:rPr>
              <a:t>- برهما بعد وفاتهم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7664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وقف النسل الإنساني عن النمو والزيادة , فيعاشر الزوج زوجته , لكن مع الحيلولة دون وقوع الحم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الــتــحــريـــــ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اختصار إنجاب الذرية , بحيث لا يأتي النسل إلا وفق نظام مرتب ومنسق بين كل مولود وآخ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udir MT"/>
              </a:rPr>
              <a:t>الــجــوا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38088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93524" dir="12193595" blurRad="0" rotWithShape="0">
                    <a:srgbClr val="99ccff">
                      <a:alpha val="50000"/>
                    </a:srgbClr>
                  </a:outerShdw>
                </a:effectLst>
                <a:latin typeface="Arial Black"/>
              </a:rPr>
              <a:t>المقصود بتحديد النسل وتنظيم النسل وبيان حكمهما</a:t>
            </a:r>
            <a:endParaRPr b="0" lang="en-US" sz="20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93524" dir="12193595" blurRad="0" rotWithShape="0">
                  <a:srgbClr val="99cc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9920" y="205740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تحديد النسل يُقصد به 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8520" y="2819520"/>
            <a:ext cx="1771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حـكـمــه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19920" y="3276720"/>
            <a:ext cx="2305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تنظيم النسل يُقصد به 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43600" y="4038480"/>
            <a:ext cx="1771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hi-IN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حـكـمــه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0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77353" dir="4837521" blurRad="0" rotWithShape="0">
                    <a:srgbClr val="ff5050">
                      <a:alpha val="50000"/>
                    </a:srgbClr>
                  </a:outerShdw>
                </a:effectLst>
                <a:latin typeface="Times New Roman"/>
              </a:rPr>
              <a:t>:</a:t>
            </a:r>
            <a:endParaRPr b="1" lang="en-US" sz="20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77353" dir="4837521" blurRad="0" rotWithShape="0">
                  <a:srgbClr val="ff505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6"/>
          <a:stretch/>
        </p:blipFill>
        <p:spPr>
          <a:xfrm>
            <a:off x="2133720" y="426708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94920" y="1752120"/>
            <a:ext cx="5715000" cy="2971800"/>
          </a:xfrm>
          <a:prstGeom prst="rect">
            <a:avLst/>
          </a:prstGeom>
          <a:blipFill rotWithShape="0">
            <a:blip r:embed="rId2"/>
            <a:stretch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Wingdings 2"/>
                <a:ea typeface="Wingdings 2"/>
              </a:rPr>
              <a:t></a:t>
            </a:r>
            <a:r>
              <a:rPr b="0" lang="ar-SA" sz="3200" spc="-1" strike="noStrike">
                <a:solidFill>
                  <a:srgbClr val="336600"/>
                </a:solidFill>
                <a:latin typeface="Arial"/>
                <a:cs typeface="Mudir MT"/>
              </a:rPr>
              <a:t>محاولة لتقليل أعداد المسلم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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  <a:cs typeface="Mudir MT"/>
              </a:rPr>
              <a:t>هذه الدعوة تهدف إلى إضعاف المسلمين نتيجة لقلة عد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66880" y="533520"/>
            <a:ext cx="548640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99ccff"/>
                  </a:outerShdw>
                </a:effectLst>
                <a:latin typeface="Impact"/>
              </a:rPr>
              <a:t>أهداف الدعوة إلى تحديد النسل في العالم الإسلامي 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99cc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- أثبتت تجارب ووقائع التاريخ أن الفقر في المناطق المكتظة بالسكان يعود إلى عدم استغلال الخبرات والموارد لا إلى كثرة الأولاد وتزايد السكا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- هذه الدعوة قصرت الحاجات الإنسانية على الخيرات والمنافع الثابتة في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الأرض , بغض النظر عن أي تفاعل بينها وبين الإنسان وليس الأم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كذلك , فإن مقومات العيش تتمثل في هذا التفاعل فكثرة النسل تزي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   من تفاعل  الإنسان مع خيرات الأرض فتكثر الموارد ويتسع الرز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                               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- أن رقي الأمم يحتاج للعباقرة والمبدعين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  <a:ea typeface="Mudir MT"/>
              </a:rPr>
              <a:t>                                                    فكلما كثر العدد كثرت نسبته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52280"/>
            <a:ext cx="6553080" cy="1295640"/>
          </a:xfrm>
          <a:prstGeom prst="flowChartMultidocument">
            <a:avLst/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81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000000"/>
                </a:solidFill>
                <a:latin typeface="Arial"/>
                <a:cs typeface="Andalus"/>
              </a:rPr>
              <a:t>الرد على دعوة تحديد النسل وبيان بطلان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0"/>
            <a:ext cx="6705360" cy="1523880"/>
          </a:xfrm>
          <a:prstGeom prst="downArrowCallout">
            <a:avLst>
              <a:gd name="adj1" fmla="val 78151"/>
              <a:gd name="adj2" fmla="val 57182"/>
              <a:gd name="adj3" fmla="val 22569"/>
              <a:gd name="adj4" fmla="val 66667"/>
            </a:avLst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8100000"/>
          </a:gra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50"/>
                </a:solidFill>
                <a:latin typeface="Arabic Typesetting"/>
                <a:cs typeface="PT Bold Mirror"/>
              </a:rPr>
              <a:t>التعريف بالإجهاض وبيان أنواعه وحكم كل نو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1219320"/>
            <a:ext cx="2666880" cy="533160"/>
          </a:xfrm>
          <a:prstGeom prst="wedgeEllipseCallout">
            <a:avLst>
              <a:gd name="adj1" fmla="val -25652"/>
              <a:gd name="adj2" fmla="val 76189"/>
            </a:avLst>
          </a:prstGeom>
          <a:gradFill rotWithShape="0">
            <a:gsLst>
              <a:gs pos="0">
                <a:srgbClr val="ff9966"/>
              </a:gs>
              <a:gs pos="50000">
                <a:srgbClr val="66ccff"/>
              </a:gs>
              <a:gs pos="100000">
                <a:srgbClr val="ff9966"/>
              </a:gs>
            </a:gsLst>
            <a:lin ang="8100000"/>
          </a:gradFill>
          <a:ln w="25560">
            <a:solidFill>
              <a:srgbClr val="f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Mudir MT"/>
              </a:rPr>
              <a:t>الإجهاض اصطلاحا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828800"/>
            <a:ext cx="5486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يُعرّف بأنه : إسقاط الجنين من بطن أمه قبل تمام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048120"/>
            <a:ext cx="1371600" cy="533160"/>
          </a:xfrm>
          <a:prstGeom prst="wedgeEllipseCallout">
            <a:avLst>
              <a:gd name="adj1" fmla="val -58449"/>
              <a:gd name="adj2" fmla="val 81250"/>
            </a:avLst>
          </a:prstGeom>
          <a:gradFill rotWithShape="0">
            <a:gsLst>
              <a:gs pos="0">
                <a:srgbClr val="ff9966"/>
              </a:gs>
              <a:gs pos="50000">
                <a:srgbClr val="66ccff"/>
              </a:gs>
              <a:gs pos="100000">
                <a:srgbClr val="ff9966"/>
              </a:gs>
            </a:gsLst>
            <a:lin ang="8100000"/>
          </a:gradFill>
          <a:ln w="25560">
            <a:solidFill>
              <a:srgbClr val="ff7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Mudir MT"/>
              </a:rPr>
              <a:t>أنواع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895480"/>
            <a:ext cx="6019920" cy="289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هو إخراج الحمل من الرحم في غير موعده الطبيع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عمداً وبلا ضرورة بأي وسيلة من الوسائ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1102"/>
                </a:solidFill>
                <a:latin typeface="Arial"/>
                <a:ea typeface="PT Bold Heading"/>
              </a:rPr>
              <a:t>                      حكمه :</a:t>
            </a:r>
            <a:r>
              <a:rPr b="0" lang="en-US" sz="2000" spc="-1" strike="noStrike">
                <a:solidFill>
                  <a:srgbClr val="000050"/>
                </a:solidFill>
                <a:latin typeface="Arial"/>
                <a:ea typeface="PT Bold Heading"/>
              </a:rPr>
              <a:t> مــحــر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إخراج الجنين من رحم أمه في غير موعده الطبيعي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إنقاذاً لحياة الأم , حيث يهددها خطر استمرار الحمل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1102"/>
                </a:solidFill>
                <a:latin typeface="Arial"/>
                <a:ea typeface="PT Bold Heading"/>
              </a:rPr>
              <a:t>                  </a:t>
            </a:r>
            <a:r>
              <a:rPr b="0" lang="hi-IN" sz="2000" spc="-1" strike="noStrike">
                <a:solidFill>
                  <a:srgbClr val="ce1102"/>
                </a:solidFill>
                <a:latin typeface="Arial"/>
                <a:cs typeface="PT Bold Heading"/>
              </a:rPr>
              <a:t>حكمه</a:t>
            </a:r>
            <a:r>
              <a:rPr b="0" lang="en-US" sz="2400" spc="-1" strike="noStrike">
                <a:solidFill>
                  <a:srgbClr val="ce1102"/>
                </a:solidFill>
                <a:latin typeface="Arial"/>
                <a:ea typeface="PT Bold Heading"/>
              </a:rPr>
              <a:t> :</a:t>
            </a:r>
            <a:r>
              <a:rPr b="0" lang="en-US" sz="2400" spc="-1" strike="noStrike">
                <a:solidFill>
                  <a:srgbClr val="000050"/>
                </a:solidFill>
                <a:latin typeface="Arial"/>
                <a:ea typeface="PT Bold Heading"/>
              </a:rPr>
              <a:t> جائ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ذي لا دخل للإنسان فيه , وإنما أسبابه خارج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عن إرادة المر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1102"/>
                </a:solidFill>
                <a:latin typeface="Arial"/>
                <a:ea typeface="PT Bold Heading"/>
              </a:rPr>
              <a:t>                      حكمه :</a:t>
            </a:r>
            <a:r>
              <a:rPr b="0" lang="en-US" sz="2000" spc="-1" strike="noStrike">
                <a:solidFill>
                  <a:srgbClr val="000050"/>
                </a:solidFill>
                <a:latin typeface="Arial"/>
                <a:ea typeface="PT Bold Heading"/>
              </a:rPr>
              <a:t> لا حكم له لأنه خارج عن إرادة الإنسان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5680" y="2971800"/>
            <a:ext cx="1505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إجهاض اختياري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3657600"/>
            <a:ext cx="1504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إجهاض ضروري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457200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إجهاض عفوي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781680" cy="2971800"/>
          </a:xfrm>
          <a:prstGeom prst="rect">
            <a:avLst/>
          </a:prstGeom>
          <a:gradFill rotWithShape="0">
            <a:gsLst>
              <a:gs pos="0">
                <a:srgbClr val="fffa3b"/>
              </a:gs>
              <a:gs pos="50000">
                <a:srgbClr val="afffc8"/>
              </a:gs>
              <a:gs pos="100000">
                <a:srgbClr val="fffa3b"/>
              </a:gs>
            </a:gsLst>
            <a:lin ang="8100000"/>
          </a:gra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ce1102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e1102"/>
                </a:solidFill>
                <a:latin typeface="Arial"/>
                <a:cs typeface="Mudir MT"/>
              </a:rPr>
              <a:t>الــفــقــ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ce1102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e1102"/>
                </a:solidFill>
                <a:latin typeface="Arial"/>
                <a:cs typeface="Mudir MT"/>
              </a:rPr>
              <a:t>حفظ لجمال المرأ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ce1102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e1102"/>
                </a:solidFill>
                <a:latin typeface="Arial"/>
                <a:cs typeface="Mudir MT"/>
              </a:rPr>
              <a:t>دخول المرأة في ميدان الع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     </a:t>
            </a:r>
            <a:r>
              <a:rPr b="0" lang="hi-IN" sz="3200" spc="-1" strike="noStrike">
                <a:solidFill>
                  <a:srgbClr val="000066"/>
                </a:solidFill>
                <a:latin typeface="Arial"/>
                <a:cs typeface="Mudir MT"/>
              </a:rPr>
              <a:t>وهذه الدوافع وغيرها لا تبيح للمرأة إسقا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Mudir MT"/>
              </a:rPr>
              <a:t>     الجنين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457200"/>
            <a:ext cx="6248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هــم دوافــع الإجــهاض الاختياري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80880" y="380880"/>
            <a:ext cx="803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36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hi-IN" sz="24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حقوق المشتركة بين الزوجين باعتبارها أثراً من آثار عقد الزواج الصحيح</a:t>
            </a:r>
            <a:r>
              <a:rPr b="0" lang="en-US" sz="2400" spc="1" strike="noStrike">
                <a:ln w="6480">
                  <a:solidFill>
                    <a:srgbClr val="cc006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6480">
                <a:solidFill>
                  <a:srgbClr val="cc006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361960" y="1600200"/>
            <a:ext cx="4724280" cy="3124080"/>
          </a:xfrm>
          <a:prstGeom prst="rect">
            <a:avLst/>
          </a:prstGeom>
          <a:gradFill rotWithShape="0">
            <a:gsLst>
              <a:gs pos="0">
                <a:srgbClr val="ebe600"/>
              </a:gs>
              <a:gs pos="50000">
                <a:srgbClr val="bbe0e3"/>
              </a:gs>
              <a:gs pos="100000">
                <a:srgbClr val="ebe600"/>
              </a:gs>
            </a:gsLst>
            <a:lin ang="8100000"/>
          </a:gradFill>
          <a:ln w="25560">
            <a:solidFill>
              <a:srgbClr val="8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1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حسن العش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2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جِل الاستمتا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التعاون على طاعة الل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حرمة المصاه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ثبوت النسب لأولادهم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(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6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Mudir MT"/>
              </a:rPr>
              <a:t> )</a:t>
            </a:r>
            <a:r>
              <a:rPr b="0" lang="en-US" sz="2800" spc="-1" strike="noStrike">
                <a:solidFill>
                  <a:srgbClr val="666633"/>
                </a:solidFill>
                <a:latin typeface="Arial"/>
                <a:ea typeface="Mudir MT"/>
              </a:rPr>
              <a:t> ثبوت التوارث بين الزوج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8600" y="2133720"/>
            <a:ext cx="1886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457200"/>
            <a:ext cx="6629400" cy="1066680"/>
          </a:xfrm>
          <a:custGeom>
            <a:avLst/>
            <a:gdLst>
              <a:gd name="textAreaLeft" fmla="*/ 1160280 w 6629400"/>
              <a:gd name="textAreaRight" fmla="*/ 5469120 w 6629400"/>
              <a:gd name="textAreaTop" fmla="*/ 20628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06" y="0"/>
                </a:lnTo>
                <a:arcTo wR="675" hR="1045" stAng="16200000" swAng="5400000"/>
                <a:lnTo>
                  <a:pt x="6481" y="4179"/>
                </a:lnTo>
                <a:lnTo>
                  <a:pt x="15119" y="4179"/>
                </a:lnTo>
                <a:lnTo>
                  <a:pt x="15119" y="1045"/>
                </a:lnTo>
                <a:arcTo wR="675" hR="1045" stAng="10800000" swAng="5400000"/>
                <a:lnTo>
                  <a:pt x="21600" y="0"/>
                </a:lnTo>
                <a:lnTo>
                  <a:pt x="18900" y="8711"/>
                </a:lnTo>
                <a:lnTo>
                  <a:pt x="21600" y="17421"/>
                </a:lnTo>
                <a:lnTo>
                  <a:pt x="17819" y="17421"/>
                </a:lnTo>
                <a:lnTo>
                  <a:pt x="17819" y="20555"/>
                </a:lnTo>
                <a:arcTo wR="675" hR="1045" stAng="0" swAng="5400000"/>
                <a:lnTo>
                  <a:pt x="4456" y="21600"/>
                </a:lnTo>
                <a:arcTo wR="675" hR="1045" stAng="5400000" swAng="5400000"/>
                <a:lnTo>
                  <a:pt x="3781" y="17421"/>
                </a:lnTo>
                <a:lnTo>
                  <a:pt x="0" y="17421"/>
                </a:lnTo>
                <a:lnTo>
                  <a:pt x="2700" y="8711"/>
                </a:lnTo>
                <a:close/>
              </a:path>
              <a:path fill="none" w="21600" h="21600">
                <a:moveTo>
                  <a:pt x="6481" y="1045"/>
                </a:moveTo>
                <a:arcTo wR="675" hR="1045" stAng="0" swAng="5400000"/>
                <a:lnTo>
                  <a:pt x="4456" y="2090"/>
                </a:lnTo>
                <a:arcTo wR="675" hR="1045" stAng="16200000" swAng="-5400000"/>
                <a:arcTo wR="675" hR="1045" stAng="10800000" swAng="-5400000"/>
                <a:lnTo>
                  <a:pt x="6481" y="4179"/>
                </a:lnTo>
              </a:path>
              <a:path fill="none" w="21600" h="21600">
                <a:moveTo>
                  <a:pt x="15119" y="1045"/>
                </a:moveTo>
                <a:arcTo wR="675" hR="1045" stAng="10800000" swAng="-5400000"/>
                <a:lnTo>
                  <a:pt x="17144" y="2090"/>
                </a:lnTo>
                <a:arcTo wR="675" hR="1045" stAng="16200000" swAng="5400000"/>
                <a:arcTo wR="675" hR="1045" stAng="0" swAng="5400000"/>
                <a:lnTo>
                  <a:pt x="15119" y="4179"/>
                </a:lnTo>
              </a:path>
              <a:path fill="none" w="21600" h="21600">
                <a:moveTo>
                  <a:pt x="3781" y="3134"/>
                </a:moveTo>
                <a:lnTo>
                  <a:pt x="3781" y="17421"/>
                </a:lnTo>
              </a:path>
              <a:path fill="none" w="21600" h="21600">
                <a:moveTo>
                  <a:pt x="17819" y="3134"/>
                </a:moveTo>
                <a:lnTo>
                  <a:pt x="17819" y="17421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81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66"/>
                </a:solidFill>
                <a:latin typeface="Arial"/>
                <a:cs typeface="PT Bold Heading"/>
              </a:rPr>
              <a:t>حقوق الزوج على زوجت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905120"/>
            <a:ext cx="6629400" cy="3200400"/>
          </a:xfrm>
          <a:prstGeom prst="ellipse">
            <a:avLst/>
          </a:prstGeom>
          <a:gradFill rotWithShape="0">
            <a:gsLst>
              <a:gs pos="0">
                <a:srgbClr val="f8b049"/>
              </a:gs>
              <a:gs pos="50000">
                <a:srgbClr val="fc9fcb">
                  <a:alpha val="40000"/>
                </a:srgbClr>
              </a:gs>
              <a:gs pos="100000">
                <a:srgbClr val="f8b049"/>
              </a:gs>
            </a:gsLst>
            <a:lin ang="54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الطاعة بالمعرو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قرار الزوجة في بيت الزوج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عدم الإذن بدخول بيته لمن يكر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udir MT"/>
              </a:rPr>
              <a:t>- القيام على أمر البي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1600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152280"/>
            <a:ext cx="6629400" cy="1067040"/>
          </a:xfrm>
          <a:custGeom>
            <a:avLst/>
            <a:gdLst>
              <a:gd name="textAreaLeft" fmla="*/ 1160280 w 6629400"/>
              <a:gd name="textAreaRight" fmla="*/ 5469120 w 6629400"/>
              <a:gd name="textAreaTop" fmla="*/ 20628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06" y="0"/>
                </a:lnTo>
                <a:arcTo wR="675" hR="1045" stAng="16200000" swAng="5400000"/>
                <a:lnTo>
                  <a:pt x="6481" y="4179"/>
                </a:lnTo>
                <a:lnTo>
                  <a:pt x="15119" y="4179"/>
                </a:lnTo>
                <a:lnTo>
                  <a:pt x="15119" y="1045"/>
                </a:lnTo>
                <a:arcTo wR="675" hR="1045" stAng="10800000" swAng="5400000"/>
                <a:lnTo>
                  <a:pt x="21600" y="0"/>
                </a:lnTo>
                <a:lnTo>
                  <a:pt x="18900" y="8711"/>
                </a:lnTo>
                <a:lnTo>
                  <a:pt x="21600" y="17421"/>
                </a:lnTo>
                <a:lnTo>
                  <a:pt x="17819" y="17421"/>
                </a:lnTo>
                <a:lnTo>
                  <a:pt x="17819" y="20555"/>
                </a:lnTo>
                <a:arcTo wR="675" hR="1045" stAng="0" swAng="5400000"/>
                <a:lnTo>
                  <a:pt x="4456" y="21600"/>
                </a:lnTo>
                <a:arcTo wR="675" hR="1045" stAng="5400000" swAng="5400000"/>
                <a:lnTo>
                  <a:pt x="3781" y="17421"/>
                </a:lnTo>
                <a:lnTo>
                  <a:pt x="0" y="17421"/>
                </a:lnTo>
                <a:lnTo>
                  <a:pt x="2700" y="8711"/>
                </a:lnTo>
                <a:close/>
              </a:path>
              <a:path fill="none" w="21600" h="21600">
                <a:moveTo>
                  <a:pt x="6481" y="1045"/>
                </a:moveTo>
                <a:arcTo wR="675" hR="1045" stAng="0" swAng="5400000"/>
                <a:lnTo>
                  <a:pt x="4456" y="2090"/>
                </a:lnTo>
                <a:arcTo wR="675" hR="1045" stAng="16200000" swAng="-5400000"/>
                <a:arcTo wR="675" hR="1045" stAng="10800000" swAng="-5400000"/>
                <a:lnTo>
                  <a:pt x="6481" y="4179"/>
                </a:lnTo>
              </a:path>
              <a:path fill="none" w="21600" h="21600">
                <a:moveTo>
                  <a:pt x="15119" y="1045"/>
                </a:moveTo>
                <a:arcTo wR="675" hR="1045" stAng="10800000" swAng="-5400000"/>
                <a:lnTo>
                  <a:pt x="17144" y="2090"/>
                </a:lnTo>
                <a:arcTo wR="675" hR="1045" stAng="16200000" swAng="5400000"/>
                <a:arcTo wR="675" hR="1045" stAng="0" swAng="5400000"/>
                <a:lnTo>
                  <a:pt x="15119" y="4179"/>
                </a:lnTo>
              </a:path>
              <a:path fill="none" w="21600" h="21600">
                <a:moveTo>
                  <a:pt x="3781" y="3134"/>
                </a:moveTo>
                <a:lnTo>
                  <a:pt x="3781" y="17421"/>
                </a:lnTo>
              </a:path>
              <a:path fill="none" w="21600" h="21600">
                <a:moveTo>
                  <a:pt x="17819" y="3134"/>
                </a:moveTo>
                <a:lnTo>
                  <a:pt x="17819" y="17421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81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66"/>
                </a:solidFill>
                <a:latin typeface="Arial"/>
                <a:cs typeface="PT Bold Heading"/>
              </a:rPr>
              <a:t>حقوق الزوجة على زوجه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371600"/>
            <a:ext cx="5867280" cy="4343400"/>
          </a:xfrm>
          <a:prstGeom prst="ellipse">
            <a:avLst/>
          </a:prstGeom>
          <a:gradFill rotWithShape="0">
            <a:gsLst>
              <a:gs pos="0">
                <a:srgbClr val="f8b049"/>
              </a:gs>
              <a:gs pos="50000">
                <a:srgbClr val="fc9fcb">
                  <a:alpha val="40000"/>
                </a:srgbClr>
              </a:gs>
              <a:gs pos="100000">
                <a:srgbClr val="f8b049"/>
              </a:gs>
            </a:gsLst>
            <a:lin ang="5400000"/>
          </a:gra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( أ ) حقوق مادية و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مهر .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نفق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Mudir MT"/>
              </a:rPr>
              <a:t>( ب ) حقوق أدبية وه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غيرة علي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تعليمها أمور دينها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Mudir MT"/>
              </a:rPr>
              <a:t>- المبيت عندها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990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29T20:32:4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