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6F9-81AE-433C-9F80-7F595866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C29-3AE7-4C38-BB0A-1A5B4225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56F-20B0-4842-B66D-5B97F1E5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726-EFAE-43B5-ACC4-B7DC08B7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63B5-ED8B-48F5-8F02-22F567BD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3616-F1E2-4DD2-B48E-2F5B0606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5E4B-AE17-4B29-9C70-E4C2B46B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606E-1099-4701-99C7-8684F7C9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7541-949F-4420-80D7-B442DA02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4A83-EDD5-4916-884D-C16C1A52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F83C-AF64-44EE-96B7-0DEF650A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8C5-7E14-4BBD-874A-E2D6A0AA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0A3C-BCDA-41B5-A55A-D309C17D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9D78-BF5B-428D-AE0C-796E574F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B8DF-93F3-4C0A-AA1D-69E5FB39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CD05-50E4-4C3D-8C36-102A32BE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158B-0680-47AB-AA9D-869EA12D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CAD-666D-4F76-A488-3ABB8C88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1FF-D5FC-4D7A-9A9A-37F7A06F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889-4087-4670-BD89-96B99B07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E2B-4BE2-41A4-A540-00804DCE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AF4-4B6C-4F0E-8EBE-5CD3387E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C03-3280-46A5-9E6A-18AAD945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380-4546-49F6-A51C-5E70F62D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0620-153C-42D3-A790-DDC1DE1CB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1117-0ED9-4FC2-B759-5C949C0175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hi-IN" sz="2400" spc="-1" strike="noStrike">
                <a:solidFill>
                  <a:srgbClr val="000066"/>
                </a:solidFill>
                <a:latin typeface="Tahoma"/>
              </a:rPr>
              <a:t>مشكلة انحراف الشباب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hi-IN" sz="2400" spc="-1" strike="noStrike">
                <a:solidFill>
                  <a:srgbClr val="000066"/>
                </a:solidFill>
                <a:latin typeface="Tahoma"/>
              </a:rPr>
              <a:t>مشكلة انتشار وسائل الإعلام المضللة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hi-IN" sz="2400" spc="-1" strike="noStrike">
                <a:solidFill>
                  <a:srgbClr val="000066"/>
                </a:solidFill>
                <a:latin typeface="Tahoma"/>
              </a:rPr>
              <a:t>مشكلة ضعف صلة كثير من الشباب بعلماء الإسلام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hi-IN" sz="2400" spc="-1" strike="noStrike">
                <a:solidFill>
                  <a:srgbClr val="000066"/>
                </a:solidFill>
                <a:latin typeface="Tahoma"/>
              </a:rPr>
              <a:t>مشكلة انتشار الفواحش الأخلاقية وأهمها الزنا , اللواط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hi-IN" sz="2400" spc="-1" strike="noStrike">
                <a:solidFill>
                  <a:srgbClr val="000066"/>
                </a:solidFill>
                <a:latin typeface="Tahoma"/>
              </a:rPr>
              <a:t>القذف , الاختلاط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hi-IN" sz="2400" spc="-1" strike="noStrike">
                <a:solidFill>
                  <a:srgbClr val="000066"/>
                </a:solidFill>
                <a:latin typeface="Tahoma"/>
              </a:rPr>
              <a:t>مشكلة انتشار المخدرات والمسكرات والدخان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hi-IN" sz="2400" spc="-1" strike="noStrike">
                <a:solidFill>
                  <a:srgbClr val="000066"/>
                </a:solidFill>
                <a:latin typeface="Tahoma"/>
              </a:rPr>
              <a:t>مشكلة انتشار الرشوة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1828800"/>
            <a:ext cx="762120" cy="1523880"/>
          </a:xfrm>
          <a:custGeom>
            <a:avLst/>
            <a:gdLst>
              <a:gd name="textAreaLeft" fmla="*/ 101880 w 762120"/>
              <a:gd name="textAreaRight" fmla="*/ 660240 w 76212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228600"/>
            <a:ext cx="6172200" cy="2057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Mudir MT"/>
              </a:rPr>
              <a:t>أهم المشكلات الاجتماع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Mudir MT"/>
              </a:rPr>
              <a:t> التي تواجه المسلمين في هذا العص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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كالبعد عن طاعة الله وعبادته من صلاة وذكر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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قد يؤدي تناولها إلى عدة جرائم اجتماعي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كأن يزني الرجل بأمه أو أخته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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</a:rPr>
              <a:t>كضمور المخ , وانتشار بعض الأمراض الجنس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كالإيدز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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كنهب ثروات الأمة من قِبل المروجين وكثر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الغياب عن العمل من قِبل المتعاطين لتلك السمو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09680" y="609480"/>
            <a:ext cx="5791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أضرار المخدرات والمسكرات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77120" y="1219320"/>
            <a:ext cx="21333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9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8100000"/>
                </a:gradFill>
                <a:latin typeface="Impact"/>
              </a:rPr>
              <a:t>أضرار دينية 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2286000"/>
            <a:ext cx="295776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8100000"/>
                </a:gradFill>
                <a:latin typeface="Impact"/>
              </a:rPr>
              <a:t>أضرار اجتماعية  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324480" y="5029200"/>
            <a:ext cx="2381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8100000"/>
                </a:gradFill>
                <a:latin typeface="Impact"/>
              </a:rPr>
              <a:t>أضرار اقتصادية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629400" y="3657600"/>
            <a:ext cx="2152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8100000"/>
                </a:gradFill>
                <a:latin typeface="Impact"/>
              </a:rPr>
              <a:t>أضرار صحية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228600"/>
            <a:ext cx="3505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الـــرشـــــوة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1066680"/>
            <a:ext cx="2133720" cy="1067040"/>
          </a:xfrm>
          <a:prstGeom prst="leftArrow">
            <a:avLst>
              <a:gd name="adj1" fmla="val 64287"/>
              <a:gd name="adj2" fmla="val 62341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800" spc="-1" strike="noStrike">
                <a:solidFill>
                  <a:srgbClr val="800000"/>
                </a:solidFill>
                <a:latin typeface="Tahoma"/>
                <a:cs typeface="Bold Italic Art"/>
              </a:rPr>
              <a:t>اصطلا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1219320"/>
            <a:ext cx="6782040" cy="1371600"/>
          </a:xfrm>
          <a:custGeom>
            <a:avLst/>
            <a:gdLst>
              <a:gd name="textAreaLeft" fmla="*/ 0 w 6782040"/>
              <a:gd name="textAreaRight" fmla="*/ 6782400 w 6782040"/>
              <a:gd name="textAreaTop" fmla="*/ 177840 h 1371600"/>
              <a:gd name="textAreaBottom" fmla="*/ 11937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99ff33"/>
              </a:gs>
              <a:gs pos="50000">
                <a:srgbClr val="ffccff"/>
              </a:gs>
              <a:gs pos="100000">
                <a:srgbClr val="99ff33"/>
              </a:gs>
            </a:gsLst>
            <a:lin ang="8100000"/>
          </a:gra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ahoma"/>
              </a:rPr>
              <a:t>يطلق على كل ما يعطيه الإنسان لحاكم أو غيره لإبطال ح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</a:rPr>
              <a:t> أو إحقاق باط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2590920"/>
            <a:ext cx="1752840" cy="1295280"/>
          </a:xfrm>
          <a:prstGeom prst="leftArrow">
            <a:avLst>
              <a:gd name="adj1" fmla="val 53435"/>
              <a:gd name="adj2" fmla="val 37290"/>
            </a:avLst>
          </a:prstGeom>
          <a:gradFill rotWithShape="0">
            <a:gsLst>
              <a:gs pos="0">
                <a:srgbClr val="ffcc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33"/>
                </a:solidFill>
                <a:latin typeface="Tahoma"/>
                <a:ea typeface="Bold Italic Art"/>
              </a:rPr>
              <a:t> شرح التعري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286000"/>
            <a:ext cx="7162920" cy="4419720"/>
          </a:xfrm>
          <a:custGeom>
            <a:avLst/>
            <a:gdLst>
              <a:gd name="textAreaLeft" fmla="*/ 0 w 7162920"/>
              <a:gd name="textAreaRight" fmla="*/ 7163280 w 7162920"/>
              <a:gd name="textAreaTop" fmla="*/ 824040 h 4419720"/>
              <a:gd name="textAreaBottom" fmla="*/ 359568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2014"/>
                </a:moveTo>
                <a:cubicBezTo>
                  <a:pt x="7200" y="-5121"/>
                  <a:pt x="14400" y="9149"/>
                  <a:pt x="21600" y="2014"/>
                </a:cubicBezTo>
                <a:lnTo>
                  <a:pt x="21600" y="19586"/>
                </a:lnTo>
                <a:cubicBezTo>
                  <a:pt x="14400" y="26721"/>
                  <a:pt x="7200" y="12451"/>
                  <a:pt x="0" y="19586"/>
                </a:cubicBez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50000">
                <a:srgbClr val="99ff33"/>
              </a:gs>
              <a:gs pos="100000">
                <a:srgbClr val="009999"/>
              </a:gs>
            </a:gsLst>
            <a:lin ang="81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Wingdings 3"/>
                <a:ea typeface="Wingdings 3"/>
              </a:rPr>
              <a:t>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يشمل ذلك كل من ولي أمراً من الأمور العامة كأمي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800000"/>
                </a:solidFill>
                <a:latin typeface="Tahoma"/>
              </a:rPr>
              <a:t>أو قاضي أو موظف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               </a:t>
            </a:r>
            <a:r>
              <a:rPr b="1" lang="en-US" sz="2000" spc="-1" strike="noStrike">
                <a:solidFill>
                  <a:srgbClr val="800000"/>
                </a:solidFill>
                <a:latin typeface="Wingdings 3"/>
                <a:ea typeface="Wingdings 3"/>
              </a:rPr>
              <a:t></a:t>
            </a:r>
            <a:r>
              <a:rPr b="1" lang="hi-IN" sz="2000" spc="-1" strike="noStrike">
                <a:solidFill>
                  <a:srgbClr val="800000"/>
                </a:solidFill>
                <a:latin typeface="Tahoma"/>
              </a:rPr>
              <a:t>أي لإفساد حق مشروع لإنسان آخر , كرشوة المسؤو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                          من أجل الحصول على وظيفة يستحقها إنسان آخر غير الراشي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Wingdings 3"/>
                <a:ea typeface="Wingdings 3"/>
              </a:rPr>
              <a:t></a:t>
            </a:r>
            <a:r>
              <a:rPr b="1" lang="hi-IN" sz="2000" spc="-1" strike="noStrike">
                <a:solidFill>
                  <a:srgbClr val="800000"/>
                </a:solidFill>
                <a:latin typeface="Tahoma"/>
              </a:rPr>
              <a:t>لإثبات باطل للراشي من غير وجه حق , كالحكم للراش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                               بملكية أرض معينة ليست في الأصل ملكاً له بل لإنسان آخ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029200" y="3048120"/>
            <a:ext cx="187164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Impact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Impact"/>
              </a:rPr>
              <a:t>لحاكم أو غيره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486400" y="4038480"/>
            <a:ext cx="15667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Impact"/>
              </a:rPr>
              <a:t>لإبطال ح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105520" y="4876920"/>
            <a:ext cx="1676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Impact"/>
              </a:rPr>
              <a:t>لإحقاق باط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1920" y="1981080"/>
            <a:ext cx="8534520" cy="4572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99cc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66"/>
                </a:solidFill>
                <a:latin typeface="Tahoma"/>
              </a:rPr>
              <a:t>حكم الرشوة التحريم , والهدية الاستحباب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66"/>
                </a:solidFill>
                <a:latin typeface="Tahoma"/>
              </a:rPr>
              <a:t>الرشوة ما يعطى بشرط المعاونة والمساعدة , والهدية لا شرط معه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66"/>
                </a:solidFill>
                <a:latin typeface="Tahoma"/>
              </a:rPr>
              <a:t>الرشوة ما أُخذت طلباً من قِبل المرتشي أو بعر ض العطاء والبذل من قِبل الراشي , أما الهدية فهي ما بُذِلت عفواً من المهدي إلى المهدى إليه من غير قصد لمنفعة معينة 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5886360" y="-895680"/>
            <a:ext cx="1562040" cy="3733920"/>
          </a:xfrm>
          <a:prstGeom prst="octagon">
            <a:avLst>
              <a:gd name="adj" fmla="val 29287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800" spc="-1" strike="noStrike">
                <a:solidFill>
                  <a:srgbClr val="660033"/>
                </a:solidFill>
                <a:latin typeface="Tahoma"/>
                <a:cs typeface="Mudir MT"/>
              </a:rPr>
              <a:t>الــفـــرق بــيـــن</a:t>
            </a:r>
            <a:r>
              <a:rPr b="1" i="1" lang="en-US" sz="2800" spc="-1" strike="noStrike">
                <a:solidFill>
                  <a:srgbClr val="660033"/>
                </a:solidFill>
                <a:latin typeface="Tahoma"/>
                <a:ea typeface="Mudir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800" spc="-1" strike="noStrike">
                <a:solidFill>
                  <a:srgbClr val="660033"/>
                </a:solidFill>
                <a:latin typeface="Tahoma"/>
                <a:cs typeface="Mudir MT"/>
              </a:rPr>
              <a:t>الــهــــديـــــة والــــــرشـــــ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0ea00"/>
                </a:solidFill>
                <a:latin typeface="Tahoma"/>
              </a:rPr>
              <a:t>إهدار قيم الإسلام العليا كالعدل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0ea00"/>
                </a:solidFill>
                <a:latin typeface="Tahoma"/>
              </a:rPr>
              <a:t>تولية الوظائف العامة والمراكز المهمة في الدولة لغير مستحقيها فينتشر الأحقاد بين الناس , ويستولي الخوف على قلوب الضعفاء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0ea00"/>
                </a:solidFill>
                <a:latin typeface="Tahoma"/>
              </a:rPr>
              <a:t>أكل لأموال الناس بالباطل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0ea00"/>
                </a:solidFill>
                <a:latin typeface="Tahoma"/>
              </a:rPr>
              <a:t>الإعانة على ضياع حقوق من لا يقدر على الرشو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3924360" y="-1028160"/>
            <a:ext cx="1295280" cy="3962160"/>
          </a:xfrm>
          <a:prstGeom prst="ellipse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f0ea00"/>
                </a:solidFill>
                <a:latin typeface="Tahoma"/>
                <a:cs typeface="Bold Italic Art"/>
              </a:rPr>
              <a:t>أضرار الرشو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7d9ff"/>
                </a:solidFill>
                <a:latin typeface="Tahoma"/>
              </a:rPr>
              <a:t>توثيق صلة شباب لأمة بعلماء النهج الرباني من قرآنٍ وسن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7d9ff"/>
                </a:solidFill>
                <a:latin typeface="Tahoma"/>
              </a:rPr>
              <a:t>تحصين الشباب بالثقافة الإسلامي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7d9ff"/>
                </a:solidFill>
                <a:latin typeface="Tahoma"/>
              </a:rPr>
              <a:t>ذكر قصص رجال ونساء كانوا في موضع القدوة الحسنة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7d9ff"/>
                </a:solidFill>
                <a:latin typeface="Tahoma"/>
              </a:rPr>
              <a:t>حث الشباب والفتيات على الزواج المبكر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7d9ff"/>
                </a:solidFill>
                <a:latin typeface="Tahoma"/>
              </a:rPr>
              <a:t>منع الخلوة , والاختلاط , وعدم التهاون مع المتبرجات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7d9ff"/>
                </a:solidFill>
                <a:latin typeface="Tahoma"/>
              </a:rPr>
              <a:t>إنزال العقوبات الشرعية بالمفسدين والمجرمين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371600" y="152280"/>
            <a:ext cx="6915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سبل الوقاية والعلاج من المشكلات الاجتماعية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34320" y="1828800"/>
            <a:ext cx="2057400" cy="1447920"/>
          </a:xfrm>
          <a:prstGeom prst="leftArrow">
            <a:avLst>
              <a:gd name="adj1" fmla="val 58769"/>
              <a:gd name="adj2" fmla="val 35523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abic Typesetting"/>
                <a:cs typeface="Andalus"/>
              </a:rPr>
              <a:t>انحراف فكر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10280" y="4267080"/>
            <a:ext cx="1981440" cy="1447920"/>
          </a:xfrm>
          <a:prstGeom prst="leftArrow">
            <a:avLst>
              <a:gd name="adj1" fmla="val 58769"/>
              <a:gd name="adj2" fmla="val 34212"/>
            </a:avLst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abic Typesetting"/>
                <a:cs typeface="Andalus"/>
              </a:rPr>
              <a:t>انحراف سلوك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905120" y="0"/>
            <a:ext cx="6019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hi-IN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5400000"/>
                </a:gradFill>
                <a:latin typeface="Impact"/>
              </a:rPr>
              <a:t>أنــواع الانــحــراف</a:t>
            </a:r>
            <a:endParaRPr b="1" i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572000"/>
            <a:ext cx="5410080" cy="1371600"/>
          </a:xfrm>
          <a:prstGeom prst="foldedCorner">
            <a:avLst>
              <a:gd name="adj" fmla="val 16791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0066"/>
                </a:solidFill>
                <a:latin typeface="Tahoma"/>
              </a:rPr>
              <a:t>أي قيام الشباب بممارسة سلوكيات تخالف النه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 الإسلامي مثل السرقة, والتبرج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676520"/>
            <a:ext cx="5562720" cy="1752480"/>
          </a:xfrm>
          <a:prstGeom prst="foldedCorner">
            <a:avLst>
              <a:gd name="adj" fmla="val 20712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0066"/>
                </a:solidFill>
                <a:latin typeface="Tahoma"/>
              </a:rPr>
              <a:t>ويعني ذلك اعتناق الشباب لأفكار غير سوية تعمل عل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0066"/>
                </a:solidFill>
                <a:latin typeface="Tahoma"/>
              </a:rPr>
              <a:t>هدم معالم الد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0066"/>
                </a:solidFill>
                <a:latin typeface="Tahoma"/>
              </a:rPr>
              <a:t>مثل العَلمانية , واعتقاد عدم وجوب الحكم بما أنزل الل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2971440"/>
            <a:ext cx="8229600" cy="2971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255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66"/>
                </a:solidFill>
                <a:latin typeface="Tahoma"/>
              </a:rPr>
              <a:t>الإعلام بمعناه السليم هو تزويد الناس بالأخبار الصادقة , والمعلومات الصحيحة , والحقائق الثابتة التي تساعد على تكوين رأي صائب في واقعة من الوقائع مثل : الانتخابات الرئاسية في دولة من الدول , أو في مشكلة من المشكلات مثل الهبوط الحاد في سوق الأسهم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1066680"/>
            <a:ext cx="5029200" cy="990720"/>
          </a:xfrm>
          <a:prstGeom prst="wedgeEllipseCallout">
            <a:avLst>
              <a:gd name="adj1" fmla="val 13069"/>
              <a:gd name="adj2" fmla="val 122916"/>
            </a:avLst>
          </a:prstGeom>
          <a:gradFill rotWithShape="0">
            <a:gsLst>
              <a:gs pos="0">
                <a:srgbClr val="ffcc00"/>
              </a:gs>
              <a:gs pos="50000">
                <a:srgbClr val="ffff99"/>
              </a:gs>
              <a:gs pos="100000">
                <a:srgbClr val="ffcc00"/>
              </a:gs>
            </a:gsLst>
            <a:lin ang="135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90033"/>
                </a:solidFill>
                <a:latin typeface="Tahoma"/>
                <a:cs typeface="Mudir MT"/>
              </a:rPr>
              <a:t>مفهوم الإعلام الصحي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057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ahoma"/>
              </a:rPr>
              <a:t>مراقبة الله في السر والعلن فيجب على الإنسان أن يستشعر ذلك , فالعين زناها النظر كما ثبت ذلك في الحديث الشريف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ahoma"/>
              </a:rPr>
              <a:t>تنظيم الأوقات في مشاهدة وسائل الإعلام فيما فيه نفع وفائد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ahoma"/>
              </a:rPr>
              <a:t>ملء الفراغ بالأعمال والهوايات المفيدة كالقراءة وممارسة الأنشطة الثقافية والرياض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ahoma"/>
              </a:rPr>
              <a:t>عدم السكوت على ما يبث في  المواقع ووسائل الإعلام الأخرى من المشاهد المنحرفة بل لا بد من بيان أخطارها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304920"/>
            <a:ext cx="79246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cccc"/>
                    </a:gs>
                    <a:gs pos="100000">
                      <a:srgbClr val="ff6699"/>
                    </a:gs>
                  </a:gsLst>
                  <a:lin ang="5400000"/>
                </a:gradFill>
                <a:latin typeface="Arial Black"/>
              </a:rPr>
              <a:t> </a:t>
            </a:r>
            <a:r>
              <a:rPr b="0" lang="hi-IN" sz="1800" spc="1" strike="noStrike">
                <a:ln w="1260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cccc"/>
                    </a:gs>
                    <a:gs pos="100000">
                      <a:srgbClr val="ff6699"/>
                    </a:gs>
                  </a:gsLst>
                  <a:lin ang="5400000"/>
                </a:gradFill>
                <a:latin typeface="Arial Black"/>
              </a:rPr>
              <a:t>سبل الحماية من وسائل الإعلام المضللة</a:t>
            </a:r>
            <a:r>
              <a:rPr b="0" lang="en-US" sz="1800" spc="1" strike="noStrike">
                <a:ln w="1260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cccc"/>
                    </a:gs>
                    <a:gs pos="100000">
                      <a:srgbClr val="ff6699"/>
                    </a:gs>
                  </a:gsLst>
                  <a:lin ang="5400000"/>
                </a:gradFill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cccc"/>
                    </a:gs>
                    <a:gs pos="100000">
                      <a:srgbClr val="ff6699"/>
                    </a:gs>
                  </a:gsLst>
                  <a:lin ang="5400000"/>
                </a:gradFill>
                <a:latin typeface="Arial Black"/>
              </a:rPr>
              <a:t>:</a:t>
            </a:r>
            <a:endParaRPr b="0" lang="en-US" sz="1800" spc="1" strike="noStrike">
              <a:ln w="12600">
                <a:solidFill>
                  <a:srgbClr val="cc0066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cccc"/>
                  </a:gs>
                  <a:gs pos="100000">
                    <a:srgbClr val="ff66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52480" y="228600"/>
            <a:ext cx="5943600" cy="1219320"/>
          </a:xfrm>
          <a:custGeom>
            <a:avLst/>
            <a:gdLst>
              <a:gd name="textAreaLeft" fmla="*/ 0 w 5943600"/>
              <a:gd name="textAreaRight" fmla="*/ 5943960 w 594360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50000">
                <a:srgbClr val="e5ffff"/>
              </a:gs>
              <a:gs pos="100000">
                <a:srgbClr val="ffcccc"/>
              </a:gs>
            </a:gsLst>
            <a:lin ang="8100000"/>
          </a:gra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cc0066"/>
                </a:solidFill>
                <a:latin typeface="Tahoma"/>
                <a:cs typeface="Monotype Koufi"/>
              </a:rPr>
              <a:t>التعريفات الاصطلاحية للزنا , اللواط , القذ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1447920"/>
            <a:ext cx="2286000" cy="1295280"/>
          </a:xfrm>
          <a:prstGeom prst="irregularSeal1">
            <a:avLst/>
          </a:prstGeom>
          <a:gradFill rotWithShape="0">
            <a:gsLst>
              <a:gs pos="0">
                <a:srgbClr val="f8b049"/>
              </a:gs>
              <a:gs pos="50000">
                <a:srgbClr val="fc9fcb"/>
              </a:gs>
              <a:gs pos="100000">
                <a:srgbClr val="f8b049"/>
              </a:gs>
            </a:gsLst>
            <a:lin ang="8100000"/>
          </a:gradFill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0033"/>
                </a:solidFill>
                <a:latin typeface="Tahoma"/>
                <a:cs typeface="Mudir MT"/>
              </a:rPr>
              <a:t>الزن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1752480"/>
            <a:ext cx="5639040" cy="53352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66"/>
                </a:solidFill>
                <a:latin typeface="Tahoma"/>
              </a:rPr>
              <a:t>وطء الرجل المرأة في القُبل في غير الملك وشبهت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74284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                              </a:t>
            </a:r>
            <a:r>
              <a:rPr b="1" lang="en-US" sz="2600" spc="-1" strike="noStrike">
                <a:solidFill>
                  <a:srgbClr val="660033"/>
                </a:solidFill>
                <a:latin typeface="Wingdings 3"/>
                <a:ea typeface="Wingdings 3"/>
              </a:rPr>
              <a:t>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hi-IN" sz="2600" spc="-1" strike="noStrike">
                <a:solidFill>
                  <a:srgbClr val="660033"/>
                </a:solidFill>
                <a:latin typeface="Tahoma"/>
              </a:rPr>
              <a:t>أي وطء الرجل لامرأة أجنبية عنه ليست زوجته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                                  </a:t>
            </a:r>
            <a:r>
              <a:rPr b="1" lang="hi-IN" sz="2600" spc="-1" strike="noStrike">
                <a:solidFill>
                  <a:srgbClr val="660033"/>
                </a:solidFill>
                <a:latin typeface="Tahoma"/>
              </a:rPr>
              <a:t>ولا جاريته مع انتفاء الشبهة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                              </a:t>
            </a:r>
            <a:r>
              <a:rPr b="1" lang="en-US" sz="2600" spc="-1" strike="noStrike">
                <a:solidFill>
                  <a:srgbClr val="660033"/>
                </a:solidFill>
                <a:latin typeface="Wingdings 3"/>
                <a:ea typeface="Wingdings 3"/>
              </a:rPr>
              <a:t></a:t>
            </a:r>
            <a:r>
              <a:rPr b="1" lang="hi-IN" sz="2600" spc="-1" strike="noStrike">
                <a:solidFill>
                  <a:srgbClr val="660033"/>
                </a:solidFill>
                <a:latin typeface="Tahoma"/>
              </a:rPr>
              <a:t>الالتباس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                              </a:t>
            </a:r>
            <a:r>
              <a:rPr b="1" lang="en-US" sz="2600" spc="-1" strike="noStrike">
                <a:solidFill>
                  <a:srgbClr val="660033"/>
                </a:solidFill>
                <a:latin typeface="Wingdings 3"/>
                <a:ea typeface="Wingdings 3"/>
              </a:rPr>
              <a:t>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hi-IN" sz="2600" spc="-1" strike="noStrike">
                <a:solidFill>
                  <a:srgbClr val="660033"/>
                </a:solidFill>
                <a:latin typeface="Tahoma"/>
              </a:rPr>
              <a:t>ما التبس أمره فلا يدري أحلالٌ هو أم حرام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                              </a:t>
            </a:r>
            <a:r>
              <a:rPr b="1" lang="en-US" sz="2600" spc="-1" strike="noStrike">
                <a:solidFill>
                  <a:srgbClr val="660033"/>
                </a:solidFill>
                <a:latin typeface="Wingdings 3"/>
                <a:ea typeface="Wingdings 3"/>
              </a:rPr>
              <a:t>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( 1 ) </a:t>
            </a:r>
            <a:r>
              <a:rPr b="1" lang="hi-IN" sz="2600" spc="-1" strike="noStrike">
                <a:solidFill>
                  <a:srgbClr val="660033"/>
                </a:solidFill>
                <a:latin typeface="Tahoma"/>
              </a:rPr>
              <a:t>كمن زُفت إليه غير زوجته فوطأها ظناً منه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                                       </a:t>
            </a:r>
            <a:r>
              <a:rPr b="1" lang="hi-IN" sz="2600" spc="-1" strike="noStrike">
                <a:solidFill>
                  <a:srgbClr val="660033"/>
                </a:solidFill>
                <a:latin typeface="Tahoma"/>
              </a:rPr>
              <a:t>أنها زوجته فلا حدَّ عليه لوجود الشبهة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                                  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( 2 ) </a:t>
            </a:r>
            <a:r>
              <a:rPr b="1" lang="hi-IN" sz="2600" spc="-1" strike="noStrike">
                <a:solidFill>
                  <a:srgbClr val="660033"/>
                </a:solidFill>
                <a:latin typeface="Tahoma"/>
              </a:rPr>
              <a:t>من وطأ جارية ابنه فلا حدَّ عليه لقوله صلى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                                         </a:t>
            </a:r>
            <a:r>
              <a:rPr b="1" lang="hi-IN" sz="2600" spc="-1" strike="noStrike">
                <a:solidFill>
                  <a:srgbClr val="660033"/>
                </a:solidFill>
                <a:latin typeface="Tahoma"/>
              </a:rPr>
              <a:t>الله عليه وسلّم : ” أَنتَ وَمَالِكَ مُلكٌ لأَبِيكَ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 ” </a:t>
            </a:r>
            <a:r>
              <a:rPr b="1" lang="en-US" sz="26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943600" y="281952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لمعنى العام للتعريف 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48520" y="3733920"/>
            <a:ext cx="19047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والشبهة لغةً :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324480" y="4267080"/>
            <a:ext cx="990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شرعاً :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324480" y="48006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مثال :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0"/>
            <a:ext cx="2286000" cy="1295280"/>
          </a:xfrm>
          <a:prstGeom prst="irregularSeal1">
            <a:avLst/>
          </a:prstGeom>
          <a:gradFill rotWithShape="0">
            <a:gsLst>
              <a:gs pos="0">
                <a:srgbClr val="f8b049"/>
              </a:gs>
              <a:gs pos="50000">
                <a:srgbClr val="fc9fcb"/>
              </a:gs>
              <a:gs pos="100000">
                <a:srgbClr val="f8b049"/>
              </a:gs>
            </a:gsLst>
            <a:lin ang="8100000"/>
          </a:gradFill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0033"/>
                </a:solidFill>
                <a:latin typeface="Tahoma"/>
                <a:cs typeface="Mudir MT"/>
              </a:rPr>
              <a:t>اللوا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1143000"/>
            <a:ext cx="6934320" cy="228600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0033"/>
                </a:solidFill>
                <a:latin typeface="Tahoma"/>
              </a:rPr>
              <a:t>إيلاج ذكر في دُبر ذكر أو أنث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0033"/>
                </a:solidFill>
                <a:latin typeface="Tahoma"/>
              </a:rPr>
              <a:t>وهذا عند الحنفية , أما عند الجمهور من المالكية والشاف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0033"/>
                </a:solidFill>
                <a:latin typeface="Tahoma"/>
              </a:rPr>
              <a:t>والحنابلة فإذا كان في دبر المرأة فهو زنا لا لواط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505320"/>
            <a:ext cx="1828800" cy="1295280"/>
          </a:xfrm>
          <a:prstGeom prst="irregularSeal1">
            <a:avLst/>
          </a:prstGeom>
          <a:gradFill rotWithShape="0">
            <a:gsLst>
              <a:gs pos="0">
                <a:srgbClr val="f8b049"/>
              </a:gs>
              <a:gs pos="50000">
                <a:srgbClr val="fc9fcb"/>
              </a:gs>
              <a:gs pos="100000">
                <a:srgbClr val="f8b049"/>
              </a:gs>
            </a:gsLst>
            <a:lin ang="8100000"/>
          </a:gradFill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33"/>
                </a:solidFill>
                <a:latin typeface="Tahoma"/>
                <a:cs typeface="Mudir MT"/>
              </a:rPr>
              <a:t>القذ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962520"/>
            <a:ext cx="7086600" cy="761760"/>
          </a:xfrm>
          <a:prstGeom prst="flowChartAlternateProcess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0033"/>
                </a:solidFill>
                <a:latin typeface="Tahoma"/>
              </a:rPr>
              <a:t>الرمي بالزنا في معرض التعيير أو في النسب مما يوجب الحد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560" y="487692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3300"/>
                </a:solidFill>
                <a:latin typeface="Wingdings"/>
                <a:ea typeface="Wingdings"/>
              </a:rPr>
              <a:t></a:t>
            </a:r>
            <a:r>
              <a:rPr b="1" lang="hi-IN" sz="2800" spc="-1" strike="noStrike">
                <a:solidFill>
                  <a:srgbClr val="003300"/>
                </a:solidFill>
                <a:latin typeface="Tahoma"/>
              </a:rPr>
              <a:t>أن يقول الرجل لآخر على سبيل التعيير: يا زاني أو يقول</a:t>
            </a:r>
            <a:r>
              <a:rPr b="1" lang="en-US" sz="2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ahoma"/>
              </a:rPr>
              <a:t>      </a:t>
            </a:r>
            <a:r>
              <a:rPr b="1" lang="hi-IN" sz="2800" spc="-1" strike="noStrike">
                <a:solidFill>
                  <a:srgbClr val="003300"/>
                </a:solidFill>
                <a:latin typeface="Tahoma"/>
              </a:rPr>
              <a:t>ما يفيد نفي نسبه كقوله : لست ابن فلان , فقد نفى نسبه</a:t>
            </a:r>
            <a:r>
              <a:rPr b="1" lang="en-US" sz="2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ahoma"/>
              </a:rPr>
              <a:t>      </a:t>
            </a:r>
            <a:r>
              <a:rPr b="1" lang="hi-IN" sz="2800" spc="-1" strike="noStrike">
                <a:solidFill>
                  <a:srgbClr val="003300"/>
                </a:solidFill>
                <a:latin typeface="Tahoma"/>
              </a:rPr>
              <a:t>ورمى أمه بالزنا</a:t>
            </a:r>
            <a:r>
              <a:rPr b="1" lang="en-US" sz="28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3300"/>
                </a:solidFill>
                <a:latin typeface="Tahoma"/>
              </a:rPr>
              <a:t>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924680" y="4952880"/>
            <a:ext cx="98136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مـثـال 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ff29"/>
                </a:solidFill>
                <a:latin typeface="Tahoma"/>
                <a:cs typeface="Mudir MT"/>
              </a:rPr>
              <a:t>سبب في غضب الله وعذاب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ff29"/>
                </a:solidFill>
                <a:latin typeface="Tahoma"/>
                <a:cs typeface="Mudir MT"/>
              </a:rPr>
              <a:t>التسبب في أمراض قاتلة كالإيدز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ff29"/>
                </a:solidFill>
                <a:latin typeface="Tahoma"/>
                <a:cs typeface="Mudir MT"/>
              </a:rPr>
              <a:t>يفسد نظام البيت ويقطع العلاقة بين الزوجين ويعرض الأولاد للتشرد ويسبب ضياع النسب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ff29"/>
                </a:solidFill>
                <a:latin typeface="Tahoma"/>
                <a:cs typeface="Mudir MT"/>
              </a:rPr>
              <a:t>لا يشبع الرغبات الروحية كحاجة الإنسان إلى الحب والتضحية بل يقتصر على إشباع الرغبات الجنسي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ff29"/>
                </a:solidFill>
                <a:latin typeface="Tahoma"/>
                <a:cs typeface="Mudir MT"/>
              </a:rPr>
              <a:t>سبب في العزوف عن الزواج الشرعي , أو انصراف الرجل عن زوجته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80880"/>
            <a:ext cx="6400800" cy="1067040"/>
          </a:xfrm>
          <a:custGeom>
            <a:avLst/>
            <a:gdLst>
              <a:gd name="textAreaLeft" fmla="*/ 1361880 w 6400800"/>
              <a:gd name="textAreaRight" fmla="*/ 5038920 w 6400800"/>
              <a:gd name="textAreaTop" fmla="*/ 266760 h 1067040"/>
              <a:gd name="textAreaBottom" fmla="*/ 102528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835958"/>
                <a:lnTo>
                  <a:pt x="4596" y="20751"/>
                </a:lnTo>
                <a:arcTo wR="21600" hR="20153" stAng="6468999" swAng="-2137997"/>
                <a:lnTo>
                  <a:pt x="17004" y="18051"/>
                </a:lnTo>
                <a:arcTo wR="21600" hR="20153" stAng="4331001" swAng="-835958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305370"/>
                <a:lnTo>
                  <a:pt x="14304" y="5133"/>
                </a:lnTo>
                <a:arcTo wR="21600" hR="20153" stAng="4800413" swAng="1199173"/>
                <a:lnTo>
                  <a:pt x="7296" y="2433"/>
                </a:lnTo>
                <a:arcTo wR="21600" hR="20153" stAng="5999587" swAng="1305370"/>
                <a:lnTo>
                  <a:pt x="2700" y="9329"/>
                </a:lnTo>
                <a:close/>
              </a:path>
              <a:path fill="none" w="21600" h="21600">
                <a:moveTo>
                  <a:pt x="7296" y="5133"/>
                </a:moveTo>
                <a:arcTo wR="21600" hR="20153" stAng="5999587" swAng="469412"/>
                <a:lnTo>
                  <a:pt x="7296" y="2433"/>
                </a:lnTo>
              </a:path>
              <a:path fill="none" w="21600" h="21600">
                <a:moveTo>
                  <a:pt x="14304" y="5133"/>
                </a:moveTo>
                <a:arcTo wR="21600" hR="20153" stAng="4800413" swAng="-469412"/>
                <a:lnTo>
                  <a:pt x="14304" y="2433"/>
                </a:lnTo>
              </a:path>
              <a:path fill="none" w="21600" h="21600">
                <a:moveTo>
                  <a:pt x="4596" y="18051"/>
                </a:moveTo>
                <a:lnTo>
                  <a:pt x="4596" y="4551"/>
                </a:lnTo>
              </a:path>
              <a:path fill="none" w="21600" h="21600">
                <a:moveTo>
                  <a:pt x="17004" y="18051"/>
                </a:moveTo>
                <a:lnTo>
                  <a:pt x="17004" y="4551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Tahoma"/>
                <a:cs typeface="Mudir MT"/>
              </a:rPr>
              <a:t>الحكمة من تحريم الز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23619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6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حماية لأعراض الناس من التهم والطعو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6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حافظة على سمعة الإنسان وكرامت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6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نع لإشاعة الفاحش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6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حافظة على مشاعر أفراد الأسر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990720"/>
            <a:ext cx="5410440" cy="838080"/>
          </a:xfrm>
          <a:prstGeom prst="plus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Tahoma"/>
                <a:cs typeface="Mudir MT"/>
              </a:rPr>
              <a:t>الحكمة من تحريم القذ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33720" y="152280"/>
            <a:ext cx="5943600" cy="1219320"/>
          </a:xfrm>
          <a:prstGeom prst="horizontalScroll">
            <a:avLst>
              <a:gd name="adj" fmla="val 1653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336600"/>
                </a:solidFill>
                <a:latin typeface="Tahoma"/>
                <a:cs typeface="Monotype Koufi"/>
              </a:rPr>
              <a:t>المخدرات والمسكرات والفرق بينهم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1219320"/>
            <a:ext cx="2057400" cy="761760"/>
          </a:xfrm>
          <a:prstGeom prst="cloudCallout">
            <a:avLst>
              <a:gd name="adj1" fmla="val -24152"/>
              <a:gd name="adj2" fmla="val 26875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99"/>
                </a:solidFill>
                <a:latin typeface="Tahoma"/>
                <a:cs typeface="Mudir MT"/>
              </a:rPr>
              <a:t>المخدرات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523880"/>
            <a:ext cx="7772400" cy="152424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50000">
                <a:srgbClr val="99ccff"/>
              </a:gs>
              <a:gs pos="100000">
                <a:srgbClr val="99ff66"/>
              </a:gs>
            </a:gsLst>
            <a:lin ang="8100000"/>
          </a:gradFill>
          <a:ln w="25560">
            <a:solidFill>
              <a:srgbClr val="00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Tahoma"/>
              </a:rPr>
              <a:t>كل مادة ينتج عن تعاطيها فقدان جزئي أو كلي للإدراك بصف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Tahoma"/>
              </a:rPr>
              <a:t>مؤقتة , وتحدث فتوراً في الجسم مثل : الحشيش والهيرو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3048120"/>
            <a:ext cx="2057400" cy="761760"/>
          </a:xfrm>
          <a:prstGeom prst="cloudCallout">
            <a:avLst>
              <a:gd name="adj1" fmla="val -24152"/>
              <a:gd name="adj2" fmla="val 26875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99"/>
                </a:solidFill>
                <a:latin typeface="Tahoma"/>
                <a:cs typeface="Mudir MT"/>
              </a:rPr>
              <a:t>المسكرات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3276720"/>
            <a:ext cx="7315200" cy="1295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50000">
                <a:srgbClr val="99ff66"/>
              </a:gs>
              <a:gs pos="100000">
                <a:srgbClr val="ffff99"/>
              </a:gs>
            </a:gsLst>
            <a:lin ang="8100000"/>
          </a:gra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Tahoma"/>
              </a:rPr>
              <a:t>كل مغيب للعقل مع نشوة وسرور وميل إلى البطش والانتق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Tahoma"/>
              </a:rPr>
              <a:t>مثل البيرا والكح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4572000"/>
            <a:ext cx="2514600" cy="762120"/>
          </a:xfrm>
          <a:prstGeom prst="cloudCallout">
            <a:avLst>
              <a:gd name="adj1" fmla="val -28851"/>
              <a:gd name="adj2" fmla="val 26875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99"/>
                </a:solidFill>
                <a:latin typeface="Tahoma"/>
                <a:cs typeface="Mudir MT"/>
              </a:rPr>
              <a:t>الفرق بينهما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029200"/>
            <a:ext cx="8229600" cy="152388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50000">
                <a:srgbClr val="ffccff"/>
              </a:gs>
              <a:gs pos="100000">
                <a:srgbClr val="99ff66"/>
              </a:gs>
            </a:gsLst>
            <a:lin ang="13500000"/>
          </a:gra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Tahoma"/>
              </a:rPr>
              <a:t>الإنسان غالباً تحت تأثير المخدرات يفقد حواسه , أما في حالة تناو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00"/>
                </a:solidFill>
                <a:latin typeface="Tahoma"/>
              </a:rPr>
              <a:t>المسكر فغالباً لا يفقد حواسه بل أن تناولها قد يحدث نشوة وسرورا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05740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1-29T20:17:4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