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15B-8662-460E-9DF2-33E13EC5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7CE-059D-4DFE-8672-5AF39232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CD6-4DAF-4A6D-8DF0-D01D7023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ED1-7A6F-45E9-9F25-BF2EAD97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CF9C-9D89-4E07-82C1-7911F033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A77-95AC-49B4-B4D4-146EF36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76DB-8556-485A-8A84-3309C86F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7B2A-1221-4881-BEA8-A6B0008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0FEB-DFF0-426D-B82E-3DB1FC22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8DE7-00B9-4258-92C1-A9D4F3F4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CC71-B0F3-42EF-816C-0D00D181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630-1D69-4E2C-888B-FA099CAE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353B-C914-42A3-AD67-BADAF961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C719-690B-491D-9C61-9D572BA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6B73-7531-45D8-AF1D-624302A6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E264-B1DD-4181-BF8B-462E30F1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7F41-C95D-4406-8640-955B2A0D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522-4A4A-4E31-AC6C-67CE382F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D85-F8D5-4E63-B587-13852EF5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94C-2C95-429D-9831-CC77C8C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3BE-AAA3-4CC2-9EC4-8208CB84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4F0-09B6-4E45-AE99-81A08DC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05E-8E64-4B42-9CC5-437569C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FF2-E390-43B8-A57E-9E053D2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BE1-B860-4462-8E85-EFE04071F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201C-DF42-43BC-BC5C-028711EE1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حراف الشباب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وسائل الإعلام المضللة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ضعف صلة كثير من الشباب بعلماء الإسلام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الفواحش الأخلاقية وأهمها الزنا , اللواط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القذف , الاختلاط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المخدرات والمسكرات والدخان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الرشوة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828800"/>
            <a:ext cx="762120" cy="1523880"/>
          </a:xfrm>
          <a:custGeom>
            <a:avLst/>
            <a:gdLst>
              <a:gd name="textAreaLeft" fmla="*/ 101880 w 762120"/>
              <a:gd name="textAreaRight" fmla="*/ 660240 w 7621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28600"/>
            <a:ext cx="6172200" cy="2057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Mudir MT"/>
              </a:rPr>
              <a:t>أهم المشكلات الاجتماع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Mudir MT"/>
              </a:rPr>
              <a:t> التي تواجه المسلمين في هذا العص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كالبعد عن طاعة الله وعبادته من صلاة وذك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قد يؤدي تناولها إلى عدة جرائم اجتماع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كأن يزني الرجل بأمه أو أخت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كضمور المخ , وانتشار بعض الأمراض الجنس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كالإيدز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كنهب ثروات الأمة من قِبل المروجين وكثر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الغياب عن العمل من قِبل المتعاطين لتلك السمو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09680" y="60948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أضرار المخدرات والمسكرات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77120" y="1219320"/>
            <a:ext cx="2133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9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دينية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2286000"/>
            <a:ext cx="295776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اجتماعية 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324480" y="5029200"/>
            <a:ext cx="2381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اقتصادية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629400" y="3657600"/>
            <a:ext cx="2152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صحية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لـــرشـــــوة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1066680"/>
            <a:ext cx="2133720" cy="1067040"/>
          </a:xfrm>
          <a:prstGeom prst="leftArrow">
            <a:avLst>
              <a:gd name="adj1" fmla="val 64287"/>
              <a:gd name="adj2" fmla="val 62341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800000"/>
                </a:solidFill>
                <a:latin typeface="Tahoma"/>
                <a:cs typeface="Bold Italic Art"/>
              </a:rPr>
              <a:t>اصطلا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219320"/>
            <a:ext cx="6782040" cy="1371600"/>
          </a:xfrm>
          <a:custGeom>
            <a:avLst/>
            <a:gdLst>
              <a:gd name="textAreaLeft" fmla="*/ 0 w 6782040"/>
              <a:gd name="textAreaRight" fmla="*/ 6782400 w 6782040"/>
              <a:gd name="textAreaTop" fmla="*/ 177840 h 1371600"/>
              <a:gd name="textAreaBottom" fmla="*/ 1193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50000">
                <a:srgbClr val="ffccff"/>
              </a:gs>
              <a:gs pos="100000">
                <a:srgbClr val="99ff33"/>
              </a:gs>
            </a:gsLst>
            <a:lin ang="8100000"/>
          </a:gra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</a:rPr>
              <a:t>يطلق على كل ما يعطيه الإنسان لحاكم أو غيره لإبطال ح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</a:rPr>
              <a:t> أو إحقاق باط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2590920"/>
            <a:ext cx="1752840" cy="1295280"/>
          </a:xfrm>
          <a:prstGeom prst="leftArrow">
            <a:avLst>
              <a:gd name="adj1" fmla="val 53435"/>
              <a:gd name="adj2" fmla="val 37290"/>
            </a:avLst>
          </a:prstGeom>
          <a:gradFill rotWithShape="0">
            <a:gsLst>
              <a:gs pos="0">
                <a:srgbClr val="ffcc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Tahoma"/>
                <a:ea typeface="Bold Italic Art"/>
              </a:rPr>
              <a:t> شرح التعري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86000"/>
            <a:ext cx="7162920" cy="4419720"/>
          </a:xfrm>
          <a:custGeom>
            <a:avLst/>
            <a:gdLst>
              <a:gd name="textAreaLeft" fmla="*/ 0 w 7162920"/>
              <a:gd name="textAreaRight" fmla="*/ 7163280 w 7162920"/>
              <a:gd name="textAreaTop" fmla="*/ 824040 h 4419720"/>
              <a:gd name="textAreaBottom" fmla="*/ 359568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2014"/>
                </a:moveTo>
                <a:cubicBezTo>
                  <a:pt x="7200" y="-5121"/>
                  <a:pt x="14400" y="9149"/>
                  <a:pt x="21600" y="2014"/>
                </a:cubicBezTo>
                <a:lnTo>
                  <a:pt x="21600" y="19586"/>
                </a:lnTo>
                <a:cubicBezTo>
                  <a:pt x="14400" y="26721"/>
                  <a:pt x="7200" y="12451"/>
                  <a:pt x="0" y="19586"/>
                </a:cubicBez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99ff33"/>
              </a:gs>
              <a:gs pos="100000">
                <a:srgbClr val="009999"/>
              </a:gs>
            </a:gsLst>
            <a:lin ang="81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يشمل ذلك كل من ولي أمراً من الأمور العامة كأمي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800000"/>
                </a:solidFill>
                <a:latin typeface="Tahoma"/>
              </a:rPr>
              <a:t>أو قاضي أو موظف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Wingdings 3"/>
                <a:ea typeface="Wingdings 3"/>
              </a:rPr>
              <a:t></a:t>
            </a:r>
            <a:r>
              <a:rPr b="1" lang="hi-IN" sz="2000" spc="-1" strike="noStrike">
                <a:solidFill>
                  <a:srgbClr val="800000"/>
                </a:solidFill>
                <a:latin typeface="Tahoma"/>
              </a:rPr>
              <a:t>أي لإفساد حق مشروع لإنسان آخر , كرشوة المسؤو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    من أجل الحصول على وظيفة يستحقها إنسان آخر غير الراش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Wingdings 3"/>
                <a:ea typeface="Wingdings 3"/>
              </a:rPr>
              <a:t></a:t>
            </a:r>
            <a:r>
              <a:rPr b="1" lang="hi-IN" sz="2000" spc="-1" strike="noStrike">
                <a:solidFill>
                  <a:srgbClr val="800000"/>
                </a:solidFill>
                <a:latin typeface="Tahoma"/>
              </a:rPr>
              <a:t>لإثبات باطل للراشي من غير وجه حق , كالحكم للراش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        بملكية أرض معينة ليست في الأصل ملكاً له بل لإنسان آ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3048120"/>
            <a:ext cx="18716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لحاكم أو غيره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86400" y="4038480"/>
            <a:ext cx="1566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Impact"/>
              </a:rPr>
              <a:t>لإبطال ح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05520" y="4876920"/>
            <a:ext cx="1676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Impact"/>
              </a:rPr>
              <a:t>لإحقاق باط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57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Tahoma"/>
              </a:rPr>
              <a:t>حكم الرشوة التحريم , والهدية الاستحباب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Tahoma"/>
              </a:rPr>
              <a:t>الرشوة ما يعطى بشرط المعاونة والمساعدة , والهدية لا شرط مع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Tahoma"/>
              </a:rPr>
              <a:t>الرشوة ما أُخذت طلباً من قِبل المرتشي أو بعر ض العطاء والبذل من قِبل الراشي , أما الهدية فهي ما بُذِلت عفواً من المهدي إلى المهدى إليه من غير قصد لمنفعة معينة 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886360" y="-895680"/>
            <a:ext cx="1562040" cy="373392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660033"/>
                </a:solidFill>
                <a:latin typeface="Tahoma"/>
                <a:cs typeface="Mudir MT"/>
              </a:rPr>
              <a:t>الــفـــرق بــيـــن</a:t>
            </a:r>
            <a:r>
              <a:rPr b="1" i="1" lang="en-US" sz="2800" spc="-1" strike="noStrike">
                <a:solidFill>
                  <a:srgbClr val="660033"/>
                </a:solidFill>
                <a:latin typeface="Tahoma"/>
                <a:ea typeface="Mudir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660033"/>
                </a:solidFill>
                <a:latin typeface="Tahoma"/>
                <a:cs typeface="Mudir MT"/>
              </a:rPr>
              <a:t>الــهــــديـــــة والــــــرشـــــ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إهدار قيم الإسلام العليا كالعد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تولية الوظائف العامة والمراكز المهمة في الدولة لغير مستحقيها فينتشر الأحقاد بين الناس , ويستولي الخوف على قلوب الضعفاء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أكل لأموال الناس بالباط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الإعانة على ضياع حقوق من لا يقدر على الرشو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3924360" y="-1028160"/>
            <a:ext cx="1295280" cy="3962160"/>
          </a:xfrm>
          <a:prstGeom prst="ellipse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0ea00"/>
                </a:solidFill>
                <a:latin typeface="Tahoma"/>
                <a:cs typeface="Bold Italic Art"/>
              </a:rPr>
              <a:t>أضرار الرشو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توثيق صلة شباب لأمة بعلماء النهج الرباني من قرآنٍ وسن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تحصين الشباب بالثقافة الإسلا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ذكر قصص رجال ونساء كانوا في موضع القدوة الحسن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حث الشباب والفتيات على الزواج المبكر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منع الخلوة , والاختلاط , وعدم التهاون مع المتبرج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إنزال العقوبات الشرعية بالمفسدين والمجرم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71600" y="152280"/>
            <a:ext cx="6915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سبل الوقاية والعلاج من المشكلات الاجتماعية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34320" y="1828800"/>
            <a:ext cx="2057400" cy="1447920"/>
          </a:xfrm>
          <a:prstGeom prst="leftArrow">
            <a:avLst>
              <a:gd name="adj1" fmla="val 58769"/>
              <a:gd name="adj2" fmla="val 35523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abic Typesetting"/>
                <a:cs typeface="Andalus"/>
              </a:rPr>
              <a:t>انحراف فكر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4267080"/>
            <a:ext cx="1981440" cy="1447920"/>
          </a:xfrm>
          <a:prstGeom prst="leftArrow">
            <a:avLst>
              <a:gd name="adj1" fmla="val 58769"/>
              <a:gd name="adj2" fmla="val 34212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abic Typesetting"/>
                <a:cs typeface="Andalus"/>
              </a:rPr>
              <a:t>انحراف سلوك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5120" y="0"/>
            <a:ext cx="6019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Impact"/>
              </a:rPr>
              <a:t>أنــواع الانــحــراف</a:t>
            </a:r>
            <a:endParaRPr b="1" i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572000"/>
            <a:ext cx="5410080" cy="1371600"/>
          </a:xfrm>
          <a:prstGeom prst="foldedCorner">
            <a:avLst>
              <a:gd name="adj" fmla="val 16791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أي قيام الشباب بممارسة سلوكيات تخالف النه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الإسلامي مثل السرقة, والتبر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76520"/>
            <a:ext cx="5562720" cy="1752480"/>
          </a:xfrm>
          <a:prstGeom prst="foldedCorner">
            <a:avLst>
              <a:gd name="adj" fmla="val 20712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ويعني ذلك اعتناق الشباب لأفكار غير سوية تعمل ع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هدم معالم الد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مثل العَلمانية , واعتقاد عدم وجوب الحكم بما أنزل الل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971440"/>
            <a:ext cx="8229600" cy="2971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66"/>
                </a:solidFill>
                <a:latin typeface="Tahoma"/>
              </a:rPr>
              <a:t>الإعلام بمعناه السليم هو تزويد الناس بالأخبار الصادقة , والمعلومات الصحيحة , والحقائق الثابتة التي تساعد على تكوين رأي صائب في واقعة من الوقائع مثل : الانتخابات الرئاسية في دولة من الدول , أو في مشكلة من المشكلات مثل الهبوط الحاد في سوق الأسهم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5029200" cy="990720"/>
          </a:xfrm>
          <a:prstGeom prst="wedgeEllipseCallout">
            <a:avLst>
              <a:gd name="adj1" fmla="val 13069"/>
              <a:gd name="adj2" fmla="val 122916"/>
            </a:avLst>
          </a:prstGeom>
          <a:gradFill rotWithShape="0">
            <a:gsLst>
              <a:gs pos="0">
                <a:srgbClr val="ffcc00"/>
              </a:gs>
              <a:gs pos="50000">
                <a:srgbClr val="ffff99"/>
              </a:gs>
              <a:gs pos="100000">
                <a:srgbClr val="ffcc00"/>
              </a:gs>
            </a:gsLst>
            <a:lin ang="135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33"/>
                </a:solidFill>
                <a:latin typeface="Tahoma"/>
                <a:cs typeface="Mudir MT"/>
              </a:rPr>
              <a:t>مفهوم الإعلام الصحي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مراقبة الله في السر والعلن فيجب على الإنسان أن يستشعر ذلك , فالعين زناها النظر كما ثبت ذلك في الحديث الشري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تنظيم الأوقات في مشاهدة وسائل الإعلام فيما فيه نفع وفائد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ملء الفراغ بالأعمال والهوايات المفيدة كالقراءة وممارسة الأنشطة الثقافية والرياض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عدم السكوت على ما يبث في  المواقع ووسائل الإعلام الأخرى من المشاهد المنحرفة بل لا بد من بيان أخطارها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304920"/>
            <a:ext cx="7924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سبل الحماية من وسائل الإعلام المضللة</a:t>
            </a: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: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cccc"/>
                  </a:gs>
                  <a:gs pos="100000">
                    <a:srgbClr val="ff66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228600"/>
            <a:ext cx="5943600" cy="1219320"/>
          </a:xfrm>
          <a:custGeom>
            <a:avLst/>
            <a:gdLst>
              <a:gd name="textAreaLeft" fmla="*/ 0 w 5943600"/>
              <a:gd name="textAreaRight" fmla="*/ 5943960 w 59436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e5ffff"/>
              </a:gs>
              <a:gs pos="100000">
                <a:srgbClr val="ffcccc"/>
              </a:gs>
            </a:gsLst>
            <a:lin ang="8100000"/>
          </a:gra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0066"/>
                </a:solidFill>
                <a:latin typeface="Tahoma"/>
                <a:cs typeface="Monotype Koufi"/>
              </a:rPr>
              <a:t>التعريفات الاصطلاحية للزنا , اللواط , القذ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447920"/>
            <a:ext cx="2286000" cy="1295280"/>
          </a:xfrm>
          <a:prstGeom prst="irregularSeal1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Tahoma"/>
                <a:cs typeface="Mudir MT"/>
              </a:rPr>
              <a:t>الزن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752480"/>
            <a:ext cx="5639040" cy="53352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66"/>
                </a:solidFill>
                <a:latin typeface="Tahoma"/>
              </a:rPr>
              <a:t>وطء الرجل المرأة في القُبل في غير الملك وشبه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7428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أي وطء الرجل لامرأة أجنبية عنه ليست زوجته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ولا جاريته مع انتفاء الشبهة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الالتباس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ما التبس أمره فلا يدري أحلالٌ هو أم حرا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( 1 )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كمن زُفت إليه غير زوجته فوطأها ظناً منه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    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أنها زوجته فلا حدَّ عليه لوجود الشبهة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( 2 )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من وطأ جارية ابنه فلا حدَّ عليه لقوله صلى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     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الله عليه وسلّم : ” أَنتَ وَمَالِكَ مُلكٌ لأَبِيكَ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”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943600" y="281952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معنى العام للتعريف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48520" y="3733920"/>
            <a:ext cx="1904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والشبهة لغةً :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324480" y="426708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شرعاً :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324480" y="48006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ثال :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0"/>
            <a:ext cx="2286000" cy="1295280"/>
          </a:xfrm>
          <a:prstGeom prst="irregularSeal1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Tahoma"/>
                <a:cs typeface="Mudir MT"/>
              </a:rPr>
              <a:t>اللوا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6934320" cy="228600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إيلاج ذكر في دُبر ذكر أو أنث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وهذا عند الحنفية , أما عند الجمهور من المالكية والشاف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والحنابلة فإذا كان في دبر المرأة فهو زنا لا لواط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505320"/>
            <a:ext cx="1828800" cy="1295280"/>
          </a:xfrm>
          <a:prstGeom prst="irregularSeal1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33"/>
                </a:solidFill>
                <a:latin typeface="Tahoma"/>
                <a:cs typeface="Mudir MT"/>
              </a:rPr>
              <a:t>الق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962520"/>
            <a:ext cx="7086600" cy="76176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الرمي بالزنا في معرض التعيير أو في النسب مما يوجب الح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560" y="48769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3300"/>
                </a:solidFill>
                <a:latin typeface="Wingdings"/>
                <a:ea typeface="Wingdings"/>
              </a:rPr>
              <a:t></a:t>
            </a:r>
            <a:r>
              <a:rPr b="1" lang="hi-IN" sz="2800" spc="-1" strike="noStrike">
                <a:solidFill>
                  <a:srgbClr val="003300"/>
                </a:solidFill>
                <a:latin typeface="Tahoma"/>
              </a:rPr>
              <a:t>أن يقول الرجل لآخر على سبيل التعيير: يا زاني أو يقول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    </a:t>
            </a:r>
            <a:r>
              <a:rPr b="1" lang="hi-IN" sz="2800" spc="-1" strike="noStrike">
                <a:solidFill>
                  <a:srgbClr val="003300"/>
                </a:solidFill>
                <a:latin typeface="Tahoma"/>
              </a:rPr>
              <a:t>ما يفيد نفي نسبه كقوله : لست ابن فلان , فقد نفى نسبه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    </a:t>
            </a:r>
            <a:r>
              <a:rPr b="1" lang="hi-IN" sz="2800" spc="-1" strike="noStrike">
                <a:solidFill>
                  <a:srgbClr val="003300"/>
                </a:solidFill>
                <a:latin typeface="Tahoma"/>
              </a:rPr>
              <a:t>ورمى أمه بالزنا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24680" y="4952880"/>
            <a:ext cx="98136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مـثـال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سبب في غضب الله وعذاب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التسبب في أمراض قاتلة كالإيد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يفسد نظام البيت ويقطع العلاقة بين الزوجين ويعرض الأولاد للتشرد ويسبب ضياع النسب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لا يشبع الرغبات الروحية كحاجة الإنسان إلى الحب والتضحية بل يقتصر على إشباع الرغبات الجنس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سبب في العزوف عن الزواج الشرعي , أو انصراف الرجل عن زوجت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80880"/>
            <a:ext cx="6400800" cy="1067040"/>
          </a:xfrm>
          <a:custGeom>
            <a:avLst/>
            <a:gdLst>
              <a:gd name="textAreaLeft" fmla="*/ 1361880 w 6400800"/>
              <a:gd name="textAreaRight" fmla="*/ 5038920 w 6400800"/>
              <a:gd name="textAreaTop" fmla="*/ 266760 h 1067040"/>
              <a:gd name="textAreaBottom" fmla="*/ 1025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835958"/>
                <a:lnTo>
                  <a:pt x="4596" y="20751"/>
                </a:lnTo>
                <a:arcTo wR="21600" hR="20153" stAng="6468999" swAng="-2137997"/>
                <a:lnTo>
                  <a:pt x="17004" y="18051"/>
                </a:lnTo>
                <a:arcTo wR="21600" hR="20153" stAng="4331001" swAng="-835958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305370"/>
                <a:lnTo>
                  <a:pt x="14304" y="5133"/>
                </a:lnTo>
                <a:arcTo wR="21600" hR="20153" stAng="4800413" swAng="1199173"/>
                <a:lnTo>
                  <a:pt x="7296" y="2433"/>
                </a:lnTo>
                <a:arcTo wR="21600" hR="20153" stAng="5999587" swAng="1305370"/>
                <a:lnTo>
                  <a:pt x="2700" y="9329"/>
                </a:lnTo>
                <a:close/>
              </a:path>
              <a:path fill="none" w="21600" h="21600">
                <a:moveTo>
                  <a:pt x="7296" y="5133"/>
                </a:moveTo>
                <a:arcTo wR="21600" hR="20153" stAng="5999587" swAng="469412"/>
                <a:lnTo>
                  <a:pt x="7296" y="2433"/>
                </a:lnTo>
              </a:path>
              <a:path fill="none" w="21600" h="21600">
                <a:moveTo>
                  <a:pt x="14304" y="5133"/>
                </a:moveTo>
                <a:arcTo wR="21600" hR="20153" stAng="4800413" swAng="-469412"/>
                <a:lnTo>
                  <a:pt x="14304" y="2433"/>
                </a:lnTo>
              </a:path>
              <a:path fill="none" w="21600" h="21600">
                <a:moveTo>
                  <a:pt x="4596" y="18051"/>
                </a:moveTo>
                <a:lnTo>
                  <a:pt x="4596" y="4551"/>
                </a:lnTo>
              </a:path>
              <a:path fill="none" w="21600" h="21600">
                <a:moveTo>
                  <a:pt x="17004" y="18051"/>
                </a:moveTo>
                <a:lnTo>
                  <a:pt x="17004" y="455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Tahoma"/>
                <a:cs typeface="Mudir MT"/>
              </a:rPr>
              <a:t>الحكمة من تحريم الز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ماية لأعراض الناس من التهم والطع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حافظة على سمعة الإنسان وكرام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نع لإشاعة الفاحش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حافظة على مشاعر أفراد الأسر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990720"/>
            <a:ext cx="5410440" cy="83808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ahoma"/>
                <a:cs typeface="Mudir MT"/>
              </a:rPr>
              <a:t>الحكمة من تحريم الق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152280"/>
            <a:ext cx="5943600" cy="1219320"/>
          </a:xfrm>
          <a:prstGeom prst="horizontalScroll">
            <a:avLst>
              <a:gd name="adj" fmla="val 1653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6600"/>
                </a:solidFill>
                <a:latin typeface="Tahoma"/>
                <a:cs typeface="Monotype Koufi"/>
              </a:rPr>
              <a:t>المخدرات والمسكرات والفرق بينهم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1219320"/>
            <a:ext cx="2057400" cy="761760"/>
          </a:xfrm>
          <a:prstGeom prst="cloudCallout">
            <a:avLst>
              <a:gd name="adj1" fmla="val -24152"/>
              <a:gd name="adj2" fmla="val 26875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99"/>
                </a:solidFill>
                <a:latin typeface="Tahoma"/>
                <a:cs typeface="Mudir MT"/>
              </a:rPr>
              <a:t>المخدرات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3880"/>
            <a:ext cx="7772400" cy="152424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50000">
                <a:srgbClr val="99ccff"/>
              </a:gs>
              <a:gs pos="100000">
                <a:srgbClr val="99ff66"/>
              </a:gs>
            </a:gsLst>
            <a:lin ang="8100000"/>
          </a:gradFill>
          <a:ln w="25560">
            <a:solidFill>
              <a:srgbClr val="00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كل مادة ينتج عن تعاطيها فقدان جزئي أو كلي للإدراك بصف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مؤقتة , وتحدث فتوراً في الجسم مثل : الحشيش والهيرو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3048120"/>
            <a:ext cx="2057400" cy="761760"/>
          </a:xfrm>
          <a:prstGeom prst="cloudCallout">
            <a:avLst>
              <a:gd name="adj1" fmla="val -24152"/>
              <a:gd name="adj2" fmla="val 26875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99"/>
                </a:solidFill>
                <a:latin typeface="Tahoma"/>
                <a:cs typeface="Mudir MT"/>
              </a:rPr>
              <a:t>المسكرات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3276720"/>
            <a:ext cx="7315200" cy="1295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50000">
                <a:srgbClr val="99ff66"/>
              </a:gs>
              <a:gs pos="100000">
                <a:srgbClr val="ffff99"/>
              </a:gs>
            </a:gsLst>
            <a:lin ang="81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كل مغيب للعقل مع نشوة وسرور وميل إلى البطش والانتق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مثل البيرا والكح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572000"/>
            <a:ext cx="2514600" cy="762120"/>
          </a:xfrm>
          <a:prstGeom prst="cloudCallout">
            <a:avLst>
              <a:gd name="adj1" fmla="val -28851"/>
              <a:gd name="adj2" fmla="val 26875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99"/>
                </a:solidFill>
                <a:latin typeface="Tahoma"/>
                <a:cs typeface="Mudir MT"/>
              </a:rPr>
              <a:t>الفرق بينهما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029200"/>
            <a:ext cx="8229600" cy="152388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50000">
                <a:srgbClr val="ffccff"/>
              </a:gs>
              <a:gs pos="100000">
                <a:srgbClr val="99ff66"/>
              </a:gs>
            </a:gsLst>
            <a:lin ang="13500000"/>
          </a:gra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الإنسان غالباً تحت تأثير المخدرات يفقد حواسه , أما في حالة تناو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المسكر فغالباً لا يفقد حواسه بل أن تناولها قد يحدث نشوة وسرورا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574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29T20:17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