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24D-D9A2-400E-A610-654E6BA3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820-1FFC-4DCD-9E9F-6DED32DE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2BB-0C7C-4EEB-83FC-5FFB41B5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F25-C4DA-402D-8929-F2A9AF04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157-FD3F-438A-B286-ECDF834F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8F6-5560-42A0-9C29-480E1981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621-733B-4BEF-A15E-E2BEF6AC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BB5-2EF8-4E18-9AAF-1B30A7CC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CDD-47FB-40A7-B310-D7A95957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73F-808F-4572-863E-8E591DD1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4F0-B935-499C-94C5-69A5312B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9C7-9536-4AD9-B47A-0BAC075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01C6-BF3B-4634-AD87-9804D6C8A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228600"/>
            <a:ext cx="4114800" cy="990720"/>
          </a:xfrm>
          <a:prstGeom prst="flowChartMultidocument">
            <a:avLst/>
          </a:prstGeom>
          <a:gradFill rotWithShape="0">
            <a:gsLst>
              <a:gs pos="0">
                <a:srgbClr val="808000"/>
              </a:gs>
              <a:gs pos="50000">
                <a:srgbClr val="ffff66"/>
              </a:gs>
              <a:gs pos="100000">
                <a:srgbClr val="808000"/>
              </a:gs>
            </a:gsLst>
            <a:lin ang="8100000"/>
          </a:gradFill>
          <a:ln w="25560">
            <a:solidFill>
              <a:srgbClr val="4a4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أسباب تقوية الروابط الاجتما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143000"/>
            <a:ext cx="7924680" cy="556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شريع الإسلام لصلاة الجماعة والجمعة والعيدين والجناز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شريع الإسلام للواجبات الاجتماعية الخاصة مثل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بر الوالدين وطاعتهما  .         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الاحسان إلى الجيران وتجنب إيذائهم  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صلة الأرحام والإحسان إليه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دعوة إلى أسباب التآلف الاجتماعي ومنها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إفشاء السلام .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توقير الكبار والعطف على الصغار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زيارة المسلم لأخيه المسلم والدعاء له وكفالة اليتيم وغير ذل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دعوة إلى الأخلاق الفاضلة كالصدق والصبر والحياء وغير ذل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شريع التكافل الاجتماعي كالزكاة والصدقة والنفقة وغير ذل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380880"/>
            <a:ext cx="3809880" cy="990720"/>
          </a:xfrm>
          <a:prstGeom prst="wedgeRoundRectCallout">
            <a:avLst>
              <a:gd name="adj1" fmla="val 28749"/>
              <a:gd name="adj2" fmla="val 101120"/>
              <a:gd name="adj3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e3de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وجه التكافل الاجتماع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في الإسل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362320"/>
            <a:ext cx="7848360" cy="312408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شريع فريضة الزكاة : على سبيل الوجوب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شريع زكاة الفطر : على سبيل الوجوب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تشريع النفقات الواجبة على سبيل الوجوب وهي على نوعا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( أ ) النفقة على الزوج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( ب ) النفقة على الأقارب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تشريع الصدقات التطوعية : على سبيل الترغيب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50000">
              <a:srgbClr val="8bff8b"/>
            </a:gs>
            <a:gs pos="100000">
              <a:srgbClr val="e3de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19520" y="0"/>
            <a:ext cx="3047760" cy="1600200"/>
          </a:xfrm>
          <a:prstGeom prst="downArrowCallout">
            <a:avLst>
              <a:gd name="adj1" fmla="val 34075"/>
              <a:gd name="adj2" fmla="val 27934"/>
              <a:gd name="adj3" fmla="val 16667"/>
              <a:gd name="adj4" fmla="val 69245"/>
            </a:avLst>
          </a:prstGeom>
          <a:gradFill rotWithShape="0">
            <a:gsLst>
              <a:gs pos="0">
                <a:srgbClr val="ff3399"/>
              </a:gs>
              <a:gs pos="100000">
                <a:srgbClr val="bc9b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>
                <a:solidFill>
                  <a:srgbClr val="740027"/>
                </a:solidFill>
                <a:latin typeface="Arial"/>
              </a:rPr>
              <a:t>أنواع الصدقات التطو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533520"/>
            <a:ext cx="1828800" cy="1295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نوع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3809880"/>
            <a:ext cx="1981080" cy="13716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نوع الثال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133720"/>
            <a:ext cx="1981440" cy="13716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نوع الث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1676520"/>
            <a:ext cx="6324480" cy="914400"/>
          </a:xfrm>
          <a:prstGeom prst="flowChartTerminator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cc00"/>
                </a:solidFill>
                <a:latin typeface="Arial"/>
              </a:rPr>
              <a:t>الصدقة النافلة المطلقة : ويجوز أن تكون نقداً أو عيناً كطعام أو كساء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cc00"/>
                </a:solidFill>
                <a:latin typeface="Arial"/>
              </a:rPr>
              <a:t>وهي لا ترتبط بزمان أو مكان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048120"/>
            <a:ext cx="6324480" cy="9144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الصدقة الجارية وهي الوقف ومعناه : تحبيس الأصل وتسييل المنفعة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كوقف المساجد والمكتبات والمستشفيات لمنفعة الناس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4800600"/>
            <a:ext cx="6324480" cy="9144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وصايا وهي العطايا التي يتم التبرع بها بعد الموت , وهي مقدرة بالثلث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تُصرف بعد وفاء الديون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5486400"/>
            <a:ext cx="1981440" cy="13716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نوع الراب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6019920"/>
            <a:ext cx="5790960" cy="60948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66"/>
                </a:solidFill>
                <a:latin typeface="Arial"/>
              </a:rPr>
              <a:t>العواري والمنائح والقروض الحسنة والأعطيات والهبا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0"/>
                            </p:stCondLst>
                            <p:childTnLst>
                              <p:par>
                                <p:cTn id="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343400" y="990720"/>
            <a:ext cx="3200400" cy="838080"/>
          </a:xfrm>
          <a:prstGeom prst="plus">
            <a:avLst>
              <a:gd name="adj" fmla="val 19273"/>
            </a:avLst>
          </a:prstGeom>
          <a:gradFill rotWithShape="0">
            <a:gsLst>
              <a:gs pos="0">
                <a:srgbClr val="00cc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أهداف الحوار في الإس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191120"/>
            <a:ext cx="594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بادل العلوم النافعة وحل الإشكالات القائمة والتعاون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على الخير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دعوة إلى الإسلام وعبادة الله تعالى وحده لا شريك له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048120"/>
            <a:ext cx="594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حقيق وظيفة الإنسان في الأرض وهي الخلافة وعمار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أرض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9520" y="380880"/>
            <a:ext cx="4572000" cy="9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آداب الحوار في الإسل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47960" y="1447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حسن القصد من الحوا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90512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إيمان العميق بما يدعو إليه المحاو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4956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تزام القول الحسن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350532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حرص على الوصول  إلى الح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8954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تزام الهدوء والسكين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36232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علم بقضية الحوار ومعرفتها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96252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حسن الظن بالطرف الآخ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5029200"/>
            <a:ext cx="4648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تواضع والرفق وحسن الاستما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07T18:41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