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F93-E5BE-4E79-8B03-04C17C1F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C68-6F9B-46E5-940B-82A8EE91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962-06C0-4D56-A603-1F23F72B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1A7-0F7C-4701-8CC3-1452F371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DA2-E208-4E8C-BA12-49EEDE68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F36-F619-4290-976D-318DDA1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160-2868-47EC-9E21-2D2D103B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D5D-9429-4F9B-AF14-3B2C15C6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B41-7800-4ACC-B845-4D224A35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3C8-A6D4-4E12-AB9E-45E02CE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767-2B38-45FD-AA27-3B1BA32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B90-8434-408E-8C19-5EC9B54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6D9-9DD8-4C72-85C0-42DA8E3C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228600"/>
            <a:ext cx="4114800" cy="990720"/>
          </a:xfrm>
          <a:prstGeom prst="flowChartMultidocument">
            <a:avLst/>
          </a:prstGeom>
          <a:gradFill rotWithShape="0">
            <a:gsLst>
              <a:gs pos="0">
                <a:srgbClr val="808000"/>
              </a:gs>
              <a:gs pos="50000">
                <a:srgbClr val="ffff66"/>
              </a:gs>
              <a:gs pos="100000">
                <a:srgbClr val="808000"/>
              </a:gs>
            </a:gsLst>
            <a:lin ang="8100000"/>
          </a:gradFill>
          <a:ln w="25560">
            <a:solidFill>
              <a:srgbClr val="4a4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أسباب تقوية الروابط الاجتما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792468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الإسلام لصلاة الجماعة والجمعة والعيدين والجناز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الإسلام للواجبات الاجتماعية الخاصة مثل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بر الوالدين وطاعتهما  .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الاحسان إلى الجيران وتجنب إيذائهم  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صلة الأرحام والإحسان إليه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دعوة إلى أسباب التآلف الاجتماعي ومنها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إفشاء السلام .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وقير الكبار والعطف على الصغار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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زيارة المسلم لأخيه المسلم والدعاء له وكفالة اليتيم وغير ذل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دعوة إلى الأخلاق الفاضلة كالصدق والصبر والحياء وغير ذل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التكافل الاجتماعي كالزكاة والصدقة والنفقة وغير ذل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80880"/>
            <a:ext cx="3809880" cy="990720"/>
          </a:xfrm>
          <a:prstGeom prst="wedgeRoundRectCallout">
            <a:avLst>
              <a:gd name="adj1" fmla="val 28749"/>
              <a:gd name="adj2" fmla="val 101120"/>
              <a:gd name="adj3" fmla="val 16667"/>
            </a:avLst>
          </a:prstGeom>
          <a:gradFill rotWithShape="0">
            <a:gsLst>
              <a:gs pos="0">
                <a:srgbClr val="ffff66"/>
              </a:gs>
              <a:gs pos="100000">
                <a:srgbClr val="e3d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وجه التكافل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في الإسل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362320"/>
            <a:ext cx="7848360" cy="312408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فريضة الزكاة : على سبيل الوجو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شريع زكاة الفطر : على سبيل الوجو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شريع النفقات الواجبة على سبيل الوجوب وهي على نوعا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( أ ) النفقة على الزوج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( ب ) النفقة على الأقار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تشريع الصدقات التطوعية : على سبيل الترغيب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50000">
              <a:srgbClr val="8bff8b"/>
            </a:gs>
            <a:gs pos="100000">
              <a:srgbClr val="e3d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0"/>
            <a:ext cx="3047760" cy="1600200"/>
          </a:xfrm>
          <a:prstGeom prst="downArrowCallout">
            <a:avLst>
              <a:gd name="adj1" fmla="val 34075"/>
              <a:gd name="adj2" fmla="val 27934"/>
              <a:gd name="adj3" fmla="val 16667"/>
              <a:gd name="adj4" fmla="val 69245"/>
            </a:avLst>
          </a:prstGeom>
          <a:gradFill rotWithShape="0">
            <a:gsLst>
              <a:gs pos="0">
                <a:srgbClr val="ff3399"/>
              </a:gs>
              <a:gs pos="100000">
                <a:srgbClr val="bc9b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740027"/>
                </a:solidFill>
                <a:latin typeface="Arial"/>
              </a:rPr>
              <a:t>أنواع الصدقات التطو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533520"/>
            <a:ext cx="1828800" cy="1295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3809880"/>
            <a:ext cx="1981080" cy="1371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ثال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133720"/>
            <a:ext cx="1981440" cy="1371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ث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676520"/>
            <a:ext cx="6324480" cy="914400"/>
          </a:xfrm>
          <a:prstGeom prst="flowChartTerminator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00"/>
                </a:solidFill>
                <a:latin typeface="Arial"/>
              </a:rPr>
              <a:t>الصدقة النافلة المطلقة : ويجوز أن تكون نقداً أو عيناً كطعام أو كساء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00"/>
                </a:solidFill>
                <a:latin typeface="Arial"/>
              </a:rPr>
              <a:t>وهي لا ترتبط بزمان أو مكان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048120"/>
            <a:ext cx="6324480" cy="9144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الصدقة الجارية وهي الوقف ومعناه : تحبيس الأصل وتسييل المنفعة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كوقف المساجد والمكتبات والمستشفيات لمنفعة الناس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800600"/>
            <a:ext cx="6324480" cy="9144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وصايا وهي العطايا التي يتم التبرع بها بعد الموت , وهي مقدرة بالثلث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تُصرف بعد وفاء الديو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5486400"/>
            <a:ext cx="1981440" cy="13716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نوع الراب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6019920"/>
            <a:ext cx="5790960" cy="60948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66"/>
                </a:solidFill>
                <a:latin typeface="Arial"/>
              </a:rPr>
              <a:t>العواري والمنائح والقروض الحسنة والأعطيات والهبا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43400" y="990720"/>
            <a:ext cx="3200400" cy="838080"/>
          </a:xfrm>
          <a:prstGeom prst="plus">
            <a:avLst>
              <a:gd name="adj" fmla="val 19273"/>
            </a:avLst>
          </a:prstGeom>
          <a:gradFill rotWithShape="0">
            <a:gsLst>
              <a:gs pos="0">
                <a:srgbClr val="00cc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أهداف الحوار في الإس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911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بادل العلوم النافعة وحل الإشكالات القائمة والتعاون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على الخي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دعوة إلى الإسلام وعبادة الله تعالى وحده لا شريك ل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048120"/>
            <a:ext cx="594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حقيق وظيفة الإنسان في الأرض وهي الخلافة وعمار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أرض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380880"/>
            <a:ext cx="457200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آداب الحوار في الإسل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47960" y="1447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حسن القصد من الحو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9051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إيمان العميق بما يدعو إليه المحاو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4956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تزام القول الحسن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5053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حرص على الوصول  إلى الح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8954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تزام الهدوء والسكين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3623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علم بقضية الحوار ومعرفتها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9625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حسن الظن بالطرف الآخ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5029200"/>
            <a:ext cx="4648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udir MT"/>
              </a:rPr>
              <a:t> التواضع والرفق وحسن الاستما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07T18:41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