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BA9-E6BF-4C26-854C-FCABFE3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23B-FC99-4CF2-8C9A-365AB56D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AE0-81C4-4D5C-9409-ADCC897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070-92E2-435E-B8CE-5BBD3854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21C-327C-4CA7-961C-3B7E643B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04F-D5C8-4E08-AE57-0698319D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C03-1C8E-4376-8540-598128E8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97C-4C14-4326-A2BB-BB553BC2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385-DA66-413C-83F9-9F24606A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5BF-B897-41D9-95DF-5E90FD27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520-C73D-472B-B2BB-36DB398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336-4DD9-4087-9020-99AAB958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BD3-3A81-4EF2-AF29-4EB603D2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685440"/>
            <a:ext cx="3962520" cy="5634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تعريف المجتمع ( التعريف المختار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3352320"/>
            <a:ext cx="6172200" cy="1600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be0e3"/>
              </a:gs>
              <a:gs pos="100000">
                <a:srgbClr val="b2b2b2"/>
              </a:gs>
            </a:gsLst>
            <a:lin ang="8100000"/>
          </a:gradFill>
          <a:ln w="255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أفراد يعيشون معاً فترة طوي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أرض بمساحة يقيمون علي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/ نظم تحدد علاقاتهم الاجتماعية وشعور جماعي بوحدتهم الاجتما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1371600"/>
            <a:ext cx="6019920" cy="1066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bbe0e3"/>
              </a:gs>
              <a:gs pos="100000">
                <a:srgbClr val="969696"/>
              </a:gs>
            </a:gsLst>
            <a:lin ang="13500000"/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جميع العلاقات بين الأفراد في حالة تفاعل مع منظمات وجمعيات لها أحكام وأسس معي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514600"/>
            <a:ext cx="5715000" cy="7621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شروط المجتمع لكي نطلق عليه مجتمع إنس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00040" y="3200400"/>
            <a:ext cx="5334120" cy="2743200"/>
          </a:xfrm>
          <a:prstGeom prst="rect">
            <a:avLst/>
          </a:prstGeom>
          <a:gradFill rotWithShape="0">
            <a:gsLst>
              <a:gs pos="0">
                <a:srgbClr val="a54bff"/>
              </a:gs>
              <a:gs pos="100000">
                <a:srgbClr val="99cc00"/>
              </a:gs>
            </a:gsLst>
            <a:lin ang="8100000"/>
          </a:gradFill>
          <a:ln w="2556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60046"/>
                </a:solidFill>
                <a:latin typeface="Arial"/>
              </a:rPr>
              <a:t>خلائق مسلمون , مستقرون في أرضهم تجمعهم رابطة الإسلام وتدار أمورهم في ضوء تشريعات إسلامية وأحكام , ويرعى شئونهم ولاة أمر منهم وحكا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04920"/>
            <a:ext cx="5943600" cy="2133360"/>
          </a:xfrm>
          <a:prstGeom prst="cloudCallout">
            <a:avLst>
              <a:gd name="adj1" fmla="val 23208"/>
              <a:gd name="adj2" fmla="val 77902"/>
            </a:avLst>
          </a:prstGeom>
          <a:gradFill rotWithShape="0">
            <a:gsLst>
              <a:gs pos="0">
                <a:srgbClr val="3399ff"/>
              </a:gs>
              <a:gs pos="50000">
                <a:srgbClr val="bbe0e3"/>
              </a:gs>
              <a:gs pos="100000">
                <a:srgbClr val="3399ff"/>
              </a:gs>
            </a:gsLst>
            <a:lin ang="8100000"/>
          </a:gra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 u="sng">
                <a:solidFill>
                  <a:srgbClr val="000066"/>
                </a:solidFill>
                <a:uFillTx/>
                <a:latin typeface="Arial"/>
              </a:rPr>
              <a:t>مفهوم المجتمع المس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( التعريف المختا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240" y="1143000"/>
            <a:ext cx="5257800" cy="8683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8100000"/>
          </a:gradFill>
          <a:ln w="255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6400"/>
                </a:solidFill>
                <a:latin typeface="Arial"/>
              </a:rPr>
              <a:t>أسس بناء المجتمع الإسلام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33920" y="2590560"/>
            <a:ext cx="4114800" cy="2361960"/>
          </a:xfrm>
          <a:prstGeom prst="rect">
            <a:avLst/>
          </a:prstGeom>
          <a:gradFill rotWithShape="0">
            <a:gsLst>
              <a:gs pos="0">
                <a:srgbClr val="f93939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إنسا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أر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ضبط الاجتماع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8e0000"/>
                </a:solidFill>
                <a:latin typeface="Arial"/>
              </a:rPr>
              <a:t>- الروابط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12408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48320" y="2286000"/>
            <a:ext cx="2971800" cy="1752480"/>
          </a:xfrm>
          <a:prstGeom prst="leftArrow">
            <a:avLst>
              <a:gd name="adj1" fmla="val 50000"/>
              <a:gd name="adj2" fmla="val 42394"/>
            </a:avLst>
          </a:prstGeom>
          <a:gradFill rotWithShape="0">
            <a:gsLst>
              <a:gs pos="0">
                <a:srgbClr val="d40b06"/>
              </a:gs>
              <a:gs pos="50000">
                <a:srgbClr val="ff9933"/>
              </a:gs>
              <a:gs pos="100000">
                <a:srgbClr val="d40b06"/>
              </a:gs>
            </a:gsLst>
            <a:lin ang="81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سمات المجتمع الم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3657600" cy="320040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50000">
                <a:srgbClr val="ffff66"/>
              </a:gs>
              <a:gs pos="100000">
                <a:srgbClr val="339966"/>
              </a:gs>
            </a:gsLst>
            <a:lin ang="8100000"/>
          </a:gra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ملتزم بالشرع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متسام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ج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مجتمع آم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5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52280"/>
            <a:ext cx="7848720" cy="213372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مظاهر الجدية 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المجتمع الإســل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438280"/>
            <a:ext cx="8915400" cy="358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أهم سمات المجتمع المسلم أنه مجتمع  جاد لا مكان فيه لصغائر الأمور ويعد الحر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لى العلم النافع والسعي إلى العمل الصالح أبرز مظاهر جدية هذا المجتمع وتوضيح ذلك كما ي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علم النافع هو كل علم يقرب إلى الله سبحانه ويزيد الخشية منه ويدفع إلى العمل الصالح , ويدخل في هذا العلم الشر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علوم الأخرى التي تدفع الإنسان إلى التفكير في المخلوقات وإدراك قدرة الله تعالى , فالمجتمع الإسلامي يرحب بهذ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م لأنه الوسيلة الفاعلة لتحقيق مقاصد ثلاثة يحرص عليها المجتمع وهي التفكير , إصلاح العمل , إيجاد الوازع النفس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لمجتمع الإسلامي يرفض كل علم لا يكون وسيلة لتحقيق إحدى الغايات السامية للمجتمع , ويصنفه على أنه علم لا ينف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ذا النوع من العلم يسعى المجتمع الإسلامي إلى محاصرته والتضييق على أهله , لأن نتيجته واحدة وهي الترويج للعب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تشكيك في الثوابت الدينية وإثارة الشبهات حولها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429000"/>
            <a:ext cx="1981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ظهر الأ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67080" y="3505320"/>
            <a:ext cx="2381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العلم الناف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28640" y="21333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80048"/>
                </a:solidFill>
                <a:latin typeface="Arial"/>
              </a:rPr>
              <a:t>فالعلم النافع هو العلم الذي يتبعه العمل الصالح إذ أنهما متلازمان , إذ لا يكون العمل صالحاً ما لم يبنَ على علم ناف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4600"/>
                </a:solidFill>
                <a:latin typeface="Arial"/>
              </a:rPr>
              <a:t>قال تعالى : 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</a:t>
            </a: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يا أيها الذين ءامنوا لمَ تقولو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               ما لا تفعلون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</a:t>
            </a: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كبر مقتاً عن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600"/>
                </a:solidFill>
                <a:latin typeface="Arial"/>
              </a:rPr>
              <a:t>                 الله أن تقولوا ما لا تفعلون </a:t>
            </a:r>
            <a:r>
              <a:rPr b="1" lang="en-US" sz="2200" spc="-1" strike="noStrike">
                <a:solidFill>
                  <a:srgbClr val="004600"/>
                </a:solidFill>
                <a:latin typeface="AGA Arabesque"/>
                <a:ea typeface="AGA Arabesque"/>
              </a:rPr>
              <a:t></a:t>
            </a:r>
            <a:r>
              <a:rPr b="1" lang="en-US" sz="2200" spc="-1" strike="noStrike">
                <a:solidFill>
                  <a:srgbClr val="480048"/>
                </a:solidFill>
                <a:latin typeface="Arial"/>
              </a:rPr>
              <a:t> فمفهوم العمل الصالح مرتبط بمفهوم العبادة , فدائرة العمل الصالح واسعة جداً تشمل العبادات والمعاملات ولا تختص بالشعائر التعبدية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33520"/>
            <a:ext cx="198144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ظهر الثان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14800" y="609480"/>
            <a:ext cx="2381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العمل الصالح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04960" y="205740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80048"/>
                </a:solidFill>
                <a:latin typeface="Arial"/>
              </a:rPr>
              <a:t>فكل عمل يؤدي إلى مرضاة الله ويجلب النفع إلى البشرية فهو عمل صالح يدعو إليه الإسلام كالصلح بين اثنين وإماطة الأذى عن الطريق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80048"/>
                </a:solidFill>
                <a:latin typeface="Arial"/>
              </a:rPr>
              <a:t>وكل عمل من الأعمال العبثية كالدعوة إلى إقامة مسارح اللهو فإن الإسلام لا يعتبرها ولا يدعو إليها لأنها مهدرة للوقت والجهد , فلا مكان لمجتمع انيطت به مهمة الخلافة في الأرض لمثل هذه الأعمال مهما حاول أهلها تزيينها .</a:t>
            </a:r>
            <a:r>
              <a:rPr b="1" lang="en-US" sz="2200" spc="-1" strike="noStrike">
                <a:solidFill>
                  <a:srgbClr val="480048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07T18:39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