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AC35-F099-43D7-BC1F-CCA7D528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8206-B8A3-4B23-89B1-834BB314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072C-3ACE-4660-8DB8-6D73EEC6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27F2-3166-42BF-9451-40D647D2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0294-7D24-4C5A-84C6-69B6B0AF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7D96-FBC1-42AD-9095-9A74B13A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704A-CE57-4A7D-A828-13ECBB98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6492-9B8C-4247-A794-A9F484F2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0967-606F-4C21-8AF0-B75DC3ED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16CA-A88F-4E05-856B-677DECDD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BB43-A5E2-4561-90A7-2C0A252A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A76-0C14-4A34-AD62-850B4EF3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D12B-4766-4CAC-A945-057A0147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5239-AEBB-471E-80AD-E7543B6B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3223-AFDA-44F9-8F5B-A35BBB71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F2DD-9B25-4526-B169-D76047F2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5091-0C0F-45B0-82CF-D5286CFF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1B51C9-CCDC-4BEC-9A3B-D640F248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340EF7-C822-495C-A0B5-40E0FA03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98791-C4F8-4C35-9D37-18517763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2ABF8F-09D3-443E-90CD-674BCA4A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EBA4E6-2E10-403B-98CE-14D086E9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943E-8227-4593-B085-0BC1DF46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CA94FD-D7F3-4D9D-8574-66780E7A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47DD97-14DA-4282-AA01-CED50A60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B18C9C-39CF-48E9-AE1A-2F974630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FB0145-CCFA-44F0-A2E2-D33A0F3E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3F9E61-39FC-4058-8EC2-2A444C3A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7320F6-B24B-4377-9C20-D49C5786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B7EF14-4208-45A0-B147-C88FD8DE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98AB8-C515-44F8-BC6F-0FC114C4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454C8-A462-4790-B7D5-1FD40775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7A569-A6E9-4120-A811-DF844C69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6976-CC59-410A-8FFF-14F294E3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6F446-8515-46A0-9B4E-084A41DD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99F75-2A80-428F-A053-8197F7A3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549A7-1319-486C-92C3-D54138DF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BC965-CF0D-4F31-B1CD-1F1AF44A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B4F65-760B-4090-9B75-0654AC4D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A9F9D-F2AC-4C42-915C-011C0318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FDCAF-7EA7-40C7-BA45-02D1F6D2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033ED-68E5-4B8E-9384-4FF33C91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04C4A-B3A2-410F-BB05-2D309A20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9E53-0A21-4586-9841-28C75A56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9076-3B33-4B39-B085-5B98E344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8526-AE1B-4F40-9FE3-F4BF5C41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B920-5381-4AAD-B016-8B07C181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5AF2-2D59-4E36-80A1-6763B496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25C5-3AE2-48BB-ABA3-46F89C25BAA2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5F34-3BEE-49C9-8BA1-49C7E244A5D5}" type="slidenum"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3DF6-EDE2-47D6-91CD-E884E8493658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E51D-79D1-48F2-9997-0C6EF0C29B58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94c600"/>
                </a:solidFill>
                <a:latin typeface="Microsoft Uighur"/>
                <a:cs typeface="Microsoft Uighur"/>
              </a:rPr>
              <a:t>وسائل الإعلام و الإتصال التنموية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424242"/>
                </a:solidFill>
                <a:latin typeface="Microsoft Uighur"/>
                <a:cs typeface="Microsoft Uighur"/>
              </a:rPr>
              <a:t>الجزء السابع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Microsoft Uighur"/>
                <a:ea typeface="Microsoft Uighur"/>
              </a:rPr>
              <a:t>3</a:t>
            </a:r>
            <a:r>
              <a:rPr b="0" lang="ar-SA" sz="4400" spc="-1" strike="noStrike">
                <a:solidFill>
                  <a:srgbClr val="ff0000"/>
                </a:solidFill>
                <a:latin typeface="Microsoft Uighur"/>
                <a:ea typeface="Microsoft Uighur"/>
              </a:rPr>
              <a:t>.المشاركة في المناسبات الاجتماعية والدينية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Microsoft Uighur"/>
                <a:ea typeface="Microsoft Uighur"/>
              </a:rPr>
              <a:t>4</a:t>
            </a:r>
            <a:r>
              <a:rPr b="0" lang="ar-SA" sz="4800" spc="-1" strike="noStrike">
                <a:solidFill>
                  <a:srgbClr val="ff0000"/>
                </a:solidFill>
                <a:latin typeface="Microsoft Uighur"/>
                <a:ea typeface="Microsoft Uighur"/>
              </a:rPr>
              <a:t>.تقديم الخدمات والتشهيلات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4c600"/>
                </a:solidFill>
                <a:latin typeface="Sakkal Majalla"/>
                <a:cs typeface="Sakkal Majalla"/>
              </a:rPr>
              <a:t>ثانياً:وسائل الاتصال غير اللفظية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9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cs typeface="Microsoft Uighur"/>
              </a:rPr>
              <a:t>الؤسائل غير اللفظية التي يستخدمها الخبير التنموي: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59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1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تعبيرات الوجه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59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2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حركات الجسم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59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3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وسائل التعبير بالأشياء المادية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59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4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منشآت و المعدات والديكورات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59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5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صور والرسوم و المجسمات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594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94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94c600"/>
                </a:solidFill>
                <a:latin typeface="Microsoft Uighur"/>
                <a:cs typeface="Microsoft Uighur"/>
              </a:rPr>
              <a:t>ثالثاً:وسائل الاتصال اللفظي: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1</a:t>
            </a:r>
            <a:r>
              <a:rPr b="0" lang="ar-SA" sz="36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وسائل الاتصال الشخصي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2</a:t>
            </a:r>
            <a:r>
              <a:rPr b="0" lang="ar-SA" sz="36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وسائل الاتصال الجمعي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3</a:t>
            </a:r>
            <a:r>
              <a:rPr b="0" lang="ar-SA" sz="36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وسائل الاتصال الجماهيري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70c0"/>
                </a:solidFill>
                <a:latin typeface="Microsoft Uighur"/>
                <a:cs typeface="Microsoft Uighur"/>
              </a:rPr>
              <a:t>وسائل الاتصال الشخصي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601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bf4d00"/>
                </a:solidFill>
                <a:latin typeface="Microsoft Uighur"/>
                <a:cs typeface="Microsoft Uighur"/>
              </a:rPr>
              <a:t>أ.وسائل الاتصال الشخصي غير المباشرة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012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-سماتها: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marL="6012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1</a:t>
            </a:r>
            <a:r>
              <a:rPr b="0" lang="ar-SA" sz="27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إفادة من التطورات التكنولوجية في عالم الاتصال 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marL="6012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2</a:t>
            </a:r>
            <a:r>
              <a:rPr b="0" lang="ar-SA" sz="27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قلة عدد القائمين بالاتصال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marL="6012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3</a:t>
            </a:r>
            <a:r>
              <a:rPr b="0" lang="ar-SA" sz="27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صغر حجم الجمهور المستقبل للرسالة،وعدم تجانسه،وتباعده مكانياً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marL="6012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4</a:t>
            </a:r>
            <a:r>
              <a:rPr b="0" lang="ar-SA" sz="27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تجاوب الفوري بين طرفي الاتصال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marL="6012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5</a:t>
            </a:r>
            <a:r>
              <a:rPr b="0" lang="ar-SA" sz="27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إمكانية السيطرة على الظرف الاتصالي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marL="6012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6</a:t>
            </a:r>
            <a:r>
              <a:rPr b="0" lang="ar-SA" sz="27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ستقبال الرسالة يتم في لحظة إرسالها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marL="6012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marL="6012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Microsoft Uighur"/>
                <a:cs typeface="Microsoft Uighur"/>
              </a:rPr>
              <a:t>أنواعها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cs typeface="Microsoft Uighur"/>
              </a:rPr>
              <a:t>أولاً:الإلكترونية: 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1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تلفون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2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تلغراف و التليكس و الفاكسميلي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3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تصالات الحاسب الآلي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4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دوائر التلفزيونية المغلقة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cs typeface="Microsoft Uighur"/>
              </a:rPr>
              <a:t>ثانياً:غير الإلكترونية: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336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1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تقارير : هو عرض للحقائق الخاصة بموضوع أو مشكلة أو ظروف أو أحداث أو أقوال بطريقة مبسطة مع ذكر الاقترحات التي تمشي مع النتائج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336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cs typeface="Microsoft Uighur"/>
              </a:rPr>
              <a:t>وهي أنواع:تقارير إخبارية ، تقارير التحليلة،السنوية،إحصائية،إدارية،تفسيرية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2</a:t>
            </a: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خطابات والرسائل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cs typeface="Microsoft Uighur"/>
              </a:rPr>
              <a:t>تمتاز الخطابات بأنها غير مكلفة و سريعة، مباشرة،شخصية وموحية بالألفة،تخلق شعوراً بالتقدير والاهتمام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3</a:t>
            </a: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لوحة الإعلانات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4800"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bf4d00"/>
                </a:solidFill>
                <a:latin typeface="Microsoft Uighur"/>
                <a:cs typeface="Microsoft Uighur"/>
              </a:rPr>
              <a:t>ب.وسائل الاتصال الشخصي المباشرة: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648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سماتها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48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أن المرسل والمستقبل يكونان وجهاً لوجه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48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أن التجاوب والتفاعل يكون فعلياً و فورياً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48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تتيح الفرصة لاشتراك جميع أفراد المجموعة الصغيرة في عملية الاتصال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-أهمها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1</a:t>
            </a: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مناقشات و المحادثات الرسمية(المحادثات المباشرة،مناقشات المتخصصين،المناقشات المفتوحة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2</a:t>
            </a: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اجتماعات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3</a:t>
            </a: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زيارات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4</a:t>
            </a: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مقابلات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Microsoft Uighur"/>
                <a:cs typeface="Microsoft Uighur"/>
              </a:rPr>
              <a:t>نشاط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cs typeface="Microsoft Uighur"/>
              </a:rPr>
              <a:t>ما هي الوسائل الاتصالية المسخدمة في الحملة الإنتخابية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9" name="Picture 5" descr="D:\_44289042_clapping_ap203b.jpg"/>
          <p:cNvPicPr/>
          <p:nvPr/>
        </p:nvPicPr>
        <p:blipFill>
          <a:blip r:embed="rId1"/>
          <a:stretch/>
        </p:blipFill>
        <p:spPr>
          <a:xfrm>
            <a:off x="900000" y="3419640"/>
            <a:ext cx="2992680" cy="2241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D:\obama.jpg"/>
          <p:cNvPicPr/>
          <p:nvPr/>
        </p:nvPicPr>
        <p:blipFill>
          <a:blip r:embed="rId2"/>
          <a:stretch/>
        </p:blipFill>
        <p:spPr>
          <a:xfrm>
            <a:off x="5867280" y="32828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D:\obama2.jpg"/>
          <p:cNvPicPr/>
          <p:nvPr/>
        </p:nvPicPr>
        <p:blipFill>
          <a:blip r:embed="rId3"/>
          <a:stretch/>
        </p:blipFill>
        <p:spPr>
          <a:xfrm>
            <a:off x="547560" y="942840"/>
            <a:ext cx="1746360" cy="2340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D:\onama3.jpg"/>
          <p:cNvPicPr/>
          <p:nvPr/>
        </p:nvPicPr>
        <p:blipFill>
          <a:blip r:embed="rId4"/>
          <a:stretch/>
        </p:blipFill>
        <p:spPr>
          <a:xfrm>
            <a:off x="3492360" y="4545000"/>
            <a:ext cx="26006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70c0"/>
                </a:solidFill>
                <a:latin typeface="Microsoft Uighur"/>
                <a:cs typeface="Microsoft Uighur"/>
              </a:rPr>
              <a:t>وسائل الاتصال الجمعي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042920" y="1484280"/>
            <a:ext cx="734544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1</a:t>
            </a: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صحف الحائط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2</a:t>
            </a: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مجلة المنشأة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3</a:t>
            </a: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نشرات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4</a:t>
            </a: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ألكتيبات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5</a:t>
            </a: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ملصقات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6</a:t>
            </a: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ندوات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7</a:t>
            </a: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محاضرات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8</a:t>
            </a: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خطب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9</a:t>
            </a: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مؤتمرات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10</a:t>
            </a: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مناظرات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11</a:t>
            </a: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معارض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12</a:t>
            </a: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احتفالات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cs typeface="Microsoft Uighur"/>
              </a:rPr>
              <a:t>أنواع وسائل الاتصال بحسب الرموز: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1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وسائل الاتصال بالفعل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2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وسائل الاتصال اللفظي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3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وسائل الاتصال غير اللفظي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Microsoft Uighur"/>
                <a:cs typeface="Microsoft Uighur"/>
              </a:rPr>
              <a:t>أولاً:وسائل الاتصال بالفعل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e3d2d"/>
                </a:solidFill>
                <a:latin typeface="Microsoft Uighur"/>
                <a:cs typeface="Microsoft Uighur"/>
              </a:rPr>
              <a:t>على أي مستوى تستخدم؟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7" name="Picture 2" descr="C:\Users\LoLo\Downloads\711228651578.jpg"/>
          <p:cNvPicPr/>
          <p:nvPr/>
        </p:nvPicPr>
        <p:blipFill>
          <a:blip r:embed="rId1"/>
          <a:stretch/>
        </p:blipFill>
        <p:spPr>
          <a:xfrm>
            <a:off x="971640" y="1773360"/>
            <a:ext cx="348300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94c600"/>
                </a:solidFill>
                <a:latin typeface="Microsoft Uighur"/>
                <a:cs typeface="Microsoft Uighur"/>
              </a:rPr>
              <a:t>أنواعها: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1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قدوة والنموذج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2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مشاركة في المناسبات الاجتماعية والدينية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3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تقديم الهدايا والمنح والتبرعات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4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قيام بأعمال التشهيلات والخدمات المختلفة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Microsoft Uighur"/>
                <a:ea typeface="Microsoft Uighur"/>
              </a:rPr>
              <a:t>1</a:t>
            </a:r>
            <a:r>
              <a:rPr b="0" lang="ar-SA" sz="4800" spc="-1" strike="noStrike">
                <a:solidFill>
                  <a:srgbClr val="ff0000"/>
                </a:solidFill>
                <a:latin typeface="Microsoft Uighur"/>
                <a:ea typeface="Microsoft Uighur"/>
              </a:rPr>
              <a:t>.القدوة والنموذج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204560" y="230184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2" name="Picture 2" descr="C:\Users\LoLo\Downloads\bush.jpg"/>
          <p:cNvPicPr/>
          <p:nvPr/>
        </p:nvPicPr>
        <p:blipFill>
          <a:blip r:embed="rId1"/>
          <a:stretch/>
        </p:blipFill>
        <p:spPr>
          <a:xfrm>
            <a:off x="5003640" y="3716280"/>
            <a:ext cx="1895760" cy="2409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C:\Users\LoLo\Downloads\TopGun1.jpg"/>
          <p:cNvPicPr/>
          <p:nvPr/>
        </p:nvPicPr>
        <p:blipFill>
          <a:blip r:embed="rId2"/>
          <a:stretch/>
        </p:blipFill>
        <p:spPr>
          <a:xfrm>
            <a:off x="689040" y="2997360"/>
            <a:ext cx="3905280" cy="27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1052280"/>
            <a:ext cx="698508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7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-القدوة في اللغة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7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7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-القدوة في علم النفس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7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7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-لماذا يقتدي الإنسان بغيره؟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7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1</a:t>
            </a: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رغبة في الإرتقاء : الكسب المادي،اتقان العمل والنجاح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7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2</a:t>
            </a: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سلطة والمركز الاجتماعي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7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3</a:t>
            </a: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مجبة والألفة التي تجتمع أفراد المجتمع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7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7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-من هم الذين نقتدي بهم؟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4c600"/>
                </a:solidFill>
                <a:latin typeface="Microsoft Uighur"/>
                <a:cs typeface="Microsoft Uighur"/>
              </a:rPr>
              <a:t>دراسات في القدوة (قادة الرأي)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1</a:t>
            </a: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يستقي الناس معلوماتهم بحسب مصادرهم الموثوقة(القدوة/قادة الرأي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2</a:t>
            </a: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غالباً ما يتمركزون في القسم الأعلى من التنظيم الاجتماعي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3</a:t>
            </a: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لهم ملكية أكبر من غيرهم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Microsoft Uighur"/>
                <a:ea typeface="Microsoft Uighur"/>
              </a:rPr>
              <a:t>2</a:t>
            </a:r>
            <a:r>
              <a:rPr b="0" lang="ar-SA" sz="4800" spc="-1" strike="noStrike">
                <a:solidFill>
                  <a:srgbClr val="ff0000"/>
                </a:solidFill>
                <a:latin typeface="Microsoft Uighur"/>
                <a:ea typeface="Microsoft Uighur"/>
              </a:rPr>
              <a:t>.المنح والهدايا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9" name="Picture 2" descr="C:\Users\LoLo\Downloads\711228651578.jpg"/>
          <p:cNvPicPr/>
          <p:nvPr/>
        </p:nvPicPr>
        <p:blipFill>
          <a:blip r:embed="rId1"/>
          <a:stretch/>
        </p:blipFill>
        <p:spPr>
          <a:xfrm>
            <a:off x="2556000" y="2276640"/>
            <a:ext cx="329724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18:16:17Z</dcterms:created>
  <dc:creator>LoLo</dc:creator>
  <dc:description/>
  <dc:language>en-US</dc:language>
  <cp:lastModifiedBy>LoLo</cp:lastModifiedBy>
  <dcterms:modified xsi:type="dcterms:W3CDTF">2012-05-12T07:31:41Z</dcterms:modified>
  <cp:revision>26</cp:revision>
  <dc:subject/>
  <dc:title>وسائل الإعلام و الإتصال التنموية</dc:title>
</cp:coreProperties>
</file>