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C34F-ED04-4D6B-BEDF-37B8C779E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9881-C0CB-4515-B991-C5BDF79E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0C73-2493-4548-83A2-3BF40BBB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8D43-2815-4782-B882-88A7966B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E55E-4824-49D2-9AA3-16AF970A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AED5-63BD-4CBA-9902-6EEC23E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D2CD-53AA-44BD-B023-988E9BB7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3C12-476B-4801-9217-1BAB9F790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9CEBB-CB18-45DD-8087-8D1FA92C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7733-F491-4414-9CCD-4B59F8E1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20F3-056B-47FE-A423-EB22A52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FE07-78E7-4E08-B712-29E982AC4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8AF1-7F57-4AA8-88E7-4609564D2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E83D-13F8-409F-8382-E7F5D054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8C51-82C4-4750-A65C-0C345B99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1E302-053C-4A79-8C8D-25F7AE75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2F72-6FFF-45A3-B328-5E58E1D9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CFB70-0340-481B-A9A0-D9391429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22998-C9FB-46D5-A605-76ED9ECE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B51A7E-9580-43F1-AD8A-E1E75F7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70B004-138D-496B-A358-96BB3FF8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229EC1-106E-4CCC-B1BA-516983FB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6F5-D1F8-47F5-8D3B-9D53C745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56521A-E2DE-4147-A4F1-29568477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AE156-BCBF-406C-ADA9-44FC13B0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0F4FCA-B617-42BC-A669-042BD989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6754C-F3D5-42E0-9AD5-DE98772E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4A0156-205D-43A4-A58A-801C1834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9ED12-5739-48E1-A082-51053479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E29BE-4060-4625-945B-E9C4B8E4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5CB1B-5B5E-4EA8-9AC4-0BFB6DF2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AE84B-49C5-407D-8C7A-BD558B7C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21A0A-7D1B-4FAA-94DD-A8529A1B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0EDE-70C0-4B58-82D4-B9F29B31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B91DE-62BB-45B8-A668-6E5939C1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8A1D2-2404-4760-85DC-E7663517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3FD17-D2A4-4BE3-9D38-84B9B010A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DC35-8A18-493C-BAEB-4EF34300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ACF88-30E4-4209-B6A6-2D7B9750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6DEC-D48A-4B2F-9975-EBD54AED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C17B5-36C0-4047-BFAB-AD5FED88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1132-FE86-4FAF-8B21-A02760CF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DFD28-38E3-4F5E-A40C-83D6A393F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A3CF-99BE-4D80-BF8E-910010CF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C50-5099-4FB2-AF2E-A796A2C64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C0D-2C82-4787-82C3-0A8B0CAB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C981-7871-4FC9-B3A8-B742B62C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58B9-66ED-45E5-907A-7AD8B251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5BF2-41B2-4E2C-8DD0-0E4BDB740B1C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7F47-4D0C-41F9-A3D4-D44086BE56AB}" type="slidenum">
              <a:rPr b="0" lang="ar-SA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B33F-009B-4DE0-B2B1-587160E38F34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 algn="r" rtl="1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105-C93E-4DE5-A2D9-767D5D362440}" type="slidenum">
              <a:rPr b="0" lang="ar-SA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وسائل الإعلام و الإتصال التنموية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424242"/>
                </a:solidFill>
                <a:latin typeface="Microsoft Uighur"/>
                <a:cs typeface="Microsoft Uighur"/>
              </a:rPr>
              <a:t>الجزء السابع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3</a:t>
            </a:r>
            <a:r>
              <a:rPr b="0" lang="ar-SA" sz="44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مشاركة في المناسبات الاجتماعية والدينية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4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تقديم الخدمات والتشهيلات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4c600"/>
                </a:solidFill>
                <a:latin typeface="Sakkal Majalla"/>
                <a:cs typeface="Sakkal Majalla"/>
              </a:rPr>
              <a:t>ثانياً:وسائل الاتصال غير اللفظية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الؤسائل غير اللفظية التي يستخدمها الخبير التنموي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تعبيرات الوجه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حركات الجسم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تعبير بالأشياء الماد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شآت و المعدات والديكور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صور والرسوم و المجسم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9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ثالثاً:وسائل الاتصال اللفظي: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شخص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جمع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6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جماهيري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Microsoft Uighur"/>
                <a:cs typeface="Microsoft Uighur"/>
              </a:rPr>
              <a:t>وسائل الاتصال الشخصي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bf4d00"/>
                </a:solidFill>
                <a:latin typeface="Microsoft Uighur"/>
                <a:cs typeface="Microsoft Uighur"/>
              </a:rPr>
              <a:t>أ.وسائل الاتصال الشخصي غير المباشرة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سماتها: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إفادة من التطورات التكنولوجية في عالم الاتصال 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قلة عدد القائمين بالاتصال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صغر حجم الجمهور المستقبل للرسالة،وعدم تجانسه،وتباعده مكانياً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جاوب الفوري بين طرفي الاتصال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إمكانية السيطرة على الظرف الاتصالي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6</a:t>
            </a:r>
            <a:r>
              <a:rPr b="0" lang="ar-SA" sz="27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ستقبال الرسالة يتم في لحظة إرسالها</a:t>
            </a: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  <a:p>
            <a:pPr marL="60120" algn="r" rtl="1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نواعها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أولاً:الإلكترونية: 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لفون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لغراف و التليكس و الفاكسميل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تصالات الحاسب الآل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دوائر التلفزيونية المغلق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ثانياً:غير الإلكترونية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تقارير : هو عرض للحقائق الخاصة بموضوع أو مشكلة أو ظروف أو أحداث أو أقوال بطريقة مبسطة مع ذكر الاقترحات التي تمشي مع النتائج.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336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وهي أنواع:تقارير إخبارية ، تقارير التحليلة،السنوية،إحصائية،إدارية،تفسير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خطابات والرسائل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تمتاز الخطابات بأنها غير مكلفة و سريعة، مباشرة،شخصية وموحية بالألفة،تخلق شعوراً بالتقدير والاهتمام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لوحة الإعلان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48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bf4d00"/>
                </a:solidFill>
                <a:latin typeface="Microsoft Uighur"/>
                <a:cs typeface="Microsoft Uighur"/>
              </a:rPr>
              <a:t>ب.وسائل الاتصال الشخصي المباشرة: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-سماتها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أن المرسل والمستقبل يكونان وجهاً لوجه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أن التجاوب والتفاعل يكون فعلياً و فورياً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48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000000"/>
                </a:solidFill>
                <a:latin typeface="Microsoft Uighur"/>
                <a:ea typeface="Microsoft Uighur"/>
              </a:rPr>
              <a:t>.تتيح الفرصة لاشتراك جميع أفراد المجموعة الصغيرة في عملية الاتصال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أهمها: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اقشات و المحادثات الرسمية(المحادثات المباشرة،مناقشات المتخصصين،المناقشات المفتوحة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اجتماع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زيار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قابل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نشاط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ما هي الوسائل الاتصالية المسخدمة في الحملة الإنتخاب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Picture 5" descr="D:\_44289042_clapping_ap203b.jpg"/>
          <p:cNvPicPr/>
          <p:nvPr/>
        </p:nvPicPr>
        <p:blipFill>
          <a:blip r:embed="rId1"/>
          <a:stretch/>
        </p:blipFill>
        <p:spPr>
          <a:xfrm>
            <a:off x="900000" y="3419640"/>
            <a:ext cx="2992680" cy="22413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D:\obama.jpg"/>
          <p:cNvPicPr/>
          <p:nvPr/>
        </p:nvPicPr>
        <p:blipFill>
          <a:blip r:embed="rId2"/>
          <a:stretch/>
        </p:blipFill>
        <p:spPr>
          <a:xfrm>
            <a:off x="5867280" y="32828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7" descr="D:\obama2.jpg"/>
          <p:cNvPicPr/>
          <p:nvPr/>
        </p:nvPicPr>
        <p:blipFill>
          <a:blip r:embed="rId3"/>
          <a:stretch/>
        </p:blipFill>
        <p:spPr>
          <a:xfrm>
            <a:off x="547560" y="942840"/>
            <a:ext cx="1746360" cy="23400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8" descr="D:\onama3.jpg"/>
          <p:cNvPicPr/>
          <p:nvPr/>
        </p:nvPicPr>
        <p:blipFill>
          <a:blip r:embed="rId4"/>
          <a:stretch/>
        </p:blipFill>
        <p:spPr>
          <a:xfrm>
            <a:off x="3492360" y="4545000"/>
            <a:ext cx="26006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475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0c0"/>
                </a:solidFill>
                <a:latin typeface="Microsoft Uighur"/>
                <a:cs typeface="Microsoft Uighur"/>
              </a:rPr>
              <a:t>وسائل الاتصال الجمعي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920" y="1484280"/>
            <a:ext cx="7345440" cy="434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صحف الحائط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مجلة المنشأة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نش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ألكتيب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5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لصق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6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ندو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7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حاض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8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خطب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9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ؤتم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0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ناظر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1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عارض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2</a:t>
            </a:r>
            <a:r>
              <a:rPr b="1" lang="ar-SA" sz="2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احتفالات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أنواع وسائل الاتصال بحسب الرموز: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بالفعل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اللفظ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وسائل الاتصال غير اللفظي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ولاً:وسائل الاتصال بالفعل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e3d2d"/>
                </a:solidFill>
                <a:latin typeface="Microsoft Uighur"/>
                <a:cs typeface="Microsoft Uighur"/>
              </a:rPr>
              <a:t>على أي مستوى تستخدم؟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7" name="Picture 2" descr="C:\Users\LoLo\Downloads\711228651578.jpg"/>
          <p:cNvPicPr/>
          <p:nvPr/>
        </p:nvPicPr>
        <p:blipFill>
          <a:blip r:embed="rId1"/>
          <a:stretch/>
        </p:blipFill>
        <p:spPr>
          <a:xfrm>
            <a:off x="971640" y="1773360"/>
            <a:ext cx="34830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أنواعها: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قدوة والنموذج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شاركة في المناسبات الاجتماعية والديني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تقديم الهدايا والمنح والتبرعات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4</a:t>
            </a:r>
            <a:r>
              <a:rPr b="0" lang="ar-SA" sz="32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قيام بأعمال التشهيلات والخدمات المختلفة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1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قدوة والنموذج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204560" y="230184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2" descr="C:\Users\LoLo\Downloads\bush.jpg"/>
          <p:cNvPicPr/>
          <p:nvPr/>
        </p:nvPicPr>
        <p:blipFill>
          <a:blip r:embed="rId1"/>
          <a:stretch/>
        </p:blipFill>
        <p:spPr>
          <a:xfrm>
            <a:off x="5003640" y="3716280"/>
            <a:ext cx="1895760" cy="2409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C:\Users\LoLo\Downloads\TopGun1.jpg"/>
          <p:cNvPicPr/>
          <p:nvPr/>
        </p:nvPicPr>
        <p:blipFill>
          <a:blip r:embed="rId2"/>
          <a:stretch/>
        </p:blipFill>
        <p:spPr>
          <a:xfrm>
            <a:off x="689040" y="2997360"/>
            <a:ext cx="390528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1052280"/>
            <a:ext cx="6985080" cy="47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القدوة في اللغ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القدوة في علم النفس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لماذا يقتدي الإنسان بغيره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رغبة في الإرتقاء : الكسب المادي،اتقان العمل والنجاح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سلطة والمركز الاجتماعي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المجبة والألفة التي تجتمع أفراد المجتمع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5796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-من هم الذين نقتدي بهم؟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94c600"/>
                </a:solidFill>
                <a:latin typeface="Microsoft Uighur"/>
                <a:cs typeface="Microsoft Uighur"/>
              </a:rPr>
              <a:t>دراسات في القدوة (قادة الرأي)</a:t>
            </a:r>
            <a:endParaRPr b="0" lang="en-US" sz="44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1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يستقي الناس معلوماتهم بحسب مصادرهم الموثوقة(القدوة/قادة الرأي)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2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غالباً ما يتمركزون في القسم الأعلى من التنظيم الاجتماعي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3</a:t>
            </a:r>
            <a:r>
              <a:rPr b="0" lang="ar-SA" sz="2800" spc="-1" strike="noStrike">
                <a:solidFill>
                  <a:srgbClr val="3e3d2d"/>
                </a:solidFill>
                <a:latin typeface="Microsoft Uighur"/>
                <a:ea typeface="Microsoft Uighur"/>
              </a:rPr>
              <a:t>.لهم ملكية أكبر من غيرهم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2</a:t>
            </a:r>
            <a:r>
              <a:rPr b="0" lang="ar-SA" sz="4800" spc="-1" strike="noStrike">
                <a:solidFill>
                  <a:srgbClr val="ff0000"/>
                </a:solidFill>
                <a:latin typeface="Microsoft Uighur"/>
                <a:ea typeface="Microsoft Uighur"/>
              </a:rPr>
              <a:t>.المنح والهدايا</a:t>
            </a:r>
            <a:endParaRPr b="0" lang="en-US" sz="4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9" name="Picture 2" descr="C:\Users\LoLo\Downloads\711228651578.jpg"/>
          <p:cNvPicPr/>
          <p:nvPr/>
        </p:nvPicPr>
        <p:blipFill>
          <a:blip r:embed="rId1"/>
          <a:stretch/>
        </p:blipFill>
        <p:spPr>
          <a:xfrm>
            <a:off x="2556000" y="2276640"/>
            <a:ext cx="329724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18:16:17Z</dcterms:created>
  <dc:creator>LoLo</dc:creator>
  <dc:description/>
  <dc:language>en-US</dc:language>
  <cp:lastModifiedBy>LoLo</cp:lastModifiedBy>
  <dcterms:modified xsi:type="dcterms:W3CDTF">2012-05-12T07:31:41Z</dcterms:modified>
  <cp:revision>26</cp:revision>
  <dc:subject/>
  <dc:title>وسائل الإعلام و الإتصال التنموية</dc:title>
</cp:coreProperties>
</file>