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788F-4BF4-4EE3-AE6B-8F2ED295A6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96C3-3EB1-4B9B-AC6F-CB1345E8E77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F1C-D89E-4653-B959-94C18AFF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F9C-A20C-4995-9E93-DB90A8FC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2D23-FC88-4FBC-8AA8-E1501196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C9B-AB4B-44A8-B1A9-D841F914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AC8A-BEC9-4FEB-BDDD-D94078E7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3564-6703-4377-89B9-FC4B61A5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1B44-B3C7-4A84-833D-AA10BA02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F9F9-481C-4488-8318-69F3CF87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D1AA-F48F-4530-9564-C2248984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BBB1-69C7-44B9-9E9A-202B667C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8D6C-6AC2-4F67-943A-99C61F22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C34-C377-4D01-A5B7-C9CC0078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4976-7A93-4853-8BF2-15ECAFD1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A64E-F0D3-4A90-BBA9-E82F6A6A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DFED-A85B-4136-8E5F-0701646D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173C-AD1A-42CA-A2F1-5D002332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8343-9F7B-487C-94FC-C8053BDA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351-8F87-4D39-839C-4B93E854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A99-EAA6-42AD-8150-BA903E32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B0E-1B1A-4AA0-A64F-F0504085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9F2-0C71-4902-A4EE-2F6839A9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575-FC61-45E2-9308-52E6F412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ED2-8D91-4712-A0B4-20E74DCB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E6B-05A8-4EF8-8505-3749B9D3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دفتر اليومية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                                            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General Jou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1E47-9B8C-4C17-870C-57CC77EF16BB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دفتر اليومية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                                            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General Jou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B173-E648-4B2E-BD3A-725621178D2C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صر نائب للتاريخ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دفتر اليومية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                                            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General Jou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604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 Black"/>
              </a:rPr>
              <a:t>التمرين الأول:</a:t>
            </a:r>
            <a:br>
              <a:rPr sz="30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إليك العمليات التالية الخاصة بشركة العمراني التجارية: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- في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2/3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 بدأت الشركة أعمالها التجارية برأس مال يبلغ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300000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ريال أودع في البنك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- في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5/4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اشترت الشركة شاحنة بقيمة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45000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ريال، دفعت خمسها بشيك والباقي على الحساب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- في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9/4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استحق على الشركة فاتورة هاتف بقيمة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2000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ريال، دفعت الشركة المبلغ بشيك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- في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13/4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تم سحب مبلغ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25000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ريال من البنك و ايداعها بصندوق الشركة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- في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22/4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دفعت الشركة رواتب و أجور العمال البالغة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10000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ريال نقدا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- في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25/4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دفعت الشركة ايجار المخزن البالغ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3000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ريال نقدا.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ar-SA" sz="2800" spc="-1" strike="noStrike">
                <a:solidFill>
                  <a:srgbClr val="000000"/>
                </a:solidFill>
                <a:latin typeface="Arial Black"/>
              </a:rPr>
              <a:t>المطلوب: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</a:rPr>
              <a:t>- تسجيل القيود اللازمة في دفتر اليومية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عنصر نائب للتاريخ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دفتر اليومية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                                            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General Jou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79786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6633"/>
                </a:solidFill>
                <a:latin typeface="Arial"/>
              </a:rPr>
              <a:t>معادلة المحاسبة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أصول + المصروفات = الخصوم + حقوق الملاك + الايرادات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يمين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د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يسار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دائ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 flipH="1">
            <a:off x="6012000" y="2852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6013440" y="3573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صر نائب للتاريخ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دفتر اليومية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                                            </a:t>
            </a: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General Jou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1052640"/>
          <a:ext cx="6935760" cy="4446360"/>
        </p:xfrm>
        <a:graphic>
          <a:graphicData uri="http://schemas.openxmlformats.org/drawingml/2006/table">
            <a:tbl>
              <a:tblPr/>
              <a:tblGrid>
                <a:gridCol w="934920"/>
                <a:gridCol w="2533680"/>
                <a:gridCol w="1733400"/>
                <a:gridCol w="17337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التاريخ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0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بيـــــــــــــــــا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دائــــــــــــ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مديــــــــــ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98"/>
          <p:cNvSpPr/>
          <p:nvPr/>
        </p:nvSpPr>
        <p:spPr>
          <a:xfrm>
            <a:off x="2124000" y="4762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33"/>
                </a:solidFill>
                <a:latin typeface="Arial"/>
              </a:rPr>
              <a:t>دفتر اليو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9:10:22Z</dcterms:created>
  <dc:creator>ahindaoui</dc:creator>
  <dc:description/>
  <dc:language>en-US</dc:language>
  <cp:lastModifiedBy>user</cp:lastModifiedBy>
  <dcterms:modified xsi:type="dcterms:W3CDTF">2010-10-29T21:12:29Z</dcterms:modified>
  <cp:revision>5</cp:revision>
  <dc:subject/>
  <dc:title>معادلة المحاسبة: الأصول+المصروفات=الخصوم+حقوق الملاك +الايرادات   اليمين             مدين اليسار             الدائن</dc:title>
</cp:coreProperties>
</file>