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7541-B6C9-43D4-92A4-DA4EE2360A7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952B-E7D4-4417-9A3C-68CDE5752FB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0979-931C-480B-970F-A167C1E1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571C-EB0C-4A88-9902-8064E4AF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852D-D688-4A2F-B5E2-00BDD06D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546C-54BE-4E6C-B343-67FA6F0A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36D4-C3FD-4308-AB65-977FDBF1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DFAF-6604-40A1-A96C-C5B00948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D7C4-C087-4113-BE04-AD721F56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15B9-D29B-4A18-9404-B3628BDA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1490-9617-45FD-9626-3F13AEF9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D960-3891-4310-8416-9B1FF2F9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14E9-0ED2-412C-8936-AAC6765D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9241-376C-4BCF-8EFB-D11023AD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2812-F7BD-4B49-8BFD-EC72724D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9D16-BED1-4481-9B7C-F4341632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8FE2-5966-4ACF-911A-BA271390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476E-EECC-4D71-B8A7-BF896BF7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34CD-E91C-4795-A7C0-B4573264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B601-722D-4B44-A867-5329E839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B9BB-6F79-4256-BEF8-4439F1C8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BD28-B9E0-457A-B763-56719CA5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C54B-D2BC-4527-99A7-A064B249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D790-3FC8-4528-8D64-D9AE81F2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52F7-7E09-4A6C-BFAE-24269B77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82B4-2745-48E6-A7D0-311A5D05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r" rtl="1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 algn="r" rtl="1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 algn="r" rtl="1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دفتر اليومية</a:t>
            </a: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                                            </a:t>
            </a: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General Jour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051F-F850-4B92-B94C-0D7D260A81F1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r" rtl="1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 algn="r" rtl="1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 algn="r" rtl="1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دفتر اليومية</a:t>
            </a: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                                            </a:t>
            </a: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General Jour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8FDB-61E1-4E12-B384-C101FF998D9A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صر نائب للتاريخ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دفتر اليومية</a:t>
            </a: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                                            </a:t>
            </a: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General Jour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604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633"/>
                </a:solidFill>
                <a:latin typeface="Arial Black"/>
              </a:rPr>
              <a:t>التمرين الأول:</a:t>
            </a:r>
            <a:br>
              <a:rPr sz="3000"/>
            </a:b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إليك العمليات التالية الخاصة بشركة العمراني التجارية: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 - في 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2/3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  بدأت الشركة أعمالها التجارية برأس مال يبلغ 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300000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 ريال أودع في البنك.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- في 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5/4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 اشترت الشركة شاحنة بقيمة 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45000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 ريال، دفعت خمسها بشيك والباقي على الحساب.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- في 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9/4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 استحق على الشركة فاتورة هاتف بقيمة 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2000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 ريال، دفعت الشركة المبلغ بشيك.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- في 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13/4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 تم سحب مبلغ 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25000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 ريال من البنك و ايداعها بصندوق الشركة.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- في 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22/4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 دفعت الشركة رواتب و أجور العمال البالغة 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10000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 ريال نقدا.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- في 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25/4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 دفعت الشركة ايجار المخزن البالغ 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3000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 ريال نقدا.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ar-SA" sz="2800" spc="-1" strike="noStrike">
                <a:solidFill>
                  <a:srgbClr val="000000"/>
                </a:solidFill>
                <a:latin typeface="Arial Black"/>
              </a:rPr>
              <a:t>المطلوب: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- تسجيل القيود اللازمة في دفتر اليومية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عنصر نائب للتاريخ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دفتر اليومية</a:t>
            </a: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                                            </a:t>
            </a: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General Jour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79786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633"/>
                </a:solidFill>
                <a:latin typeface="Arial"/>
              </a:rPr>
              <a:t>معادلة المحاسبة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أصول + المصروفات = الخصوم + حقوق الملاك + الايرادات</a:t>
            </a:r>
            <a:br>
              <a:rPr sz="2100"/>
            </a:br>
            <a:br>
              <a:rPr sz="2100"/>
            </a:br>
            <a:br>
              <a:rPr sz="21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يمين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مد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يسار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دائ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 flipH="1">
            <a:off x="6012000" y="2852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 flipH="1">
            <a:off x="6013440" y="3573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عنصر نائب للتاريخ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دفتر اليومية</a:t>
            </a: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                                            </a:t>
            </a: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General Jour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4360" y="1052640"/>
          <a:ext cx="6935760" cy="4446360"/>
        </p:xfrm>
        <a:graphic>
          <a:graphicData uri="http://schemas.openxmlformats.org/drawingml/2006/table">
            <a:tbl>
              <a:tblPr/>
              <a:tblGrid>
                <a:gridCol w="934920"/>
                <a:gridCol w="2533680"/>
                <a:gridCol w="1733400"/>
                <a:gridCol w="173376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2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التاريخ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0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بيـــــــــــــــــان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دائــــــــــــن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مديــــــــــن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98"/>
          <p:cNvSpPr/>
          <p:nvPr/>
        </p:nvSpPr>
        <p:spPr>
          <a:xfrm>
            <a:off x="2124000" y="47628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33"/>
                </a:solidFill>
                <a:latin typeface="Arial"/>
              </a:rPr>
              <a:t>دفتر اليوم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9:10:22Z</dcterms:created>
  <dc:creator>ahindaoui</dc:creator>
  <dc:description/>
  <dc:language>en-US</dc:language>
  <cp:lastModifiedBy>user</cp:lastModifiedBy>
  <dcterms:modified xsi:type="dcterms:W3CDTF">2010-10-29T21:12:29Z</dcterms:modified>
  <cp:revision>5</cp:revision>
  <dc:subject/>
  <dc:title>معادلة المحاسبة: الأصول+المصروفات=الخصوم+حقوق الملاك +الايرادات   اليمين             مدين اليسار             الدائن</dc:title>
</cp:coreProperties>
</file>