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82D-133E-47F4-BA11-F81AECC7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0BB-E842-43C3-AD28-4233F554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361-BD58-4747-B546-24B4CBBE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2DE-8643-48D8-A9F8-A381C067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B34E-C720-4AD6-A304-A2039D48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DFD5-A6D5-448C-8820-F89AC88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1D7-321F-4D34-9B5A-2BEEB1F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4B8-7162-4D14-BC15-FDF147BD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4D9F-30B6-496C-8C23-462AEF06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110-EE45-4FC7-9EEE-A27FB04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A37-EB7E-4758-A137-4CF6A85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CDD-4D05-46AC-8458-8F9A79D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E5E-2583-4A49-B799-1D98AE3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923-7463-47BA-A961-9113F97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7D2-5ACA-4CBB-AEE6-70B0567B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A66D-E4C6-484F-A23E-2D6F392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BE46-0687-4894-B6A2-8792D20B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F6E-05B3-4250-A30F-9AF1959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0EE-8527-462F-8E3C-2702608E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9C5-A0B8-4BEE-984E-A5D23D2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FB9-8A14-40DB-89E6-1121ECF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733-3F55-47C9-AE5D-922A694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19D-05D2-4823-961A-5A07094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146-3DDE-4754-B821-17553DF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355-2D00-4DA6-B075-4CEEDB92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C460-1872-461D-91E7-16FA2D8B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خصائص العامة للإسلا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خصائص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مع خصيص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ال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ختص فلان للأمر وتخصص له : إذا انفرد .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التخصص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فرد بعض الشيء بما لا يشاركه فيه الجملة , وذلك خلاف العمو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فالمراد هن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يزات والصفات التي ينفرد بها دين الإسلام ع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غيره من الديانات والمناهج الأخر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وأما الإسلام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فهو الاستسلام لله بالتوحيد والانقياد له بالطاعة والبراءة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الشرك وأهله.الإسلام هو الدين الذي ارتضاه الله تعالى للعالمين وأخب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بحانه أنه لا يقبل من أحدٍ سواه إن النظم القائمة كلها – عدا دين الله تعال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سلام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لا تخرج عن أحد هذه الأصناف الثلاث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أول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ديني محرَّ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ثالث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مدني بشري خال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ثاني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ديني 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849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خصيصة الأولى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يــن إلـه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سلام دين الله عزَّ وجلَّ الذي ارتضاه للعالمين، وهذه الخصيصة أع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خصائصه وأُسُّها؛ فما سواها من الخصائص نتيجة لها وثمرة من ثمار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دين أنزله الله تعالى على نبينا محم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دين من عند الله تعالى مصدره القرآن العظيم والسنة المطه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غايته وهدفه تحقيق مرضاة الله عزَّ وجلَّ والقيام بعبادت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89000"/>
            <a:ext cx="849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لهذه الخصيصة ثمرات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نه يبين الحقائق الكبرى التي لا يستطيع الإنسان معرفتها إل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بالوحي المعصو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نه دين من عند الله تعالى سالمٌ من النقص والتعارض والهو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والحيف والظل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موافقته للعلم الصحيح، والعقل السلي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حرير الإنسان من عبودية الإنسان والهوى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لبية مطالب النفس البشري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333360"/>
            <a:ext cx="8785440" cy="6264360"/>
          </a:xfrm>
          <a:prstGeom prst="rect">
            <a:avLst/>
          </a:prstGeom>
          <a:solidFill>
            <a:srgbClr val="3366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صيصة الثانية :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ديــن شام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شرع الله سبحانه وتعالى للأمة دينًا شاملاً في أحكامه وتشريعاته للثق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من الجـن والإنــس، ولكل تصـــرفـــــاتهــــم وعــــلاقــــاتـهــ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وتتضح شمولية الإسلام في صور م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ٌ شامل للثق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ٌ للزمان ك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دينٌ شاملٌ للمك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ٌ شاملٌ للإنسان في مراحل حياته المختلف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 لحركة الكون و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 في توجيه نظر الإنسان إلى الدنيا والآخرة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صيصة الثالث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ديــن الفطــ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راد بالفطرة الابتداء والاختر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أنه يولد على نوع من الجِبِلَّة والطبع المتهيئ لقبول الدين، فلو ترك عليها لا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على لزومها ولم يفارقها إلى غير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فالإسلام هو الدين الذي جبل الله الناسَ عليه وهيأهم لقبوله والعمل ب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الخصيصة الرابع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       الــوســطيــ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ي العدل والفضل والخيرية والتوازن، فالإسلام دين الوسط ف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ل الأمور عقيدة وشريعة وأخلاقًا، وهو وسط بين غلو الديان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خرى وتفريطها، وهو وسط يجمع بين مطالب الرو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جسد والفرد والمجتم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صيصة الخامس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يــن العلــ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دين يحترم العلم ويجلُّ العلماء، ويرى أن العلم طريق للخشية والخضوع والانقيا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أمر الله تعالى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ين يرفع من شأن العل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فهناك فرق شاسع بين موقف الإسلام من العلم وخاصة العلوم التجريبية ومو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كنيسة من ذلك، خاصة ما كان في أوربا قبل الثورة الفرنسية، وسيطرة الكنيس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رجالاتها على عقول الناس وتفكيرهم، وتحريمها كل محاولة للتحرر م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بودية لرجال الكنيس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76120"/>
            <a:ext cx="856908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ديــن الأخـــل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سلام دين الأخــلاق، فمـا من حُــــكم شرعي في دين الإسلام إ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ويلبِّي مقصدًا خُلُقيًّا حميدًا للإنســـــان وتتجلى هذه الخصيصة ف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أحكام هذا الدين وتفصيلات شريعة الله تعالى، فالصلاة تنهى ع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فحشاء والمنكر، والزكاة فيها التربية على سخـــاء النفس وبذلها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وفي الصوم تلمس أحوال الفقراء والشعور بحـــاجتهــــم، وفي الح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نهيٌ عن الرفــــث والفســـوق والجدال والصخب، وتـــدريب الن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على الصبـر والإيثار، والمعاملات بين الناس تقـوم على الوضـو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والمصلحــــة المتبــــادلــ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14:42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