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B8F-2753-492A-8455-A3778C1C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735-BD7C-40D6-9009-EF8A77D5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8B9-EC78-4D44-8F09-6E681617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4AE7-29E9-4642-9085-BEE30051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1A4D-8B15-42B9-8F04-E1A48254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9F2E-1985-4AAA-BA10-9A0272A6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0149-1DE5-4C9D-8547-8DBC287C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1F36-3FEF-49E7-9EBC-19B4DDFE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B34D-A876-4DAA-B49E-FF0C9A41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33BB-BC4A-40DA-A6A0-DFFF25EC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3A29-AE5A-475E-A698-C09347BA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F9F-4183-4BDF-A06B-6CF543C0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EB2C-F57F-4EED-B60E-34033C9E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C09E-C7C0-4945-9A8B-D9DBC875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CD40-C401-40BC-A9F0-70CEA9EF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1525-83B6-4591-9D34-861F6925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3DFF-0A96-4539-8931-61FBD203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4FE6-020D-4F40-AF67-063826CE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1CEE-3694-48BE-A8D7-590A0AC0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B80-2409-48CB-A3C9-7444921A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5790-2713-4A0D-B5E9-2A8A43DF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AD55-FBCC-4F4A-86A4-A6AC7CED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7CF2-C0E6-4CCA-A4BD-E4C0EEDF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C93E-C90F-4DF7-A2FE-992E7881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0127-A88B-418D-8901-60AA2458A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2FA5-8C07-4F8F-B146-40D5F561B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خصائص العامة للإسلام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خصائص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جمع خصيص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قال 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ختص فلان للأمر وتخصص له : إذا انفرد .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والتخصص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فرد بعض الشيء بما لا يشاركه فيه الجملة , وذلك خلاف العمو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فالمراد هنا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ميزات والصفات التي ينفرد بها دين الإسلام ع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غيره من الديانات والمناهج الأخرى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وأما الإسلام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فهو الاستسلام لله بالتوحيد والانقياد له بالطاعة والبراءة م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الشرك وأهله.الإسلام هو الدين الذي ارتضاه الله تعالى للعالمين وأخب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سبحانه أنه لا يقبل من أحدٍ سواه إن النظم القائمة كلها – عدا دين الله تعال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إسلام 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33cc"/>
                </a:solidFill>
                <a:latin typeface="Arial"/>
              </a:rPr>
              <a:t>لا تخرج عن أحد هذه الأصناف الثلاث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cc"/>
                </a:solidFill>
                <a:latin typeface="Arial"/>
              </a:rPr>
              <a:t>الأول: </a:t>
            </a: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هج ديني محرَّ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cc"/>
                </a:solidFill>
                <a:latin typeface="Arial"/>
              </a:rPr>
              <a:t>الثالث: </a:t>
            </a: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هج مدني بشري خال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cc"/>
                </a:solidFill>
                <a:latin typeface="Arial"/>
              </a:rPr>
              <a:t>الثاني: </a:t>
            </a: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هج ديني بشر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189000"/>
            <a:ext cx="8497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خصيصة الأولى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ديــن إلـهـ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إسلام دين الله عزَّ وجلَّ الذي ارتضاه للعالمين، وهذه الخصيصة أعظ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خصائصه وأُسُّها؛ فما سواها من الخصائص نتيجة لها وثمرة من ثمار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ــ دين أنزله الله تعالى على نبينا محمد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ــ دين من عند الله تعالى مصدره القرآن العظيم والسنة المطهر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غايته وهدفه تحقيق مرضاة الله عزَّ وجلَّ والقيام بعبادت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189000"/>
            <a:ext cx="8497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لهذه الخصيصة ثمرات منه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أنه يبين الحقائق الكبرى التي لا يستطيع الإنسان معرفتها إل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بالوحي المعصوم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أنه دين من عند الله تعالى سالمٌ من النقص والتعارض والهو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والحيف والظل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موافقته للعلم الصحيح، والعقل السلي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ــ تحرير الإنسان من عبودية الإنسان والهوى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ــ تلبية مطالب النفس البشرية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333360"/>
            <a:ext cx="8785440" cy="6264360"/>
          </a:xfrm>
          <a:prstGeom prst="rect">
            <a:avLst/>
          </a:prstGeom>
          <a:solidFill>
            <a:srgbClr val="3366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خصيصة الثانية :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ديــن شامـ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شرع الله سبحانه وتعالى للأمة دينًا شاملاً في أحكامه وتشريعاته للثق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من الجـن والإنــس، ولكل تصـــرفـــــاتهــــم وعــــلاقــــاتـهــ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وتتضح شمولية الإسلام في صور من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/ دينٌ شامل للثقل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/ دين شاملٌ للزمان كل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دينٌ شاملٌ للمك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/ دينٌ شاملٌ للإنسان في مراحل حياته المختلفه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/ دين شامل لحركة الكون والحيا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/ دين شامل في توجيه نظر الإنسان إلى الدنيا والآخرة.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خصيصة الثالثة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ديــن الفطــر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مراد بالفطرة الابتداء والاخترا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أنه يولد على نوع من الجِبِلَّة والطبع المتهيئ لقبول الدين، فلو ترك عليها لاستم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على لزومها ولم يفارقها إلى غير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فالإسلام هو الدين الذي جبل الله الناسَ عليه وهيأهم لقبوله والعمل ب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                   الخصيصة الرابعة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                          الــوســطيــة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هي العدل والفضل والخيرية والتوازن، فالإسلام دين الوسط ف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ل الأمور عقيدة وشريعة وأخلاقًا، وهو وسط بين غلو الديان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خرى وتفريطها، وهو وسط يجمع بين مطالب الرو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الجسد والفرد والمجتم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خصيصة الخامسة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ديــن العلــ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دين يحترم العلم ويجلُّ العلماء، ويرى أن العلم طريق للخشية والخضوع والانقيا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أمر الله تعالى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دين يرفع من شأن العل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فهناك فرق شاسع بين موقف الإسلام من العلم وخاصة العلوم التجريبية ومو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كنيسة من ذلك، خاصة ما كان في أوربا قبل الثورة الفرنسية، وسيطرة الكنيس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رجالاتها على عقول الناس وتفكيرهم، وتحريمها كل محاولة للتحرر م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عبودية لرجال الكنيس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276120"/>
            <a:ext cx="856908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ديــن الأخـــلا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الإسلام دين الأخــلاق، فمـا من حُــــكم شرعي في دين الإسلام إ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ويلبِّي مقصدًا خُلُقيًّا حميدًا للإنســـــان وتتجلى هذه الخصيصة ف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أحكام هذا الدين وتفصيلات شريعة الله تعالى، فالصلاة تنهى ع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الفحشاء والمنكر، والزكاة فيها التربية على سخـــاء النفس وبذلها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وفي الصوم تلمس أحوال الفقراء والشعور بحـــاجتهــــم، وفي الح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نهيٌ عن الرفــــث والفســـوق والجدال والصخب، وتـــدريب النف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على الصبـر والإيثار، والمعاملات بين الناس تقـوم على الوضـو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والمصلحــــة المتبــــادلــ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6-27T19:14:42Z</dcterms:modified>
  <cp:revision>3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