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3.png" ContentType="image/png"/>
  <Override PartName="/ppt/media/image13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E43-2934-49AD-B167-4617C644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462-0434-4413-A26F-C20D3C4E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CA3-B618-42DB-B7D7-D624944B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DD0-CD8C-4CE5-9F3A-0DBA4FA8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693-7C0D-4173-90E7-0A31B3C9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887-CD38-4C22-B702-75244C9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D90-001B-4429-BDC3-AA639005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652-D2D5-449F-8DA4-905B68B5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D0A-4DAF-4F98-9173-5C04C29D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8CE-62D2-4660-B061-C8C588F9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0FA-77CE-46D4-B38B-34EF2DA4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7C6-D3BB-4256-9DA9-8F7AEBC9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53A4-6579-426F-9286-21B28EBCD3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333360"/>
            <a:ext cx="8820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لتيارات المعادية للإسلام وكيفية مواجهتها 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771640" y="1916280"/>
            <a:ext cx="5761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gradFill rotWithShape="0">
                  <a:gsLst>
                    <a:gs pos="0">
                      <a:srgbClr val="c68c52"/>
                    </a:gs>
                    <a:gs pos="100000">
                      <a:srgbClr val="ffff7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لاستشراق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c68c52"/>
                  </a:gs>
                  <a:gs pos="100000">
                    <a:srgbClr val="ffff7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d68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d6833"/>
                </a:solidFill>
                <a:latin typeface="Andalus"/>
                <a:cs typeface="Andalus"/>
              </a:rPr>
              <a:t>مفهوم الاستشراق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ستشراق هو دراسات أكاديمية يقوم بها غربيون كا فرو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أهل الكتاب خاصة – للإسلام من شتى الجوانب : عقيدة وشريعة , وثقافة , وحضارة وتاريخا ، ونظما ، وثروات ، وإمكانيات ، بهدف تشويه صورة الإسلام ومحاولة تشكيك المسلمين في دينهم وفرض الهيمنة الغربية عليهم ، ومحاولة تبرير هذه التبعية بدراسات ونظريات تدعي العلمية والموضوعية ، وتدعي التف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عنصري والثقافي للغرب المسيح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لى الشرق الإسلام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404640"/>
            <a:ext cx="8496000" cy="619308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4292640"/>
            <a:ext cx="399564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68c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24000" y="1268280"/>
            <a:ext cx="4967280" cy="4724640"/>
          </a:xfrm>
          <a:custGeom>
            <a:avLst/>
            <a:gdLst>
              <a:gd name="textAreaLeft" fmla="*/ 0 w 4967280"/>
              <a:gd name="textAreaRight" fmla="*/ 4967640 w 4967280"/>
              <a:gd name="textAreaTop" fmla="*/ 0 h 4724640"/>
              <a:gd name="textAreaBottom" fmla="*/ 4724640 h 472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3068640"/>
            <a:ext cx="208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راسات مرتبطة بالتنص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5867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راسات تسهم في صنع سياسة ضد المسلمين في الغر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2924280"/>
            <a:ext cx="180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راسات غير موضوعية وغير علم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33336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راسات مرتبطة بالاستعمار الغرب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03640" y="3179880"/>
            <a:ext cx="29527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خصائص الاستشراق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plus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68360" y="1268280"/>
            <a:ext cx="8227800" cy="4176720"/>
            <a:chOff x="468360" y="1268280"/>
            <a:chExt cx="8227800" cy="4176720"/>
          </a:xfrm>
        </p:grpSpPr>
        <p:cxnSp>
          <p:nvCxnSpPr>
            <p:cNvPr id="122" name="_s30732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5493960" y="1820160"/>
              <a:ext cx="1226160" cy="2712240"/>
            </a:xfrm>
            <a:prstGeom prst="bentConnector3">
              <a:avLst>
                <a:gd name="adj1" fmla="val 93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30731"/>
            <p:cNvCxnSpPr>
              <a:stCxn id="126" idx="0"/>
            </p:cNvCxnSpPr>
            <p:nvPr/>
          </p:nvCxnSpPr>
          <p:spPr>
            <a:xfrm flipV="1" rot="16200000">
              <a:off x="3605760" y="2954520"/>
              <a:ext cx="1800720" cy="11520"/>
            </a:xfrm>
            <a:prstGeom prst="bentConnector3">
              <a:avLst>
                <a:gd name="adj1" fmla="val 63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0730"/>
            <p:cNvCxnSpPr/>
            <p:nvPr/>
          </p:nvCxnSpPr>
          <p:spPr>
            <a:xfrm flipH="1" flipV="1" rot="5400000">
              <a:off x="2531880" y="1796400"/>
              <a:ext cx="1152720" cy="2832840"/>
            </a:xfrm>
            <a:prstGeom prst="bentConnector3">
              <a:avLst>
                <a:gd name="adj1" fmla="val 9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30726"/>
            <p:cNvSpPr/>
            <p:nvPr/>
          </p:nvSpPr>
          <p:spPr>
            <a:xfrm>
              <a:off x="2843280" y="1268280"/>
              <a:ext cx="3816360" cy="129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6600"/>
                  </a:solidFill>
                  <a:latin typeface="Andalus"/>
                  <a:cs typeface="Andalus"/>
                </a:rPr>
                <a:t>دوافع الاستشرا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30727"/>
            <p:cNvSpPr/>
            <p:nvPr/>
          </p:nvSpPr>
          <p:spPr>
            <a:xfrm>
              <a:off x="468360" y="3860640"/>
              <a:ext cx="2468520" cy="158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6600"/>
                  </a:solidFill>
                  <a:latin typeface="Arial"/>
                </a:rPr>
                <a:t>الدافع العلم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30728"/>
            <p:cNvSpPr/>
            <p:nvPr/>
          </p:nvSpPr>
          <p:spPr>
            <a:xfrm>
              <a:off x="3276720" y="3860640"/>
              <a:ext cx="2469960" cy="1440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6600"/>
                  </a:solidFill>
                  <a:latin typeface="Arial"/>
                </a:rPr>
                <a:t>الدافع الاستثمار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30729"/>
            <p:cNvSpPr/>
            <p:nvPr/>
          </p:nvSpPr>
          <p:spPr>
            <a:xfrm>
              <a:off x="6227640" y="3789360"/>
              <a:ext cx="2468520" cy="1511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6600"/>
                  </a:solidFill>
                  <a:latin typeface="Arial"/>
                </a:rPr>
                <a:t>الدافع التنصير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663300"/>
                </a:solidFill>
                <a:latin typeface="Andalus"/>
                <a:cs typeface="Andalus"/>
              </a:rPr>
              <a:t>وسائل المستشرقي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3300"/>
                </a:solidFill>
                <a:latin typeface="Andalus"/>
                <a:cs typeface="Andalus"/>
              </a:rPr>
              <a:t>سلك المستشرقين طرقا كثيرة للوصول إلى أهدافهم مث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دريس الجامع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جمع المخطوطات العرب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حقيق والنشر والترج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من اخطر وسائلهم على الاطلاق هو التأل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من أخطر ما ألفه المستشرق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ndalus"/>
                <a:ea typeface="Andalus"/>
              </a:rPr>
              <a:t>( دائرة المعارف الإسلامية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هو معج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ألفوه لخدمة النصرانية واليهود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8000" y="4076640"/>
            <a:ext cx="4032360" cy="2708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4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66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663300"/>
                </a:solidFill>
                <a:latin typeface="Andalus"/>
                <a:cs typeface="Andalus"/>
              </a:rPr>
              <a:t>آثار الاستشراق ونتائ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غزو الفكري الذي اصاب المسلمين في دين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رخ المستشرقون دعاة التغريب والدعارة الفكري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بعث الخلافات القديمة ، وإحياء الشبة الشبه مدفونة لتدب الفرقة والخلاف بين المسلم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صرف اهتمام المسلمين إلى الاتجاهات النظرية وإبعادهم عن العلوم التجريبية حتى يظلوا متخلف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تل اللغة الع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قعود عن الجهاد في سبيل الل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476360" y="3284640"/>
            <a:ext cx="734544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ndalus"/>
              </a:rPr>
              <a:t>شبهات المستشرقين والرد عليها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comb dir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6600"/>
                </a:solidFill>
                <a:latin typeface="Andalus"/>
                <a:cs typeface="Andalus"/>
              </a:rPr>
              <a:t>التعدد إهانة للمرأة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gency FB"/>
                <a:cs typeface="Andalus"/>
              </a:rPr>
              <a:t>والرد على ذلك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أننا نجد في الإصحاح الخامس عشر في سفر اللاويين انتقاصا للمرأة : فالمرأة الحائض نجس إذا مست شيئا أو جلست عليه ، فكل شيء مسته يكون نجسا لا يطهر إلا بشرط واحد وهو أن تغرب عليه الشمس ، وكذلك جاء في سفر اللاويين تحريم تزويج بالمطلقة والأرملة ، بل إن المرأة عندهم سبب في إغراء آدم ، وعندهم المرأة إذا ولدت ذكر تكون نجسة لسبعة أيام ، وإذا ولدت أنثى تكون نجسه لأسبوعين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60280"/>
            <a:ext cx="8496000" cy="612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dalus"/>
                <a:cs typeface="Andalus"/>
              </a:rPr>
              <a:t>تسلط الرجل على المرأ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800" spc="-1" strike="noStrike">
                <a:solidFill>
                  <a:srgbClr val="008000"/>
                </a:solidFill>
                <a:latin typeface="Arial"/>
                <a:ea typeface="DecoType Naskh Variants"/>
              </a:rPr>
              <a:t>( الرجال قوامون على النساء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رد عليها بأن القوامة المذكورة في الآية مستمدة من التفوق الفطري عند الرجل ، فالرجل يسعى على عائلة أو أكثر ، وليست المرأة كذلك ، و إلزام الرجل بالنفقة من غير طاعته يجعلة عبدا في بيته ، والإسلام لا يلزم المرأة بالخروج  من البيت للعمل وفي ذلك تخفيف عليها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ما أنه جاء في كتابكم المقدس </a:t>
            </a:r>
            <a:r>
              <a:rPr b="0" lang="ar-SA" sz="3200" spc="-1" strike="noStrike">
                <a:solidFill>
                  <a:srgbClr val="008000"/>
                </a:solidFill>
                <a:latin typeface="Andalus"/>
                <a:ea typeface="Andalus"/>
              </a:rPr>
              <a:t>( أيتها النساء اخضعن لرجالكن كما تخضعن للرب لان الرجل هو رأس المرأة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60280"/>
            <a:ext cx="8569080" cy="6193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661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Andalus"/>
                <a:cs typeface="Andalus"/>
              </a:rPr>
              <a:t>سبل مقاومة الاستشرا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5d"/>
            </a:gs>
            <a:gs pos="50000">
              <a:srgbClr val="99ff99"/>
            </a:gs>
            <a:gs pos="100000">
              <a:srgbClr val="ff9f5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8000"/>
                </a:solidFill>
                <a:latin typeface="Andalus"/>
                <a:cs typeface="Andalus"/>
              </a:rPr>
              <a:t>مفهوم التنصي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 هو حركة دينية سياسية بدأت بالظهور إثر فشل الحروب الصليبية الهدف منها نشر النصرانية بين الامم المختلفة في دول العالم الثالث بعامة وبين المسلمين بخاص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8000"/>
                </a:solidFill>
                <a:latin typeface="Andalus"/>
                <a:cs typeface="Andalus"/>
              </a:rPr>
              <a:t>الدليل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قد استعمل الرسول مصطلح التنصير في قوله (ما من مولود إلا يولد على الفطرة فأبواه يهودانه أو ينصرانه أو يمجسانه كما تنتج البهيمة بهيمة جمعاء هل تحسون فيها من جدعاء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8000"/>
                </a:solidFill>
                <a:latin typeface="Andalus"/>
                <a:cs typeface="Andalus"/>
              </a:rPr>
              <a:t>المقصود بالتنصير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هو الدعوة إلى النصرانية ومحاولة دفع الناس إلى الدخول فيها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16360" y="260280"/>
            <a:ext cx="3168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لتنصير </a:t>
            </a:r>
            <a:endParaRPr b="0" lang="en-US" sz="4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لابد من حركة شاملة تواجه الاستشراق وتعتمد على عنصري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أول : عنصر ايجابي ، ويتمثل في قيام علماء الإسلام بالكتابة حول الموضوعات العلمية ، ويقدمون المعلومات الصحيحة للغرب عن الإسلا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ثاني : عنصر سلبي ، يتمثل في قيام مفكري الإسلام باستعراض مؤلفات المستشرقين العلمية ، ومحاسبتها في ضوء الحقيقة والواقع حتى ينكشف الغطاء عن أخطائهم وقد عرض كثير من المفكرين خططا لمواجهة الاستشرا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16000" y="404640"/>
            <a:ext cx="6697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50000">
                      <a:srgbClr val="000000"/>
                    </a:gs>
                    <a:gs pos="100000">
                      <a:srgbClr val="5f5f5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dalus"/>
              </a:rPr>
              <a:t>سبل مقاومة الاستشراق 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50000">
                    <a:srgbClr val="000000"/>
                  </a:gs>
                  <a:gs pos="100000">
                    <a:srgbClr val="5f5f5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89000"/>
            <a:ext cx="8569080" cy="633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ndalus"/>
                <a:cs typeface="Andalus"/>
              </a:rPr>
              <a:t>مفهوم التغري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غريب هو تيار كبير ذو أبعاد سياسية واجتماعية وثقافية يرمي إلى صبغ حياة الأمم بعامة والمسلمين بخاصة بالأسلوب الغربي وذلك بهدف إلغاء شخصيتهم المستقلة ، وخصائصهم المنفردة ، وجعلهم أسرى التبعية للحضارة الغ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4248000"/>
            <a:ext cx="9144000" cy="26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ver dir="l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ndalus"/>
                <a:cs typeface="Andalus"/>
              </a:rPr>
              <a:t>أهداف التغري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ثارة الخلاف بين العرب والمسلم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اول حركة التغريب أن ترد التراث الإسلامي إلى الفرس والهنود واليون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ثارة دعوات لتمزيق وحدة الفكر الإسلا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ثارة دعوات حديثة كالبهائية والقادي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مل حركة التغريب جاهدة على نش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لحاد والإباحية والدعوة إليهما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ndalus"/>
                <a:cs typeface="Andalus"/>
              </a:rPr>
              <a:t>وسائل التغري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ستخدم التغريب وسائل كثيرة مث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إنشاء المدارس ، وبناء  المؤسسات الصح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لإعلامية بكافية أنواعها ، وعقد اللقاء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لمؤتمرات والندوات ، وإحياء النز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قومية والتعصب لها وحدها ، وط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فكار التقدمية والتطور والتحرير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2987640" cy="2305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1280" y="4508640"/>
            <a:ext cx="2916360" cy="2288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87640" cy="1944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blinds dir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50000">
              <a:srgbClr val="bbe0e3"/>
            </a:gs>
            <a:gs pos="100000">
              <a:srgbClr val="f8f8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28036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33399"/>
                </a:solidFill>
                <a:latin typeface="Andalus"/>
                <a:cs typeface="Andalus"/>
              </a:rPr>
              <a:t>أولا : التعلي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نشر المدارس الأجنبية في الدول الإسلام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نشر الاختلاط بين الجنسين من خلال مؤسسات 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إرسال البعثات الطلابية إلى الخار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33399"/>
                </a:solidFill>
                <a:latin typeface="Andalus"/>
                <a:cs typeface="Andalus"/>
              </a:rPr>
              <a:t>ثانيا : الإعلا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وتعتبر الصحافية من أكثر وسائل الإعلام التى استغلوها نتيجة لانتشارها الواس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3203640" cy="2492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03640" y="4365720"/>
            <a:ext cx="2950920" cy="2492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4365720"/>
            <a:ext cx="298764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547640" y="260280"/>
            <a:ext cx="5688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dalus"/>
              </a:rPr>
              <a:t>مجالات التغريب 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ndalus"/>
                <a:cs typeface="Andalus"/>
              </a:rPr>
              <a:t>في مجال الحياة العام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لدعوة إلى خلع الحجاب عن الو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لدعوة إلى الاختلاط مع الأجان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لدعوة إلى دمج المرأة في جميع المجال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ndalus"/>
                <a:cs typeface="Andalus"/>
              </a:rPr>
              <a:t>في مجال الإعلا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تصويرها في الصحف والمج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خروجها في التلفزيون ( مغنية – ممثلة – وعارضة أزياء ومذيع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تروج المجلات الهابطة بنشر صور النساء الفاتنات في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52908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3" name=""/>
          <p:cNvSpPr txBox="1"/>
          <p:nvPr/>
        </p:nvSpPr>
        <p:spPr>
          <a:xfrm>
            <a:off x="755640" y="0"/>
            <a:ext cx="77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dalus"/>
              </a:rPr>
              <a:t>مخططات تغريب المرأة المسلمة 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split dir="out" orient="horz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ndalus"/>
                <a:cs typeface="Andalus"/>
              </a:rPr>
              <a:t>في مجال التعلي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دعوة إلى التعليم المختل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دعوة إلى تدرس النساء للرج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وعك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Andalus"/>
                <a:cs typeface="Andalus"/>
              </a:rPr>
              <a:t>في مجال التوظيف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دعوة إلى توظيف المرأة في مجالات الحياة كاف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دعوة إلى إنشاء مكاتب  نسائية للسفر والسياح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276720" cy="263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6" name=""/>
          <p:cNvSpPr txBox="1"/>
          <p:nvPr/>
        </p:nvSpPr>
        <p:spPr>
          <a:xfrm>
            <a:off x="684360" y="0"/>
            <a:ext cx="77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ndalus"/>
              </a:rPr>
              <a:t>مخططات تغريب المرأة المسلمة 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split dir="out" orient="horz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203640" y="404640"/>
            <a:ext cx="5627520" cy="22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العلمانية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checker dir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8ae28a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8000"/>
                </a:solidFill>
                <a:latin typeface="Andalus"/>
                <a:cs typeface="Andalus"/>
              </a:rPr>
              <a:t>مفهوم العلمانية 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لمانية نظام من المبادئ والتطبيقات الذي يرفض كل صورة من صور الإيمان الديني والعبادة الدينية ، كما يرفض كل نظام أو قيمة تنسب إلى الدين ، ويسعى إلى فصل الدين ليس فقط عن الدولة بل عن الحياة بشكل عا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9144000" cy="299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479520" y="750600"/>
            <a:ext cx="8227800" cy="4545360"/>
            <a:chOff x="479520" y="750600"/>
            <a:chExt cx="8227800" cy="4545360"/>
          </a:xfrm>
        </p:grpSpPr>
        <p:cxnSp>
          <p:nvCxnSpPr>
            <p:cNvPr id="171" name="_s60428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302440" y="1603080"/>
              <a:ext cx="1453320" cy="2890080"/>
            </a:xfrm>
            <a:prstGeom prst="bentConnector3">
              <a:avLst>
                <a:gd name="adj1" fmla="val 78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60427"/>
            <p:cNvCxnSpPr>
              <a:stCxn id="175" idx="0"/>
              <a:endCxn id="173" idx="2"/>
            </p:cNvCxnSpPr>
            <p:nvPr/>
          </p:nvCxnSpPr>
          <p:spPr>
            <a:xfrm flipV="1" rot="16200000">
              <a:off x="3862440" y="3043080"/>
              <a:ext cx="1453320" cy="10440"/>
            </a:xfrm>
            <a:prstGeom prst="bentConnector3">
              <a:avLst>
                <a:gd name="adj1" fmla="val 78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0426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2423160" y="1613160"/>
              <a:ext cx="1453320" cy="2870640"/>
            </a:xfrm>
            <a:prstGeom prst="bentConnector3">
              <a:avLst>
                <a:gd name="adj1" fmla="val 78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60422"/>
            <p:cNvSpPr/>
            <p:nvPr/>
          </p:nvSpPr>
          <p:spPr>
            <a:xfrm>
              <a:off x="2135160" y="750600"/>
              <a:ext cx="4897440" cy="157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bbe0e3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5400" spc="-1" strike="noStrike">
                  <a:solidFill>
                    <a:srgbClr val="663300"/>
                  </a:solidFill>
                  <a:latin typeface="Andalus"/>
                  <a:cs typeface="Andalus"/>
                </a:rPr>
                <a:t>أسباب نشأة العلمانية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0423"/>
            <p:cNvSpPr/>
            <p:nvPr/>
          </p:nvSpPr>
          <p:spPr>
            <a:xfrm>
              <a:off x="479520" y="3774960"/>
              <a:ext cx="2468520" cy="1521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bbe0e3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صراع بين الكنيس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والعل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0424"/>
            <p:cNvSpPr/>
            <p:nvPr/>
          </p:nvSpPr>
          <p:spPr>
            <a:xfrm>
              <a:off x="3359160" y="3774960"/>
              <a:ext cx="2470320" cy="150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bbe0e3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طغيان الكنيسة ورجالها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0425"/>
            <p:cNvSpPr/>
            <p:nvPr/>
          </p:nvSpPr>
          <p:spPr>
            <a:xfrm>
              <a:off x="6238800" y="3774960"/>
              <a:ext cx="2468520" cy="150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bbe0e3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تحريف الدين النصراني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99ff99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حيلولة دون دخول النصارى في الإسلام ويعبرون عنه بحماية النصارى من الإسلا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حيلولة دون دخول الأمم الأخرى – غير النصرانية – في الاسل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إخراج المسلمين من الإسلام ، وهذا من الأهداف بعيدة المدى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بذر الاضطراب والشك في المثل والمبادئ الإسلام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إيحاء بأن المبادئ والمثل العليا للنصرانية أفضل من أي مثل ومبادئ أخرى لتحل هذه المثل والمبادئ  النصرانية محل المثل والمبادئ الإسلام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إيحاء بان التقدم الغربي المادي إنما جاء نتيجة تمسكهم بالنصرانية وأن تخلف المسلمين إنما جاء نتيجة تمسكهم بالإسلا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35280" y="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أهداف التنصير </a:t>
            </a:r>
            <a:endParaRPr b="0" lang="en-US" sz="4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79280" y="260280"/>
            <a:ext cx="8964360" cy="6058080"/>
            <a:chOff x="179280" y="260280"/>
            <a:chExt cx="8964360" cy="6058080"/>
          </a:xfrm>
        </p:grpSpPr>
        <p:cxnSp>
          <p:nvCxnSpPr>
            <p:cNvPr id="179" name="_s63494"/>
            <p:cNvCxnSpPr>
              <a:stCxn id="180" idx="4"/>
              <a:endCxn id="181" idx="3"/>
            </p:cNvCxnSpPr>
            <p:nvPr/>
          </p:nvCxnSpPr>
          <p:spPr>
            <a:xfrm flipV="1">
              <a:off x="5476680" y="988200"/>
              <a:ext cx="937080" cy="17550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2" name="_s63495"/>
            <p:cNvCxnSpPr>
              <a:stCxn id="183" idx="4"/>
              <a:endCxn id="181" idx="3"/>
            </p:cNvCxnSpPr>
            <p:nvPr/>
          </p:nvCxnSpPr>
          <p:spPr>
            <a:xfrm flipV="1">
              <a:off x="5524920" y="988560"/>
              <a:ext cx="891000" cy="5004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4" name="_s63496"/>
            <p:cNvCxnSpPr>
              <a:stCxn id="185" idx="4"/>
              <a:endCxn id="181" idx="3"/>
            </p:cNvCxnSpPr>
            <p:nvPr/>
          </p:nvCxnSpPr>
          <p:spPr>
            <a:xfrm flipV="1">
              <a:off x="5476680" y="988200"/>
              <a:ext cx="937080" cy="40474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6" name="_s63498"/>
            <p:cNvCxnSpPr>
              <a:stCxn id="187" idx="4"/>
              <a:endCxn id="181" idx="3"/>
            </p:cNvCxnSpPr>
            <p:nvPr/>
          </p:nvCxnSpPr>
          <p:spPr>
            <a:xfrm flipV="1">
              <a:off x="5476680" y="988560"/>
              <a:ext cx="937080" cy="767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8" name="_s63499"/>
            <p:cNvCxnSpPr>
              <a:stCxn id="189" idx="4"/>
              <a:endCxn id="181" idx="3"/>
            </p:cNvCxnSpPr>
            <p:nvPr/>
          </p:nvCxnSpPr>
          <p:spPr>
            <a:xfrm flipV="1">
              <a:off x="5476680" y="988560"/>
              <a:ext cx="937080" cy="29520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81" name="_s63500"/>
            <p:cNvSpPr/>
            <p:nvPr/>
          </p:nvSpPr>
          <p:spPr>
            <a:xfrm>
              <a:off x="3764880" y="260280"/>
              <a:ext cx="5378760" cy="728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200" spc="-1" strike="noStrike">
                  <a:solidFill>
                    <a:srgbClr val="000000"/>
                  </a:solidFill>
                  <a:latin typeface="Andalus"/>
                  <a:cs typeface="Andalus"/>
                </a:rPr>
                <a:t>أسباب انتشار العلمانية</a:t>
              </a:r>
              <a:r>
                <a:rPr b="1" lang="en-US" sz="3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3501"/>
            <p:cNvSpPr/>
            <p:nvPr/>
          </p:nvSpPr>
          <p:spPr>
            <a:xfrm>
              <a:off x="179280" y="3538440"/>
              <a:ext cx="5378760" cy="728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rial"/>
                </a:rPr>
                <a:t>البعثات الدراسية لبلاد الغرب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3502"/>
            <p:cNvSpPr/>
            <p:nvPr/>
          </p:nvSpPr>
          <p:spPr>
            <a:xfrm>
              <a:off x="179280" y="1353960"/>
              <a:ext cx="5378760" cy="725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rial"/>
                </a:rPr>
                <a:t>الفراغ الروحي والعاطفي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3504"/>
            <p:cNvSpPr/>
            <p:nvPr/>
          </p:nvSpPr>
          <p:spPr>
            <a:xfrm>
              <a:off x="180360" y="4632480"/>
              <a:ext cx="5377320" cy="726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rial"/>
                </a:rPr>
                <a:t>استخدام وسائل الإعلام المعاصرة</a:t>
              </a:r>
              <a:r>
                <a:rPr b="1" lang="en-US" sz="3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3505"/>
            <p:cNvSpPr/>
            <p:nvPr/>
          </p:nvSpPr>
          <p:spPr>
            <a:xfrm>
              <a:off x="179280" y="5589720"/>
              <a:ext cx="5421960" cy="728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rial"/>
                </a:rPr>
                <a:t>محاربة الدعاة الواقفين أمام دعاوى العلمانيين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3506"/>
            <p:cNvSpPr/>
            <p:nvPr/>
          </p:nvSpPr>
          <p:spPr>
            <a:xfrm>
              <a:off x="179280" y="2340000"/>
              <a:ext cx="5377320" cy="728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Arial"/>
                </a:rPr>
                <a:t>الهزيمة النفسية أمام النموذج الغربي للحياة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250920" y="333360"/>
            <a:ext cx="8892360" cy="6264000"/>
            <a:chOff x="250920" y="333360"/>
            <a:chExt cx="8892360" cy="6264000"/>
          </a:xfrm>
        </p:grpSpPr>
        <p:cxnSp>
          <p:nvCxnSpPr>
            <p:cNvPr id="191" name="_s66566"/>
            <p:cNvCxnSpPr>
              <a:stCxn id="192" idx="4"/>
              <a:endCxn id="193" idx="3"/>
            </p:cNvCxnSpPr>
            <p:nvPr/>
          </p:nvCxnSpPr>
          <p:spPr>
            <a:xfrm flipV="1">
              <a:off x="5500800" y="1069200"/>
              <a:ext cx="935640" cy="29890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4" name="_s66568"/>
            <p:cNvCxnSpPr>
              <a:stCxn id="195" idx="4"/>
              <a:endCxn id="193" idx="3"/>
            </p:cNvCxnSpPr>
            <p:nvPr/>
          </p:nvCxnSpPr>
          <p:spPr>
            <a:xfrm flipV="1">
              <a:off x="5500800" y="1069560"/>
              <a:ext cx="935640" cy="51991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6" name="_s66569"/>
            <p:cNvCxnSpPr>
              <a:stCxn id="197" idx="4"/>
              <a:endCxn id="193" idx="3"/>
            </p:cNvCxnSpPr>
            <p:nvPr/>
          </p:nvCxnSpPr>
          <p:spPr>
            <a:xfrm flipV="1">
              <a:off x="5500800" y="1069560"/>
              <a:ext cx="935640" cy="779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8" name="_s66570"/>
            <p:cNvCxnSpPr>
              <a:stCxn id="199" idx="4"/>
              <a:endCxn id="193" idx="3"/>
            </p:cNvCxnSpPr>
            <p:nvPr/>
          </p:nvCxnSpPr>
          <p:spPr>
            <a:xfrm flipV="1">
              <a:off x="5500800" y="1069200"/>
              <a:ext cx="935640" cy="18810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0" name="_s66571"/>
            <p:cNvCxnSpPr>
              <a:stCxn id="201" idx="4"/>
              <a:endCxn id="193" idx="3"/>
            </p:cNvCxnSpPr>
            <p:nvPr/>
          </p:nvCxnSpPr>
          <p:spPr>
            <a:xfrm flipV="1">
              <a:off x="5500800" y="1069560"/>
              <a:ext cx="935640" cy="40932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93" name="_s66572"/>
            <p:cNvSpPr/>
            <p:nvPr/>
          </p:nvSpPr>
          <p:spPr>
            <a:xfrm>
              <a:off x="3808800" y="333360"/>
              <a:ext cx="5334480" cy="736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800" spc="-1" strike="noStrike">
                  <a:solidFill>
                    <a:srgbClr val="663300"/>
                  </a:solidFill>
                  <a:latin typeface="Andalus"/>
                  <a:cs typeface="Andalus"/>
                </a:rPr>
                <a:t>أهداف العلمانية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66573"/>
            <p:cNvSpPr/>
            <p:nvPr/>
          </p:nvSpPr>
          <p:spPr>
            <a:xfrm>
              <a:off x="250920" y="4754880"/>
              <a:ext cx="5334120" cy="736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ستبعاد مقولة الغزو الفكري من ميادين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فكر والثقافة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66574"/>
            <p:cNvSpPr/>
            <p:nvPr/>
          </p:nvSpPr>
          <p:spPr>
            <a:xfrm>
              <a:off x="250920" y="2545200"/>
              <a:ext cx="5334120" cy="734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تهام التاريخ الإسلامي بأنه تاريخ دمو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استعماري عنصر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66575"/>
            <p:cNvSpPr/>
            <p:nvPr/>
          </p:nvSpPr>
          <p:spPr>
            <a:xfrm>
              <a:off x="250920" y="1439280"/>
              <a:ext cx="5334120" cy="736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مواجهة التراث الإسلامي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66576"/>
            <p:cNvSpPr/>
            <p:nvPr/>
          </p:nvSpPr>
          <p:spPr>
            <a:xfrm>
              <a:off x="252360" y="5860800"/>
              <a:ext cx="5332320" cy="736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وصم الإسلام باالأصولية والتطرف وممارس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الإرهاب الفكري</a:t>
              </a:r>
              <a:r>
                <a:rPr b="1" lang="ar-SA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6578"/>
            <p:cNvSpPr/>
            <p:nvPr/>
          </p:nvSpPr>
          <p:spPr>
            <a:xfrm>
              <a:off x="250920" y="3648960"/>
              <a:ext cx="5334120" cy="736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سعي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لزعزعة مصادر المعرفة والعلم الراسخ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في فكر المسل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50920" y="274680"/>
            <a:ext cx="8641440" cy="6322680"/>
            <a:chOff x="250920" y="274680"/>
            <a:chExt cx="8641440" cy="6322680"/>
          </a:xfrm>
        </p:grpSpPr>
        <p:cxnSp>
          <p:nvCxnSpPr>
            <p:cNvPr id="203" name="_s69638"/>
            <p:cNvCxnSpPr>
              <a:stCxn id="204" idx="4"/>
              <a:endCxn id="205" idx="3"/>
            </p:cNvCxnSpPr>
            <p:nvPr/>
          </p:nvCxnSpPr>
          <p:spPr>
            <a:xfrm flipV="1">
              <a:off x="5339520" y="1176480"/>
              <a:ext cx="915120" cy="951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6" name="_s69639"/>
            <p:cNvCxnSpPr>
              <a:stCxn id="207" idx="4"/>
              <a:endCxn id="205" idx="3"/>
            </p:cNvCxnSpPr>
            <p:nvPr/>
          </p:nvCxnSpPr>
          <p:spPr>
            <a:xfrm flipV="1">
              <a:off x="5339520" y="1176480"/>
              <a:ext cx="915120" cy="50169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8" name="_s69640"/>
            <p:cNvCxnSpPr>
              <a:stCxn id="209" idx="4"/>
              <a:endCxn id="205" idx="3"/>
            </p:cNvCxnSpPr>
            <p:nvPr/>
          </p:nvCxnSpPr>
          <p:spPr>
            <a:xfrm flipV="1">
              <a:off x="5339520" y="1176480"/>
              <a:ext cx="915120" cy="3661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0" name="_s69643"/>
            <p:cNvCxnSpPr>
              <a:stCxn id="211" idx="4"/>
              <a:endCxn id="205" idx="3"/>
            </p:cNvCxnSpPr>
            <p:nvPr/>
          </p:nvCxnSpPr>
          <p:spPr>
            <a:xfrm flipV="1">
              <a:off x="5339520" y="1176480"/>
              <a:ext cx="915120" cy="2306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05" name="_s69644"/>
            <p:cNvSpPr/>
            <p:nvPr/>
          </p:nvSpPr>
          <p:spPr>
            <a:xfrm>
              <a:off x="3708360" y="274680"/>
              <a:ext cx="5184000" cy="902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663300"/>
                  </a:solidFill>
                  <a:latin typeface="Andalus"/>
                  <a:cs typeface="Andalus"/>
                </a:rPr>
                <a:t>أهداف العلماني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69645"/>
            <p:cNvSpPr/>
            <p:nvPr/>
          </p:nvSpPr>
          <p:spPr>
            <a:xfrm>
              <a:off x="250920" y="2984760"/>
              <a:ext cx="5183640" cy="902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الاستهزاء والسخرية في أي محاولة لأسلمه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بعض جوانب الحيا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69648"/>
            <p:cNvSpPr/>
            <p:nvPr/>
          </p:nvSpPr>
          <p:spPr>
            <a:xfrm>
              <a:off x="252360" y="4339800"/>
              <a:ext cx="5181840" cy="902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الترويج للمظاهر الاجتماعية الغربي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69649"/>
            <p:cNvSpPr/>
            <p:nvPr/>
          </p:nvSpPr>
          <p:spPr>
            <a:xfrm>
              <a:off x="250920" y="5694480"/>
              <a:ext cx="5183640" cy="902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الترويج الدائم للنظريات العلمانية الغربي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69650"/>
            <p:cNvSpPr/>
            <p:nvPr/>
          </p:nvSpPr>
          <p:spPr>
            <a:xfrm>
              <a:off x="250920" y="1629720"/>
              <a:ext cx="5183640" cy="902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تمييع قضية  الحل والحرمة في المعاملات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700" spc="-1" strike="noStrike">
                  <a:solidFill>
                    <a:srgbClr val="000000"/>
                  </a:solidFill>
                  <a:latin typeface="Arial"/>
                </a:rPr>
                <a:t>والأخلاق  والفكر والسياسي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a86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أن التدين جزء من الطبيعة البشر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حرر الإسلام الفكر من الظنون والفر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والأساطير والخراف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أن حاضر الفكر  الإسلامي والأدب العرب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لا ينفك عن ماض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أن الحرية في الإسلام تعني تحرير العق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من قيود الوثنية مهما اختلفت اسماؤها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3492360" y="333360"/>
            <a:ext cx="5283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موقف الإسلام من العلمانية 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strips dir="ld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9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9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9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9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9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Andalus"/>
                <a:cs typeface="Andalus"/>
              </a:rPr>
              <a:t>سبل مواجهة العلماني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0852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وعية المسلمين بخطورة هذه الفكرة الهدامة وتعارضها مع تعالمي الدين الإسلامي الحني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بصير المسلمين بثمار العلمانية وآثارها المدمرة على المجتمعات العرب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لعمل على نشر الكتاب الإسلامي الذي يبصر المسلم بدينه ويربطه ب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>
    <p:strips dir="ld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125360"/>
            <a:ext cx="842472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ndalus"/>
              </a:rPr>
              <a:t>إحدى أخطر الحركات السرية المعادية للإسلام  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7236000" cy="4797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3059280" y="260280"/>
            <a:ext cx="3024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ndalus"/>
              </a:rPr>
              <a:t>الماسونية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strips dir="ld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ndalus"/>
                <a:cs typeface="Andalus"/>
              </a:rPr>
              <a:t>مفهوم الماسوني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اسونية هي منظمة يهودية سرية غامضة محكمة التنظيم تهدف إلى ضمان سيطرة اليهود على العالم وتدعو إلى الإلحاد الإباحية وأغلب أعضاءها هم من الشخصيات البارزة في العالم ، يوثقهم عقد بحفظ الأسرار ، ويقومون بما يسمى بالمحافل للتخطيط والتكليف ب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8424720" cy="266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trips dir="ld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731880" y="476280"/>
            <a:ext cx="7656480" cy="5659560"/>
            <a:chOff x="731880" y="476280"/>
            <a:chExt cx="7656480" cy="5659560"/>
          </a:xfrm>
        </p:grpSpPr>
        <p:sp>
          <p:nvSpPr>
            <p:cNvPr id="226" name="_s80917"/>
            <p:cNvSpPr/>
            <p:nvPr/>
          </p:nvSpPr>
          <p:spPr>
            <a:xfrm flipH="1" flipV="1">
              <a:off x="2909880" y="2495520"/>
              <a:ext cx="72720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80916"/>
            <p:cNvSpPr/>
            <p:nvPr/>
          </p:nvSpPr>
          <p:spPr>
            <a:xfrm>
              <a:off x="1266840" y="1295280"/>
              <a:ext cx="184788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إقامة دولة إسرائي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 كبرى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80915"/>
            <p:cNvSpPr/>
            <p:nvPr/>
          </p:nvSpPr>
          <p:spPr>
            <a:xfrm flipH="1">
              <a:off x="2553840" y="3583080"/>
              <a:ext cx="9032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80914"/>
            <p:cNvSpPr/>
            <p:nvPr/>
          </p:nvSpPr>
          <p:spPr>
            <a:xfrm>
              <a:off x="731880" y="3176640"/>
              <a:ext cx="1849320" cy="148428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إسقاط الحكوم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 الشرعي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80913"/>
            <p:cNvSpPr/>
            <p:nvPr/>
          </p:nvSpPr>
          <p:spPr>
            <a:xfrm flipH="1">
              <a:off x="3555720" y="4086360"/>
              <a:ext cx="39996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80912"/>
            <p:cNvSpPr/>
            <p:nvPr/>
          </p:nvSpPr>
          <p:spPr>
            <a:xfrm>
              <a:off x="2268360" y="4653000"/>
              <a:ext cx="184968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جعل الماسوني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سيدة الأحزا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80911"/>
            <p:cNvSpPr/>
            <p:nvPr/>
          </p:nvSpPr>
          <p:spPr>
            <a:xfrm>
              <a:off x="4756320" y="4086360"/>
              <a:ext cx="40320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80910"/>
            <p:cNvSpPr/>
            <p:nvPr/>
          </p:nvSpPr>
          <p:spPr>
            <a:xfrm>
              <a:off x="4500720" y="4653000"/>
              <a:ext cx="199224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القضاء على الأخلا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80908"/>
            <p:cNvSpPr/>
            <p:nvPr/>
          </p:nvSpPr>
          <p:spPr>
            <a:xfrm>
              <a:off x="5254560" y="3586320"/>
              <a:ext cx="90324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80907"/>
            <p:cNvSpPr/>
            <p:nvPr/>
          </p:nvSpPr>
          <p:spPr>
            <a:xfrm>
              <a:off x="6137280" y="3173400"/>
              <a:ext cx="225108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بث روح الإلحاد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والإباحية بين الشعوب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80906"/>
            <p:cNvSpPr/>
            <p:nvPr/>
          </p:nvSpPr>
          <p:spPr>
            <a:xfrm flipV="1">
              <a:off x="5076720" y="2495520"/>
              <a:ext cx="72576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80905"/>
            <p:cNvSpPr/>
            <p:nvPr/>
          </p:nvSpPr>
          <p:spPr>
            <a:xfrm>
              <a:off x="5580000" y="1268280"/>
              <a:ext cx="184788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محاربة الأديان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663300"/>
                  </a:solidFill>
                  <a:latin typeface="Arial"/>
                </a:rPr>
                <a:t>القائمة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80904"/>
            <p:cNvSpPr/>
            <p:nvPr/>
          </p:nvSpPr>
          <p:spPr>
            <a:xfrm flipV="1">
              <a:off x="4356000" y="1936800"/>
              <a:ext cx="0" cy="74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80903"/>
            <p:cNvSpPr/>
            <p:nvPr/>
          </p:nvSpPr>
          <p:spPr>
            <a:xfrm>
              <a:off x="3276720" y="476280"/>
              <a:ext cx="201600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663300"/>
                  </a:solidFill>
                  <a:latin typeface="Arial"/>
                </a:rPr>
                <a:t>تكوين جمهوريات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663300"/>
                  </a:solidFill>
                  <a:latin typeface="Arial"/>
                </a:rPr>
                <a:t>عالمية لادينية</a:t>
              </a:r>
              <a:r>
                <a:rPr b="0" lang="ar-SA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80902"/>
            <p:cNvSpPr/>
            <p:nvPr/>
          </p:nvSpPr>
          <p:spPr>
            <a:xfrm>
              <a:off x="2987640" y="2708280"/>
              <a:ext cx="2592360" cy="14828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ffff99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663300"/>
                  </a:solidFill>
                  <a:latin typeface="Andalus"/>
                  <a:cs typeface="Andalus"/>
                </a:rPr>
                <a:t>أهداف الماسونية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نيد الشباب في كل العالم لخدمة مصالح اليه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دخول في الأحزاب السياسية لتسيير الاتجاهات السياسية في العالم حسب المصالح اليهو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اسيس وتشجيع المنظمات التي تطالب بالحر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شجيع النظريات والاتجاهات التي تساعد على تقويض الاقتصاد العالم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تذاب اكبر عدد ممكن من الأتباع للانتماء إلى المحافل والوقوع في شباكها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71640" y="549360"/>
            <a:ext cx="691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66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ndalus"/>
              </a:rPr>
              <a:t>وسائل الماسونية 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solidFill>
                <a:srgbClr val="9966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1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6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99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6633"/>
                </a:solidFill>
                <a:latin typeface="Andalus"/>
                <a:cs typeface="Andalus"/>
              </a:rPr>
              <a:t>الحل الوقائي لمواجهة الماسو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 يتمثل في توضيح حقيقة وأهداف الماسونية لأبناء المسلمين وخاصة من ذهب منهم للتعلم في الغرب وإغلاق المحافل الموجودة في بلاد المسلمين وكذلك نوادي الروتار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6633"/>
                </a:solidFill>
                <a:latin typeface="Andalus"/>
                <a:cs typeface="Andalus"/>
              </a:rPr>
              <a:t>الحل الهجومي لمواجهة الماسونية 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كون بالكتابة عنها وبيان حقائقها وكشف أسرارها وفضحها على رؤوس الأشه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71640" y="476280"/>
            <a:ext cx="691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66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ndalus"/>
              </a:rPr>
              <a:t>سبل مواجهة الماسونية 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solidFill>
                <a:srgbClr val="9966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5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0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7bdf7b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عميق فكرة سيطرة الرجل الغربي الأبيض على بقية الأجناس البشرية الأخري وترسيخ مفهوم الفوقية والدونية تعضيدا للاحتلال بأنواعه ، والتبعية السياسية من الشعوب والحكومات الإسلام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رسيخ فكرة قيام وطن لليهود في أي مكان أولا ثم في فلسطين المحتلة بعدئذ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فع المسلمين إلى تبني النمط الغربي في الحياة من خلال السعي الى نقل المسلم في سلوكياته وممارساته بشى أنواعها السياسية والاقتصادية والاجتماعية من أصالتها الى النمط الغرب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عادة النصرانية الى عدد كبير من البلدان الإسلام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8000" y="260280"/>
            <a:ext cx="50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أهداف التنصير </a:t>
            </a:r>
            <a:endParaRPr b="0" lang="en-US" sz="4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68360" y="476280"/>
            <a:ext cx="446400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ndalus"/>
              </a:rPr>
              <a:t>العولمة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wedge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840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99"/>
                </a:solidFill>
                <a:latin typeface="Andalus"/>
                <a:cs typeface="Andalus"/>
              </a:rPr>
              <a:t>تعريف العولمة 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المية العادات والقيم والثقافات لصالح العالم المتقدم اقتصادي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اولة سيطرة قيم وعادات وثقافات العالم الغربي على بقية دول العالم ، خاصة النامية منها بشكل يؤدي إلى القضاء على كافة الحضارات وإذابة خصائص المجتمعات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هذا بالاضافة إلى تهميش الع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ديني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333360"/>
            <a:ext cx="8642160" cy="633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1280" y="3933720"/>
            <a:ext cx="3996000" cy="2853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1" name=""/>
          <p:cNvSpPr txBox="1"/>
          <p:nvPr/>
        </p:nvSpPr>
        <p:spPr>
          <a:xfrm>
            <a:off x="2843280" y="549360"/>
            <a:ext cx="2806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ndalus"/>
              </a:rPr>
              <a:t>العولمة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wedg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179280" y="1773360"/>
            <a:ext cx="8713080" cy="3743280"/>
            <a:chOff x="179280" y="1773360"/>
            <a:chExt cx="8713080" cy="3743280"/>
          </a:xfrm>
        </p:grpSpPr>
        <p:cxnSp>
          <p:nvCxnSpPr>
            <p:cNvPr id="253" name="_s90129"/>
            <p:cNvCxnSpPr>
              <a:stCxn id="254" idx="0"/>
              <a:endCxn id="255" idx="2"/>
            </p:cNvCxnSpPr>
            <p:nvPr/>
          </p:nvCxnSpPr>
          <p:spPr>
            <a:xfrm flipH="1" flipV="1" rot="5400000">
              <a:off x="3735360" y="2940480"/>
              <a:ext cx="749160" cy="1407960"/>
            </a:xfrm>
            <a:prstGeom prst="bentConnector3">
              <a:avLst>
                <a:gd name="adj1" fmla="val 15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90124"/>
            <p:cNvCxnSpPr>
              <a:stCxn id="257" idx="0"/>
              <a:endCxn id="255" idx="2"/>
            </p:cNvCxnSpPr>
            <p:nvPr/>
          </p:nvCxnSpPr>
          <p:spPr>
            <a:xfrm flipV="1" rot="16200000">
              <a:off x="5994000" y="2088720"/>
              <a:ext cx="749160" cy="3111480"/>
            </a:xfrm>
            <a:prstGeom prst="bentConnector3">
              <a:avLst>
                <a:gd name="adj1" fmla="val 15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90123"/>
            <p:cNvCxnSpPr>
              <a:stCxn id="259" idx="0"/>
              <a:endCxn id="255" idx="2"/>
            </p:cNvCxnSpPr>
            <p:nvPr/>
          </p:nvCxnSpPr>
          <p:spPr>
            <a:xfrm flipV="1" rot="16200000">
              <a:off x="4864680" y="3218040"/>
              <a:ext cx="749160" cy="852480"/>
            </a:xfrm>
            <a:prstGeom prst="bentConnector3">
              <a:avLst>
                <a:gd name="adj1" fmla="val 15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90122"/>
            <p:cNvCxnSpPr>
              <a:stCxn id="261" idx="0"/>
              <a:endCxn id="255" idx="2"/>
            </p:cNvCxnSpPr>
            <p:nvPr/>
          </p:nvCxnSpPr>
          <p:spPr>
            <a:xfrm flipH="1" flipV="1" rot="5400000">
              <a:off x="2606040" y="1811160"/>
              <a:ext cx="749160" cy="3666960"/>
            </a:xfrm>
            <a:prstGeom prst="bentConnector3">
              <a:avLst>
                <a:gd name="adj1" fmla="val 15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5" name="_s90118"/>
            <p:cNvSpPr/>
            <p:nvPr/>
          </p:nvSpPr>
          <p:spPr>
            <a:xfrm>
              <a:off x="3058920" y="1773360"/>
              <a:ext cx="3507120" cy="149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7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مجالات العولمة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90119"/>
            <p:cNvSpPr/>
            <p:nvPr/>
          </p:nvSpPr>
          <p:spPr>
            <a:xfrm>
              <a:off x="179280" y="4019400"/>
              <a:ext cx="1936080" cy="149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المجال</a:t>
              </a:r>
              <a:r>
                <a:rPr b="0" lang="en-US" sz="2600" spc="-1" strike="noStrike">
                  <a:solidFill>
                    <a:srgbClr val="333399"/>
                  </a:solidFill>
                  <a:latin typeface="Andalus"/>
                  <a:ea typeface="Andalus"/>
                </a:rPr>
                <a:t> ا</a:t>
              </a:r>
              <a:r>
                <a:rPr b="0" lang="hi-IN" sz="28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لاجتماعي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90120"/>
            <p:cNvSpPr/>
            <p:nvPr/>
          </p:nvSpPr>
          <p:spPr>
            <a:xfrm>
              <a:off x="4697280" y="4019400"/>
              <a:ext cx="1936080" cy="149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المجال السياسي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90121"/>
            <p:cNvSpPr/>
            <p:nvPr/>
          </p:nvSpPr>
          <p:spPr>
            <a:xfrm>
              <a:off x="6956280" y="4019400"/>
              <a:ext cx="1936080" cy="149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المجال الاقتصادي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90128"/>
            <p:cNvSpPr/>
            <p:nvPr/>
          </p:nvSpPr>
          <p:spPr>
            <a:xfrm>
              <a:off x="2438280" y="4019400"/>
              <a:ext cx="1936080" cy="149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333399"/>
                  </a:solidFill>
                  <a:latin typeface="Andalus"/>
                  <a:cs typeface="Andalus"/>
                </a:rPr>
                <a:t>المجال الثقافي</a:t>
              </a:r>
              <a:r>
                <a:rPr b="0" lang="en-US" sz="2600" spc="-1" strike="noStrike">
                  <a:solidFill>
                    <a:srgbClr val="333399"/>
                  </a:solidFill>
                  <a:latin typeface="Andalus"/>
                  <a:ea typeface="Andalus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81080"/>
            <a:ext cx="9144000" cy="5623920"/>
            <a:chOff x="0" y="181080"/>
            <a:chExt cx="9144000" cy="5623920"/>
          </a:xfrm>
        </p:grpSpPr>
        <p:sp>
          <p:nvSpPr>
            <p:cNvPr id="50" name=""/>
            <p:cNvSpPr/>
            <p:nvPr/>
          </p:nvSpPr>
          <p:spPr>
            <a:xfrm rot="9165600">
              <a:off x="2268000" y="3431520"/>
              <a:ext cx="649440" cy="496440"/>
            </a:xfrm>
            <a:prstGeom prst="rightArrow">
              <a:avLst>
                <a:gd name="adj1" fmla="val 50000"/>
                <a:gd name="adj2" fmla="val 3270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6853200">
              <a:off x="3146040" y="4036320"/>
              <a:ext cx="713160" cy="452160"/>
            </a:xfrm>
            <a:prstGeom prst="rightArrow">
              <a:avLst>
                <a:gd name="adj1" fmla="val 50000"/>
                <a:gd name="adj2" fmla="val 3943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4743720" y="4160880"/>
              <a:ext cx="662760" cy="432000"/>
            </a:xfrm>
            <a:prstGeom prst="rightArrow">
              <a:avLst>
                <a:gd name="adj1" fmla="val 50000"/>
                <a:gd name="adj2" fmla="val 3835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865000">
              <a:off x="5881320" y="3780000"/>
              <a:ext cx="712800" cy="452160"/>
            </a:xfrm>
            <a:prstGeom prst="rightArrow">
              <a:avLst>
                <a:gd name="adj1" fmla="val 50000"/>
                <a:gd name="adj2" fmla="val 3941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393800">
              <a:off x="6443280" y="3096360"/>
              <a:ext cx="647640" cy="496800"/>
            </a:xfrm>
            <a:prstGeom prst="rightArrow">
              <a:avLst>
                <a:gd name="adj1" fmla="val 50000"/>
                <a:gd name="adj2" fmla="val 3259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9783200">
              <a:off x="6297480" y="2226600"/>
              <a:ext cx="648000" cy="474120"/>
            </a:xfrm>
            <a:prstGeom prst="rightArrow">
              <a:avLst>
                <a:gd name="adj1" fmla="val 50000"/>
                <a:gd name="adj2" fmla="val 3416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527720" y="1640520"/>
              <a:ext cx="662760" cy="432000"/>
            </a:xfrm>
            <a:prstGeom prst="rightArrow">
              <a:avLst>
                <a:gd name="adj1" fmla="val 50000"/>
                <a:gd name="adj2" fmla="val 3835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5269400">
              <a:off x="3161160" y="1806480"/>
              <a:ext cx="662400" cy="431640"/>
            </a:xfrm>
            <a:prstGeom prst="rightArrow">
              <a:avLst>
                <a:gd name="adj1" fmla="val 50000"/>
                <a:gd name="adj2" fmla="val 3836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2521400">
              <a:off x="2194920" y="2404080"/>
              <a:ext cx="649080" cy="496800"/>
            </a:xfrm>
            <a:prstGeom prst="rightArrow">
              <a:avLst>
                <a:gd name="adj1" fmla="val 50000"/>
                <a:gd name="adj2" fmla="val 3266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274920"/>
              <a:ext cx="2197080" cy="992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ترسيخ فكرة قيام وط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لليهو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في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فلسطي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32000" y="4540680"/>
              <a:ext cx="2376360" cy="992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تعميق فكرة تفوق الرج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لأبي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80000" y="4697640"/>
              <a:ext cx="2520720" cy="1107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لإيحاء بأن تقدم الغرب سبب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تمسكهم بالنصراني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00720" y="4145040"/>
              <a:ext cx="2448000" cy="1107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لإيحاء بأن قيم النصراني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أفضل من قيم الإسلا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20000" y="2957400"/>
              <a:ext cx="2124000" cy="1028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بذر الشك في المث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والمبادئ الإسلام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1647720"/>
              <a:ext cx="2016360" cy="1152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إخراج المسلمي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من الإسلا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92360" y="181080"/>
              <a:ext cx="2305080" cy="1229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حيلولة دون دخو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 النصارى في الإسلا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42920" y="663840"/>
              <a:ext cx="2521080" cy="1107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إعادة النصرانية إلى عدد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كبير من البلاد الإسلامية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692720"/>
              <a:ext cx="2303640" cy="1344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دفع المسلم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إل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تبن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لنمط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لغربي في الحيا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00360" y="2146320"/>
              <a:ext cx="3816360" cy="190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000000"/>
                  </a:solidFill>
                  <a:latin typeface="Andalus"/>
                  <a:cs typeface="Andalus"/>
                </a:rPr>
                <a:t>أهداف التنصي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813200">
              <a:off x="5719680" y="1685880"/>
              <a:ext cx="452520" cy="728640"/>
            </a:xfrm>
            <a:prstGeom prst="upArrow">
              <a:avLst>
                <a:gd name="adj1" fmla="val 50000"/>
                <a:gd name="adj2" fmla="val 4025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67280" y="496440"/>
              <a:ext cx="2305080" cy="1230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حيلولة دون دخو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</a:rPr>
                <a:t>الأمم الأخرى في الإسلا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79280" y="260280"/>
            <a:ext cx="8964360" cy="6337080"/>
            <a:chOff x="179280" y="260280"/>
            <a:chExt cx="8964360" cy="6337080"/>
          </a:xfrm>
        </p:grpSpPr>
        <p:cxnSp>
          <p:nvCxnSpPr>
            <p:cNvPr id="72" name="_s15384"/>
            <p:cNvCxnSpPr>
              <a:stCxn id="73" idx="4"/>
              <a:endCxn id="74" idx="3"/>
            </p:cNvCxnSpPr>
            <p:nvPr/>
          </p:nvCxnSpPr>
          <p:spPr>
            <a:xfrm flipV="1">
              <a:off x="5492880" y="892800"/>
              <a:ext cx="931320" cy="2568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5" name="_s15385"/>
            <p:cNvCxnSpPr>
              <a:stCxn id="76" idx="4"/>
              <a:endCxn id="74" idx="3"/>
            </p:cNvCxnSpPr>
            <p:nvPr/>
          </p:nvCxnSpPr>
          <p:spPr>
            <a:xfrm flipV="1">
              <a:off x="5492880" y="893160"/>
              <a:ext cx="931320" cy="5423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7" name="_s15386"/>
            <p:cNvCxnSpPr>
              <a:stCxn id="78" idx="4"/>
              <a:endCxn id="74" idx="3"/>
            </p:cNvCxnSpPr>
            <p:nvPr/>
          </p:nvCxnSpPr>
          <p:spPr>
            <a:xfrm flipV="1">
              <a:off x="5492880" y="892800"/>
              <a:ext cx="931320" cy="44722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9" name="_s15387"/>
            <p:cNvCxnSpPr>
              <a:stCxn id="80" idx="4"/>
              <a:endCxn id="74" idx="3"/>
            </p:cNvCxnSpPr>
            <p:nvPr/>
          </p:nvCxnSpPr>
          <p:spPr>
            <a:xfrm flipV="1">
              <a:off x="5492880" y="893160"/>
              <a:ext cx="931320" cy="6681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1" name="_s15388"/>
            <p:cNvCxnSpPr>
              <a:stCxn id="82" idx="4"/>
              <a:endCxn id="74" idx="3"/>
            </p:cNvCxnSpPr>
            <p:nvPr/>
          </p:nvCxnSpPr>
          <p:spPr>
            <a:xfrm flipV="1">
              <a:off x="5492880" y="893160"/>
              <a:ext cx="931320" cy="16192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3" name="_s15389"/>
            <p:cNvCxnSpPr>
              <a:stCxn id="84" idx="4"/>
              <a:endCxn id="74" idx="3"/>
            </p:cNvCxnSpPr>
            <p:nvPr/>
          </p:nvCxnSpPr>
          <p:spPr>
            <a:xfrm flipV="1">
              <a:off x="5492880" y="892800"/>
              <a:ext cx="931320" cy="3519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74" name="_s15390"/>
            <p:cNvSpPr/>
            <p:nvPr/>
          </p:nvSpPr>
          <p:spPr>
            <a:xfrm>
              <a:off x="3765960" y="260280"/>
              <a:ext cx="537768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000000"/>
                  </a:solidFill>
                  <a:latin typeface="Arial"/>
                </a:rPr>
                <a:t>وسائل التنصير الفكرية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5391"/>
            <p:cNvSpPr/>
            <p:nvPr/>
          </p:nvSpPr>
          <p:spPr>
            <a:xfrm>
              <a:off x="179280" y="4062240"/>
              <a:ext cx="537732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ناظرات العلمية والدينية والحضارية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5392"/>
            <p:cNvSpPr/>
            <p:nvPr/>
          </p:nvSpPr>
          <p:spPr>
            <a:xfrm>
              <a:off x="179280" y="2162160"/>
              <a:ext cx="5377320" cy="631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وسائل الإعلا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5393"/>
            <p:cNvSpPr/>
            <p:nvPr/>
          </p:nvSpPr>
          <p:spPr>
            <a:xfrm>
              <a:off x="179280" y="1211040"/>
              <a:ext cx="537732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دارس والجامعات والمعاه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5394"/>
            <p:cNvSpPr/>
            <p:nvPr/>
          </p:nvSpPr>
          <p:spPr>
            <a:xfrm>
              <a:off x="180720" y="5013000"/>
              <a:ext cx="537552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400" spc="-1" strike="noStrike">
                  <a:solidFill>
                    <a:srgbClr val="000000"/>
                  </a:solidFill>
                  <a:latin typeface="Arial"/>
                </a:rPr>
                <a:t>الدراسات الاستشراقية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95"/>
            <p:cNvSpPr/>
            <p:nvPr/>
          </p:nvSpPr>
          <p:spPr>
            <a:xfrm>
              <a:off x="179280" y="5964120"/>
              <a:ext cx="537732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اشتراك في وضع المناهج التعليمية للمسلمي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96"/>
            <p:cNvSpPr/>
            <p:nvPr/>
          </p:nvSpPr>
          <p:spPr>
            <a:xfrm>
              <a:off x="179280" y="3111120"/>
              <a:ext cx="5377320" cy="633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تبادل البعثات العليمة مع الجامعات النصرانية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468360" y="1628640"/>
            <a:ext cx="8184960" cy="3890880"/>
            <a:chOff x="468360" y="1628640"/>
            <a:chExt cx="8184960" cy="3890880"/>
          </a:xfrm>
        </p:grpSpPr>
        <p:cxnSp>
          <p:nvCxnSpPr>
            <p:cNvPr id="86" name="_s18443"/>
            <p:cNvCxnSpPr>
              <a:stCxn id="87" idx="0"/>
              <a:endCxn id="88" idx="2"/>
            </p:cNvCxnSpPr>
            <p:nvPr/>
          </p:nvCxnSpPr>
          <p:spPr>
            <a:xfrm flipV="1" rot="16200000">
              <a:off x="5042880" y="2436120"/>
              <a:ext cx="1485000" cy="1942200"/>
            </a:xfrm>
            <a:prstGeom prst="bentConnector3">
              <a:avLst>
                <a:gd name="adj1" fmla="val 76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8442"/>
            <p:cNvCxnSpPr/>
            <p:nvPr/>
          </p:nvCxnSpPr>
          <p:spPr>
            <a:xfrm flipH="1" flipV="1" rot="5400000">
              <a:off x="2856600" y="2409840"/>
              <a:ext cx="1199160" cy="2232720"/>
            </a:xfrm>
            <a:prstGeom prst="bentConnector3">
              <a:avLst>
                <a:gd name="adj1" fmla="val 95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" name="_s18438"/>
            <p:cNvSpPr/>
            <p:nvPr/>
          </p:nvSpPr>
          <p:spPr>
            <a:xfrm>
              <a:off x="2916360" y="1628640"/>
              <a:ext cx="3797280" cy="1036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8000"/>
                  </a:solidFill>
                  <a:latin typeface="Andalus"/>
                  <a:cs typeface="Andalus"/>
                </a:rPr>
                <a:t>الوسائل الأخرى للتنصي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8439"/>
            <p:cNvSpPr/>
            <p:nvPr/>
          </p:nvSpPr>
          <p:spPr>
            <a:xfrm>
              <a:off x="468360" y="4149720"/>
              <a:ext cx="3792600" cy="136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8000"/>
                  </a:solidFill>
                  <a:latin typeface="Arial"/>
                </a:rPr>
                <a:t>التنمية والإصلاح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8000"/>
                  </a:solidFill>
                  <a:latin typeface="Arial"/>
                </a:rPr>
                <a:t>الاجتماعي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8440"/>
            <p:cNvSpPr/>
            <p:nvPr/>
          </p:nvSpPr>
          <p:spPr>
            <a:xfrm>
              <a:off x="4859280" y="4149720"/>
              <a:ext cx="3794040" cy="136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300" spc="-1" strike="noStrike">
                  <a:solidFill>
                    <a:srgbClr val="008000"/>
                  </a:solidFill>
                  <a:latin typeface="Arial"/>
                </a:rPr>
                <a:t>البعثات الطبية والإغاثة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8000"/>
                  </a:solidFill>
                  <a:latin typeface="Arial"/>
                </a:rPr>
                <a:t> الإنسانية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9280" y="476280"/>
            <a:ext cx="64087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سبل مقاومة التنصير</a:t>
            </a:r>
            <a:endParaRPr b="0" lang="en-US" sz="6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</p:spTree>
  </p:cSld>
  <p:transition spd="med">
    <p:strips dir="l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826920" y="549360"/>
            <a:ext cx="7491600" cy="5864040"/>
            <a:chOff x="826920" y="549360"/>
            <a:chExt cx="7491600" cy="5864040"/>
          </a:xfrm>
        </p:grpSpPr>
        <p:sp>
          <p:nvSpPr>
            <p:cNvPr id="93" name="_s21527"/>
            <p:cNvSpPr/>
            <p:nvPr/>
          </p:nvSpPr>
          <p:spPr>
            <a:xfrm flipH="1" flipV="1">
              <a:off x="3246480" y="2459160"/>
              <a:ext cx="665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1526"/>
            <p:cNvSpPr/>
            <p:nvPr/>
          </p:nvSpPr>
          <p:spPr>
            <a:xfrm>
              <a:off x="1403280" y="1197000"/>
              <a:ext cx="2016360" cy="147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عقد المؤتمرات والندوا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والمحاضر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1525"/>
            <p:cNvSpPr/>
            <p:nvPr/>
          </p:nvSpPr>
          <p:spPr>
            <a:xfrm flipH="1">
              <a:off x="2696760" y="3500280"/>
              <a:ext cx="94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1524"/>
            <p:cNvSpPr/>
            <p:nvPr/>
          </p:nvSpPr>
          <p:spPr>
            <a:xfrm>
              <a:off x="826920" y="2781360"/>
              <a:ext cx="187488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الاهتمام بالارامل وطلا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 العل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1523"/>
            <p:cNvSpPr/>
            <p:nvPr/>
          </p:nvSpPr>
          <p:spPr>
            <a:xfrm flipH="1">
              <a:off x="3246480" y="4017960"/>
              <a:ext cx="66528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1522"/>
            <p:cNvSpPr/>
            <p:nvPr/>
          </p:nvSpPr>
          <p:spPr>
            <a:xfrm>
              <a:off x="1476360" y="4292640"/>
              <a:ext cx="201780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الاهتمام بالاطفال والايتا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1521"/>
            <p:cNvSpPr/>
            <p:nvPr/>
          </p:nvSpPr>
          <p:spPr>
            <a:xfrm>
              <a:off x="4572000" y="4232160"/>
              <a:ext cx="0" cy="73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1520"/>
            <p:cNvSpPr/>
            <p:nvPr/>
          </p:nvSpPr>
          <p:spPr>
            <a:xfrm>
              <a:off x="3635280" y="4941720"/>
              <a:ext cx="187488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اهتمام بوسائل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إعلا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1519"/>
            <p:cNvSpPr/>
            <p:nvPr/>
          </p:nvSpPr>
          <p:spPr>
            <a:xfrm>
              <a:off x="5230800" y="4017960"/>
              <a:ext cx="66528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1518"/>
            <p:cNvSpPr/>
            <p:nvPr/>
          </p:nvSpPr>
          <p:spPr>
            <a:xfrm>
              <a:off x="5651640" y="4292640"/>
              <a:ext cx="187452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اهتمام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بالشبا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1516"/>
            <p:cNvSpPr/>
            <p:nvPr/>
          </p:nvSpPr>
          <p:spPr>
            <a:xfrm>
              <a:off x="5504040" y="3500280"/>
              <a:ext cx="94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1515"/>
            <p:cNvSpPr/>
            <p:nvPr/>
          </p:nvSpPr>
          <p:spPr>
            <a:xfrm>
              <a:off x="6443640" y="2781360"/>
              <a:ext cx="187488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إنشاء المراكز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الصحيه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والمستشف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1514"/>
            <p:cNvSpPr/>
            <p:nvPr/>
          </p:nvSpPr>
          <p:spPr>
            <a:xfrm flipV="1">
              <a:off x="5230800" y="2459160"/>
              <a:ext cx="665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1513"/>
            <p:cNvSpPr/>
            <p:nvPr/>
          </p:nvSpPr>
          <p:spPr>
            <a:xfrm>
              <a:off x="5651640" y="1197000"/>
              <a:ext cx="2016000" cy="147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توفير سبل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عيش للفقرا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1512"/>
            <p:cNvSpPr/>
            <p:nvPr/>
          </p:nvSpPr>
          <p:spPr>
            <a:xfrm flipV="1">
              <a:off x="4572000" y="2026800"/>
              <a:ext cx="0" cy="73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1511"/>
            <p:cNvSpPr/>
            <p:nvPr/>
          </p:nvSpPr>
          <p:spPr>
            <a:xfrm>
              <a:off x="3348000" y="549360"/>
              <a:ext cx="2376360" cy="147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إرسال العلماء والدعاة لبيا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معنى  الإسلام الصحيح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1510"/>
            <p:cNvSpPr/>
            <p:nvPr/>
          </p:nvSpPr>
          <p:spPr>
            <a:xfrm>
              <a:off x="3203640" y="2781360"/>
              <a:ext cx="2808360" cy="147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86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c86400"/>
                  </a:solidFill>
                  <a:latin typeface="Andalus"/>
                  <a:cs typeface="Andalus"/>
                </a:rPr>
                <a:t>وسائل مقاومة التنصير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5:42:34Z</dcterms:created>
  <dc:creator>NajDyyAH 3SaL</dc:creator>
  <dc:description/>
  <dc:language>en-US</dc:language>
  <cp:lastModifiedBy>Windows 7 Ultimate</cp:lastModifiedBy>
  <dcterms:modified xsi:type="dcterms:W3CDTF">2010-10-08T17:51:15Z</dcterms:modified>
  <cp:revision>120</cp:revision>
  <dc:subject/>
  <dc:title>التيارات المعادية للإسلام وكيفية مواجهتها </dc:title>
</cp:coreProperties>
</file>