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23.png" ContentType="image/png"/>
  <Override PartName="/ppt/media/image13.jpeg" ContentType="image/jpeg"/>
  <Override PartName="/ppt/media/image20.jpeg" ContentType="image/jpeg"/>
  <Override PartName="/ppt/media/image12.png" ContentType="image/pn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11.png" ContentType="image/png"/>
  <Override PartName="/ppt/media/image9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6892-1D07-4901-9F5E-B99AF5E7A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D8DF-A72E-46B7-BD41-C3F38DC0E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600D-AAF0-4A17-9A84-636355E5A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F47D-6AF9-4A5A-974D-3A99D099F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B4E3-2C07-46B5-ACEE-4B2B342A4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6290-76C8-4F8F-99F7-EC80236B9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958E-3855-4BA8-83A2-7E3A160FF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5673-7E06-4847-9989-58F9F0539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4307-B9D0-442D-9CA7-A0A93FE9B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7D1B-6FF5-450B-B869-47CD0421B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8CA1-BA25-4748-BF8A-C12C87BE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F612-CA78-4AD0-8805-20F75C418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E95C5-FE8C-4D5D-95A4-59D2E1A499A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0" y="333360"/>
            <a:ext cx="88200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dalus"/>
              </a:rPr>
              <a:t>التيارات المعادية للإسلام وكيفية مواجهتها </a:t>
            </a:r>
            <a:endParaRPr b="0" lang="en-US" sz="5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dalus"/>
              <a:ea typeface="Andalus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2771640" y="1916280"/>
            <a:ext cx="576108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1" strike="noStrike">
                <a:ln w="0">
                  <a:noFill/>
                </a:ln>
                <a:gradFill rotWithShape="0">
                  <a:gsLst>
                    <a:gs pos="0">
                      <a:srgbClr val="c68c52"/>
                    </a:gs>
                    <a:gs pos="100000">
                      <a:srgbClr val="ffff7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dalus"/>
              </a:rPr>
              <a:t>الاستشراق</a:t>
            </a:r>
            <a:endParaRPr b="0" lang="en-US" sz="6000" spc="1" strike="noStrike">
              <a:ln w="0">
                <a:noFill/>
              </a:ln>
              <a:gradFill rotWithShape="0">
                <a:gsLst>
                  <a:gs pos="0">
                    <a:srgbClr val="c68c52"/>
                  </a:gs>
                  <a:gs pos="100000">
                    <a:srgbClr val="ffff7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dalus"/>
              <a:ea typeface="Andalus"/>
            </a:endParaRPr>
          </a:p>
        </p:txBody>
      </p:sp>
    </p:spTree>
  </p:cSld>
  <p:transition spd="med">
    <p:randomBar dir="vert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9d68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r" rtl="1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9d6833"/>
                </a:solidFill>
                <a:latin typeface="Andalus"/>
                <a:cs typeface="Andalus"/>
              </a:rPr>
              <a:t>مفهوم الاستشراق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استشراق هو دراسات أكاديمية يقوم بها غربيون كا فرو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ن أهل الكتاب خاصة – للإسلام من شتى الجوانب : عقيدة وشريعة , وثقافة , وحضارة وتاريخا ، ونظما ، وثروات ، وإمكانيات ، بهدف تشويه صورة الإسلام ومحاولة تشكيك المسلمين في دينهم وفرض الهيمنة الغربية عليهم ، ومحاولة تبرير هذه التبعية بدراسات ونظريات تدعي العلمية والموضوعية ، وتدعي التفو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العنصري والثقافي للغرب المسيح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على الشرق الإسلامي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404640"/>
            <a:ext cx="8496000" cy="6193080"/>
          </a:xfrm>
          <a:prstGeom prst="rect">
            <a:avLst/>
          </a:prstGeom>
          <a:noFill/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4920" y="4292640"/>
            <a:ext cx="3995640" cy="2492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med">
    <p:split dir="out" orient="vert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3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8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2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4000"/>
                            </p:stCondLst>
                            <p:childTnLst>
                              <p:par>
                                <p:cTn id="2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6" dur="2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6000"/>
                            </p:stCondLst>
                            <p:childTnLst>
                              <p:par>
                                <p:cTn id="2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0" dur="2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c68c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124000" y="1268280"/>
            <a:ext cx="4967280" cy="4724640"/>
          </a:xfrm>
          <a:custGeom>
            <a:avLst/>
            <a:gdLst>
              <a:gd name="textAreaLeft" fmla="*/ 0 w 4967280"/>
              <a:gd name="textAreaRight" fmla="*/ 4967640 w 4967280"/>
              <a:gd name="textAreaTop" fmla="*/ 0 h 4724640"/>
              <a:gd name="textAreaBottom" fmla="*/ 4724640 h 472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9280" y="3068640"/>
            <a:ext cx="208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دراسات مرتبطة بالتنصي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700360" y="5867280"/>
            <a:ext cx="381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دراسات تسهم في صنع سياسة ضد المسلمين في الغر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164360" y="2924280"/>
            <a:ext cx="1800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دراسات غير موضوعية وغير علمي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348000" y="333360"/>
            <a:ext cx="2519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دراسات مرتبطة بالاستعمار الغربي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203640" y="3179880"/>
            <a:ext cx="2952720" cy="82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dalus"/>
              </a:rPr>
              <a:t>خصائص الاستشراق</a:t>
            </a:r>
            <a:endParaRPr b="0" lang="en-US" sz="32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dalus"/>
              <a:ea typeface="Andalus"/>
            </a:endParaRPr>
          </a:p>
        </p:txBody>
      </p:sp>
    </p:spTree>
  </p:cSld>
  <p:transition spd="med">
    <p:plus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468360" y="1268280"/>
            <a:ext cx="8227800" cy="4176720"/>
            <a:chOff x="468360" y="1268280"/>
            <a:chExt cx="8227800" cy="4176720"/>
          </a:xfrm>
        </p:grpSpPr>
        <p:cxnSp>
          <p:nvCxnSpPr>
            <p:cNvPr id="122" name="_s30732"/>
            <p:cNvCxnSpPr>
              <a:stCxn id="123" idx="0"/>
              <a:endCxn id="124" idx="2"/>
            </p:cNvCxnSpPr>
            <p:nvPr/>
          </p:nvCxnSpPr>
          <p:spPr>
            <a:xfrm flipV="1" rot="16200000">
              <a:off x="5493960" y="1820160"/>
              <a:ext cx="1226160" cy="2712240"/>
            </a:xfrm>
            <a:prstGeom prst="bentConnector3">
              <a:avLst>
                <a:gd name="adj1" fmla="val 930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5" name="_s30731"/>
            <p:cNvCxnSpPr>
              <a:stCxn id="126" idx="0"/>
            </p:cNvCxnSpPr>
            <p:nvPr/>
          </p:nvCxnSpPr>
          <p:spPr>
            <a:xfrm flipV="1" rot="16200000">
              <a:off x="3605760" y="2954520"/>
              <a:ext cx="1800720" cy="11520"/>
            </a:xfrm>
            <a:prstGeom prst="bentConnector3">
              <a:avLst>
                <a:gd name="adj1" fmla="val 633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7" name="_s30730"/>
            <p:cNvCxnSpPr/>
            <p:nvPr/>
          </p:nvCxnSpPr>
          <p:spPr>
            <a:xfrm flipH="1" flipV="1" rot="5400000">
              <a:off x="2531880" y="1796400"/>
              <a:ext cx="1152720" cy="2832840"/>
            </a:xfrm>
            <a:prstGeom prst="bentConnector3">
              <a:avLst>
                <a:gd name="adj1" fmla="val 990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4" name="_s30726"/>
            <p:cNvSpPr/>
            <p:nvPr/>
          </p:nvSpPr>
          <p:spPr>
            <a:xfrm>
              <a:off x="2843280" y="1268280"/>
              <a:ext cx="3816360" cy="129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4000" spc="-1" strike="noStrike">
                  <a:solidFill>
                    <a:srgbClr val="006600"/>
                  </a:solidFill>
                  <a:latin typeface="Andalus"/>
                  <a:cs typeface="Andalus"/>
                </a:rPr>
                <a:t>دوافع الاستشرا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30727"/>
            <p:cNvSpPr/>
            <p:nvPr/>
          </p:nvSpPr>
          <p:spPr>
            <a:xfrm>
              <a:off x="468360" y="3860640"/>
              <a:ext cx="2468520" cy="15843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6600"/>
                  </a:solidFill>
                  <a:latin typeface="Arial"/>
                </a:rPr>
                <a:t>الدافع العلمي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30728"/>
            <p:cNvSpPr/>
            <p:nvPr/>
          </p:nvSpPr>
          <p:spPr>
            <a:xfrm>
              <a:off x="3276720" y="3860640"/>
              <a:ext cx="2469960" cy="1440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6600"/>
                  </a:solidFill>
                  <a:latin typeface="Arial"/>
                </a:rPr>
                <a:t>الدافع الاستثماري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30729"/>
            <p:cNvSpPr/>
            <p:nvPr/>
          </p:nvSpPr>
          <p:spPr>
            <a:xfrm>
              <a:off x="6227640" y="3789360"/>
              <a:ext cx="2468520" cy="1511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6600"/>
                  </a:solidFill>
                  <a:latin typeface="Arial"/>
                </a:rPr>
                <a:t>الدافع التنصيري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zoom dir="out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66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663300"/>
                </a:solidFill>
                <a:latin typeface="Andalus"/>
                <a:cs typeface="Andalus"/>
              </a:rPr>
              <a:t>وسائل المستشرقين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3300"/>
                </a:solidFill>
                <a:latin typeface="Andalus"/>
                <a:cs typeface="Andalus"/>
              </a:rPr>
              <a:t>سلك المستشرقين طرقا كثيرة للوصول إلى أهدافهم مث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تدريس الجامعي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جمع المخطوطات العربي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تحقيق والنشر والترجم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 algn="r" rtl="1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ومن اخطر وسائلهم على الاطلاق هو التألي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ومن أخطر ما ألفه المستشرقو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ndalus"/>
                <a:ea typeface="Andalus"/>
              </a:rPr>
              <a:t>( دائرة المعارف الإسلامية 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وهو معج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ألفوه لخدمة النصرانية واليهودية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08000" y="4076640"/>
            <a:ext cx="4032360" cy="27082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 spd="med">
    <p:wedge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4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4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4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4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66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663300"/>
                </a:solidFill>
                <a:latin typeface="Andalus"/>
                <a:cs typeface="Andalus"/>
              </a:rPr>
              <a:t>آثار الاستشراق ونتائجه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-52992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غزو الفكري الذي اصاب المسلمين في دينه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فرخ المستشرقون دعاة التغريب والدعارة الفكرية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بعث الخلافات القديمة ، وإحياء الشبة الشبه مدفونة لتدب الفرقة والخلاف بين المسلمين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صرف اهتمام المسلمين إلى الاتجاهات النظرية وإبعادهم عن العلوم التجريبية حتى يظلوا متخلفين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قتل اللغة العرب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قعود عن الجهاد في سبيل الله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4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4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4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4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476360" y="3284640"/>
            <a:ext cx="7345440" cy="19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ndalus"/>
              </a:rPr>
              <a:t>شبهات المستشرقين والرد عليها</a:t>
            </a:r>
            <a:endParaRPr b="0" lang="en-US" sz="6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5000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ndalus"/>
              <a:ea typeface="Andalus"/>
            </a:endParaRPr>
          </a:p>
        </p:txBody>
      </p:sp>
    </p:spTree>
  </p:cSld>
  <p:transition spd="med">
    <p:comb dir="vert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006600"/>
                </a:solidFill>
                <a:latin typeface="Andalus"/>
                <a:cs typeface="Andalus"/>
              </a:rPr>
              <a:t>التعدد إهانة للمرأة</a:t>
            </a:r>
            <a:r>
              <a:rPr b="0" lang="en-US" sz="44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6600"/>
                </a:solidFill>
                <a:latin typeface="Agency FB"/>
                <a:cs typeface="Andalus"/>
              </a:rPr>
              <a:t>والرد على ذلك 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أننا نجد في الإصحاح الخامس عشر في سفر اللاويين انتقاصا للمرأة : فالمرأة الحائض نجس إذا مست شيئا أو جلست عليه ، فكل شيء مسته يكون نجسا لا يطهر إلا بشرط واحد وهو أن تغرب عليه الشمس ، وكذلك جاء في سفر اللاويين تحريم تزويج بالمطلقة والأرملة ، بل إن المرأة عندهم سبب في إغراء آدم ، وعندهم المرأة إذا ولدت ذكر تكون نجسة لسبعة أيام ، وإذا ولدت أنثى تكون نجسه لأسبوعين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260280"/>
            <a:ext cx="8496000" cy="6121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ndalus"/>
                <a:cs typeface="Andalus"/>
              </a:rPr>
              <a:t>تسلط الرجل على المرأة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800" spc="-1" strike="noStrike">
                <a:solidFill>
                  <a:srgbClr val="008000"/>
                </a:solidFill>
                <a:latin typeface="Arial"/>
                <a:ea typeface="DecoType Naskh Variants"/>
              </a:rPr>
              <a:t>( الرجال قوامون على النساء 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يرد عليها بأن القوامة المذكورة في الآية مستمدة من التفوق الفطري عند الرجل ، فالرجل يسعى على عائلة أو أكثر ، وليست المرأة كذلك ، و إلزام الرجل بالنفقة من غير طاعته يجعلة عبدا في بيته ، والإسلام لا يلزم المرأة بالخروج  من البيت للعمل وفي ذلك تخفيف عليها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كما أنه جاء في كتابكم المقدس </a:t>
            </a:r>
            <a:r>
              <a:rPr b="0" lang="ar-SA" sz="3200" spc="-1" strike="noStrike">
                <a:solidFill>
                  <a:srgbClr val="008000"/>
                </a:solidFill>
                <a:latin typeface="Andalus"/>
                <a:ea typeface="Andalus"/>
              </a:rPr>
              <a:t>( أيتها النساء اخضعن لرجالكن كما تخضعن للرب لان الرجل هو رأس المرأة 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0920" y="260280"/>
            <a:ext cx="8569080" cy="61930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86616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-1" strike="noStrike">
                <a:solidFill>
                  <a:srgbClr val="ffffff"/>
                </a:solidFill>
                <a:latin typeface="Andalus"/>
                <a:cs typeface="Andalus"/>
              </a:rPr>
              <a:t>سبل مقاومة الاستشرا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f5d"/>
            </a:gs>
            <a:gs pos="50000">
              <a:srgbClr val="99ff99"/>
            </a:gs>
            <a:gs pos="100000">
              <a:srgbClr val="ff9f5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2915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8000"/>
                </a:solidFill>
                <a:latin typeface="Andalus"/>
                <a:cs typeface="Andalus"/>
              </a:rPr>
              <a:t>مفهوم التنصي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:  هو حركة دينية سياسية بدأت بالظهور إثر فشل الحروب الصليبية الهدف منها نشر النصرانية بين الامم المختلفة في دول العالم الثالث بعامة وبين المسلمين بخاص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8000"/>
                </a:solidFill>
                <a:latin typeface="Andalus"/>
                <a:cs typeface="Andalus"/>
              </a:rPr>
              <a:t>الدليل 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قد استعمل الرسول مصطلح التنصير في قوله (ما من مولود إلا يولد على الفطرة فأبواه يهودانه أو ينصرانه أو يمجسانه كما تنتج البهيمة بهيمة جمعاء هل تحسون فيها من جدعاء 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8000"/>
                </a:solidFill>
                <a:latin typeface="Andalus"/>
                <a:cs typeface="Andalus"/>
              </a:rPr>
              <a:t>المقصود بالتنصير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هو الدعوة إلى النصرانية ومحاولة دفع الناس إلى الدخول فيها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916360" y="260280"/>
            <a:ext cx="316836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dalus"/>
              </a:rPr>
              <a:t>التنصير </a:t>
            </a:r>
            <a:endParaRPr b="0" lang="en-US" sz="48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dalus"/>
              <a:ea typeface="Andalus"/>
            </a:endParaRPr>
          </a:p>
        </p:txBody>
      </p:sp>
    </p:spTree>
  </p:cSld>
  <p:transition spd="med">
    <p:circl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ffff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523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لابد من حركة شاملة تواجه الاستشراق وتعتمد على عنصرين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أول : عنصر ايجابي ، ويتمثل في قيام علماء الإسلام بالكتابة حول الموضوعات العلمية ، ويقدمون المعلومات الصحيحة للغرب عن الإسلام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ثاني : عنصر سلبي ، يتمثل في قيام مفكري الإسلام باستعراض مؤلفات المستشرقين العلمية ، ومحاسبتها في ضوء الحقيقة والواقع حتى ينكشف الغطاء عن أخطائهم وقد عرض كثير من المفكرين خططا لمواجهة الاستشرا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116000" y="404640"/>
            <a:ext cx="66978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0">
                  <a:noFill/>
                </a:ln>
                <a:gradFill rotWithShape="0">
                  <a:gsLst>
                    <a:gs pos="0">
                      <a:srgbClr val="5f5f5f"/>
                    </a:gs>
                    <a:gs pos="50000">
                      <a:srgbClr val="000000"/>
                    </a:gs>
                    <a:gs pos="100000">
                      <a:srgbClr val="5f5f5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ndalus"/>
              </a:rPr>
              <a:t>سبل مقاومة الاستشراق </a:t>
            </a:r>
            <a:endParaRPr b="0" lang="en-US" sz="4800" spc="1" strike="noStrike">
              <a:ln w="0">
                <a:noFill/>
              </a:ln>
              <a:gradFill rotWithShape="0">
                <a:gsLst>
                  <a:gs pos="0">
                    <a:srgbClr val="5f5f5f"/>
                  </a:gs>
                  <a:gs pos="50000">
                    <a:srgbClr val="000000"/>
                  </a:gs>
                  <a:gs pos="100000">
                    <a:srgbClr val="5f5f5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ndalus"/>
              <a:ea typeface="Andalus"/>
            </a:endParaRPr>
          </a:p>
        </p:txBody>
      </p:sp>
      <p:sp>
        <p:nvSpPr>
          <p:cNvPr id="144" name=""/>
          <p:cNvSpPr/>
          <p:nvPr/>
        </p:nvSpPr>
        <p:spPr>
          <a:xfrm>
            <a:off x="250920" y="189000"/>
            <a:ext cx="8569080" cy="6335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u"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000000"/>
                </a:solidFill>
                <a:latin typeface="Andalus"/>
                <a:cs typeface="Andalus"/>
              </a:rPr>
              <a:t>مفهوم التغريب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تغريب هو تيار كبير ذو أبعاد سياسية واجتماعية وثقافية يرمي إلى صبغ حياة الأمم بعامة والمسلمين بخاصة بالأسلوب الغربي وذلك بهدف إلغاء شخصيتهم المستقلة ، وخصائصهم المنفردة ، وجعلهم أسرى التبعية للحضارة الغرب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4248000"/>
            <a:ext cx="9144000" cy="2637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cover dir="lu"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ff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000000"/>
                </a:solidFill>
                <a:latin typeface="Andalus"/>
                <a:cs typeface="Andalus"/>
              </a:rPr>
              <a:t>أهداف التغريب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إثارة الخلاف بين العرب والمسلمي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حاول حركة التغريب أن ترد التراث الإسلامي إلى الفرس والهنود واليونا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إثارة دعوات لتمزيق وحدة الفكر الإسلام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إثارة دعوات حديثة كالبهائية والقاديان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عمل حركة التغريب جاهدة على نش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إلحاد والإباحية والدعوة إليهما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000000"/>
                </a:solidFill>
                <a:latin typeface="Andalus"/>
                <a:cs typeface="Andalus"/>
              </a:rPr>
              <a:t>وسائل التغريب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ستخدم التغريب وسائل كثيرة مث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إنشاء المدارس ، وبناء  المؤسسات الصحف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والإعلامية بكافية أنواعها ، وعقد اللقاء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والمؤتمرات والندوات ، وإحياء النزع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قومية والتعصب لها وحدها ، وطر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أفكار التقدمية والتطور والتحرير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2987640" cy="23050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71280" y="4508640"/>
            <a:ext cx="2916360" cy="22888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987640" cy="19447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 spd="med">
    <p:blinds dir="horz"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000"/>
                            </p:stCondLst>
                            <p:childTnLst>
                              <p:par>
                                <p:cTn id="5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2000"/>
                            </p:stCondLst>
                            <p:childTnLst>
                              <p:par>
                                <p:cTn id="54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3000"/>
                            </p:stCondLst>
                            <p:childTnLst>
                              <p:par>
                                <p:cTn id="54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5000"/>
                            </p:stCondLst>
                            <p:childTnLst>
                              <p:par>
                                <p:cTn id="55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50000">
              <a:srgbClr val="bbe0e3"/>
            </a:gs>
            <a:gs pos="100000">
              <a:srgbClr val="f8f8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539280" y="1125360"/>
            <a:ext cx="8280360" cy="33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333399"/>
                </a:solidFill>
                <a:latin typeface="Andalus"/>
                <a:cs typeface="Andalus"/>
              </a:rPr>
              <a:t>أولا : التعليم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 algn="r" rtl="1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نشر المدارس الأجنبية في الدول الإسلامي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 algn="r" rtl="1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نشر الاختلاط بين الجنسين من خلال مؤسسات التعلي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 algn="r" rtl="1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إرسال البعثات الطلابية إلى الخارج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333399"/>
                </a:solidFill>
                <a:latin typeface="Andalus"/>
                <a:cs typeface="Andalus"/>
              </a:rPr>
              <a:t>ثانيا : الإعلام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وتعتبر الصحافية من أكثر وسائل الإعلام التى استغلوها نتيجة لانتشارها الواس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4365720"/>
            <a:ext cx="3203640" cy="24922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3203640" y="4365720"/>
            <a:ext cx="2950920" cy="24922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6156360" y="4365720"/>
            <a:ext cx="2987640" cy="24922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 txBox="1"/>
          <p:nvPr/>
        </p:nvSpPr>
        <p:spPr>
          <a:xfrm>
            <a:off x="1547640" y="260280"/>
            <a:ext cx="568836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99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ndalus"/>
              </a:rPr>
              <a:t>مجالات التغريب </a:t>
            </a:r>
            <a:endParaRPr b="0" lang="en-US" sz="48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50000">
                    <a:srgbClr val="333399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ndalus"/>
              <a:ea typeface="Andalus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95280" y="1628280"/>
            <a:ext cx="8137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333399"/>
                </a:solidFill>
                <a:latin typeface="Andalus"/>
                <a:cs typeface="Andalus"/>
              </a:rPr>
              <a:t>في مجال الحياة العامة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الدعوة إلى خلع الحجاب عن الوج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الدعوة إلى الاختلاط مع الأجان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الدعوة إلى دمج المرأة في جميع المجالات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333399"/>
                </a:solidFill>
                <a:latin typeface="Andalus"/>
                <a:cs typeface="Andalus"/>
              </a:rPr>
              <a:t>في مجال الإعلام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تصويرها في الصحف والمجل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خروجها في التلفزيون ( مغنية – ممثلة – وعارضة أزياء ومذيعة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تروج المجلات الهابطة بنشر صور النساء الفاتنات فيه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3529080" cy="2232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63" name=""/>
          <p:cNvSpPr txBox="1"/>
          <p:nvPr/>
        </p:nvSpPr>
        <p:spPr>
          <a:xfrm>
            <a:off x="755640" y="0"/>
            <a:ext cx="7777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99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ndalus"/>
              </a:rPr>
              <a:t>مخططات تغريب المرأة المسلمة </a:t>
            </a:r>
            <a:endParaRPr b="0" lang="en-US" sz="48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50000">
                    <a:srgbClr val="333399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ndalus"/>
              <a:ea typeface="Andalus"/>
            </a:endParaRPr>
          </a:p>
        </p:txBody>
      </p:sp>
    </p:spTree>
  </p:cSld>
  <p:transition spd="med">
    <p:split dir="out" orient="horz"/>
  </p:transition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333399"/>
                </a:solidFill>
                <a:latin typeface="Andalus"/>
                <a:cs typeface="Andalus"/>
              </a:rPr>
              <a:t>في مجال التعليم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الدعوة إلى التعليم المختل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الدعوة إلى تدرس النساء للرجا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وعكس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333399"/>
                </a:solidFill>
                <a:latin typeface="Andalus"/>
                <a:cs typeface="Andalus"/>
              </a:rPr>
              <a:t>في مجال التوظيف 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الدعوة إلى توظيف المرأة في مجالات الحياة كاف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الدعوة إلى إنشاء مكاتب  نسائية للسفر والسياحة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3276720" cy="26305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66" name=""/>
          <p:cNvSpPr txBox="1"/>
          <p:nvPr/>
        </p:nvSpPr>
        <p:spPr>
          <a:xfrm>
            <a:off x="684360" y="0"/>
            <a:ext cx="7777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99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ndalus"/>
              </a:rPr>
              <a:t>مخططات تغريب المرأة المسلمة </a:t>
            </a:r>
            <a:endParaRPr b="0" lang="en-US" sz="48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50000">
                    <a:srgbClr val="333399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ndalus"/>
              <a:ea typeface="Andalus"/>
            </a:endParaRPr>
          </a:p>
        </p:txBody>
      </p:sp>
    </p:spTree>
  </p:cSld>
  <p:transition spd="med">
    <p:split dir="out" orient="horz"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1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10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10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1000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203640" y="404640"/>
            <a:ext cx="5627520" cy="225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dalus"/>
              </a:rPr>
              <a:t>العلمانية</a:t>
            </a:r>
            <a:endParaRPr b="0" lang="en-US" sz="7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dalus"/>
              <a:ea typeface="Andalus"/>
            </a:endParaRPr>
          </a:p>
        </p:txBody>
      </p:sp>
    </p:spTree>
  </p:cSld>
  <p:transition spd="med">
    <p:checker dir="horz"/>
  </p:transition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9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8ae28a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539640" y="18864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8000"/>
                </a:solidFill>
                <a:latin typeface="Andalus"/>
                <a:cs typeface="Andalus"/>
              </a:rPr>
              <a:t>مفهوم العلمانية  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علمانية نظام من المبادئ والتطبيقات الذي يرفض كل صورة من صور الإيمان الديني والعبادة الدينية ، كما يرفض كل نظام أو قيمة تنسب إلى الدين ، ويسعى إلى فصل الدين ليس فقط عن الدولة بل عن الحياة بشكل عام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3860640"/>
            <a:ext cx="9144000" cy="2997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 spd="med">
    <p:zoom dir="out"/>
  </p:transition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479520" y="750600"/>
            <a:ext cx="8227800" cy="4545360"/>
            <a:chOff x="479520" y="750600"/>
            <a:chExt cx="8227800" cy="4545360"/>
          </a:xfrm>
        </p:grpSpPr>
        <p:cxnSp>
          <p:nvCxnSpPr>
            <p:cNvPr id="171" name="_s60428"/>
            <p:cNvCxnSpPr>
              <a:stCxn id="172" idx="0"/>
              <a:endCxn id="173" idx="2"/>
            </p:cNvCxnSpPr>
            <p:nvPr/>
          </p:nvCxnSpPr>
          <p:spPr>
            <a:xfrm flipV="1" rot="16200000">
              <a:off x="5302440" y="1603080"/>
              <a:ext cx="1453320" cy="2890080"/>
            </a:xfrm>
            <a:prstGeom prst="bentConnector3">
              <a:avLst>
                <a:gd name="adj1" fmla="val 785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4" name="_s60427"/>
            <p:cNvCxnSpPr>
              <a:stCxn id="175" idx="0"/>
              <a:endCxn id="173" idx="2"/>
            </p:cNvCxnSpPr>
            <p:nvPr/>
          </p:nvCxnSpPr>
          <p:spPr>
            <a:xfrm flipV="1" rot="16200000">
              <a:off x="3862440" y="3043080"/>
              <a:ext cx="1453320" cy="10440"/>
            </a:xfrm>
            <a:prstGeom prst="bentConnector3">
              <a:avLst>
                <a:gd name="adj1" fmla="val 785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6" name="_s60426"/>
            <p:cNvCxnSpPr>
              <a:stCxn id="177" idx="0"/>
              <a:endCxn id="173" idx="2"/>
            </p:cNvCxnSpPr>
            <p:nvPr/>
          </p:nvCxnSpPr>
          <p:spPr>
            <a:xfrm flipH="1" flipV="1" rot="5400000">
              <a:off x="2423160" y="1613160"/>
              <a:ext cx="1453320" cy="2870640"/>
            </a:xfrm>
            <a:prstGeom prst="bentConnector3">
              <a:avLst>
                <a:gd name="adj1" fmla="val 785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3" name="_s60422"/>
            <p:cNvSpPr/>
            <p:nvPr/>
          </p:nvSpPr>
          <p:spPr>
            <a:xfrm>
              <a:off x="2135160" y="750600"/>
              <a:ext cx="4897440" cy="1571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6633"/>
                </a:gs>
                <a:gs pos="50000">
                  <a:srgbClr val="bbe0e3"/>
                </a:gs>
                <a:gs pos="100000">
                  <a:srgbClr val="9966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5400" spc="-1" strike="noStrike">
                  <a:solidFill>
                    <a:srgbClr val="663300"/>
                  </a:solidFill>
                  <a:latin typeface="Andalus"/>
                  <a:cs typeface="Andalus"/>
                </a:rPr>
                <a:t>أسباب نشأة العلمانية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60423"/>
            <p:cNvSpPr/>
            <p:nvPr/>
          </p:nvSpPr>
          <p:spPr>
            <a:xfrm>
              <a:off x="479520" y="3774960"/>
              <a:ext cx="2468520" cy="1521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6633"/>
                </a:gs>
                <a:gs pos="50000">
                  <a:srgbClr val="bbe0e3"/>
                </a:gs>
                <a:gs pos="100000">
                  <a:srgbClr val="9966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</a:rPr>
                <a:t>الصراع بين الكنيسة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</a:rPr>
                <a:t>والعل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60424"/>
            <p:cNvSpPr/>
            <p:nvPr/>
          </p:nvSpPr>
          <p:spPr>
            <a:xfrm>
              <a:off x="3359160" y="3774960"/>
              <a:ext cx="2470320" cy="1506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6633"/>
                </a:gs>
                <a:gs pos="50000">
                  <a:srgbClr val="bbe0e3"/>
                </a:gs>
                <a:gs pos="100000">
                  <a:srgbClr val="9966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</a:rPr>
                <a:t>طغيان الكنيسة ورجالها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60425"/>
            <p:cNvSpPr/>
            <p:nvPr/>
          </p:nvSpPr>
          <p:spPr>
            <a:xfrm>
              <a:off x="6238800" y="3774960"/>
              <a:ext cx="2468520" cy="1506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6633"/>
                </a:gs>
                <a:gs pos="50000">
                  <a:srgbClr val="bbe0e3"/>
                </a:gs>
                <a:gs pos="100000">
                  <a:srgbClr val="9966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</a:rPr>
                <a:t>تحريف الدين النصراني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omb dir="horz"/>
  </p:transition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50000">
              <a:srgbClr val="99ff99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518040" indent="-518040" algn="r" rtl="1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الحيلولة دون دخول النصارى في الإسلام ويعبرون عنه بحماية النصارى من الإسلام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 algn="r" rtl="1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الحيلولة دون دخول الأمم الأخرى – غير النصرانية – في الاسلا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 algn="r" rtl="1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إخراج المسلمين من الإسلام ، وهذا من الأهداف بعيدة المدى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 algn="r" rtl="1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بذر الاضطراب والشك في المثل والمبادئ الإسلامي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 algn="r" rtl="1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الإيحاء بأن المبادئ والمثل العليا للنصرانية أفضل من أي مثل ومبادئ أخرى لتحل هذه المثل والمبادئ  النصرانية محل المثل والمبادئ الإسلامية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 algn="r" rtl="1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الإيحاء بان التقدم الغربي المادي إنما جاء نتيجة تمسكهم بالنصرانية وأن تخلف المسلمين إنما جاء نتيجة تمسكهم بالإسلام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804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835280" y="0"/>
            <a:ext cx="5040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dalus"/>
              </a:rPr>
              <a:t>أهداف التنصير </a:t>
            </a:r>
            <a:endParaRPr b="0" lang="en-US" sz="48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dalus"/>
              <a:ea typeface="Andalus"/>
            </a:endParaRPr>
          </a:p>
        </p:txBody>
      </p:sp>
    </p:spTree>
  </p:cSld>
  <p:transition spd="med">
    <p:circl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"/>
          <p:cNvGrpSpPr/>
          <p:nvPr/>
        </p:nvGrpSpPr>
        <p:grpSpPr>
          <a:xfrm>
            <a:off x="179280" y="260280"/>
            <a:ext cx="8964360" cy="6058080"/>
            <a:chOff x="179280" y="260280"/>
            <a:chExt cx="8964360" cy="6058080"/>
          </a:xfrm>
        </p:grpSpPr>
        <p:cxnSp>
          <p:nvCxnSpPr>
            <p:cNvPr id="179" name="_s63494"/>
            <p:cNvCxnSpPr>
              <a:stCxn id="180" idx="4"/>
              <a:endCxn id="181" idx="3"/>
            </p:cNvCxnSpPr>
            <p:nvPr/>
          </p:nvCxnSpPr>
          <p:spPr>
            <a:xfrm flipV="1">
              <a:off x="5476680" y="988200"/>
              <a:ext cx="937080" cy="175500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82" name="_s63495"/>
            <p:cNvCxnSpPr>
              <a:stCxn id="183" idx="4"/>
              <a:endCxn id="181" idx="3"/>
            </p:cNvCxnSpPr>
            <p:nvPr/>
          </p:nvCxnSpPr>
          <p:spPr>
            <a:xfrm flipV="1">
              <a:off x="5524920" y="988560"/>
              <a:ext cx="891000" cy="500472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84" name="_s63496"/>
            <p:cNvCxnSpPr>
              <a:stCxn id="185" idx="4"/>
              <a:endCxn id="181" idx="3"/>
            </p:cNvCxnSpPr>
            <p:nvPr/>
          </p:nvCxnSpPr>
          <p:spPr>
            <a:xfrm flipV="1">
              <a:off x="5476680" y="988200"/>
              <a:ext cx="937080" cy="404748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86" name="_s63498"/>
            <p:cNvCxnSpPr>
              <a:stCxn id="187" idx="4"/>
              <a:endCxn id="181" idx="3"/>
            </p:cNvCxnSpPr>
            <p:nvPr/>
          </p:nvCxnSpPr>
          <p:spPr>
            <a:xfrm flipV="1">
              <a:off x="5476680" y="988560"/>
              <a:ext cx="937080" cy="76752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88" name="_s63499"/>
            <p:cNvCxnSpPr>
              <a:stCxn id="189" idx="4"/>
              <a:endCxn id="181" idx="3"/>
            </p:cNvCxnSpPr>
            <p:nvPr/>
          </p:nvCxnSpPr>
          <p:spPr>
            <a:xfrm flipV="1">
              <a:off x="5476680" y="988560"/>
              <a:ext cx="937080" cy="295200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181" name="_s63500"/>
            <p:cNvSpPr/>
            <p:nvPr/>
          </p:nvSpPr>
          <p:spPr>
            <a:xfrm>
              <a:off x="3764880" y="260280"/>
              <a:ext cx="5378760" cy="728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bbe0e3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4200" spc="-1" strike="noStrike">
                  <a:solidFill>
                    <a:srgbClr val="000000"/>
                  </a:solidFill>
                  <a:latin typeface="Andalus"/>
                  <a:cs typeface="Andalus"/>
                </a:rPr>
                <a:t>أسباب انتشار العلمانية</a:t>
              </a:r>
              <a:r>
                <a:rPr b="1" lang="en-US" sz="3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63501"/>
            <p:cNvSpPr/>
            <p:nvPr/>
          </p:nvSpPr>
          <p:spPr>
            <a:xfrm>
              <a:off x="179280" y="3538440"/>
              <a:ext cx="5378760" cy="728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000" spc="-1" strike="noStrike">
                  <a:solidFill>
                    <a:srgbClr val="000000"/>
                  </a:solidFill>
                  <a:latin typeface="Arial"/>
                </a:rPr>
                <a:t>البعثات الدراسية لبلاد الغرب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63502"/>
            <p:cNvSpPr/>
            <p:nvPr/>
          </p:nvSpPr>
          <p:spPr>
            <a:xfrm>
              <a:off x="179280" y="1353960"/>
              <a:ext cx="5378760" cy="7257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000" spc="-1" strike="noStrike">
                  <a:solidFill>
                    <a:srgbClr val="000000"/>
                  </a:solidFill>
                  <a:latin typeface="Arial"/>
                </a:rPr>
                <a:t>الفراغ الروحي والعاطفي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63504"/>
            <p:cNvSpPr/>
            <p:nvPr/>
          </p:nvSpPr>
          <p:spPr>
            <a:xfrm>
              <a:off x="180360" y="4632480"/>
              <a:ext cx="5377320" cy="7268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000" spc="-1" strike="noStrike">
                  <a:solidFill>
                    <a:srgbClr val="000000"/>
                  </a:solidFill>
                  <a:latin typeface="Arial"/>
                </a:rPr>
                <a:t>استخدام وسائل الإعلام المعاصرة</a:t>
              </a:r>
              <a:r>
                <a:rPr b="1" lang="en-US" sz="3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63505"/>
            <p:cNvSpPr/>
            <p:nvPr/>
          </p:nvSpPr>
          <p:spPr>
            <a:xfrm>
              <a:off x="179280" y="5589720"/>
              <a:ext cx="5421960" cy="728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000" spc="-1" strike="noStrike">
                  <a:solidFill>
                    <a:srgbClr val="000000"/>
                  </a:solidFill>
                  <a:latin typeface="Arial"/>
                </a:rPr>
                <a:t>محاربة الدعاة الواقفين أمام دعاوى العلمانيين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_s63506"/>
            <p:cNvSpPr/>
            <p:nvPr/>
          </p:nvSpPr>
          <p:spPr>
            <a:xfrm>
              <a:off x="179280" y="2340000"/>
              <a:ext cx="5377320" cy="728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000" spc="-1" strike="noStrike">
                  <a:solidFill>
                    <a:srgbClr val="000000"/>
                  </a:solidFill>
                  <a:latin typeface="Arial"/>
                </a:rPr>
                <a:t>الهزيمة النفسية أمام النموذج الغربي للحياة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omb dir="horz"/>
  </p:transition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250920" y="333360"/>
            <a:ext cx="8892360" cy="6264000"/>
            <a:chOff x="250920" y="333360"/>
            <a:chExt cx="8892360" cy="6264000"/>
          </a:xfrm>
        </p:grpSpPr>
        <p:cxnSp>
          <p:nvCxnSpPr>
            <p:cNvPr id="191" name="_s66566"/>
            <p:cNvCxnSpPr>
              <a:stCxn id="192" idx="4"/>
              <a:endCxn id="193" idx="3"/>
            </p:cNvCxnSpPr>
            <p:nvPr/>
          </p:nvCxnSpPr>
          <p:spPr>
            <a:xfrm flipV="1">
              <a:off x="5500800" y="1069200"/>
              <a:ext cx="935640" cy="298908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94" name="_s66568"/>
            <p:cNvCxnSpPr>
              <a:stCxn id="195" idx="4"/>
              <a:endCxn id="193" idx="3"/>
            </p:cNvCxnSpPr>
            <p:nvPr/>
          </p:nvCxnSpPr>
          <p:spPr>
            <a:xfrm flipV="1">
              <a:off x="5500800" y="1069560"/>
              <a:ext cx="935640" cy="519912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96" name="_s66569"/>
            <p:cNvCxnSpPr>
              <a:stCxn id="197" idx="4"/>
              <a:endCxn id="193" idx="3"/>
            </p:cNvCxnSpPr>
            <p:nvPr/>
          </p:nvCxnSpPr>
          <p:spPr>
            <a:xfrm flipV="1">
              <a:off x="5500800" y="1069560"/>
              <a:ext cx="935640" cy="77904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98" name="_s66570"/>
            <p:cNvCxnSpPr>
              <a:stCxn id="199" idx="4"/>
              <a:endCxn id="193" idx="3"/>
            </p:cNvCxnSpPr>
            <p:nvPr/>
          </p:nvCxnSpPr>
          <p:spPr>
            <a:xfrm flipV="1">
              <a:off x="5500800" y="1069200"/>
              <a:ext cx="935640" cy="188100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200" name="_s66571"/>
            <p:cNvCxnSpPr>
              <a:stCxn id="201" idx="4"/>
              <a:endCxn id="193" idx="3"/>
            </p:cNvCxnSpPr>
            <p:nvPr/>
          </p:nvCxnSpPr>
          <p:spPr>
            <a:xfrm flipV="1">
              <a:off x="5500800" y="1069560"/>
              <a:ext cx="935640" cy="409320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193" name="_s66572"/>
            <p:cNvSpPr/>
            <p:nvPr/>
          </p:nvSpPr>
          <p:spPr>
            <a:xfrm>
              <a:off x="3808800" y="333360"/>
              <a:ext cx="5334480" cy="7365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bbe0e3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4800" spc="-1" strike="noStrike">
                  <a:solidFill>
                    <a:srgbClr val="663300"/>
                  </a:solidFill>
                  <a:latin typeface="Andalus"/>
                  <a:cs typeface="Andalus"/>
                </a:rPr>
                <a:t>أهداف العلمانية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_s66573"/>
            <p:cNvSpPr/>
            <p:nvPr/>
          </p:nvSpPr>
          <p:spPr>
            <a:xfrm>
              <a:off x="250920" y="4754880"/>
              <a:ext cx="5334120" cy="7365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</a:rPr>
                <a:t>استبعاد مقولة الغزو الفكري من ميادين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</a:rPr>
                <a:t>الفكر والثقافة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_s66574"/>
            <p:cNvSpPr/>
            <p:nvPr/>
          </p:nvSpPr>
          <p:spPr>
            <a:xfrm>
              <a:off x="250920" y="2545200"/>
              <a:ext cx="5334120" cy="7340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</a:rPr>
                <a:t>اتهام التاريخ الإسلامي بأنه تاريخ دمو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استعماري عنصر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_s66575"/>
            <p:cNvSpPr/>
            <p:nvPr/>
          </p:nvSpPr>
          <p:spPr>
            <a:xfrm>
              <a:off x="250920" y="1439280"/>
              <a:ext cx="5334120" cy="7365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</a:rPr>
                <a:t>مواجهة التراث الإسلامي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66576"/>
            <p:cNvSpPr/>
            <p:nvPr/>
          </p:nvSpPr>
          <p:spPr>
            <a:xfrm>
              <a:off x="252360" y="5860800"/>
              <a:ext cx="5332320" cy="7365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وصم الإسلام باالأصولية والتطرف وممارسة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الإرهاب الفكري</a:t>
              </a:r>
              <a:r>
                <a:rPr b="1" lang="ar-SA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66578"/>
            <p:cNvSpPr/>
            <p:nvPr/>
          </p:nvSpPr>
          <p:spPr>
            <a:xfrm>
              <a:off x="250920" y="3648960"/>
              <a:ext cx="5334120" cy="7365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</a:rPr>
                <a:t>السعي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hi-IN" sz="2400" spc="-1" strike="noStrike">
                  <a:solidFill>
                    <a:srgbClr val="000000"/>
                  </a:solidFill>
                  <a:latin typeface="Arial"/>
                </a:rPr>
                <a:t>لزعزعة مصادر المعرفة والعلم الراسخ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في فكر المسل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omb dir="horz"/>
  </p:transition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"/>
          <p:cNvGrpSpPr/>
          <p:nvPr/>
        </p:nvGrpSpPr>
        <p:grpSpPr>
          <a:xfrm>
            <a:off x="250920" y="274680"/>
            <a:ext cx="8641440" cy="6322680"/>
            <a:chOff x="250920" y="274680"/>
            <a:chExt cx="8641440" cy="6322680"/>
          </a:xfrm>
        </p:grpSpPr>
        <p:cxnSp>
          <p:nvCxnSpPr>
            <p:cNvPr id="203" name="_s69638"/>
            <p:cNvCxnSpPr>
              <a:stCxn id="204" idx="4"/>
              <a:endCxn id="205" idx="3"/>
            </p:cNvCxnSpPr>
            <p:nvPr/>
          </p:nvCxnSpPr>
          <p:spPr>
            <a:xfrm flipV="1">
              <a:off x="5339520" y="1176480"/>
              <a:ext cx="915120" cy="95184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206" name="_s69639"/>
            <p:cNvCxnSpPr>
              <a:stCxn id="207" idx="4"/>
              <a:endCxn id="205" idx="3"/>
            </p:cNvCxnSpPr>
            <p:nvPr/>
          </p:nvCxnSpPr>
          <p:spPr>
            <a:xfrm flipV="1">
              <a:off x="5339520" y="1176480"/>
              <a:ext cx="915120" cy="501696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208" name="_s69640"/>
            <p:cNvCxnSpPr>
              <a:stCxn id="209" idx="4"/>
              <a:endCxn id="205" idx="3"/>
            </p:cNvCxnSpPr>
            <p:nvPr/>
          </p:nvCxnSpPr>
          <p:spPr>
            <a:xfrm flipV="1">
              <a:off x="5339520" y="1176480"/>
              <a:ext cx="915120" cy="366192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210" name="_s69643"/>
            <p:cNvCxnSpPr>
              <a:stCxn id="211" idx="4"/>
              <a:endCxn id="205" idx="3"/>
            </p:cNvCxnSpPr>
            <p:nvPr/>
          </p:nvCxnSpPr>
          <p:spPr>
            <a:xfrm flipV="1">
              <a:off x="5339520" y="1176480"/>
              <a:ext cx="915120" cy="230688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205" name="_s69644"/>
            <p:cNvSpPr/>
            <p:nvPr/>
          </p:nvSpPr>
          <p:spPr>
            <a:xfrm>
              <a:off x="3708360" y="274680"/>
              <a:ext cx="5184000" cy="9021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bbe0e3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663300"/>
                  </a:solidFill>
                  <a:latin typeface="Andalus"/>
                  <a:cs typeface="Andalus"/>
                </a:rPr>
                <a:t>أهداف العلمانية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_s69645"/>
            <p:cNvSpPr/>
            <p:nvPr/>
          </p:nvSpPr>
          <p:spPr>
            <a:xfrm>
              <a:off x="250920" y="2984760"/>
              <a:ext cx="5183640" cy="9021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700" spc="-1" strike="noStrike">
                  <a:solidFill>
                    <a:srgbClr val="000000"/>
                  </a:solidFill>
                  <a:latin typeface="Arial"/>
                </a:rPr>
                <a:t>الاستهزاء والسخرية في أي محاولة لأسلمه 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700" spc="-1" strike="noStrike">
                  <a:solidFill>
                    <a:srgbClr val="000000"/>
                  </a:solidFill>
                  <a:latin typeface="Arial"/>
                </a:rPr>
                <a:t>بعض جوانب الحياة 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69648"/>
            <p:cNvSpPr/>
            <p:nvPr/>
          </p:nvSpPr>
          <p:spPr>
            <a:xfrm>
              <a:off x="252360" y="4339800"/>
              <a:ext cx="5181840" cy="9021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700" spc="-1" strike="noStrike">
                  <a:solidFill>
                    <a:srgbClr val="000000"/>
                  </a:solidFill>
                  <a:latin typeface="Arial"/>
                </a:rPr>
                <a:t>الترويج للمظاهر الاجتماعية الغربية 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_s69649"/>
            <p:cNvSpPr/>
            <p:nvPr/>
          </p:nvSpPr>
          <p:spPr>
            <a:xfrm>
              <a:off x="250920" y="5694480"/>
              <a:ext cx="5183640" cy="9028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700" spc="-1" strike="noStrike">
                  <a:solidFill>
                    <a:srgbClr val="000000"/>
                  </a:solidFill>
                  <a:latin typeface="Arial"/>
                </a:rPr>
                <a:t>الترويج الدائم للنظريات العلمانية الغربية 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_s69650"/>
            <p:cNvSpPr/>
            <p:nvPr/>
          </p:nvSpPr>
          <p:spPr>
            <a:xfrm>
              <a:off x="250920" y="1629720"/>
              <a:ext cx="5183640" cy="9021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700" spc="-1" strike="noStrike">
                  <a:solidFill>
                    <a:srgbClr val="000000"/>
                  </a:solidFill>
                  <a:latin typeface="Arial"/>
                </a:rPr>
                <a:t>تمييع قضية  الحل والحرمة في المعاملات 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700" spc="-1" strike="noStrike">
                  <a:solidFill>
                    <a:srgbClr val="000000"/>
                  </a:solidFill>
                  <a:latin typeface="Arial"/>
                </a:rPr>
                <a:t>والأخلاق  والفكر والسياسية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omb dir="horz"/>
  </p:transition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a86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أن التدين جزء من الطبيعة البشري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حرر الإسلام الفكر من الظنون والفرو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والأساطير والخرافا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أن حاضر الفكر  الإسلامي والأدب العرب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لا ينفك عن ماضي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أن الحرية في الإسلام تعني تحرير العق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من قيود الوثنية مهما اختلفت اسماؤها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41964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 txBox="1"/>
          <p:nvPr/>
        </p:nvSpPr>
        <p:spPr>
          <a:xfrm>
            <a:off x="3492360" y="333360"/>
            <a:ext cx="52833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dalus"/>
              </a:rPr>
              <a:t>موقف الإسلام من العلمانية </a:t>
            </a:r>
            <a:endParaRPr b="0" lang="en-US" sz="54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5000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dalus"/>
              <a:ea typeface="Andalus"/>
            </a:endParaRPr>
          </a:p>
        </p:txBody>
      </p:sp>
    </p:spTree>
  </p:cSld>
  <p:transition spd="med">
    <p:strips dir="ld"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1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9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1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9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10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9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0" dur="10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9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9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6" dur="100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9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1000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9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000000"/>
                </a:solidFill>
                <a:latin typeface="Andalus"/>
                <a:cs typeface="Andalus"/>
              </a:rPr>
              <a:t>سبل مواجهة العلمانية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39280" y="1268280"/>
            <a:ext cx="808524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توعية المسلمين بخطورة هذه الفكرة الهدامة وتعارضها مع تعالمي الدين الإسلامي الحني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تبصير المسلمين بثمار العلمانية وآثارها المدمرة على المجتمعات العربي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العمل على نشر الكتاب الإسلامي الذي يبصر المسلم بدينه ويربطه به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4076640"/>
            <a:ext cx="9144000" cy="2781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 spd="med">
    <p:strips dir="ld"/>
  </p:transition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6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3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0" dur="1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7" dur="1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68360" y="1125360"/>
            <a:ext cx="8424720" cy="91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ndalus"/>
              </a:rPr>
              <a:t>إحدى أخطر الحركات السرية المعادية للإسلام  </a:t>
            </a:r>
            <a:endParaRPr b="0" lang="en-US" sz="4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ndalus"/>
              <a:ea typeface="Andalus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2160720"/>
            <a:ext cx="7236000" cy="479736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 txBox="1"/>
          <p:nvPr/>
        </p:nvSpPr>
        <p:spPr>
          <a:xfrm>
            <a:off x="3059280" y="260280"/>
            <a:ext cx="30240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ndalus"/>
              </a:rPr>
              <a:t>الماسونية</a:t>
            </a:r>
            <a:endParaRPr b="0" lang="en-US" sz="4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ndalus"/>
              <a:ea typeface="Andalus"/>
            </a:endParaRPr>
          </a:p>
        </p:txBody>
      </p:sp>
    </p:spTree>
  </p:cSld>
  <p:transition spd="med">
    <p:strips dir="ld"/>
  </p:transition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1000"/>
                            </p:stCondLst>
                            <p:childTnLst>
                              <p:par>
                                <p:cTn id="89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2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000000"/>
                </a:solidFill>
                <a:latin typeface="Andalus"/>
                <a:cs typeface="Andalus"/>
              </a:rPr>
              <a:t>مفهوم الماسونية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ماسونية هي منظمة يهودية سرية غامضة محكمة التنظيم تهدف إلى ضمان سيطرة اليهود على العالم وتدعو إلى الإلحاد الإباحية وأغلب أعضاءها هم من الشخصيات البارزة في العالم ، يوثقهم عقد بحفظ الأسرار ، ويقومون بما يسمى بالمحافل للتخطيط والتكليف بالمها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4000" y="260280"/>
            <a:ext cx="8496000" cy="61930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324000" y="3716280"/>
            <a:ext cx="8424720" cy="2665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med">
    <p:strips dir="ld"/>
  </p:transition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"/>
          <p:cNvGrpSpPr/>
          <p:nvPr/>
        </p:nvGrpSpPr>
        <p:grpSpPr>
          <a:xfrm>
            <a:off x="731880" y="476280"/>
            <a:ext cx="7656480" cy="5659560"/>
            <a:chOff x="731880" y="476280"/>
            <a:chExt cx="7656480" cy="5659560"/>
          </a:xfrm>
        </p:grpSpPr>
        <p:sp>
          <p:nvSpPr>
            <p:cNvPr id="226" name="_s80917"/>
            <p:cNvSpPr/>
            <p:nvPr/>
          </p:nvSpPr>
          <p:spPr>
            <a:xfrm flipH="1" flipV="1">
              <a:off x="2909880" y="2495520"/>
              <a:ext cx="727200" cy="463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80916"/>
            <p:cNvSpPr/>
            <p:nvPr/>
          </p:nvSpPr>
          <p:spPr>
            <a:xfrm>
              <a:off x="1266840" y="1295280"/>
              <a:ext cx="1847880" cy="1482840"/>
            </a:xfrm>
            <a:prstGeom prst="ellipse">
              <a:avLst/>
            </a:prstGeom>
            <a:gradFill rotWithShape="0">
              <a:gsLst>
                <a:gs pos="0">
                  <a:srgbClr val="996633"/>
                </a:gs>
                <a:gs pos="50000">
                  <a:srgbClr val="ffff99"/>
                </a:gs>
                <a:gs pos="100000">
                  <a:srgbClr val="9966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-1" strike="noStrike">
                  <a:solidFill>
                    <a:srgbClr val="663300"/>
                  </a:solidFill>
                  <a:latin typeface="Arial"/>
                </a:rPr>
                <a:t>إقامة دولة إسرائي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3300"/>
                  </a:solidFill>
                  <a:latin typeface="Arial"/>
                </a:rPr>
                <a:t> كبرى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80915"/>
            <p:cNvSpPr/>
            <p:nvPr/>
          </p:nvSpPr>
          <p:spPr>
            <a:xfrm flipH="1">
              <a:off x="2553840" y="3583080"/>
              <a:ext cx="903240" cy="168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80914"/>
            <p:cNvSpPr/>
            <p:nvPr/>
          </p:nvSpPr>
          <p:spPr>
            <a:xfrm>
              <a:off x="731880" y="3176640"/>
              <a:ext cx="1849320" cy="1484280"/>
            </a:xfrm>
            <a:prstGeom prst="ellipse">
              <a:avLst/>
            </a:prstGeom>
            <a:gradFill rotWithShape="0">
              <a:gsLst>
                <a:gs pos="0">
                  <a:srgbClr val="996633"/>
                </a:gs>
                <a:gs pos="50000">
                  <a:srgbClr val="ffff99"/>
                </a:gs>
                <a:gs pos="100000">
                  <a:srgbClr val="9966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-1" strike="noStrike">
                  <a:solidFill>
                    <a:srgbClr val="663300"/>
                  </a:solidFill>
                  <a:latin typeface="Arial"/>
                </a:rPr>
                <a:t>إسقاط الحكومات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3300"/>
                  </a:solidFill>
                  <a:latin typeface="Arial"/>
                </a:rPr>
                <a:t> الشرعية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80913"/>
            <p:cNvSpPr/>
            <p:nvPr/>
          </p:nvSpPr>
          <p:spPr>
            <a:xfrm flipH="1">
              <a:off x="3555720" y="4086360"/>
              <a:ext cx="399960" cy="669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80912"/>
            <p:cNvSpPr/>
            <p:nvPr/>
          </p:nvSpPr>
          <p:spPr>
            <a:xfrm>
              <a:off x="2268360" y="4653000"/>
              <a:ext cx="1849680" cy="1482840"/>
            </a:xfrm>
            <a:prstGeom prst="ellipse">
              <a:avLst/>
            </a:prstGeom>
            <a:gradFill rotWithShape="0">
              <a:gsLst>
                <a:gs pos="0">
                  <a:srgbClr val="996633"/>
                </a:gs>
                <a:gs pos="50000">
                  <a:srgbClr val="ffff99"/>
                </a:gs>
                <a:gs pos="100000">
                  <a:srgbClr val="9966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-1" strike="noStrike">
                  <a:solidFill>
                    <a:srgbClr val="663300"/>
                  </a:solidFill>
                  <a:latin typeface="Arial"/>
                </a:rPr>
                <a:t>جعل الماسونية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-1" strike="noStrike">
                  <a:solidFill>
                    <a:srgbClr val="663300"/>
                  </a:solidFill>
                  <a:latin typeface="Arial"/>
                </a:rPr>
                <a:t>سيدة الأحزا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80911"/>
            <p:cNvSpPr/>
            <p:nvPr/>
          </p:nvSpPr>
          <p:spPr>
            <a:xfrm>
              <a:off x="4756320" y="4086360"/>
              <a:ext cx="403200" cy="669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80910"/>
            <p:cNvSpPr/>
            <p:nvPr/>
          </p:nvSpPr>
          <p:spPr>
            <a:xfrm>
              <a:off x="4500720" y="4653000"/>
              <a:ext cx="1992240" cy="1482840"/>
            </a:xfrm>
            <a:prstGeom prst="ellipse">
              <a:avLst/>
            </a:prstGeom>
            <a:gradFill rotWithShape="0">
              <a:gsLst>
                <a:gs pos="0">
                  <a:srgbClr val="996633"/>
                </a:gs>
                <a:gs pos="50000">
                  <a:srgbClr val="ffff99"/>
                </a:gs>
                <a:gs pos="100000">
                  <a:srgbClr val="9966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-1" strike="noStrike">
                  <a:solidFill>
                    <a:srgbClr val="663300"/>
                  </a:solidFill>
                  <a:latin typeface="Arial"/>
                </a:rPr>
                <a:t>القضاء على الأخلا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80908"/>
            <p:cNvSpPr/>
            <p:nvPr/>
          </p:nvSpPr>
          <p:spPr>
            <a:xfrm>
              <a:off x="5254560" y="3586320"/>
              <a:ext cx="903240" cy="16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_s80907"/>
            <p:cNvSpPr/>
            <p:nvPr/>
          </p:nvSpPr>
          <p:spPr>
            <a:xfrm>
              <a:off x="6137280" y="3173400"/>
              <a:ext cx="2251080" cy="1482840"/>
            </a:xfrm>
            <a:prstGeom prst="ellipse">
              <a:avLst/>
            </a:prstGeom>
            <a:gradFill rotWithShape="0">
              <a:gsLst>
                <a:gs pos="0">
                  <a:srgbClr val="996633"/>
                </a:gs>
                <a:gs pos="50000">
                  <a:srgbClr val="ffff99"/>
                </a:gs>
                <a:gs pos="100000">
                  <a:srgbClr val="9966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-1" strike="noStrike">
                  <a:solidFill>
                    <a:srgbClr val="663300"/>
                  </a:solidFill>
                  <a:latin typeface="Arial"/>
                </a:rPr>
                <a:t>بث روح الإلحاد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-1" strike="noStrike">
                  <a:solidFill>
                    <a:srgbClr val="663300"/>
                  </a:solidFill>
                  <a:latin typeface="Arial"/>
                </a:rPr>
                <a:t>والإباحية بين الشعوب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80906"/>
            <p:cNvSpPr/>
            <p:nvPr/>
          </p:nvSpPr>
          <p:spPr>
            <a:xfrm flipV="1">
              <a:off x="5076720" y="2495520"/>
              <a:ext cx="725760" cy="463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_s80905"/>
            <p:cNvSpPr/>
            <p:nvPr/>
          </p:nvSpPr>
          <p:spPr>
            <a:xfrm>
              <a:off x="5580000" y="1268280"/>
              <a:ext cx="1847880" cy="1482840"/>
            </a:xfrm>
            <a:prstGeom prst="ellipse">
              <a:avLst/>
            </a:prstGeom>
            <a:gradFill rotWithShape="0">
              <a:gsLst>
                <a:gs pos="0">
                  <a:srgbClr val="996633"/>
                </a:gs>
                <a:gs pos="50000">
                  <a:srgbClr val="ffff99"/>
                </a:gs>
                <a:gs pos="100000">
                  <a:srgbClr val="9966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-1" strike="noStrike">
                  <a:solidFill>
                    <a:srgbClr val="663300"/>
                  </a:solidFill>
                  <a:latin typeface="Arial"/>
                </a:rPr>
                <a:t>محاربة الأديان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-1" strike="noStrike">
                  <a:solidFill>
                    <a:srgbClr val="663300"/>
                  </a:solidFill>
                  <a:latin typeface="Arial"/>
                </a:rPr>
                <a:t>القائمة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_s80904"/>
            <p:cNvSpPr/>
            <p:nvPr/>
          </p:nvSpPr>
          <p:spPr>
            <a:xfrm flipV="1">
              <a:off x="4356000" y="1936800"/>
              <a:ext cx="0" cy="74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_s80903"/>
            <p:cNvSpPr/>
            <p:nvPr/>
          </p:nvSpPr>
          <p:spPr>
            <a:xfrm>
              <a:off x="3276720" y="476280"/>
              <a:ext cx="2016000" cy="1482840"/>
            </a:xfrm>
            <a:prstGeom prst="ellipse">
              <a:avLst/>
            </a:prstGeom>
            <a:gradFill rotWithShape="0">
              <a:gsLst>
                <a:gs pos="0">
                  <a:srgbClr val="996633"/>
                </a:gs>
                <a:gs pos="50000">
                  <a:srgbClr val="ffff99"/>
                </a:gs>
                <a:gs pos="100000">
                  <a:srgbClr val="9966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663300"/>
                  </a:solidFill>
                  <a:latin typeface="Arial"/>
                </a:rPr>
                <a:t>تكوين جمهوريات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663300"/>
                  </a:solidFill>
                  <a:latin typeface="Arial"/>
                </a:rPr>
                <a:t>عالمية لادينية</a:t>
              </a:r>
              <a:r>
                <a:rPr b="0" lang="ar-SA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_s80902"/>
            <p:cNvSpPr/>
            <p:nvPr/>
          </p:nvSpPr>
          <p:spPr>
            <a:xfrm>
              <a:off x="2987640" y="2708280"/>
              <a:ext cx="2592360" cy="1482840"/>
            </a:xfrm>
            <a:prstGeom prst="ellipse">
              <a:avLst/>
            </a:prstGeom>
            <a:gradFill rotWithShape="0">
              <a:gsLst>
                <a:gs pos="0">
                  <a:srgbClr val="996633"/>
                </a:gs>
                <a:gs pos="50000">
                  <a:srgbClr val="ffff99"/>
                </a:gs>
                <a:gs pos="100000">
                  <a:srgbClr val="9966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663300"/>
                  </a:solidFill>
                  <a:latin typeface="Andalus"/>
                  <a:cs typeface="Andalus"/>
                </a:rPr>
                <a:t>أهداف الماسونية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omb dir="horz"/>
  </p:transition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7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50000">
              <a:srgbClr val="ffff99"/>
            </a:gs>
            <a:gs pos="100000">
              <a:srgbClr val="9966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جنيد الشباب في كل العالم لخدمة مصالح اليهو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دخول في الأحزاب السياسية لتسيير الاتجاهات السياسية في العالم حسب المصالح اليهود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اسيس وتشجيع المنظمات التي تطالب بالحر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شجيع النظريات والاتجاهات التي تساعد على تقويض الاقتصاد العالمي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جتذاب اكبر عدد ممكن من الأتباع للانتماء إلى المحافل والوقوع في شباكها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971640" y="549360"/>
            <a:ext cx="6913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996633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ndalus"/>
              </a:rPr>
              <a:t>وسائل الماسونية </a:t>
            </a:r>
            <a:endParaRPr b="0" lang="en-US" sz="8000" spc="1" strike="noStrike">
              <a:ln w="12600">
                <a:solidFill>
                  <a:srgbClr val="b2b2b2"/>
                </a:solidFill>
                <a:miter/>
              </a:ln>
              <a:solidFill>
                <a:srgbClr val="996633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ndalus"/>
              <a:ea typeface="Andalus"/>
            </a:endParaRPr>
          </a:p>
        </p:txBody>
      </p:sp>
      <p:sp>
        <p:nvSpPr>
          <p:cNvPr id="243" name=""/>
          <p:cNvSpPr/>
          <p:nvPr/>
        </p:nvSpPr>
        <p:spPr>
          <a:xfrm>
            <a:off x="324000" y="260280"/>
            <a:ext cx="8496000" cy="619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6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1" dur="2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6" dur="20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1" dur="20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6" dur="20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1" dur="20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50000">
              <a:srgbClr val="ffff99"/>
            </a:gs>
            <a:gs pos="100000">
              <a:srgbClr val="9966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996633"/>
                </a:solidFill>
                <a:latin typeface="Andalus"/>
                <a:cs typeface="Andalus"/>
              </a:rPr>
              <a:t>الحل الوقائي لمواجهة الماسوني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: يتمثل في توضيح حقيقة وأهداف الماسونية لأبناء المسلمين وخاصة من ذهب منهم للتعلم في الغرب وإغلاق المحافل الموجودة في بلاد المسلمين وكذلك نوادي الروتاري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996633"/>
                </a:solidFill>
                <a:latin typeface="Andalus"/>
                <a:cs typeface="Andalus"/>
              </a:rPr>
              <a:t>الحل الهجومي لمواجهة الماسونية  :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فيكون بالكتابة عنها وبيان حقائقها وكشف أسرارها وفضحها على رؤوس الأشها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971640" y="476280"/>
            <a:ext cx="6913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996633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ndalus"/>
              </a:rPr>
              <a:t>سبل مواجهة الماسونية </a:t>
            </a:r>
            <a:endParaRPr b="0" lang="en-US" sz="8000" spc="1" strike="noStrike">
              <a:ln w="12600">
                <a:solidFill>
                  <a:srgbClr val="b2b2b2"/>
                </a:solidFill>
                <a:miter/>
              </a:ln>
              <a:solidFill>
                <a:srgbClr val="996633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ndalus"/>
              <a:ea typeface="Andalus"/>
            </a:endParaRPr>
          </a:p>
        </p:txBody>
      </p:sp>
      <p:sp>
        <p:nvSpPr>
          <p:cNvPr id="246" name=""/>
          <p:cNvSpPr/>
          <p:nvPr/>
        </p:nvSpPr>
        <p:spPr>
          <a:xfrm>
            <a:off x="324000" y="260280"/>
            <a:ext cx="8496000" cy="619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0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5" dur="2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0" dur="20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50000">
              <a:srgbClr val="7bdf7b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 algn="r" rtl="1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تعميق فكرة سيطرة الرجل الغربي الأبيض على بقية الأجناس البشرية الأخري وترسيخ مفهوم الفوقية والدونية تعضيدا للاحتلال بأنواعه ، والتبعية السياسية من الشعوب والحكومات الإسلامية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 algn="r" rtl="1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ترسيخ فكرة قيام وطن لليهود في أي مكان أولا ثم في فلسطين المحتلة بعدئذ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 algn="r" rtl="1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دفع المسلمين إلى تبني النمط الغربي في الحياة من خلال السعي الى نقل المسلم في سلوكياته وممارساته بشى أنواعها السياسية والاقتصادية والاجتماعية من أصالتها الى النمط الغربي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 algn="r" rtl="1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إعادة النصرانية الى عدد كبير من البلدان الإسلامية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908000" y="260280"/>
            <a:ext cx="5040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dalus"/>
              </a:rPr>
              <a:t>أهداف التنصير </a:t>
            </a:r>
            <a:endParaRPr b="0" lang="en-US" sz="48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dalus"/>
              <a:ea typeface="Andalus"/>
            </a:endParaRPr>
          </a:p>
        </p:txBody>
      </p:sp>
    </p:spTree>
  </p:cSld>
  <p:transition spd="med">
    <p:circl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468360" y="476280"/>
            <a:ext cx="4464000" cy="15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ndalus"/>
              </a:rPr>
              <a:t>العولمة</a:t>
            </a:r>
            <a:endParaRPr b="0" lang="en-US" sz="8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ndalus"/>
              <a:ea typeface="Andalus"/>
            </a:endParaRPr>
          </a:p>
        </p:txBody>
      </p:sp>
    </p:spTree>
  </p:cSld>
  <p:transition spd="med">
    <p:wedge/>
  </p:transition>
  <p:timing>
    <p:tnLst>
      <p:par>
        <p:cTn id="981" dur="indefinite" restart="never" nodeType="tmRoot">
          <p:childTnLst>
            <p:seq>
              <p:cTn id="982" dur="indefinite" nodeType="mainSeq">
                <p:childTnLst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bbe0e3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88408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99"/>
                </a:solidFill>
                <a:latin typeface="Andalus"/>
                <a:cs typeface="Andalus"/>
              </a:rPr>
              <a:t>تعريف العولمة :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عالمية العادات والقيم والثقافات لصالح العالم المتقدم اقتصاديا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حاولة سيطرة قيم وعادات وثقافات العالم الغربي على بقية دول العالم ، خاصة النامية منها بشكل يؤدي إلى القضاء على كافة الحضارات وإذابة خصائص المجتمعات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   هذا بالاضافة إلى تهميش العقائ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الدينية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0920" y="333360"/>
            <a:ext cx="8642160" cy="6335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71280" y="3933720"/>
            <a:ext cx="3996000" cy="2853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251" name=""/>
          <p:cNvSpPr txBox="1"/>
          <p:nvPr/>
        </p:nvSpPr>
        <p:spPr>
          <a:xfrm>
            <a:off x="2843280" y="549360"/>
            <a:ext cx="28065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ndalus"/>
              </a:rPr>
              <a:t>العولمة</a:t>
            </a:r>
            <a:endParaRPr b="0" lang="en-US" sz="8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ndalus"/>
              <a:ea typeface="Andalus"/>
            </a:endParaRPr>
          </a:p>
        </p:txBody>
      </p:sp>
    </p:spTree>
  </p:cSld>
  <p:transition spd="med">
    <p:wedge/>
  </p:transition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1" dur="1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8" dur="10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5" dur="10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1" dur="10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7" dur="10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"/>
          <p:cNvGrpSpPr/>
          <p:nvPr/>
        </p:nvGrpSpPr>
        <p:grpSpPr>
          <a:xfrm>
            <a:off x="179280" y="1773360"/>
            <a:ext cx="8713080" cy="3743280"/>
            <a:chOff x="179280" y="1773360"/>
            <a:chExt cx="8713080" cy="3743280"/>
          </a:xfrm>
        </p:grpSpPr>
        <p:cxnSp>
          <p:nvCxnSpPr>
            <p:cNvPr id="253" name="_s90129"/>
            <p:cNvCxnSpPr>
              <a:stCxn id="254" idx="0"/>
              <a:endCxn id="255" idx="2"/>
            </p:cNvCxnSpPr>
            <p:nvPr/>
          </p:nvCxnSpPr>
          <p:spPr>
            <a:xfrm flipH="1" flipV="1" rot="5400000">
              <a:off x="3735360" y="2940480"/>
              <a:ext cx="749160" cy="1407960"/>
            </a:xfrm>
            <a:prstGeom prst="bentConnector3">
              <a:avLst>
                <a:gd name="adj1" fmla="val 1524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6" name="_s90124"/>
            <p:cNvCxnSpPr>
              <a:stCxn id="257" idx="0"/>
              <a:endCxn id="255" idx="2"/>
            </p:cNvCxnSpPr>
            <p:nvPr/>
          </p:nvCxnSpPr>
          <p:spPr>
            <a:xfrm flipV="1" rot="16200000">
              <a:off x="5994000" y="2088720"/>
              <a:ext cx="749160" cy="3111480"/>
            </a:xfrm>
            <a:prstGeom prst="bentConnector3">
              <a:avLst>
                <a:gd name="adj1" fmla="val 1524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8" name="_s90123"/>
            <p:cNvCxnSpPr>
              <a:stCxn id="259" idx="0"/>
              <a:endCxn id="255" idx="2"/>
            </p:cNvCxnSpPr>
            <p:nvPr/>
          </p:nvCxnSpPr>
          <p:spPr>
            <a:xfrm flipV="1" rot="16200000">
              <a:off x="4864680" y="3218040"/>
              <a:ext cx="749160" cy="852480"/>
            </a:xfrm>
            <a:prstGeom prst="bentConnector3">
              <a:avLst>
                <a:gd name="adj1" fmla="val 1524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0" name="_s90122"/>
            <p:cNvCxnSpPr>
              <a:stCxn id="261" idx="0"/>
              <a:endCxn id="255" idx="2"/>
            </p:cNvCxnSpPr>
            <p:nvPr/>
          </p:nvCxnSpPr>
          <p:spPr>
            <a:xfrm flipH="1" flipV="1" rot="5400000">
              <a:off x="2606040" y="1811160"/>
              <a:ext cx="749160" cy="3666960"/>
            </a:xfrm>
            <a:prstGeom prst="bentConnector3">
              <a:avLst>
                <a:gd name="adj1" fmla="val 1524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55" name="_s90118"/>
            <p:cNvSpPr/>
            <p:nvPr/>
          </p:nvSpPr>
          <p:spPr>
            <a:xfrm>
              <a:off x="3058920" y="1773360"/>
              <a:ext cx="3507120" cy="1497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4700" spc="-1" strike="noStrike">
                  <a:solidFill>
                    <a:srgbClr val="333399"/>
                  </a:solidFill>
                  <a:latin typeface="Andalus"/>
                  <a:cs typeface="Andalus"/>
                </a:rPr>
                <a:t>مجالات العولمة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90119"/>
            <p:cNvSpPr/>
            <p:nvPr/>
          </p:nvSpPr>
          <p:spPr>
            <a:xfrm>
              <a:off x="179280" y="4019400"/>
              <a:ext cx="1936080" cy="1497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800" spc="-1" strike="noStrike">
                  <a:solidFill>
                    <a:srgbClr val="333399"/>
                  </a:solidFill>
                  <a:latin typeface="Andalus"/>
                  <a:cs typeface="Andalus"/>
                </a:rPr>
                <a:t>المجال</a:t>
              </a:r>
              <a:r>
                <a:rPr b="0" lang="en-US" sz="2600" spc="-1" strike="noStrike">
                  <a:solidFill>
                    <a:srgbClr val="333399"/>
                  </a:solidFill>
                  <a:latin typeface="Andalus"/>
                  <a:ea typeface="Andalus"/>
                </a:rPr>
                <a:t> ا</a:t>
              </a:r>
              <a:r>
                <a:rPr b="0" lang="hi-IN" sz="2800" spc="-1" strike="noStrike">
                  <a:solidFill>
                    <a:srgbClr val="333399"/>
                  </a:solidFill>
                  <a:latin typeface="Andalus"/>
                  <a:cs typeface="Andalus"/>
                </a:rPr>
                <a:t>لاجتماعي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90120"/>
            <p:cNvSpPr/>
            <p:nvPr/>
          </p:nvSpPr>
          <p:spPr>
            <a:xfrm>
              <a:off x="4697280" y="4019400"/>
              <a:ext cx="1936080" cy="1497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800" spc="-1" strike="noStrike">
                  <a:solidFill>
                    <a:srgbClr val="333399"/>
                  </a:solidFill>
                  <a:latin typeface="Andalus"/>
                  <a:cs typeface="Andalus"/>
                </a:rPr>
                <a:t>المجال السياسي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90121"/>
            <p:cNvSpPr/>
            <p:nvPr/>
          </p:nvSpPr>
          <p:spPr>
            <a:xfrm>
              <a:off x="6956280" y="4019400"/>
              <a:ext cx="1936080" cy="1497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800" spc="-1" strike="noStrike">
                  <a:solidFill>
                    <a:srgbClr val="333399"/>
                  </a:solidFill>
                  <a:latin typeface="Andalus"/>
                  <a:cs typeface="Andalus"/>
                </a:rPr>
                <a:t>المجال الاقتصادي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90128"/>
            <p:cNvSpPr/>
            <p:nvPr/>
          </p:nvSpPr>
          <p:spPr>
            <a:xfrm>
              <a:off x="2438280" y="4019400"/>
              <a:ext cx="1936080" cy="1497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800" spc="-1" strike="noStrike">
                  <a:solidFill>
                    <a:srgbClr val="333399"/>
                  </a:solidFill>
                  <a:latin typeface="Andalus"/>
                  <a:cs typeface="Andalus"/>
                </a:rPr>
                <a:t>المجال الثقافي</a:t>
              </a:r>
              <a:r>
                <a:rPr b="0" lang="en-US" sz="2600" spc="-1" strike="noStrike">
                  <a:solidFill>
                    <a:srgbClr val="333399"/>
                  </a:solidFill>
                  <a:latin typeface="Andalus"/>
                  <a:ea typeface="Andalus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edge/>
  </p:transition>
  <p:timing>
    <p:tnLst>
      <p:par>
        <p:cTn id="1028" dur="indefinite" restart="never" nodeType="tmRoot">
          <p:childTnLst>
            <p:seq>
              <p:cTn id="1029" dur="indefinite" nodeType="mainSeq">
                <p:childTnLst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6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181080"/>
            <a:ext cx="9144000" cy="5623920"/>
            <a:chOff x="0" y="181080"/>
            <a:chExt cx="9144000" cy="5623920"/>
          </a:xfrm>
        </p:grpSpPr>
        <p:sp>
          <p:nvSpPr>
            <p:cNvPr id="50" name=""/>
            <p:cNvSpPr/>
            <p:nvPr/>
          </p:nvSpPr>
          <p:spPr>
            <a:xfrm rot="9165600">
              <a:off x="2268000" y="3431520"/>
              <a:ext cx="649440" cy="496440"/>
            </a:xfrm>
            <a:prstGeom prst="rightArrow">
              <a:avLst>
                <a:gd name="adj1" fmla="val 50000"/>
                <a:gd name="adj2" fmla="val 3270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rot="6853200">
              <a:off x="3146040" y="4036320"/>
              <a:ext cx="713160" cy="452160"/>
            </a:xfrm>
            <a:prstGeom prst="rightArrow">
              <a:avLst>
                <a:gd name="adj1" fmla="val 50000"/>
                <a:gd name="adj2" fmla="val 39431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rot="5400000">
              <a:off x="4743720" y="4160880"/>
              <a:ext cx="662760" cy="432000"/>
            </a:xfrm>
            <a:prstGeom prst="rightArrow">
              <a:avLst>
                <a:gd name="adj1" fmla="val 50000"/>
                <a:gd name="adj2" fmla="val 38354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rot="2865000">
              <a:off x="5881320" y="3780000"/>
              <a:ext cx="712800" cy="452160"/>
            </a:xfrm>
            <a:prstGeom prst="rightArrow">
              <a:avLst>
                <a:gd name="adj1" fmla="val 50000"/>
                <a:gd name="adj2" fmla="val 39411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1393800">
              <a:off x="6443280" y="3096360"/>
              <a:ext cx="647640" cy="496800"/>
            </a:xfrm>
            <a:prstGeom prst="rightArrow">
              <a:avLst>
                <a:gd name="adj1" fmla="val 50000"/>
                <a:gd name="adj2" fmla="val 32591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rot="19783200">
              <a:off x="6297480" y="2226600"/>
              <a:ext cx="648000" cy="474120"/>
            </a:xfrm>
            <a:prstGeom prst="rightArrow">
              <a:avLst>
                <a:gd name="adj1" fmla="val 50000"/>
                <a:gd name="adj2" fmla="val 34169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6200000">
              <a:off x="4527720" y="1640520"/>
              <a:ext cx="662760" cy="432000"/>
            </a:xfrm>
            <a:prstGeom prst="rightArrow">
              <a:avLst>
                <a:gd name="adj1" fmla="val 50000"/>
                <a:gd name="adj2" fmla="val 38354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rot="15269400">
              <a:off x="3161160" y="1806480"/>
              <a:ext cx="662400" cy="431640"/>
            </a:xfrm>
            <a:prstGeom prst="rightArrow">
              <a:avLst>
                <a:gd name="adj1" fmla="val 50000"/>
                <a:gd name="adj2" fmla="val 3836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2521400">
              <a:off x="2194920" y="2404080"/>
              <a:ext cx="649080" cy="496800"/>
            </a:xfrm>
            <a:prstGeom prst="rightArrow">
              <a:avLst>
                <a:gd name="adj1" fmla="val 50000"/>
                <a:gd name="adj2" fmla="val 32663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3274920"/>
              <a:ext cx="2197080" cy="9921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ترسيخ فكرة قيام وطن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لليهود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في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فلسطين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332000" y="4540680"/>
              <a:ext cx="2376360" cy="9921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تعميق فكرة تفوق الرج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الأبي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780000" y="4697640"/>
              <a:ext cx="2520720" cy="11073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الإيحاء بأن تقدم الغرب سبب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تمسكهم بالنصرانية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300720" y="4145040"/>
              <a:ext cx="2448000" cy="11073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الإيحاء بأن قيم النصرانية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أفضل من قيم الإسلام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020000" y="2957400"/>
              <a:ext cx="2124000" cy="10288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بذر الشك في المثل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والمبادئ الإسلامي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948360" y="1647720"/>
              <a:ext cx="2016360" cy="11523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Arial"/>
                </a:rPr>
                <a:t>إخراج المسلمين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Arial"/>
                </a:rPr>
                <a:t>من الإسلا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492360" y="181080"/>
              <a:ext cx="2305080" cy="12294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Arial"/>
                </a:rPr>
                <a:t>الحيلولة دون دخو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Arial"/>
                </a:rPr>
                <a:t> النصارى في الإسلا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042920" y="663840"/>
              <a:ext cx="2521080" cy="11077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Arial"/>
                </a:rPr>
                <a:t>إعادة النصرانية إلى عدد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Arial"/>
                </a:rPr>
                <a:t>كبير من البلاد الإسلامية</a:t>
              </a:r>
              <a:r>
                <a:rPr b="0" lang="ar-SA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692720"/>
              <a:ext cx="2303640" cy="13446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دفع المسلمين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إلى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تبني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النمط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الغربي في الحياة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700360" y="2146320"/>
              <a:ext cx="3816360" cy="190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4400" spc="-1" strike="noStrike">
                  <a:solidFill>
                    <a:srgbClr val="000000"/>
                  </a:solidFill>
                  <a:latin typeface="Andalus"/>
                  <a:cs typeface="Andalus"/>
                </a:rPr>
                <a:t>أهداف التنصير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813200">
              <a:off x="5719680" y="1685880"/>
              <a:ext cx="452520" cy="728640"/>
            </a:xfrm>
            <a:prstGeom prst="upArrow">
              <a:avLst>
                <a:gd name="adj1" fmla="val 50000"/>
                <a:gd name="adj2" fmla="val 4025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867280" y="496440"/>
              <a:ext cx="2305080" cy="12308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Arial"/>
                </a:rPr>
                <a:t>الحيلولة دون دخو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Arial"/>
                </a:rPr>
                <a:t>الأمم الأخرى في الإسلا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lu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"/>
          <p:cNvGrpSpPr/>
          <p:nvPr/>
        </p:nvGrpSpPr>
        <p:grpSpPr>
          <a:xfrm>
            <a:off x="179280" y="260280"/>
            <a:ext cx="8964360" cy="6337080"/>
            <a:chOff x="179280" y="260280"/>
            <a:chExt cx="8964360" cy="6337080"/>
          </a:xfrm>
        </p:grpSpPr>
        <p:cxnSp>
          <p:nvCxnSpPr>
            <p:cNvPr id="72" name="_s15384"/>
            <p:cNvCxnSpPr>
              <a:stCxn id="73" idx="4"/>
              <a:endCxn id="74" idx="3"/>
            </p:cNvCxnSpPr>
            <p:nvPr/>
          </p:nvCxnSpPr>
          <p:spPr>
            <a:xfrm flipV="1">
              <a:off x="5492880" y="892800"/>
              <a:ext cx="931320" cy="256860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75" name="_s15385"/>
            <p:cNvCxnSpPr>
              <a:stCxn id="76" idx="4"/>
              <a:endCxn id="74" idx="3"/>
            </p:cNvCxnSpPr>
            <p:nvPr/>
          </p:nvCxnSpPr>
          <p:spPr>
            <a:xfrm flipV="1">
              <a:off x="5492880" y="893160"/>
              <a:ext cx="931320" cy="542304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77" name="_s15386"/>
            <p:cNvCxnSpPr>
              <a:stCxn id="78" idx="4"/>
              <a:endCxn id="74" idx="3"/>
            </p:cNvCxnSpPr>
            <p:nvPr/>
          </p:nvCxnSpPr>
          <p:spPr>
            <a:xfrm flipV="1">
              <a:off x="5492880" y="892800"/>
              <a:ext cx="931320" cy="447228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79" name="_s15387"/>
            <p:cNvCxnSpPr>
              <a:stCxn id="80" idx="4"/>
              <a:endCxn id="74" idx="3"/>
            </p:cNvCxnSpPr>
            <p:nvPr/>
          </p:nvCxnSpPr>
          <p:spPr>
            <a:xfrm flipV="1">
              <a:off x="5492880" y="893160"/>
              <a:ext cx="931320" cy="66816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81" name="_s15388"/>
            <p:cNvCxnSpPr>
              <a:stCxn id="82" idx="4"/>
              <a:endCxn id="74" idx="3"/>
            </p:cNvCxnSpPr>
            <p:nvPr/>
          </p:nvCxnSpPr>
          <p:spPr>
            <a:xfrm flipV="1">
              <a:off x="5492880" y="893160"/>
              <a:ext cx="931320" cy="161928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83" name="_s15389"/>
            <p:cNvCxnSpPr>
              <a:stCxn id="84" idx="4"/>
              <a:endCxn id="74" idx="3"/>
            </p:cNvCxnSpPr>
            <p:nvPr/>
          </p:nvCxnSpPr>
          <p:spPr>
            <a:xfrm flipV="1">
              <a:off x="5492880" y="892800"/>
              <a:ext cx="931320" cy="351972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74" name="_s15390"/>
            <p:cNvSpPr/>
            <p:nvPr/>
          </p:nvSpPr>
          <p:spPr>
            <a:xfrm>
              <a:off x="3765960" y="260280"/>
              <a:ext cx="5377680" cy="6332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bbe0e3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400" spc="-1" strike="noStrike">
                  <a:solidFill>
                    <a:srgbClr val="000000"/>
                  </a:solidFill>
                  <a:latin typeface="Arial"/>
                </a:rPr>
                <a:t>وسائل التنصير الفكرية 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_s15391"/>
            <p:cNvSpPr/>
            <p:nvPr/>
          </p:nvSpPr>
          <p:spPr>
            <a:xfrm>
              <a:off x="179280" y="4062240"/>
              <a:ext cx="5377320" cy="6332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00000"/>
                  </a:solidFill>
                  <a:latin typeface="Arial"/>
                </a:rPr>
                <a:t>المناظرات العلمية والدينية والحضارية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_s15392"/>
            <p:cNvSpPr/>
            <p:nvPr/>
          </p:nvSpPr>
          <p:spPr>
            <a:xfrm>
              <a:off x="179280" y="2162160"/>
              <a:ext cx="5377320" cy="6310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00000"/>
                  </a:solidFill>
                  <a:latin typeface="Arial"/>
                </a:rPr>
                <a:t>وسائل الإعلا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15393"/>
            <p:cNvSpPr/>
            <p:nvPr/>
          </p:nvSpPr>
          <p:spPr>
            <a:xfrm>
              <a:off x="179280" y="1211040"/>
              <a:ext cx="5377320" cy="6332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00000"/>
                  </a:solidFill>
                  <a:latin typeface="Arial"/>
                </a:rPr>
                <a:t>المدارس والجامعات والمعاهد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15394"/>
            <p:cNvSpPr/>
            <p:nvPr/>
          </p:nvSpPr>
          <p:spPr>
            <a:xfrm>
              <a:off x="180720" y="5013000"/>
              <a:ext cx="5375520" cy="6332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400" spc="-1" strike="noStrike">
                  <a:solidFill>
                    <a:srgbClr val="000000"/>
                  </a:solidFill>
                  <a:latin typeface="Arial"/>
                </a:rPr>
                <a:t>الدراسات الاستشراقية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15395"/>
            <p:cNvSpPr/>
            <p:nvPr/>
          </p:nvSpPr>
          <p:spPr>
            <a:xfrm>
              <a:off x="179280" y="5964120"/>
              <a:ext cx="5377320" cy="6332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00000"/>
                  </a:solidFill>
                  <a:latin typeface="Arial"/>
                </a:rPr>
                <a:t>الاشتراك في وضع المناهج التعليمية للمسلمين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15396"/>
            <p:cNvSpPr/>
            <p:nvPr/>
          </p:nvSpPr>
          <p:spPr>
            <a:xfrm>
              <a:off x="179280" y="3111120"/>
              <a:ext cx="5377320" cy="6332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00000"/>
                  </a:solidFill>
                  <a:latin typeface="Arial"/>
                </a:rPr>
                <a:t>تبادل البعثات العليمة مع الجامعات النصرانية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omb dir="horz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468360" y="1628640"/>
            <a:ext cx="8184960" cy="3890880"/>
            <a:chOff x="468360" y="1628640"/>
            <a:chExt cx="8184960" cy="3890880"/>
          </a:xfrm>
        </p:grpSpPr>
        <p:cxnSp>
          <p:nvCxnSpPr>
            <p:cNvPr id="86" name="_s18443"/>
            <p:cNvCxnSpPr>
              <a:stCxn id="87" idx="0"/>
              <a:endCxn id="88" idx="2"/>
            </p:cNvCxnSpPr>
            <p:nvPr/>
          </p:nvCxnSpPr>
          <p:spPr>
            <a:xfrm flipV="1" rot="16200000">
              <a:off x="5042880" y="2436120"/>
              <a:ext cx="1485000" cy="1942200"/>
            </a:xfrm>
            <a:prstGeom prst="bentConnector3">
              <a:avLst>
                <a:gd name="adj1" fmla="val 768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9" name="_s18442"/>
            <p:cNvCxnSpPr/>
            <p:nvPr/>
          </p:nvCxnSpPr>
          <p:spPr>
            <a:xfrm flipH="1" flipV="1" rot="5400000">
              <a:off x="2856600" y="2409840"/>
              <a:ext cx="1199160" cy="2232720"/>
            </a:xfrm>
            <a:prstGeom prst="bentConnector3">
              <a:avLst>
                <a:gd name="adj1" fmla="val 95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8" name="_s18438"/>
            <p:cNvSpPr/>
            <p:nvPr/>
          </p:nvSpPr>
          <p:spPr>
            <a:xfrm>
              <a:off x="2916360" y="1628640"/>
              <a:ext cx="3797280" cy="1036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ff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600" spc="-1" strike="noStrike">
                  <a:solidFill>
                    <a:srgbClr val="008000"/>
                  </a:solidFill>
                  <a:latin typeface="Andalus"/>
                  <a:cs typeface="Andalus"/>
                </a:rPr>
                <a:t>الوسائل الأخرى للتنصير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18439"/>
            <p:cNvSpPr/>
            <p:nvPr/>
          </p:nvSpPr>
          <p:spPr>
            <a:xfrm>
              <a:off x="468360" y="4149720"/>
              <a:ext cx="3792600" cy="1369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ff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300" spc="-1" strike="noStrike">
                  <a:solidFill>
                    <a:srgbClr val="008000"/>
                  </a:solidFill>
                  <a:latin typeface="Arial"/>
                </a:rPr>
                <a:t>التنمية والإصلاح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300" spc="-1" strike="noStrike">
                  <a:solidFill>
                    <a:srgbClr val="008000"/>
                  </a:solidFill>
                  <a:latin typeface="Arial"/>
                </a:rPr>
                <a:t>الاجتماعي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_s18440"/>
            <p:cNvSpPr/>
            <p:nvPr/>
          </p:nvSpPr>
          <p:spPr>
            <a:xfrm>
              <a:off x="4859280" y="4149720"/>
              <a:ext cx="3794040" cy="1369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ff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300" spc="-1" strike="noStrike">
                  <a:solidFill>
                    <a:srgbClr val="008000"/>
                  </a:solidFill>
                  <a:latin typeface="Arial"/>
                </a:rPr>
                <a:t>البعثات الطبية والإغاثة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8000"/>
                  </a:solidFill>
                  <a:latin typeface="Arial"/>
                </a:rPr>
                <a:t> الإنسانية</a:t>
              </a:r>
              <a:r>
                <a:rPr b="0" lang="en-US" sz="3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omb dir="horz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79280" y="476280"/>
            <a:ext cx="6408720" cy="11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dalus"/>
              </a:rPr>
              <a:t>سبل مقاومة التنصير</a:t>
            </a:r>
            <a:endParaRPr b="0" lang="en-US" sz="60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dalus"/>
              <a:ea typeface="Andalus"/>
            </a:endParaRPr>
          </a:p>
        </p:txBody>
      </p:sp>
    </p:spTree>
  </p:cSld>
  <p:transition spd="med">
    <p:strips dir="lu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826920" y="549360"/>
            <a:ext cx="7491600" cy="5864040"/>
            <a:chOff x="826920" y="549360"/>
            <a:chExt cx="7491600" cy="5864040"/>
          </a:xfrm>
        </p:grpSpPr>
        <p:sp>
          <p:nvSpPr>
            <p:cNvPr id="93" name="_s21527"/>
            <p:cNvSpPr/>
            <p:nvPr/>
          </p:nvSpPr>
          <p:spPr>
            <a:xfrm flipH="1" flipV="1">
              <a:off x="3246480" y="2459160"/>
              <a:ext cx="665280" cy="52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21526"/>
            <p:cNvSpPr/>
            <p:nvPr/>
          </p:nvSpPr>
          <p:spPr>
            <a:xfrm>
              <a:off x="1403280" y="1197000"/>
              <a:ext cx="2016360" cy="1473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864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800" spc="-1" strike="noStrike">
                  <a:solidFill>
                    <a:srgbClr val="000000"/>
                  </a:solidFill>
                  <a:latin typeface="Arial"/>
                </a:rPr>
                <a:t>عقد المؤتمرات والندوات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800" spc="-1" strike="noStrike">
                  <a:solidFill>
                    <a:srgbClr val="000000"/>
                  </a:solidFill>
                  <a:latin typeface="Arial"/>
                </a:rPr>
                <a:t>والمحاضرات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21525"/>
            <p:cNvSpPr/>
            <p:nvPr/>
          </p:nvSpPr>
          <p:spPr>
            <a:xfrm flipH="1">
              <a:off x="2696760" y="3500280"/>
              <a:ext cx="941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21524"/>
            <p:cNvSpPr/>
            <p:nvPr/>
          </p:nvSpPr>
          <p:spPr>
            <a:xfrm>
              <a:off x="826920" y="2781360"/>
              <a:ext cx="1874880" cy="1471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864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Arial"/>
                </a:rPr>
                <a:t>الاهتمام بالارامل وطلا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Arial"/>
                </a:rPr>
                <a:t> العل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21523"/>
            <p:cNvSpPr/>
            <p:nvPr/>
          </p:nvSpPr>
          <p:spPr>
            <a:xfrm flipH="1">
              <a:off x="3246480" y="4017960"/>
              <a:ext cx="665280" cy="52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21522"/>
            <p:cNvSpPr/>
            <p:nvPr/>
          </p:nvSpPr>
          <p:spPr>
            <a:xfrm>
              <a:off x="1476360" y="4292640"/>
              <a:ext cx="2017800" cy="1471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864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Arial"/>
                </a:rPr>
                <a:t>الاهتمام بالاطفال والايتا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21521"/>
            <p:cNvSpPr/>
            <p:nvPr/>
          </p:nvSpPr>
          <p:spPr>
            <a:xfrm>
              <a:off x="4572000" y="4232160"/>
              <a:ext cx="0" cy="73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21520"/>
            <p:cNvSpPr/>
            <p:nvPr/>
          </p:nvSpPr>
          <p:spPr>
            <a:xfrm>
              <a:off x="3635280" y="4941720"/>
              <a:ext cx="1874880" cy="1471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864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800" spc="-1" strike="noStrike">
                  <a:solidFill>
                    <a:srgbClr val="000000"/>
                  </a:solidFill>
                  <a:latin typeface="Arial"/>
                </a:rPr>
                <a:t>الاهتمام بوسائل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hi-IN" sz="1800" spc="-1" strike="noStrike">
                  <a:solidFill>
                    <a:srgbClr val="000000"/>
                  </a:solidFill>
                  <a:latin typeface="Arial"/>
                </a:rPr>
                <a:t>الإعلا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21519"/>
            <p:cNvSpPr/>
            <p:nvPr/>
          </p:nvSpPr>
          <p:spPr>
            <a:xfrm>
              <a:off x="5230800" y="4017960"/>
              <a:ext cx="665280" cy="52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21518"/>
            <p:cNvSpPr/>
            <p:nvPr/>
          </p:nvSpPr>
          <p:spPr>
            <a:xfrm>
              <a:off x="5651640" y="4292640"/>
              <a:ext cx="1874520" cy="1471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864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800" spc="-1" strike="noStrike">
                  <a:solidFill>
                    <a:srgbClr val="000000"/>
                  </a:solidFill>
                  <a:latin typeface="Arial"/>
                </a:rPr>
                <a:t>الاهتمام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hi-IN" sz="1800" spc="-1" strike="noStrike">
                  <a:solidFill>
                    <a:srgbClr val="000000"/>
                  </a:solidFill>
                  <a:latin typeface="Arial"/>
                </a:rPr>
                <a:t>بالشبا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21516"/>
            <p:cNvSpPr/>
            <p:nvPr/>
          </p:nvSpPr>
          <p:spPr>
            <a:xfrm>
              <a:off x="5504040" y="3500280"/>
              <a:ext cx="941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21515"/>
            <p:cNvSpPr/>
            <p:nvPr/>
          </p:nvSpPr>
          <p:spPr>
            <a:xfrm>
              <a:off x="6443640" y="2781360"/>
              <a:ext cx="1874880" cy="1471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864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Arial"/>
                </a:rPr>
                <a:t>إنشاء المراكز</a:t>
              </a:r>
              <a:r>
                <a:rPr b="0" lang="ar-SA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ar-SA" sz="1800" spc="-1" strike="noStrike">
                  <a:solidFill>
                    <a:srgbClr val="000000"/>
                  </a:solidFill>
                  <a:latin typeface="Arial"/>
                </a:rPr>
                <a:t>الصحيه</a:t>
              </a:r>
              <a:r>
                <a:rPr b="0" lang="ar-SA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Arial"/>
                </a:rPr>
                <a:t>والمستشفيات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21514"/>
            <p:cNvSpPr/>
            <p:nvPr/>
          </p:nvSpPr>
          <p:spPr>
            <a:xfrm flipV="1">
              <a:off x="5230800" y="2459160"/>
              <a:ext cx="665280" cy="52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21513"/>
            <p:cNvSpPr/>
            <p:nvPr/>
          </p:nvSpPr>
          <p:spPr>
            <a:xfrm>
              <a:off x="5651640" y="1197000"/>
              <a:ext cx="2016000" cy="1473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864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800" spc="-1" strike="noStrike">
                  <a:solidFill>
                    <a:srgbClr val="000000"/>
                  </a:solidFill>
                  <a:latin typeface="Arial"/>
                </a:rPr>
                <a:t>توفير سبل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hi-IN" sz="1800" spc="-1" strike="noStrike">
                  <a:solidFill>
                    <a:srgbClr val="000000"/>
                  </a:solidFill>
                  <a:latin typeface="Arial"/>
                </a:rPr>
                <a:t>العيش للفقرا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21512"/>
            <p:cNvSpPr/>
            <p:nvPr/>
          </p:nvSpPr>
          <p:spPr>
            <a:xfrm flipV="1">
              <a:off x="4572000" y="2026800"/>
              <a:ext cx="0" cy="73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21511"/>
            <p:cNvSpPr/>
            <p:nvPr/>
          </p:nvSpPr>
          <p:spPr>
            <a:xfrm>
              <a:off x="3348000" y="549360"/>
              <a:ext cx="2376360" cy="1473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864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800" spc="-1" strike="noStrike">
                  <a:solidFill>
                    <a:srgbClr val="000000"/>
                  </a:solidFill>
                  <a:latin typeface="Arial"/>
                </a:rPr>
                <a:t>إرسال العلماء والدعاة لبيا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معنى  الإسلام الصحيح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21510"/>
            <p:cNvSpPr/>
            <p:nvPr/>
          </p:nvSpPr>
          <p:spPr>
            <a:xfrm>
              <a:off x="3203640" y="2781360"/>
              <a:ext cx="2808360" cy="1471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864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800" spc="-1" strike="noStrike">
                  <a:solidFill>
                    <a:srgbClr val="c86400"/>
                  </a:solidFill>
                  <a:latin typeface="Andalus"/>
                  <a:cs typeface="Andalus"/>
                </a:rPr>
                <a:t>وسائل مقاومة التنصير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strips dir="lu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05:42:34Z</dcterms:created>
  <dc:creator>NajDyyAH 3SaL</dc:creator>
  <dc:description/>
  <dc:language>en-US</dc:language>
  <cp:lastModifiedBy>Windows 7 Ultimate</cp:lastModifiedBy>
  <dcterms:modified xsi:type="dcterms:W3CDTF">2010-10-08T17:51:15Z</dcterms:modified>
  <cp:revision>120</cp:revision>
  <dc:subject/>
  <dc:title>التيارات المعادية للإسلام وكيفية مواجهتها </dc:title>
</cp:coreProperties>
</file>